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14B-5180-47EA-8C60-EAB48F31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6FB-97DC-45F5-AC1A-9281A13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632-B8E9-43BC-BD27-F5443F1B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348-B14C-4260-BCE9-8468B0DA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2207-70C0-4110-A4CD-093DFC42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6768-1C23-43F9-B258-CCE9950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FC3-A590-4C80-9416-94C0BD8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FD6-EE03-4063-959D-AA2FAD08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AC0B-F0EE-4234-954D-88F4584D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27A1-0046-4EAB-82DB-1391E0A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84C-1341-41B5-B04A-6A101E1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96D-B52F-45BE-892C-9353210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3D0E-CA79-4CA3-A801-B9EA530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276-07B2-4CBE-A5D1-D9DA860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1F7-B5BE-4956-B17F-160ABA5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F53-10D4-49B5-8D84-A282E84E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9554-3168-466E-9DFF-44E07459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9D3-0D27-4DD5-BC6F-582599AD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9C2-E0EB-47E9-ADD8-CF17296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427-7CF7-4DBB-9EF4-A19E291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A2A-1EB2-4795-99D8-F74B6A7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983-6A15-4781-BE8A-5F4B311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587-FE3D-469F-8DE8-196DB9B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815-237A-4C85-9949-462355A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C2A-A29F-4002-A448-D9C4CBC030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1C26-C17A-4EEF-88EC-EBAAC81CB5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Работа театра в период с 1936 по 1939год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1936 года театр стал колхозно-совхозным, работал в основном в селах, и только два дня в неделю для горож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8" descr="Изображение 049"/>
          <p:cNvPicPr/>
          <p:nvPr/>
        </p:nvPicPr>
        <p:blipFill>
          <a:blip r:embed="rId2"/>
          <a:stretch/>
        </p:blipFill>
        <p:spPr>
          <a:xfrm>
            <a:off x="4356000" y="1557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оянный контроль за ведением всех строительных работ осуществляло глава город Г.Г.Карпушкин. Финансовую  помощь оказали предприятия города: олеумный, котельный завод, ФНПЦ «Алтай», «Алтайвитамины» и многие предприниматели. Подарком краевой администрации для театра стали красивые люстры в зрительном зале и малые люстры в фой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42960" y="107136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Бийский театр был основан в 1939 году. В годы Великой Отечественной войны многие артисты ушли добровольцами на фронт, другие же выступали в концертных бригадах. В это же время на сцене драмтеатра работал эвакуированный из Москвы театр имени Ленсовета во главе с художественным руководителем И. Шляпановым. Здесь работали артисты Щеглов, А. Плотников, народная артистка Вера Орлова и другие. В репертуаре военных лет присутствовали пьесы К. Симонова «Русские люди» и А. Островского — «Без вины виноватые». В начале 1943 года московская труппа уехала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71680" y="107172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 1950-е и 1960-е годы Бийский театр был на подъеме. В труппе играло более 40 человек, среди которых артисты Б. Терехов, М. Генералова, К. Кайгородцева, М. Хасман, 3. Гранко, И. Андросенко, Р. Ворошилов, С. Маргулис и другие. В 1960 году на базе Бийского драматического театра и Горно-Алтайского театра музыкальной комедии создан Краевой музыкально-драматический театр. Первый сезон оперетты был открыт спектаклем «Поцелуй Чаниты». В 1964 году театр оперетты был переведен в Барнаул (ныне он известен как Алтайский краевой государственный театр музыкальной комедии)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1143000"/>
            <a:ext cx="8229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 1964 года на бийской сцене продолжает выступать драматическая труппа. В 1970-е годы работают режиссеры А. Титков, А. Клемантович, А. Геренбург, В. Петрашевич, В. Ванярха, а в труппу приходят талантливые актеры В. Шалагин, 3. Гранко, Ю. Колпаков, И. Круподерова, А. Елизаров, Г. Воронин, В. Акулов и другие. С 1980 года главным режиссером театра стал М. Карнаухов, который обратился к творчеству В. Шукшина. В то время ставятся спектакли «Степан Разин», «Энергичные люди», «До третьих петухов», «Калина красная» и други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0040" y="178128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йский драматический театр размещается в здании Народного дома, построенного в 1914 году по проекту архитектора И. Ф. Носовича на средства купца 2-й гильдии П. А. Копылова и его племянника — полковника А. П. Копылова. Сооружение является памятником архитектуры и истории культуры. Его архитектура эклектична, с использованием мотивов модерна и с готической стилизац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6000840" y="428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b38"/>
                </a:solidFill>
                <a:latin typeface="Arial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428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ание Народного дома неоднократно ремонтировалось: в 1927 году (капитальный ремонт), в 1968 году (капитальный ремонт, надстроена сценическая коробка, уничтожены люкарны) и в 1984—1985 годах (капитальный ремонт, реконструкция интерь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5840" y="428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ание Народного дома неоднократно ремонтировалось: в 1927 году (капитальный ремонт), в 1968 году (капитальный ремонт, надстроена сценическая коробка, уничтожены люкарны) и в 1984—1985 годах (капитальный ремонт, реконструкция интерь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371520" y="476280"/>
            <a:ext cx="8772480" cy="8524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3" descr="Изображение 028.jpg"/>
          <p:cNvPicPr/>
          <p:nvPr/>
        </p:nvPicPr>
        <p:blipFill>
          <a:blip r:embed="rId3"/>
          <a:stretch/>
        </p:blipFill>
        <p:spPr>
          <a:xfrm>
            <a:off x="395280" y="1557360"/>
            <a:ext cx="82868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1997 года директором театра начала работать Г. Н. Нечай, при котор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ыл произведён капитальный ремонт и реконструкция здания, по проекту архитекторов Е. Г. Тоскина, Н. Рагино и Я. Рагино. Проект был удостоен награды «Золотая капитель» на Сибирском смотре-конкурсе в области градостроительства, архитектуры, дизай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04:54Z</dcterms:created>
  <dc:creator>Наталья</dc:creator>
  <dc:description/>
  <dc:language>en-US</dc:language>
  <cp:lastModifiedBy>Наталья</cp:lastModifiedBy>
  <dcterms:modified xsi:type="dcterms:W3CDTF">2013-04-27T04:10:37Z</dcterms:modified>
  <cp:revision>1</cp:revision>
  <dc:subject/>
  <dc:title>            Работа театра в период с 1936 по 1939год.</dc:title>
</cp:coreProperties>
</file>