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412-8C86-42FD-9E81-26085E14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DE1-D1DB-4481-A72D-A7C37487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B03A-683E-4FFE-87EA-495B834F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8AD-50E3-417F-A055-F171CAAF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F085-B260-4638-B7FB-283FEE0F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D9DA-42B5-4043-80F5-17D3FF8D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0B58-C61E-4C56-8364-39DC6262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31E4-5E17-40F6-8D13-1736EBAD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A5C0-D430-40C1-B738-5A5B6427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DF12-1F54-439C-9C57-75497D6E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5FE4-8B44-4F70-989A-A57C2E0B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3B5-6862-4C25-84F2-06643D3A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607E-C3B0-4391-AA4C-BCAA2F1F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5471-EBDE-483E-897B-92C109F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E784-5763-400C-B973-8EFA1EDC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C0F5-7773-472C-9734-4605E3B0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CAC0-3688-4B56-8B0D-BBDA8966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893-8016-4007-875C-7F78507D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310-A176-48A3-8CA0-A7E10E07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ADC-0222-46AD-A068-2DF515B0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6BC-2B92-4390-9436-E8D555CA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3CE-C220-450C-8FCE-A3A28046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9B9-0F2D-4F6D-9A91-A3F04136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DD7-D4A6-4103-B6FD-70F51E95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50DF-BC44-48EF-9B98-8589386A13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B1F0-80D6-4A7F-A1C4-67D3318194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Работа театра в период с 1936 по 1939год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1936 года театр стал колхозно-совхозным, работал в основном в селах, и только два дня в неделю для горож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8" descr="Изображение 049"/>
          <p:cNvPicPr/>
          <p:nvPr/>
        </p:nvPicPr>
        <p:blipFill>
          <a:blip r:embed="rId2"/>
          <a:stretch/>
        </p:blipFill>
        <p:spPr>
          <a:xfrm>
            <a:off x="4356000" y="1557360"/>
            <a:ext cx="4500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4200" y="500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оянный контроль за ведением всех строительных работ осуществляло глава город Г.Г.Карпушкин. Финансовую  помощь оказали предприятия города: олеумный, котельный завод, ФНПЦ «Алтай», «Алтайвитамины» и многие предприниматели. Подарком краевой администрации для театра стали красивые люстры в зрительном зале и малые люстры в фой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42960" y="107136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Бийский театр был основан в 1939 году. В годы Великой Отечественной войны многие артисты ушли добровольцами на фронт, другие же выступали в концертных бригадах. В это же время на сцене драмтеатра работал эвакуированный из Москвы театр имени Ленсовета во главе с художественным руководителем И. Шляпановым. Здесь работали артисты Щеглов, А. Плотников, народная артистка Вера Орлова и другие. В репертуаре военных лет присутствовали пьесы К. Симонова «Русские люди» и А. Островского — «Без вины виноватые». В начале 1943 года московская труппа уехала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71680" y="1071720"/>
            <a:ext cx="82296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 1950-е и 1960-е годы Бийский театр был на подъеме. В труппе играло более 40 человек, среди которых артисты Б. Терехов, М. Генералова, К. Кайгородцева, М. Хасман, 3. Гранко, И. Андросенко, Р. Ворошилов, С. Маргулис и другие. В 1960 году на базе Бийского драматического театра и Горно-Алтайского театра музыкальной комедии создан Краевой музыкально-драматический театр. Первый сезон оперетты был открыт спектаклем «Поцелуй Чаниты». В 1964 году театр оперетты был переведен в Барнаул (ныне он известен как Алтайский краевой государственный театр музыкальной комедии)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0040" y="1143000"/>
            <a:ext cx="82296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 1964 года на бийской сцене продолжает выступать драматическая труппа. В 1970-е годы работают режиссеры А. Титков, А. Клемантович, А. Геренбург, В. Петрашевич, В. Ванярха, а в труппу приходят талантливые актеры В. Шалагин, 3. Гранко, Ю. Колпаков, И. Круподерова, А. Елизаров, Г. Воронин, В. Акулов и другие. С 1980 года главным режиссером театра стал М. Карнаухов, который обратился к творчеству В. Шукшина. В то время ставятся спектакли «Степан Разин», «Энергичные люди», «До третьих петухов», «Калина красная» и другие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0040" y="1781280"/>
            <a:ext cx="82296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ийский драматический театр размещается в здании Народного дома, построенного в 1914 году по проекту архитектора И. Ф. Носовича на средства купца 2-й гильдии П. А. Копылова и его племянника — полковника А. П. Копылова. Сооружение является памятником архитектуры и истории культуры. Его архитектура эклектична, с использованием мотивов модерна и с готической стилизац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6000840" y="42876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4b38"/>
                </a:solidFill>
                <a:latin typeface="Arial"/>
              </a:rPr>
              <a:t>Архитек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85840" y="428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дание Народного дома неоднократно ремонтировалось: в 1927 году (капитальный ремонт), в 1968 году (капитальный ремонт, надстроена сценическая коробка, уничтожены люкарны) и в 1984—1985 годах (капитальный ремонт, реконструкция интерье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85840" y="428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дание Народного дома неоднократно ремонтировалось: в 1927 году (капитальный ремонт), в 1968 году (капитальный ремонт, надстроена сценическая коробка, уничтожены люкарны) и в 1984—1985 годах (капитальный ремонт, реконструкция интерье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371520" y="476280"/>
            <a:ext cx="8772480" cy="85248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3" descr="Изображение 028.jpg"/>
          <p:cNvPicPr/>
          <p:nvPr/>
        </p:nvPicPr>
        <p:blipFill>
          <a:blip r:embed="rId3"/>
          <a:stretch/>
        </p:blipFill>
        <p:spPr>
          <a:xfrm>
            <a:off x="395280" y="1557360"/>
            <a:ext cx="828684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1997 года директором театра начала работать Г. Н. Нечай, при котор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был произведён капитальный ремонт и реконструкция здания, по проекту архитекторов Е. Г. Тоскина, Н. Рагино и Я. Рагино. Проект был удостоен награды «Золотая капитель» на Сибирском смотре-конкурсе в области градостроительства, архитектуры, дизай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04:54Z</dcterms:created>
  <dc:creator>Наталья</dc:creator>
  <dc:description/>
  <dc:language>en-US</dc:language>
  <cp:lastModifiedBy>Наталья</cp:lastModifiedBy>
  <dcterms:modified xsi:type="dcterms:W3CDTF">2013-04-27T04:10:37Z</dcterms:modified>
  <cp:revision>1</cp:revision>
  <dc:subject/>
  <dc:title>            Работа театра в период с 1936 по 1939год.</dc:title>
</cp:coreProperties>
</file>