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E4A-6BBC-4AA4-994E-34993E21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296-58A0-4FB1-BBD2-FA027AA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865-FA5F-4AF5-BF53-E8DF386B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3C5-7474-4677-9581-B90503C1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1AC9-1419-487D-9D1D-CD471E20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947-5196-4692-986D-6C9D87C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F2F9-2F85-415E-BB3A-0465072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6FB-1BAC-4469-A311-7C7E6671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148E-F73D-43BF-A785-99E58EE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442-1F86-435D-B8BB-507F638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5564-3644-485D-841C-7AB2464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8F2-31EE-48C4-853A-713ED4E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F60-0F3C-4B35-B20C-0B19C052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BBA-5A55-41AF-BEB8-A618822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1A6-AF2C-4C65-831E-280351C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768E-EA25-4E3B-9116-876854E1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7940-E7B3-47DE-B23F-391A7D08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25B-F0F6-4D25-A16D-FF4E12B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972-2495-44E6-97D0-0411F41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5F7-CC92-49BE-95F1-C3DC025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9AC-F58A-4D8B-9B7B-86612D29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EE1-168F-4B4E-8A71-E5DFAC7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32A-324D-481B-A046-4D22094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DDC-0F30-4AF7-AFC7-CA69475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182A-918D-400B-89B6-CA15863FF1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A89C-6844-43D1-B2B2-845EC95928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Работа театра в сегодняшние дн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ее время в Бийском драматическом театре трудится труппа талантливых и перспективных актеров. Среди них заслуженная артистка С. Т. Елизарова, семья Вороновских,        В. Бирюков, Л.Паутова,  А. Блюмская, ЮПашини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. Жуков, О. Клячев и другие.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IMG_5022"/>
          <p:cNvPicPr/>
          <p:nvPr/>
        </p:nvPicPr>
        <p:blipFill>
          <a:blip r:embed="rId2"/>
          <a:stretch/>
        </p:blipFill>
        <p:spPr>
          <a:xfrm>
            <a:off x="4572000" y="1484280"/>
            <a:ext cx="4267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2007_07_30_028.jpg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8:21Z</dcterms:created>
  <dc:creator>Наталья</dc:creator>
  <dc:description/>
  <dc:language>en-US</dc:language>
  <cp:lastModifiedBy>Наталья</cp:lastModifiedBy>
  <dcterms:modified xsi:type="dcterms:W3CDTF">2013-04-27T04:19:37Z</dcterms:modified>
  <cp:revision>1</cp:revision>
  <dc:subject/>
  <dc:title>            Работа театра в сегодняшние дни.</dc:title>
</cp:coreProperties>
</file>