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3E4-9607-4410-9157-2A13976A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EBD-05FD-454D-98F2-931C0775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5AE-94E3-4167-8AA4-98A391D0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171-F461-4F47-A9CD-A59EFD71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9391-0B96-46FD-9965-5594346C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02B9-9B26-47C5-A33A-F67BF62D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EC4E-F9F7-4828-9BC5-9B991652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4840-0826-4EE6-B204-BDB8A1D8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DFC5-8CF6-4829-BBE9-5E8B31DB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3F13-EE95-483E-962C-E45676AB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7BA1-362E-4D67-B467-3CDE0821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8CD-D81E-4A7A-861F-10616E48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316F-6D36-4BA9-A782-7034F969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4591-AF51-42D9-A1EF-81065328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20C8-62B6-4684-AB90-8A193B56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D3DF-50BE-4BFF-8843-7CBC00DA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9460-785D-4DAF-98C3-AF29F607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0F0-80AD-417B-8226-CD7A1752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03F-F8B1-4299-980E-D3FA9063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092-8EC9-4734-A55E-725549FF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094-CA2E-4F9D-AF1A-93D8140B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1A7-6FC6-412F-B34C-378C2E79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33B-3428-44AA-81F4-CD87AC25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5CD-4BAF-4C57-9DE5-6A9A8EE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DD3D-961D-47D5-86BC-574B2297FC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D25D-2838-4405-8FA2-E57B561D3D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e5ffff"/>
                </a:solidFill>
                <a:latin typeface="Arial"/>
              </a:rPr>
              <a:t>Работа театра в сегодняшние дни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стоящее время в Бийском драматическом театре трудится труппа талантливых и перспективных актеров. Среди них заслуженная артистка С. Т. Елизарова, семья Вороновских,        В. Бирюков, Л.Паутова,  А. Блюмская, ЮПашинин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. Жуков, О. Клячев и другие.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7" descr="IMG_5022"/>
          <p:cNvPicPr/>
          <p:nvPr/>
        </p:nvPicPr>
        <p:blipFill>
          <a:blip r:embed="rId2"/>
          <a:stretch/>
        </p:blipFill>
        <p:spPr>
          <a:xfrm>
            <a:off x="4572000" y="1484280"/>
            <a:ext cx="42670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2007_07_30_028.jpg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7T04:18:21Z</dcterms:created>
  <dc:creator>Наталья</dc:creator>
  <dc:description/>
  <dc:language>en-US</dc:language>
  <cp:lastModifiedBy>Наталья</cp:lastModifiedBy>
  <dcterms:modified xsi:type="dcterms:W3CDTF">2013-04-27T04:19:37Z</dcterms:modified>
  <cp:revision>1</cp:revision>
  <dc:subject/>
  <dc:title>            Работа театра в сегодняшние дни.</dc:title>
</cp:coreProperties>
</file>