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583-4EAA-473D-B140-1EE485CE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1DB-4EF5-4981-97DD-E069737C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3DE-A58F-4681-B892-1FB00A4D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B11-6705-415E-9F73-5FEE6C36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08D-645D-4885-AF01-9DB864B7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7D6-B01D-41DC-88D7-F9F8DF3A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808-F75E-4605-B7F7-6283EE50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5EA-EDB0-4C71-97A6-3A734A15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BF9-8765-42D4-AD6D-3C1C326F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A66-629D-4781-A56C-C79CA941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05B-94BD-4397-BA2B-B5DF9F93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176-D1D2-4EED-8CAE-DC554FED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A2BD-7CE9-4E29-B58A-E810E1A2A2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Тема проекта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«Зимующие птицы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ршая груп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Непосед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БДОУ № 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унзе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нкт-Петербур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пит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дрее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ктория Валер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-1501" t="18777" r="-5167" b="0"/>
          <a:stretch/>
        </p:blipFill>
        <p:spPr>
          <a:xfrm>
            <a:off x="4103640" y="1557360"/>
            <a:ext cx="5040360" cy="5157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Планирование проектной деятельности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рупп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старшая «Непосед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«Зимующие птиц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ль проек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1. Вызвать интерес к окружающему миру, формировать  достоверные представления  о живой природе  у детей.                        2. Активизировать и обогатить  словарный запас детей по данной теме, развивать связную речь.                                                                             3. Активизация всех психических процессов, развитие логического мышления.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Воспитывать бережное и внимательное отношение к прир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Привлечение родителей к совместной работе с деть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звание и форма итогового мероприят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Поможем птичкам дожить до весны» - развешивание на участке детского сада кормушек с корм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а проведения итогового мероприятия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 декабря 2012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лительность проекта: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неде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Используемые образовательные технолог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познавательно-исследовательские, игровые, развивающие, информационно-коммуникаци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ветственный за итоговое мероприяти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дреева В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396720"/>
            <a:ext cx="828036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Системная паутинка проекта</a:t>
            </a:r>
            <a:endParaRPr b="0" lang="en-US" sz="1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-1549440" y="1268280"/>
          <a:ext cx="914400" cy="381816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24000" y="333360"/>
          <a:ext cx="8642160" cy="6456240"/>
        </p:xfrm>
        <a:graphic>
          <a:graphicData uri="http://schemas.openxmlformats.org/drawingml/2006/table">
            <a:tbl>
              <a:tblPr/>
              <a:tblGrid>
                <a:gridCol w="1368360"/>
                <a:gridCol w="215640"/>
                <a:gridCol w="1511640"/>
                <a:gridCol w="182520"/>
                <a:gridCol w="1114200"/>
                <a:gridCol w="182520"/>
                <a:gridCol w="609840"/>
                <a:gridCol w="1584360"/>
                <a:gridCol w="287280"/>
                <a:gridCol w="158580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знавательно-речев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Физ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вижная игра «Совушка-сова», «Воро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ышки и ко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а с мячом «Да – не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ревнования «Кто быстрей накормит птиц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ласть «Здоровь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ная ситуация «Я увидел больную птицу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Разучивание потешек для КГ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культминутки «Птички – раз! Птички – два!»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Познани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Наблюдения за птицами на участ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Ведение дневника наблюд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дактические игры «Разрезные картинки», «Что изменилось» и д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оссворд, ребу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а  «Больше-меньше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а  «Сосчитай птичек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стерскаа форм из палочек, спич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Коммуникац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матривание иллюстраций в книжном угол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матривание  картины «У кормушки» и составление рассказа по н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авление описательного рассказа по теме проек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Чтение художественной  литератур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Загадывание загадо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Чтение и разучивание стихов А.Барто «Скачет шустрая синица» и д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Чтение книг В.В.Бианки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швина,  Снегирева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.Звяг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о-личностное развитие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удожественно-эстетическое разви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Социализац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Труд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область«Безопасность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 Художественное творчество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бразовательная область «Музы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Словесная игра «Говорящие картин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атрализованная постановка по стихотворениям А.Барто, З.Александров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чь с движением «Скачет, скачет воробе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Общение «Как помочь птицам зимо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Сделаем кормушки с родителя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Накормим пт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нижки-самодел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готовление атрибутов к театр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Беседа о правилах наблюдения за птиц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овая проблемная ситуация «Что будет, если…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д.игра «П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ги птенцам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 выставки фотографий, книг, карт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сование птиц по круп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чной труд «Снегири и ябло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елки из природного  материала                                Коллективная апплика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модуля «Птиц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сование гуашью «Синиц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певка «Кормушк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зыкальная игра «Дятел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водная игра «У кормуш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ffffff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зыкально-дидактическая  игра «Птицы и птенчик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5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беспечение педагогического процесса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502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вающей среды д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оятельной деятельности де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аимодействие с родителями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ыми партнер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бор книг, иллюстраций, рисунков, фотограф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бор дидактических игр, раскрасок, трафаретов, рабочих листов, технологических карт, материалов для выкладывания на ковроли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бор материалов для создания книжек-самодел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 родителей в подборке книг, иллюстр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серокопирование раскрасок, индивидуальных рабочих лис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местное с детьми  изготовление  кормушек, подбор разнообразного к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курс на изготовление  лучшей поделки «Моя любимая птиц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курсии родителей с детьми в парки и лесопар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формление фотоальбома «Мы помогаем птицам зимой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сультация «Как и из чего сделать кормушку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5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бразовательная область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«Художественное творчество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бразовательная область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«Труд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бразовательная область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«Познание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Образовательная область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«Социализация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20:47:09Z</dcterms:created>
  <dc:creator>Виктория Андреева</dc:creator>
  <dc:description/>
  <dc:language>en-US</dc:language>
  <cp:lastModifiedBy>User</cp:lastModifiedBy>
  <dcterms:modified xsi:type="dcterms:W3CDTF">2013-04-01T15:06:55Z</dcterms:modified>
  <cp:revision>19</cp:revision>
  <dc:subject/>
  <dc:title>Тема проекта «Зимующие птицы»</dc:title>
</cp:coreProperties>
</file>