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D34C-EA8D-4767-A482-2C99E219C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2947-CF1D-4741-8D0F-FBB838E1B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0B86-2E9A-4369-ACDF-396132D39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02E6-3983-46FF-B50F-5CD5F12E3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0A04-DA97-48DC-AB3F-0566D1717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23CF-2E3D-44C4-BF86-00B477603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A8EC-63B9-4334-857D-F150C491B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DAB0-5C3D-4CF3-A2CD-682DA5F13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7157-E0FF-4C1F-8986-7D0F78BE2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3CEF-DDBC-44B2-AA53-BF410BC5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DB81-B2CB-45B6-8CB4-A45836273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AA59-4BE3-48AC-9EF5-3D0BAAD9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2327A-F30C-4AEE-834B-15FFD389E82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Тема проекта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«Зимующие птицы»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98864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таршая групп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«Непоседы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БДОУ № 5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Фрунзенского райо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анкт-Петербур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оспитате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ндрее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иктория Валерье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rcRect l="-1501" t="18777" r="-5167" b="0"/>
          <a:stretch/>
        </p:blipFill>
        <p:spPr>
          <a:xfrm>
            <a:off x="4103640" y="1557360"/>
            <a:ext cx="5040360" cy="51577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Планирование проектной деятельности</a:t>
            </a: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Групп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старшая «Непоседы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ем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«Зимующие птицы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Цель проект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1. Вызвать интерес к окружающему миру, формировать  достоверные представления  о живой природе  у детей.                        2. Активизировать и обогатить  словарный запас детей по данной теме, развивать связную речь.                                                                             3. Активизация всех психических процессов, развитие логического мышления.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 Воспитывать бережное и внимательное отношение к природ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. Привлечение родителей к совместной работе с деть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азвание и форма итогового мероприятия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«Поможем птичкам дожить до весны» - развешивание на участке детского сада кормушек с корм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ата проведения итогового мероприятия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4 декабря 2012 г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лительность проекта: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 недели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Используемые образовательные технологи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познавательно-исследовательские, игровые, развивающие, информационно-коммуникацио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тветственный за итоговое мероприятие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ндреева В.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-396720"/>
            <a:ext cx="8280360" cy="12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Системная паутинка проекта</a:t>
            </a:r>
            <a:endParaRPr b="0" lang="en-US" sz="16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-1549440" y="1268280"/>
          <a:ext cx="914400" cy="381816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0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324000" y="333360"/>
          <a:ext cx="8642160" cy="6456240"/>
        </p:xfrm>
        <a:graphic>
          <a:graphicData uri="http://schemas.openxmlformats.org/drawingml/2006/table">
            <a:tbl>
              <a:tblPr/>
              <a:tblGrid>
                <a:gridCol w="1368360"/>
                <a:gridCol w="215640"/>
                <a:gridCol w="1511640"/>
                <a:gridCol w="182520"/>
                <a:gridCol w="1114200"/>
                <a:gridCol w="182520"/>
                <a:gridCol w="609840"/>
                <a:gridCol w="1584360"/>
                <a:gridCol w="287280"/>
                <a:gridCol w="1585800"/>
              </a:tblGrid>
              <a:tr h="337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изическое развит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знавательно-речевое развит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Образовательная область «Физ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культур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вижная игра «Совушка-сова», «Воро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ышки и кот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гра с мячом «Да – нет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ревнования «Кто быстрей накормит птиц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Образовательная об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ласть «Здоровье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блемная ситуация «Я увидел больную птицу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Разучивание потешек для КГН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изкультминутки «Птички – раз! Птички – два!»,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Образовательная область «Познание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Наблюдения за птицами на участк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Ведение дневника наблюден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идактические игры «Разрезные картинки», «Что изменилось» и др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россворд, ребус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гра  «Больше-меньше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гра  «Сосчитай птичек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стерскаа форм из палочек, спиче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Образовательная область «Коммуникация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сматривание иллюстраций в книжном уголк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сматривание  картины «У кормушки» и составление рассказа по не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ставление описательного рассказа по теме проект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Образовательная область «Чтение художественной  литературы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Загадывание загадо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Чтение и разучивание стихов А.Барто «Скачет шустрая синица» и др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Чтение книг В.В.Бианки,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швина,  Снегирева,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.Звягин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циально-личностное развитие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удожественно-эстетическое развит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Образовательная область «Социализация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Образовательная область «Труд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Образовательнаобласть«Безопасность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Образовательная область « Художественное творчество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Образовательная область «Музыка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78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Словесная игра «Говорящие картинки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атрализованная постановка по стихотворениям А.Барто, З.Александрово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чь с движением «Скачет, скачет воробей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Общение «Как помочь птицам зимой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Сделаем кормушки с родителям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Накормим птиц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нижки-самоделк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зготовление атрибутов к театрализац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Беседа о правилах наблюдения за птицам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гровая проблемная ситуация «Что будет, если…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ид.игра «П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ги птенцам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рганизация выставки фотографий, книг, картин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исование птиц по круп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учной труд «Снегири и яблоки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елки из природного  материала                                Коллективная аппликац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здание модуля «Птицы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исование гуашью «Синица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певка «Кормушка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зыкальная игра «Дятел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ороводная игра «У кормушки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зыкально-дидактическая  игра «Птицы и птенчики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 advTm="5000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Обеспечение педагогического процесса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1600200"/>
          <a:ext cx="8229600" cy="5024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46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рганизация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вивающей среды дл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мостоятельной деятельности дете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заимодействие с родителями,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циальными партнерам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                                                                                                  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0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бор книг, иллюстраций, рисунков, фотограф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бор дидактических игр, раскрасок, трафаретов, рабочих листов, технологических карт, материалов для выкладывания на ковролин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бор материалов для создания книжек-самодело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мощь родителей в подборке книг, иллюстрац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серокопирование раскрасок, индивидуальных рабочих лист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вместное с детьми  изготовление  кормушек, подбор разнообразного корм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нкурс на изготовление  лучшей поделки «Моя любимая птица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кскурсии родителей с детьми в парки и лесопар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формление фотоальбома «Мы помогаем птицам зимой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нсультация «Как и из чего сделать кормушку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 advTm="5000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Образовательная область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«Художественное творчество»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Образовательная область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«Труд»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Образовательная область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«Познание»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Образовательная область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«Социализация»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724280" y="1600200"/>
            <a:ext cx="3886200" cy="2185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3T20:47:09Z</dcterms:created>
  <dc:creator>Виктория Андреева</dc:creator>
  <dc:description/>
  <dc:language>en-US</dc:language>
  <cp:lastModifiedBy>User</cp:lastModifiedBy>
  <dcterms:modified xsi:type="dcterms:W3CDTF">2013-04-01T15:06:55Z</dcterms:modified>
  <cp:revision>19</cp:revision>
  <dc:subject/>
  <dc:title>Тема проекта «Зимующие птицы»</dc:title>
</cp:coreProperties>
</file>