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09961-FC89-4A63-B3CC-DBD09CE0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0C735-0931-49E0-B931-30E55808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0423-E7C7-423E-BF25-67EF26AA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7F9D-2922-4C67-A5F1-135F29D9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FF3F-0117-412F-82CA-D5C50E91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D6D9-A6A9-4A44-B836-BEAD39B4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109F-B5E1-4D61-B8DC-9A726B75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39B8-5393-4160-A64C-149B0786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0F03-2B1E-4B13-80E1-D9B9575B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BA93-71D0-4DC3-B7FB-8359458C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F56E-0D1C-44C6-9BC8-A6BE588C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0A423-0B83-470C-BE6E-F9CD3E0F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2EBD-1035-4FCF-8DE6-88EB3022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BD44-336E-48D1-8D72-3EDCA3FE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4274-55B1-49BF-8F04-63A64401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29C3-9156-4584-BFB6-0A746F6F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5FB5-46B2-46EC-99FD-D0939E1F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C9880-CFFB-4711-A7E9-ABB7BDA1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AFA64-F3CA-4710-8AF8-651D52D9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3E0C2-DBF3-4A13-A63B-EBBE36EF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CE145-3657-47AC-BB39-86196329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D962-F36C-4AEC-B0E4-A7EC7574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CD53-C0DF-4B6F-BF2A-447E96C3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0591E-AD33-454A-868C-9B7C2F7D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336B-F47D-428A-9EBC-DF780590198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1A90-5A4A-467F-9D7B-886FE1317E8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атира как средство изображения москвичей 30-х годов 20-ого века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здальцева Вик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змакова Наташа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ащиеся 11А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Литератур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.А.Булгаков «Мастер и Маргарит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В.Агеносов «Русская литература хх века» 11 кла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.И.Ожегов «Словарь русского язык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Цель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нять замысел писателя в романе М.Булгакова «Мастер и Маргарит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Этапы работ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брать и проанализировать эпизоды по данной тем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ть, какие человеческие пороки высмеивает писатель средствами сатир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делать выводы о главных нравственных ценностях в жизн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роблем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менились ли люди за две тысячи ле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54480" y="1600200"/>
            <a:ext cx="302436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Кто представляет москвичей в романе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рлиоз и И.Бездомный – писат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а Лиходеев – директор театра Варьет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канор Иванович Босой – председатель жилищного товарищест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хор Петрович – председатель зрелищной комисс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атели МАССОЛИ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рители на сеансе «черной маги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Как и за что они наказаны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360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ерлиоз попадает под трамва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зятка Н.И.Босом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.Лиходеев оказывается в Ялт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устой костюм Прохора Петрович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еспорядки в гор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ассовый гипно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7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верие ни во ч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вышение полномочий, жадн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ьянство, «втирание очков начальству», бездель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выполнение своих обязанност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рубость, доносы, обман, сплет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адность, лож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177336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256536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371628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450864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16360" y="551664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6308640"/>
            <a:ext cx="25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редства сати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Шарж – сатирическое или юмористическое изображение кого или чего-нибудь в подчеркнуто искаженном, карикатурном ви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ротеск – изображение чего-нибудь в фантастическом, уродливо-комическом ви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антастика – невообразимое, невозможно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251320" y="1600200"/>
            <a:ext cx="28321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Изменились ли люди за две тысячи лет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Ну что же, они люди как люди… Любят деньги, но ведь это всегда было… Обыкновенные люди … в общем напоминают прежних, квартирный вопрос только испортил их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251320" y="1600200"/>
            <a:ext cx="28321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Вывод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.Булгаков средствами сатиры вскрывает зло. В своем романе он утверждает такие нравственные ценности: веру в справедливость, веру в доброту, веру в любовь, веру в истин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0:47:51Z</dcterms:created>
  <dc:creator>kirov4</dc:creator>
  <dc:description/>
  <dc:language>en-US</dc:language>
  <cp:lastModifiedBy>kirov4</cp:lastModifiedBy>
  <dcterms:modified xsi:type="dcterms:W3CDTF">2005-11-10T12:09:13Z</dcterms:modified>
  <cp:revision>10</cp:revision>
  <dc:subject/>
  <dc:title>Сатира как средство изображения москвичей 30-х годов 20-ого века</dc:title>
</cp:coreProperties>
</file>