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BD22-ACE9-47CF-9667-A152D3ED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5653-F6D7-409F-ACE6-F2D9BCCC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2B5D-787D-40EB-89FC-AE619E1A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DB82-6D05-458B-AE50-E3325FE6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5CCA-E27E-4803-958D-ABBB0670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E82C-26B5-446E-A66C-17C7A2FC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CD0-B7BB-4D49-9B9C-9EF7D108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523A-7BEB-46CA-AB31-71C4CF6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39F5-C8F8-4B70-8EBB-0B6D04AE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162C-A683-4B90-AAE9-6BDCF110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E29-F7D0-47B6-BC9F-7261A5F2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4E9C-9E93-4882-BA2B-FD95A544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E557-5709-4A77-9420-FEB4B500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6EB3-8763-445B-945A-2E44E3D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B192-37B3-46FE-8779-FCE6EBB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9660-DC3D-49A4-A143-7BCCE531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AAE3-28E6-44F3-B091-8A4F0A8E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5C4D-0025-4EC0-9845-28AA7FB3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6740-3035-495E-BDEA-92C1C396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90F7-49E3-420F-BEE8-F891E6FD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9397-7218-4636-B4D9-5A843AB5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27A1-774D-4EAD-8562-0B0274D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B0C5-F612-4F97-ACE2-28D994D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0EE34-F6C0-428A-B0F3-FE94439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619B-E3F0-46B0-B3B9-8E369FB1F3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7EF1-FA02-4B3F-81F1-E5377CBE1E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атира как средство изображения москвичей 30-х годов 20-ого века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здальцева Вик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узмакова Наташ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ащиеся 11А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итерату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.А.Булгаков «Мастер и Маргари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В.Агеносов «Русская литература хх века» 11 клас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И.Ожегов «Словарь русского язык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нять замысел писателя в романе М.Булгакова «Мастер и Маргари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Этапы рабо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брать и проанализировать эпизоды по данной тем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ть, какие человеческие пороки высмеивает писатель средствами сатир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ebf25a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выводы о главных нравственных ценностях в жизн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Пробл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менились ли люди за две тысячи л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54480" y="1600200"/>
            <a:ext cx="3024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то представляет москвичей в романе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лиоз и И.Бездомный – писат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а Лиходеев – директор театра Варьет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иканор Иванович Босой – председатель жилищного товариществ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хор Петрович – председатель зрелищной комисс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и МАССОЛИ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рители на сеансе «черной маг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и за что они наказаны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600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рлиоз попадает под трамв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зятка Н.И.Босом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.Лиходеев оказывается в Ял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устой костюм Прохора Петрович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Беспорядки в го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ассовый гипно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7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верие ни во ч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вышение полномочий, жадн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ьянство, «втирание очков начальству», бездель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выполнение своих обязанност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убость, доносы, обман, сплет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Жадность, лож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17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35280" y="256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371628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450864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5516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6308640"/>
            <a:ext cx="25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редства сати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Шарж – сатирическое или юмористическое изображение кого или чего-нибудь в подчеркнуто искаженном, карикатурном ви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ротеск – изображение чего-нибудь в фантастическом, уродливо-комическом ви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антастика – невообразимое, невозможно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251320" y="1600200"/>
            <a:ext cx="283212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Изменились ли люди за две тысячи ле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«Ну что же, они люди как люди… Любят деньги, но ведь это всегда было… Обыкновенные люди … в общем напоминают прежних, квартирный вопрос только испортил их.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251320" y="1600200"/>
            <a:ext cx="2832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ывод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.Булгаков средствами сатиры вскрывает зло. В своем романе он утверждает такие нравственные ценности: веру в справедливость, веру в доброту, веру в любовь, веру в исти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0:47:51Z</dcterms:created>
  <dc:creator>kirov4</dc:creator>
  <dc:description/>
  <dc:language>en-US</dc:language>
  <cp:lastModifiedBy>kirov4</cp:lastModifiedBy>
  <dcterms:modified xsi:type="dcterms:W3CDTF">2005-11-10T12:09:13Z</dcterms:modified>
  <cp:revision>10</cp:revision>
  <dc:subject/>
  <dc:title>Сатира как средство изображения москвичей 30-х годов 20-ого века</dc:title>
</cp:coreProperties>
</file>