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79C-CA82-4BD6-A671-B620C1EF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CD7-2720-49CC-B17F-18E7BECD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2E6-38CA-4D14-B330-F808B32D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1C6-CC29-4688-AD4D-84FA24B8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A72B-24F8-4684-8C2F-F18A4217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9C6-E380-4854-A290-268E437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6703-1162-4608-A1AE-82B06855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FD1-74F5-400D-923D-44AA3B1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16D4-C2D5-4F89-8D45-B6861AB4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16F-A369-4948-A969-10D7DC1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A75C-FB6A-42D0-B770-137A0D3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DFA-79FE-4A33-9918-716685B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3231-2F79-4126-976A-68C6605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2DB1-9CC1-4A68-8DE3-93F5421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F06E-837E-44C3-A739-099EA1F2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CF6D-58BC-4004-A917-93780AA8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714E-8351-4B5F-8823-E8FDE49D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A0E-BDCE-4CF9-9C78-CF00FBF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BF2-ACA9-4096-A5BB-48B1D719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BA2-B13D-4E59-81AE-7FFB482C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C63-E0EB-44EB-959E-F8091401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C83-9DAE-4581-81F9-5FB2253C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98B-CCB8-4C64-ABB8-C664A8F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0D9-21F9-4BE7-B977-C859AAA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8B2-5F48-435C-B060-A2E475C30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ACB-54AA-428C-8A93-9977CBF1F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579680" y="420840"/>
            <a:ext cx="7570800" cy="85392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4.jpg"/>
          <p:cNvPicPr/>
          <p:nvPr/>
        </p:nvPicPr>
        <p:blipFill>
          <a:blip r:embed="rId3"/>
          <a:stretch/>
        </p:blipFill>
        <p:spPr>
          <a:xfrm>
            <a:off x="249120" y="1616040"/>
            <a:ext cx="4110120" cy="455292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5.jpg"/>
          <p:cNvPicPr/>
          <p:nvPr/>
        </p:nvPicPr>
        <p:blipFill>
          <a:blip r:embed="rId4"/>
          <a:stretch/>
        </p:blipFill>
        <p:spPr>
          <a:xfrm>
            <a:off x="5022720" y="1670040"/>
            <a:ext cx="34689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73080" y="-219240"/>
            <a:ext cx="6383160" cy="23958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Изображение 066.jpg"/>
          <p:cNvPicPr/>
          <p:nvPr/>
        </p:nvPicPr>
        <p:blipFill>
          <a:blip r:embed="rId3"/>
          <a:stretch/>
        </p:blipFill>
        <p:spPr>
          <a:xfrm>
            <a:off x="21420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5" descr="Изображение 071.jpg"/>
          <p:cNvPicPr/>
          <p:nvPr/>
        </p:nvPicPr>
        <p:blipFill>
          <a:blip r:embed="rId4"/>
          <a:stretch/>
        </p:blipFill>
        <p:spPr>
          <a:xfrm>
            <a:off x="4643280" y="13572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7:01Z</dcterms:created>
  <dc:creator>Наталья</dc:creator>
  <dc:description/>
  <dc:language>en-US</dc:language>
  <cp:lastModifiedBy>Наталья</cp:lastModifiedBy>
  <dcterms:modified xsi:type="dcterms:W3CDTF">2013-04-27T04:18:02Z</dcterms:modified>
  <cp:revision>1</cp:revision>
  <dc:subject/>
  <dc:title>Слайд 1</dc:title>
</cp:coreProperties>
</file>