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C18-8D65-4AFF-A3DA-6DDD748A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FA6-4315-4692-8AE8-09B1B24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081-6C4E-4522-A6D3-177C65D3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30C-31BF-4A72-8B89-4FD3EA31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D6A6-7C69-4D47-AFC0-78B6DC4A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2015-5BE9-450E-8DBF-272E11F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B78-11E0-4E44-BCB7-ED9C21B4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A0A-5371-404D-B70E-A33369F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D6EA-20FD-4E64-8BF0-E2039AC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C5E4-4D4A-43DC-B7CB-5D99253A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AC0-AD23-4073-94C2-57C7E87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BC5-73E2-4C51-881F-C17A5052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536D-3E4F-48FB-BE71-F91A5522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8EC5-9252-4656-BA50-8310BBB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F9B5-D975-47A3-9CBD-807B74D3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0407-6C3B-46D8-A683-1A26B8D7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E0E2-B44D-45AF-9E46-DF0F0437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D4E-930A-4AA3-AE1D-FB17436F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FA3-52D1-40B9-B661-79C60F4B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30B-71A4-4F67-B03E-D57EE5B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7BE-5C11-47CF-9580-7E95E50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0C2-42F4-48C6-A4BC-1ABC31F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99E-3B1C-4B3E-9845-7AAC8512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E9E-818E-4EDC-A0D4-4122BE3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1D1-492A-43E6-A4C7-F69BA33B89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0747-ABD5-44EF-815A-D8B7B1F7B5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579680" y="420840"/>
            <a:ext cx="7570800" cy="85392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4.jpg"/>
          <p:cNvPicPr/>
          <p:nvPr/>
        </p:nvPicPr>
        <p:blipFill>
          <a:blip r:embed="rId3"/>
          <a:stretch/>
        </p:blipFill>
        <p:spPr>
          <a:xfrm>
            <a:off x="249120" y="1616040"/>
            <a:ext cx="4110120" cy="455292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5" descr="5.jpg"/>
          <p:cNvPicPr/>
          <p:nvPr/>
        </p:nvPicPr>
        <p:blipFill>
          <a:blip r:embed="rId4"/>
          <a:stretch/>
        </p:blipFill>
        <p:spPr>
          <a:xfrm>
            <a:off x="5022720" y="1670040"/>
            <a:ext cx="34689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73080" y="-219240"/>
            <a:ext cx="6383160" cy="23958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Изображение 066.jpg"/>
          <p:cNvPicPr/>
          <p:nvPr/>
        </p:nvPicPr>
        <p:blipFill>
          <a:blip r:embed="rId3"/>
          <a:stretch/>
        </p:blipFill>
        <p:spPr>
          <a:xfrm>
            <a:off x="214200" y="342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5" descr="Изображение 071.jpg"/>
          <p:cNvPicPr/>
          <p:nvPr/>
        </p:nvPicPr>
        <p:blipFill>
          <a:blip r:embed="rId4"/>
          <a:stretch/>
        </p:blipFill>
        <p:spPr>
          <a:xfrm>
            <a:off x="4643280" y="13572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7:01Z</dcterms:created>
  <dc:creator>Наталья</dc:creator>
  <dc:description/>
  <dc:language>en-US</dc:language>
  <cp:lastModifiedBy>Наталья</cp:lastModifiedBy>
  <dcterms:modified xsi:type="dcterms:W3CDTF">2013-04-27T04:18:02Z</dcterms:modified>
  <cp:revision>1</cp:revision>
  <dc:subject/>
  <dc:title>Слайд 1</dc:title>
</cp:coreProperties>
</file>