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F3F7-613B-4030-A19C-4443A43E4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AE3D-B570-4336-8267-319C4269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97BC-94B1-41BA-8ADF-7226E8821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9D1F-76FD-48C8-B420-77DC66E4B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0191-588F-4E28-9901-A80352A1C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C9B2-1014-4A4A-AFDC-7C51B982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308D3-066B-4ADC-938A-9B92894DA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0D6CC-FB3B-406A-9B8A-1E90B653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F3DA-F91E-4B27-9D6E-88B73217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202C-94F1-4AB5-BBB3-8952F8FF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F4FC5-0375-4336-B2F4-F9231F19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8BE4-12EC-494D-8AFB-6514E272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6082-35F0-4CDF-83DA-C26ECCD0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140A-8DCD-4FEA-AA55-95E8CB71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39DB-4184-4CD9-9FFD-41AE64E0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10DC-6D66-4DD6-9271-ECEAE4BDA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5969-AE1C-48AB-9E2B-096745A91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A482-6087-478A-89F7-EDD7E53F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01FD-D4BF-4F0D-9EEC-7D1F2A26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F858-A483-47C5-85F9-3E2E5694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D0EE-9F87-4E8A-82C1-8A605438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56FE-ADE9-42FF-8B8C-F883FF92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1C75-2ADC-4670-82F3-E9E3F3E8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E15B-99ED-45D3-83D7-824FAD49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8C2C-EF01-4964-80A0-E38E7FA6D27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35C9-5DF5-4F6D-9DF7-B1122969FF9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Заголовок 1" descr=""/>
          <p:cNvPicPr/>
          <p:nvPr/>
        </p:nvPicPr>
        <p:blipFill>
          <a:blip r:embed="rId2"/>
          <a:stretch/>
        </p:blipFill>
        <p:spPr>
          <a:xfrm>
            <a:off x="1030320" y="493560"/>
            <a:ext cx="7948440" cy="908280"/>
          </a:xfrm>
          <a:prstGeom prst="rect">
            <a:avLst/>
          </a:prstGeom>
          <a:ln w="0">
            <a:noFill/>
          </a:ln>
        </p:spPr>
      </p:pic>
      <p:pic>
        <p:nvPicPr>
          <p:cNvPr id="82" name="Содержимое 4" descr="Изображение 030.jpg"/>
          <p:cNvPicPr/>
          <p:nvPr/>
        </p:nvPicPr>
        <p:blipFill>
          <a:blip r:embed="rId3"/>
          <a:stretch/>
        </p:blipFill>
        <p:spPr>
          <a:xfrm>
            <a:off x="785880" y="1357200"/>
            <a:ext cx="77677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7T04:15:03Z</dcterms:created>
  <dc:creator>Наталья</dc:creator>
  <dc:description/>
  <dc:language>en-US</dc:language>
  <cp:lastModifiedBy>Наталья</cp:lastModifiedBy>
  <dcterms:modified xsi:type="dcterms:W3CDTF">2013-04-27T06:39:00Z</dcterms:modified>
  <cp:revision>3</cp:revision>
  <dc:subject/>
  <dc:title>Слайд 1</dc:title>
</cp:coreProperties>
</file>