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68FA-E5A8-47B7-A7A3-F7CE2707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896D-A2B8-4009-A9F1-3A0A50B4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D505-C00F-4999-B603-AD9825C5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8369-6768-44A4-B5E6-12060B525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46B7-0FB2-4B3C-BAC2-CB6C30BC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B017-AFC7-4F98-AA07-004AF95B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4E97-51ED-4947-8297-CDAD6DB4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A4C1-6B36-4B34-A766-D9B0C7C9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31E8-256C-4492-B116-D88B06DC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8680-14B1-4142-AE26-59592FA1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63CF-A6C0-412A-A3F1-261AA3D1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6DF8-5A7D-44E8-9926-89282B76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D1CC-C2DA-4369-B55C-40ABE1FD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9BB0-94E5-4DD5-A9D6-8D5D3096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9294-0245-456D-BC21-99988F7E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24C2-2B85-47E3-94EF-DB5BFDC9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5931-27D6-4DD9-AF7A-F01BF1A5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37D0-E8E9-4C30-B6B8-AB80A7CE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EB90-195D-48CD-B844-FD3D0262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437E-B4DF-43A9-B9B0-705758B8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2FAD-DA52-4CFD-8F24-C800D9DA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EA78-8A33-4BED-9122-25DF4162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832F-0D95-40F4-AF0D-62FB688D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E22E-063F-4F69-97FB-D24B3BCB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E9CD-8F7E-4CA4-B773-22138AC772D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551F-F50E-44F4-986F-9D626CA45A7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Заголовок 1" descr=""/>
          <p:cNvPicPr/>
          <p:nvPr/>
        </p:nvPicPr>
        <p:blipFill>
          <a:blip r:embed="rId2"/>
          <a:stretch/>
        </p:blipFill>
        <p:spPr>
          <a:xfrm>
            <a:off x="1030320" y="493560"/>
            <a:ext cx="7948440" cy="908280"/>
          </a:xfrm>
          <a:prstGeom prst="rect">
            <a:avLst/>
          </a:prstGeom>
          <a:ln w="0">
            <a:noFill/>
          </a:ln>
        </p:spPr>
      </p:pic>
      <p:pic>
        <p:nvPicPr>
          <p:cNvPr id="82" name="Содержимое 4" descr="Изображение 030.jpg"/>
          <p:cNvPicPr/>
          <p:nvPr/>
        </p:nvPicPr>
        <p:blipFill>
          <a:blip r:embed="rId3"/>
          <a:stretch/>
        </p:blipFill>
        <p:spPr>
          <a:xfrm>
            <a:off x="785880" y="1357200"/>
            <a:ext cx="77677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04:15:03Z</dcterms:created>
  <dc:creator>Наталья</dc:creator>
  <dc:description/>
  <dc:language>en-US</dc:language>
  <cp:lastModifiedBy>Наталья</cp:lastModifiedBy>
  <dcterms:modified xsi:type="dcterms:W3CDTF">2013-04-27T06:39:00Z</dcterms:modified>
  <cp:revision>3</cp:revision>
  <dc:subject/>
  <dc:title>Слайд 1</dc:title>
</cp:coreProperties>
</file>