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AAB-AE46-411F-B284-55C22C9B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792-D731-4C85-82D7-3E0AEAC6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8BEE-BDBA-4D05-A7AB-95FF20BE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A1A-DBB9-4E77-9D39-6C3D6E87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48FD-68D2-43EE-8176-37E6E0B5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84AC-87BE-4E49-A597-05E61659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DC71-2603-4986-BB40-0E9ACB9A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3A64-E351-42B1-9734-1F3BCCAB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FC46-3800-4091-889D-2E66CFFF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30C-81C6-4244-9551-E7868A8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80A3-636F-4485-AF87-53BB0E1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8E4-E7F1-42BA-ADB7-06F7FCF4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AC3F-8CE8-49F3-B4C0-788A619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2C5C-3EEA-4827-9805-2AF5635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705B-08A7-4459-A6C5-920D39D0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3436-438C-4665-8A1D-D6C65632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5BCF-77B7-4DB8-B17F-CF22D21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1255-F273-4E51-A8C9-43C9B387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117-1DEA-498F-8E86-ECE40E38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5A10-4974-4397-BE70-32A704CE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32A-EAC4-4F45-B9B6-8CDFEDD1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AE1-8687-4DDE-B4BA-2BDC597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251-17F2-4CB7-BBA0-D8228D09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C3D-14D6-4445-9245-54694419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0497-4006-43B4-A55A-AE26655F2A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9B7E-C4EF-403C-85D4-F1586E628D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499680"/>
            <a:ext cx="419112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дании Бийского драматического театра  под руководством заведующей летературной частью театра Шарабариной Н.Я. работает музей истории Бийского драматического теат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Содержимое 4" descr="Изображение 038.jpg"/>
          <p:cNvPicPr/>
          <p:nvPr/>
        </p:nvPicPr>
        <p:blipFill>
          <a:blip r:embed="rId2"/>
          <a:stretch/>
        </p:blipFill>
        <p:spPr>
          <a:xfrm>
            <a:off x="4071960" y="1214280"/>
            <a:ext cx="4919760" cy="4376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3587040" y="5715000"/>
            <a:ext cx="55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ей истории  Бийского  драматического теа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1463760" y="420840"/>
            <a:ext cx="6100560" cy="907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4" descr="Изображение 022.jpg"/>
          <p:cNvPicPr/>
          <p:nvPr/>
        </p:nvPicPr>
        <p:blipFill>
          <a:blip r:embed="rId3"/>
          <a:stretch/>
        </p:blipFill>
        <p:spPr>
          <a:xfrm>
            <a:off x="214200" y="1643040"/>
            <a:ext cx="4214880" cy="457200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5" descr="Изображение 023.jpg"/>
          <p:cNvPicPr/>
          <p:nvPr/>
        </p:nvPicPr>
        <p:blipFill>
          <a:blip r:embed="rId4"/>
          <a:stretch/>
        </p:blipFill>
        <p:spPr>
          <a:xfrm>
            <a:off x="4929120" y="1357200"/>
            <a:ext cx="40626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2908440" y="420840"/>
            <a:ext cx="5814720" cy="87156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4" descr="Изображение 061.jpg"/>
          <p:cNvPicPr/>
          <p:nvPr/>
        </p:nvPicPr>
        <p:blipFill>
          <a:blip r:embed="rId3"/>
          <a:stretch/>
        </p:blipFill>
        <p:spPr>
          <a:xfrm>
            <a:off x="628560" y="1600200"/>
            <a:ext cx="3543480" cy="472428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5" descr="Изображение 033.jpg"/>
          <p:cNvPicPr/>
          <p:nvPr/>
        </p:nvPicPr>
        <p:blipFill>
          <a:blip r:embed="rId4"/>
          <a:stretch/>
        </p:blipFill>
        <p:spPr>
          <a:xfrm>
            <a:off x="5048280" y="1600200"/>
            <a:ext cx="3543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1390680" y="420840"/>
            <a:ext cx="6186600" cy="90792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Изображение 041.jpg"/>
          <p:cNvPicPr/>
          <p:nvPr/>
        </p:nvPicPr>
        <p:blipFill>
          <a:blip r:embed="rId3"/>
          <a:stretch/>
        </p:blipFill>
        <p:spPr>
          <a:xfrm>
            <a:off x="457200" y="2741760"/>
            <a:ext cx="3970440" cy="285732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5" descr="Изображение 064.jpg"/>
          <p:cNvPicPr/>
          <p:nvPr/>
        </p:nvPicPr>
        <p:blipFill>
          <a:blip r:embed="rId4"/>
          <a:stretch/>
        </p:blipFill>
        <p:spPr>
          <a:xfrm>
            <a:off x="4838760" y="2451240"/>
            <a:ext cx="3789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981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Изображение 043.jpg"/>
          <p:cNvPicPr/>
          <p:nvPr/>
        </p:nvPicPr>
        <p:blipFill>
          <a:blip r:embed="rId3"/>
          <a:stretch/>
        </p:blipFill>
        <p:spPr>
          <a:xfrm>
            <a:off x="714240" y="1285920"/>
            <a:ext cx="7786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0:59Z</dcterms:created>
  <dc:creator>Наталья</dc:creator>
  <dc:description/>
  <dc:language>en-US</dc:language>
  <cp:lastModifiedBy>Наталья</cp:lastModifiedBy>
  <dcterms:modified xsi:type="dcterms:W3CDTF">2013-04-27T05:25:30Z</dcterms:modified>
  <cp:revision>3</cp:revision>
  <dc:subject/>
  <dc:title>Слайд 1</dc:title>
</cp:coreProperties>
</file>