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67C-61CE-4EDD-AF65-1567D0FC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0CC-8394-4678-81A5-A278269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FE9-B6F3-444E-ACDF-6D8466D4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3CA-C0FC-42F4-99E9-2648F813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D6D-7E44-497A-90C1-50426D36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079-7906-4C71-9159-33D9F48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CAB-8B5C-4E6B-B918-89B48B29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4E8E-3FBF-45BD-80FB-866E0254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756F-B21E-4189-A325-9A5F5BE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D7A-AB79-4CC7-A19B-2F80F57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F445-C12F-414B-8638-5A517FD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46D-7F22-463F-80AF-83E5FCC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AC50-55CB-4A63-AF79-E86F90F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C4A5-060C-46CA-B17F-27D573B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266A-76EF-455D-B4CE-F75CCBE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CFE6-DB85-4611-981C-9D898A54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5B0-D36D-42CE-8422-0B626AA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596-CA2A-49DE-AE93-44E776EC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2C0-EA02-4119-981C-86D3E83A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8C4-26BA-4677-9899-0DEEF03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5F7-7083-4955-BC28-D7D35089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3E-FFC5-4137-B172-0F66CD3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476-C945-4EF3-A970-CBC4B27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43B-7A8B-4072-BC35-5397B73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DA36-6242-4943-AE16-F6D6A89CEE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122-785E-43D7-BA47-35013E8696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499680"/>
            <a:ext cx="419112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дании Бийского драматического театра  под руководством заведующей летературной частью театра Шарабариной Н.Я. работает музей истории Бийского драматического теа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Содержимое 4" descr="Изображение 038.jpg"/>
          <p:cNvPicPr/>
          <p:nvPr/>
        </p:nvPicPr>
        <p:blipFill>
          <a:blip r:embed="rId2"/>
          <a:stretch/>
        </p:blipFill>
        <p:spPr>
          <a:xfrm>
            <a:off x="4071960" y="1214280"/>
            <a:ext cx="4919760" cy="4376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587040" y="5715000"/>
            <a:ext cx="55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 истории  Бийского  драматического теа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1463760" y="420840"/>
            <a:ext cx="6100560" cy="907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4" descr="Изображение 022.jpg"/>
          <p:cNvPicPr/>
          <p:nvPr/>
        </p:nvPicPr>
        <p:blipFill>
          <a:blip r:embed="rId3"/>
          <a:stretch/>
        </p:blipFill>
        <p:spPr>
          <a:xfrm>
            <a:off x="214200" y="1643040"/>
            <a:ext cx="421488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5" descr="Изображение 023.jpg"/>
          <p:cNvPicPr/>
          <p:nvPr/>
        </p:nvPicPr>
        <p:blipFill>
          <a:blip r:embed="rId4"/>
          <a:stretch/>
        </p:blipFill>
        <p:spPr>
          <a:xfrm>
            <a:off x="4929120" y="1357200"/>
            <a:ext cx="40626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2908440" y="420840"/>
            <a:ext cx="5814720" cy="8715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Изображение 061.jpg"/>
          <p:cNvPicPr/>
          <p:nvPr/>
        </p:nvPicPr>
        <p:blipFill>
          <a:blip r:embed="rId3"/>
          <a:stretch/>
        </p:blipFill>
        <p:spPr>
          <a:xfrm>
            <a:off x="628560" y="1600200"/>
            <a:ext cx="3543480" cy="472428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Изображение 033.jpg"/>
          <p:cNvPicPr/>
          <p:nvPr/>
        </p:nvPicPr>
        <p:blipFill>
          <a:blip r:embed="rId4"/>
          <a:stretch/>
        </p:blipFill>
        <p:spPr>
          <a:xfrm>
            <a:off x="5048280" y="1600200"/>
            <a:ext cx="3543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1390680" y="420840"/>
            <a:ext cx="6186600" cy="9079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Изображение 041.jpg"/>
          <p:cNvPicPr/>
          <p:nvPr/>
        </p:nvPicPr>
        <p:blipFill>
          <a:blip r:embed="rId3"/>
          <a:stretch/>
        </p:blipFill>
        <p:spPr>
          <a:xfrm>
            <a:off x="457200" y="2741760"/>
            <a:ext cx="3970440" cy="28573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Изображение 064.jpg"/>
          <p:cNvPicPr/>
          <p:nvPr/>
        </p:nvPicPr>
        <p:blipFill>
          <a:blip r:embed="rId4"/>
          <a:stretch/>
        </p:blipFill>
        <p:spPr>
          <a:xfrm>
            <a:off x="4838760" y="2451240"/>
            <a:ext cx="3789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Изображение 043.jpg"/>
          <p:cNvPicPr/>
          <p:nvPr/>
        </p:nvPicPr>
        <p:blipFill>
          <a:blip r:embed="rId3"/>
          <a:stretch/>
        </p:blipFill>
        <p:spPr>
          <a:xfrm>
            <a:off x="714240" y="1285920"/>
            <a:ext cx="7786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0:59Z</dcterms:created>
  <dc:creator>Наталья</dc:creator>
  <dc:description/>
  <dc:language>en-US</dc:language>
  <cp:lastModifiedBy>Наталья</cp:lastModifiedBy>
  <dcterms:modified xsi:type="dcterms:W3CDTF">2013-04-27T05:25:30Z</dcterms:modified>
  <cp:revision>3</cp:revision>
  <dc:subject/>
  <dc:title>Слайд 1</dc:title>
</cp:coreProperties>
</file>