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B3B-6FFB-4344-8624-31DF776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35B-550C-4FA1-B0BC-9340E209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769-42E9-45F4-A618-5990228A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65C-3D58-48C7-B97B-8D4B09F8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D9E0-7D9C-43AF-B30C-34BE2935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A2B3-A047-42C4-8512-B8DA27CE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493E-EB73-4DCF-A865-7BF990EB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4A22-7A94-410C-AB6B-923DD761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6844-5087-47AC-AD4C-87242696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CBB7-E091-4179-BC49-CEE5897D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DE5F-24B7-4A48-A313-7FD048F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AC6-953A-477B-818F-B9D566EE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8FD7-65E0-46AC-A72A-B11B866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11D-D03E-4EF1-AAFA-1D98096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41C7-240F-4C1B-8425-AEF3D371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93F-9283-478E-B1CA-85814C4D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A725-F46E-43E8-A7DE-2DC6FEAE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8A5E-C078-4695-9513-C462BD9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BA3-2AB3-422D-8224-360FB94C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C49-217C-4B00-81D3-3F07D30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62D1-3482-48B0-82C8-2B7D85C6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711-18CD-4629-95E8-5A77D0F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F06-7AD6-4248-8200-DF27BF1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C55-6A09-445C-A7E5-BC3CCCF8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1" name="Прямоугольник 6"/>
          <p:cNvGrpSpPr/>
          <p:nvPr/>
        </p:nvGrpSpPr>
        <p:grpSpPr>
          <a:xfrm>
            <a:off x="-201600" y="-201600"/>
            <a:ext cx="9553680" cy="7267680"/>
            <a:chOff x="-201600" y="-201600"/>
            <a:chExt cx="9553680" cy="7267680"/>
          </a:xfrm>
        </p:grpSpPr>
        <p:pic>
          <p:nvPicPr>
            <p:cNvPr id="2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201600" y="-201600"/>
              <a:ext cx="9553680" cy="72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0DA0-DFC7-4DCB-8D12-88A7F8A9F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7" descr="0_6129d_c2d0151_XL.jpeg"/>
          <p:cNvPicPr/>
          <p:nvPr/>
        </p:nvPicPr>
        <p:blipFill>
          <a:blip r:embed="rId3"/>
          <a:stretch/>
        </p:blipFill>
        <p:spPr>
          <a:xfrm>
            <a:off x="7143840" y="5475240"/>
            <a:ext cx="1857240" cy="1181160"/>
          </a:xfrm>
          <a:prstGeom prst="rect">
            <a:avLst/>
          </a:prstGeom>
          <a:ln w="0">
            <a:noFill/>
          </a:ln>
        </p:spPr>
      </p:pic>
      <p:grpSp>
        <p:nvGrpSpPr>
          <p:cNvPr id="46" name="Прямоугольник 6"/>
          <p:cNvGrpSpPr/>
          <p:nvPr/>
        </p:nvGrpSpPr>
        <p:grpSpPr>
          <a:xfrm>
            <a:off x="-201600" y="-201600"/>
            <a:ext cx="9553680" cy="7267680"/>
            <a:chOff x="-201600" y="-201600"/>
            <a:chExt cx="9553680" cy="7267680"/>
          </a:xfrm>
        </p:grpSpPr>
        <p:pic>
          <p:nvPicPr>
            <p:cNvPr id="47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-201600" y="-201600"/>
              <a:ext cx="9553680" cy="72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1280" y="71280"/>
              <a:ext cx="9001440" cy="67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Рисунок 8" descr="color1.jpg"/>
          <p:cNvPicPr/>
          <p:nvPr/>
        </p:nvPicPr>
        <p:blipFill>
          <a:blip r:embed="rId5"/>
          <a:srcRect l="0" t="27727" r="0" b="27727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E6B1-9345-4ADD-B270-7FE8C402B9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500280" y="2000160"/>
            <a:ext cx="1928880" cy="191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dd06f4b2cd9_7068abf4353f9ac67b3b227875b347ec_557"/>
          <p:cNvPicPr/>
          <p:nvPr/>
        </p:nvPicPr>
        <p:blipFill>
          <a:blip r:embed="rId2"/>
          <a:stretch/>
        </p:blipFill>
        <p:spPr>
          <a:xfrm>
            <a:off x="214200" y="214200"/>
            <a:ext cx="3357720" cy="2387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3116"/>
          <p:cNvPicPr/>
          <p:nvPr/>
        </p:nvPicPr>
        <p:blipFill>
          <a:blip r:embed="rId3"/>
          <a:stretch/>
        </p:blipFill>
        <p:spPr>
          <a:xfrm>
            <a:off x="214200" y="3786120"/>
            <a:ext cx="3854520" cy="2822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09082804B"/>
          <p:cNvPicPr/>
          <p:nvPr/>
        </p:nvPicPr>
        <p:blipFill>
          <a:blip r:embed="rId4"/>
          <a:stretch/>
        </p:blipFill>
        <p:spPr>
          <a:xfrm>
            <a:off x="5643720" y="214200"/>
            <a:ext cx="3240000" cy="261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DSC04002"/>
          <p:cNvPicPr/>
          <p:nvPr/>
        </p:nvPicPr>
        <p:blipFill>
          <a:blip r:embed="rId5"/>
          <a:stretch/>
        </p:blipFill>
        <p:spPr>
          <a:xfrm>
            <a:off x="4572000" y="3857760"/>
            <a:ext cx="4311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-360" y="500040"/>
            <a:ext cx="87296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ая птица людям доверяе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ласточка для птенчиков своих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близи жилья людей гнездо свивает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, веря людям, не боится и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ласточкам, что с нами дружат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к людям обращаюсь я сейчас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говорю: старайтесь быть не хуж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го, что птицы думают о нас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. Ломи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&amp;Scy;&amp;kcy;&amp;acy;&amp;chcy;&amp;acy;&amp;tcy;&amp;softcy; &amp;pcy;&amp;rcy;&amp;iecy;&amp;zcy;&amp;iecy;&amp;ncy;&amp;tcy;&amp;acy;&amp;tscy;&amp;icy;&amp;yucy; &amp;dcy;&amp;lcy;&amp;yacy; &amp;dcy;&amp;iecy;&amp;tcy;&amp;iecy;&amp;jcy; - &amp;Lcy;&amp;acy;&amp;scy;&amp;tcy;&amp;ocy;&amp;chcy;&amp;kcy;&amp;acy;"/>
          <p:cNvPicPr/>
          <p:nvPr/>
        </p:nvPicPr>
        <p:blipFill>
          <a:blip r:embed="rId1"/>
          <a:stretch/>
        </p:blipFill>
        <p:spPr>
          <a:xfrm>
            <a:off x="6500880" y="714240"/>
            <a:ext cx="24289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0120"/>
            <a:ext cx="807228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Поговорим о толерантнос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Прямоугольник с двумя скругленными противолежащими углами 9"/>
          <p:cNvGrpSpPr/>
          <p:nvPr/>
        </p:nvGrpSpPr>
        <p:grpSpPr>
          <a:xfrm>
            <a:off x="622440" y="4479840"/>
            <a:ext cx="8113680" cy="2036880"/>
            <a:chOff x="622440" y="4479840"/>
            <a:chExt cx="8113680" cy="2036880"/>
          </a:xfrm>
        </p:grpSpPr>
        <p:pic>
          <p:nvPicPr>
            <p:cNvPr id="100" name="Прямоугольник с двумя скругленными противолежащими углами 9" descr=""/>
            <p:cNvPicPr/>
            <p:nvPr/>
          </p:nvPicPr>
          <p:blipFill>
            <a:blip r:embed="rId1"/>
            <a:stretch/>
          </p:blipFill>
          <p:spPr>
            <a:xfrm>
              <a:off x="622440" y="4479840"/>
              <a:ext cx="8113680" cy="20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39800" y="4599000"/>
              <a:ext cx="787860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Прямоугольник с двумя скругленными противолежащими углами 7"/>
          <p:cNvGrpSpPr/>
          <p:nvPr/>
        </p:nvGrpSpPr>
        <p:grpSpPr>
          <a:xfrm>
            <a:off x="622440" y="3267000"/>
            <a:ext cx="8113680" cy="1036800"/>
            <a:chOff x="622440" y="3267000"/>
            <a:chExt cx="8113680" cy="1036800"/>
          </a:xfrm>
        </p:grpSpPr>
        <p:pic>
          <p:nvPicPr>
            <p:cNvPr id="103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622440" y="3267000"/>
              <a:ext cx="811368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92280" y="3335400"/>
              <a:ext cx="7974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Прямоугольник с двумя скругленными противолежащими углами 6"/>
          <p:cNvGrpSpPr/>
          <p:nvPr/>
        </p:nvGrpSpPr>
        <p:grpSpPr>
          <a:xfrm>
            <a:off x="622440" y="2127240"/>
            <a:ext cx="8113680" cy="1036800"/>
            <a:chOff x="622440" y="2127240"/>
            <a:chExt cx="8113680" cy="1036800"/>
          </a:xfrm>
        </p:grpSpPr>
        <p:pic>
          <p:nvPicPr>
            <p:cNvPr id="10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622440" y="2127240"/>
              <a:ext cx="811368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92280" y="2192400"/>
              <a:ext cx="7974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Прямоугольник с двумя скругленными противолежащими углами 5"/>
          <p:cNvGrpSpPr/>
          <p:nvPr/>
        </p:nvGrpSpPr>
        <p:grpSpPr>
          <a:xfrm>
            <a:off x="622440" y="1268280"/>
            <a:ext cx="8113680" cy="749520"/>
            <a:chOff x="622440" y="1268280"/>
            <a:chExt cx="8113680" cy="749520"/>
          </a:xfrm>
        </p:grpSpPr>
        <p:pic>
          <p:nvPicPr>
            <p:cNvPr id="109" name="Прямоугольник с двумя скругленными противолежащими углами 5" descr=""/>
            <p:cNvPicPr/>
            <p:nvPr/>
          </p:nvPicPr>
          <p:blipFill>
            <a:blip r:embed="rId4"/>
            <a:stretch/>
          </p:blipFill>
          <p:spPr>
            <a:xfrm>
              <a:off x="622440" y="1268280"/>
              <a:ext cx="8113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77880" y="1320840"/>
              <a:ext cx="800244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Прямоугольник с двумя скругленными противолежащими углами 3"/>
          <p:cNvGrpSpPr/>
          <p:nvPr/>
        </p:nvGrpSpPr>
        <p:grpSpPr>
          <a:xfrm>
            <a:off x="622440" y="268200"/>
            <a:ext cx="8113680" cy="890640"/>
            <a:chOff x="622440" y="268200"/>
            <a:chExt cx="8113680" cy="890640"/>
          </a:xfrm>
        </p:grpSpPr>
        <p:pic>
          <p:nvPicPr>
            <p:cNvPr id="112" name="Прямоугольник с двумя скругленными противолежащими углами 3" descr=""/>
            <p:cNvPicPr/>
            <p:nvPr/>
          </p:nvPicPr>
          <p:blipFill>
            <a:blip r:embed="rId5"/>
            <a:stretch/>
          </p:blipFill>
          <p:spPr>
            <a:xfrm>
              <a:off x="622440" y="268200"/>
              <a:ext cx="81136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326880"/>
              <a:ext cx="798984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714240" y="285840"/>
            <a:ext cx="80726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ance (англ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готовность быть терпимым, снисходительны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enz (немец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терпимость к чужим мнениям, верованиям, поведению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ance (франц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бежденность в том, что другие могут думать и действовать в манере, отличной от нашей собственно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tolerencia (испан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способность принимать идеи или мнения, отличные от собственны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ерантность, терпимость (рус.)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умение терпеть, принимать/признавать существование кого-либо, примирять, приводить в соответствие с самим собой по отношению к кому-либо/чему-либо, быть снисходительным к чему-либо/кому-либ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8:01:09Z</dcterms:created>
  <dc:creator>Admin</dc:creator>
  <dc:description/>
  <dc:language>en-US</dc:language>
  <cp:lastModifiedBy>Admin</cp:lastModifiedBy>
  <dcterms:modified xsi:type="dcterms:W3CDTF">2013-04-23T20:14:43Z</dcterms:modified>
  <cp:revision>19</cp:revision>
  <dc:subject/>
  <dc:title>Слайд 1</dc:title>
</cp:coreProperties>
</file>