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39C2-E9C2-4143-86BA-127015B3F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D6D0-B415-4166-B507-51D4420E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B770-3314-4AA1-AE80-45C4C9B2C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C03A-A067-4762-964B-E7A3D98FD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A0DF-4C93-4AED-950D-832300D78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45E5-758F-42E7-B134-D184BF43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8A384-E5A2-4460-879B-E9D158AE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AEA8-59C2-4872-9612-CBD58D3A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4E8C-CB3B-4CDD-A095-F9F99397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EBF0-7478-43E0-8ECC-C1DE102C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7DA48-847E-4793-A449-4351FF77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F6EF-1F4F-428F-9C5E-4C6BF57A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CB2F-ED59-42EC-BEC1-10487B3B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6F28-81FE-4B21-AA12-D168FD88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10C5-47AC-476C-9ED8-3D6D1D55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3950-3CF4-460C-A1EB-7F8A21D8B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4855-CDC8-491F-BFC1-203939DBD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11A9-4197-4911-AA12-106CEB4B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C452-9955-4870-A7A0-7DC6EA2D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7F6E-C3A1-40D3-836B-7A2824DF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ADF8-B6D2-419B-A6D5-4BDE3337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CD28-2194-4B5E-8FE3-233F1870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8DE2-B851-4124-BB0D-126A9CB6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D055-D8C4-4BC2-A6ED-57D26FB9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7" descr="0_6129d_c2d0151_XL.jpeg"/>
          <p:cNvPicPr/>
          <p:nvPr/>
        </p:nvPicPr>
        <p:blipFill>
          <a:blip r:embed="rId3"/>
          <a:stretch/>
        </p:blipFill>
        <p:spPr>
          <a:xfrm>
            <a:off x="7143840" y="5475240"/>
            <a:ext cx="1857240" cy="1181160"/>
          </a:xfrm>
          <a:prstGeom prst="rect">
            <a:avLst/>
          </a:prstGeom>
          <a:ln w="0">
            <a:noFill/>
          </a:ln>
        </p:spPr>
      </p:pic>
      <p:grpSp>
        <p:nvGrpSpPr>
          <p:cNvPr id="1" name="Прямоугольник 6"/>
          <p:cNvGrpSpPr/>
          <p:nvPr/>
        </p:nvGrpSpPr>
        <p:grpSpPr>
          <a:xfrm>
            <a:off x="-201600" y="-201600"/>
            <a:ext cx="9553680" cy="7267680"/>
            <a:chOff x="-201600" y="-201600"/>
            <a:chExt cx="9553680" cy="7267680"/>
          </a:xfrm>
        </p:grpSpPr>
        <p:pic>
          <p:nvPicPr>
            <p:cNvPr id="2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-201600" y="-201600"/>
              <a:ext cx="9553680" cy="726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71280" y="71280"/>
              <a:ext cx="9001440" cy="67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2369-E933-46C5-9E11-E99C126DCA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7" descr="0_6129d_c2d0151_XL.jpeg"/>
          <p:cNvPicPr/>
          <p:nvPr/>
        </p:nvPicPr>
        <p:blipFill>
          <a:blip r:embed="rId3"/>
          <a:stretch/>
        </p:blipFill>
        <p:spPr>
          <a:xfrm>
            <a:off x="7143840" y="5475240"/>
            <a:ext cx="1857240" cy="1181160"/>
          </a:xfrm>
          <a:prstGeom prst="rect">
            <a:avLst/>
          </a:prstGeom>
          <a:ln w="0">
            <a:noFill/>
          </a:ln>
        </p:spPr>
      </p:pic>
      <p:grpSp>
        <p:nvGrpSpPr>
          <p:cNvPr id="46" name="Прямоугольник 6"/>
          <p:cNvGrpSpPr/>
          <p:nvPr/>
        </p:nvGrpSpPr>
        <p:grpSpPr>
          <a:xfrm>
            <a:off x="-201600" y="-201600"/>
            <a:ext cx="9553680" cy="7267680"/>
            <a:chOff x="-201600" y="-201600"/>
            <a:chExt cx="9553680" cy="7267680"/>
          </a:xfrm>
        </p:grpSpPr>
        <p:pic>
          <p:nvPicPr>
            <p:cNvPr id="47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-201600" y="-201600"/>
              <a:ext cx="9553680" cy="726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71280" y="71280"/>
              <a:ext cx="9001440" cy="67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Рисунок 8" descr="color1.jpg"/>
          <p:cNvPicPr/>
          <p:nvPr/>
        </p:nvPicPr>
        <p:blipFill>
          <a:blip r:embed="rId5"/>
          <a:srcRect l="0" t="27727" r="0" b="27727"/>
          <a:stretch/>
        </p:blipFill>
        <p:spPr>
          <a:xfrm>
            <a:off x="142920" y="71280"/>
            <a:ext cx="8786880" cy="20005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F1CE-CBF1-4451-8FDF-D1EAF23A18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3500280" y="2000160"/>
            <a:ext cx="1928880" cy="1916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0dd06f4b2cd9_7068abf4353f9ac67b3b227875b347ec_557"/>
          <p:cNvPicPr/>
          <p:nvPr/>
        </p:nvPicPr>
        <p:blipFill>
          <a:blip r:embed="rId2"/>
          <a:stretch/>
        </p:blipFill>
        <p:spPr>
          <a:xfrm>
            <a:off x="214200" y="214200"/>
            <a:ext cx="3357720" cy="2387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IMG_3116"/>
          <p:cNvPicPr/>
          <p:nvPr/>
        </p:nvPicPr>
        <p:blipFill>
          <a:blip r:embed="rId3"/>
          <a:stretch/>
        </p:blipFill>
        <p:spPr>
          <a:xfrm>
            <a:off x="214200" y="3786120"/>
            <a:ext cx="3854520" cy="2822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09082804B"/>
          <p:cNvPicPr/>
          <p:nvPr/>
        </p:nvPicPr>
        <p:blipFill>
          <a:blip r:embed="rId4"/>
          <a:stretch/>
        </p:blipFill>
        <p:spPr>
          <a:xfrm>
            <a:off x="5643720" y="214200"/>
            <a:ext cx="3240000" cy="2611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DSC04002"/>
          <p:cNvPicPr/>
          <p:nvPr/>
        </p:nvPicPr>
        <p:blipFill>
          <a:blip r:embed="rId5"/>
          <a:stretch/>
        </p:blipFill>
        <p:spPr>
          <a:xfrm>
            <a:off x="4572000" y="3857760"/>
            <a:ext cx="431172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-360" y="500040"/>
            <a:ext cx="87296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ая птица людям доверяет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ласточка для птенчиков своих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близи жилья людей гнездо свивает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, веря людям, не боится их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асибо ласточкам, что с нами дружат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к людям обращаюсь я сейчас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говорю: старайтесь быть не хуж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ого, что птицы думают о нас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. Ломи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&amp;Scy;&amp;kcy;&amp;acy;&amp;chcy;&amp;acy;&amp;tcy;&amp;softcy; &amp;pcy;&amp;rcy;&amp;iecy;&amp;zcy;&amp;iecy;&amp;ncy;&amp;tcy;&amp;acy;&amp;tscy;&amp;icy;&amp;yucy; &amp;dcy;&amp;lcy;&amp;yacy; &amp;dcy;&amp;iecy;&amp;tcy;&amp;iecy;&amp;jcy; - &amp;Lcy;&amp;acy;&amp;scy;&amp;tcy;&amp;ocy;&amp;chcy;&amp;kcy;&amp;acy;"/>
          <p:cNvPicPr/>
          <p:nvPr/>
        </p:nvPicPr>
        <p:blipFill>
          <a:blip r:embed="rId1"/>
          <a:stretch/>
        </p:blipFill>
        <p:spPr>
          <a:xfrm>
            <a:off x="6500880" y="714240"/>
            <a:ext cx="2428920" cy="30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2130120"/>
            <a:ext cx="8072280" cy="25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Поговорим о толерантност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Прямоугольник с двумя скругленными противолежащими углами 9"/>
          <p:cNvGrpSpPr/>
          <p:nvPr/>
        </p:nvGrpSpPr>
        <p:grpSpPr>
          <a:xfrm>
            <a:off x="622440" y="4479840"/>
            <a:ext cx="8113680" cy="2036880"/>
            <a:chOff x="622440" y="4479840"/>
            <a:chExt cx="8113680" cy="2036880"/>
          </a:xfrm>
        </p:grpSpPr>
        <p:pic>
          <p:nvPicPr>
            <p:cNvPr id="100" name="Прямоугольник с двумя скругленными противолежащими углами 9" descr=""/>
            <p:cNvPicPr/>
            <p:nvPr/>
          </p:nvPicPr>
          <p:blipFill>
            <a:blip r:embed="rId1"/>
            <a:stretch/>
          </p:blipFill>
          <p:spPr>
            <a:xfrm>
              <a:off x="622440" y="4479840"/>
              <a:ext cx="8113680" cy="203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739800" y="4599000"/>
              <a:ext cx="7878600" cy="18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Прямоугольник с двумя скругленными противолежащими углами 7"/>
          <p:cNvGrpSpPr/>
          <p:nvPr/>
        </p:nvGrpSpPr>
        <p:grpSpPr>
          <a:xfrm>
            <a:off x="622440" y="3267000"/>
            <a:ext cx="8113680" cy="1036800"/>
            <a:chOff x="622440" y="3267000"/>
            <a:chExt cx="8113680" cy="1036800"/>
          </a:xfrm>
        </p:grpSpPr>
        <p:pic>
          <p:nvPicPr>
            <p:cNvPr id="103" name="Прямоугольник с двумя скругленными противолежащими углами 7" descr=""/>
            <p:cNvPicPr/>
            <p:nvPr/>
          </p:nvPicPr>
          <p:blipFill>
            <a:blip r:embed="rId2"/>
            <a:stretch/>
          </p:blipFill>
          <p:spPr>
            <a:xfrm>
              <a:off x="622440" y="3267000"/>
              <a:ext cx="811368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692280" y="3335400"/>
              <a:ext cx="79740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Прямоугольник с двумя скругленными противолежащими углами 6"/>
          <p:cNvGrpSpPr/>
          <p:nvPr/>
        </p:nvGrpSpPr>
        <p:grpSpPr>
          <a:xfrm>
            <a:off x="622440" y="2127240"/>
            <a:ext cx="8113680" cy="1036800"/>
            <a:chOff x="622440" y="2127240"/>
            <a:chExt cx="8113680" cy="1036800"/>
          </a:xfrm>
        </p:grpSpPr>
        <p:pic>
          <p:nvPicPr>
            <p:cNvPr id="10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622440" y="2127240"/>
              <a:ext cx="811368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692280" y="2192400"/>
              <a:ext cx="79740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Прямоугольник с двумя скругленными противолежащими углами 5"/>
          <p:cNvGrpSpPr/>
          <p:nvPr/>
        </p:nvGrpSpPr>
        <p:grpSpPr>
          <a:xfrm>
            <a:off x="622440" y="1268280"/>
            <a:ext cx="8113680" cy="749520"/>
            <a:chOff x="622440" y="1268280"/>
            <a:chExt cx="8113680" cy="749520"/>
          </a:xfrm>
        </p:grpSpPr>
        <p:pic>
          <p:nvPicPr>
            <p:cNvPr id="109" name="Прямоугольник с двумя скругленными противолежащими углами 5" descr=""/>
            <p:cNvPicPr/>
            <p:nvPr/>
          </p:nvPicPr>
          <p:blipFill>
            <a:blip r:embed="rId4"/>
            <a:stretch/>
          </p:blipFill>
          <p:spPr>
            <a:xfrm>
              <a:off x="622440" y="1268280"/>
              <a:ext cx="811368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677880" y="1320840"/>
              <a:ext cx="800244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Прямоугольник с двумя скругленными противолежащими углами 3"/>
          <p:cNvGrpSpPr/>
          <p:nvPr/>
        </p:nvGrpSpPr>
        <p:grpSpPr>
          <a:xfrm>
            <a:off x="622440" y="268200"/>
            <a:ext cx="8113680" cy="890640"/>
            <a:chOff x="622440" y="268200"/>
            <a:chExt cx="8113680" cy="890640"/>
          </a:xfrm>
        </p:grpSpPr>
        <p:pic>
          <p:nvPicPr>
            <p:cNvPr id="112" name="Прямоугольник с двумя скругленными противолежащими углами 3" descr=""/>
            <p:cNvPicPr/>
            <p:nvPr/>
          </p:nvPicPr>
          <p:blipFill>
            <a:blip r:embed="rId5"/>
            <a:stretch/>
          </p:blipFill>
          <p:spPr>
            <a:xfrm>
              <a:off x="622440" y="268200"/>
              <a:ext cx="811368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84360" y="326880"/>
              <a:ext cx="798984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 txBox="1"/>
          <p:nvPr/>
        </p:nvSpPr>
        <p:spPr>
          <a:xfrm>
            <a:off x="714240" y="285840"/>
            <a:ext cx="807264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tolerance (англ.)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– готовность быть терпимым, снисходительным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tolerenz (немец.)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– терпимость к чужим мнениям, верованиям, поведению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tolerance (франц.)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– убежденность в том, что другие могут думать и действовать в манере, отличной от нашей собственной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tolerencia (испан.)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– способность принимать идеи или мнения, отличные от собственных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толерантность, терпимость (рус.)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– умение терпеть, принимать/признавать существование кого-либо, примирять, приводить в соответствие с самим собой по отношению к кому-либо/чему-либо, быть снисходительным к чему-либо/кому-либ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18:01:09Z</dcterms:created>
  <dc:creator>Admin</dc:creator>
  <dc:description/>
  <dc:language>en-US</dc:language>
  <cp:lastModifiedBy>Admin</cp:lastModifiedBy>
  <dcterms:modified xsi:type="dcterms:W3CDTF">2013-04-23T20:14:43Z</dcterms:modified>
  <cp:revision>19</cp:revision>
  <dc:subject/>
  <dc:title>Слайд 1</dc:title>
</cp:coreProperties>
</file>