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5C58-600D-46C8-8924-1A4F023C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8A3-9E32-4FED-99BD-58B83733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2003-38C8-4964-805D-C66E6F95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2B4-BF4F-4728-9570-C3317929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1FB2-2B5D-4B36-971D-E14A1CBA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812B-5594-4BC8-80A1-FCE867D4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4186-3AE3-4506-9023-048345B3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4E99-1780-42C3-A6B0-CEC0A7E5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74BF-D3BF-4356-83FE-DADE2212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BA4F-054D-4227-ADCC-F5554AD3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77A8-7246-4DE5-80A2-27A781EF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0EE-0546-436A-92B2-9034CD68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2A29-A4AB-4DBC-AEF0-8FBA45B1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C62C-6452-441D-828A-2C91C5D8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DEB8-7990-4D7F-98EF-7702EBA7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8A71-FEB4-4C2E-A1C5-BCA3895B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DAE0-8F08-4135-863C-3A445F33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230-E094-4CA5-AB14-760B1A4D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4670-F755-442E-9889-3DA3AFEC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24E0-ED52-437C-9742-2367A581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5EB-99D2-42B9-A069-81227795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3E8-9190-4740-9239-E13135D8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344-F9AC-4589-9504-D076544E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1996-0A1C-40B2-8C01-52205F7D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954A-956B-4705-A867-6AD47289A6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1E1A-0BDB-41BE-962E-45D9F8F6C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Интегрированная образовательная деятельность детей и родителей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2920" y="3068640"/>
            <a:ext cx="6472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ма: «Весна за окном!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пользуемые технологии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емотехника, физминутка, подвижная иг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атель ГБДОУ д/с №5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лпатова Любовь Олег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Цель: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Показать родителям, на итоговой совместной деятельности знания детей,  характерные признаки весны в живой и неживой природе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ть представление  родителям о знаниях детей в живой и неживой природе о изменениях в жизни птиц весной., используя мнемотехни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Совмесно с родителями сделать поделку из бумаги – уточку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Развивать у детей наблюдательность, умение анализировать, логически мыслить и делать выводы с использованием мнемотехнических табли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Познакомить родителей с такой новой технологией, как мнемотехни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Воспитывать эмоциональную отзывчивость к природ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изнаки вес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знаки весны неживой природы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лнце ярче светит и греет. День становится длиннее,  а ночь короче. Капель. Температура воздуха повышается. Тает снег, и где солнце больше пригрело, появляются проталинки. И когда солнце окончательно, растопит снег. Происходит половодье - это когда река выходит из берегов, (картина Исаака Левитана «Большая Вода» рассматривани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007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знаки весны живой природы: Просыпаются деревья, и на них набухают почки.  На проталинки в лесу, появляется подснежник. Просыпаются насекомые и с юга возвращаются перелетные птицы, (это корм для птиц). Звери в лесу просыпаются. У животных начинается линька. У животных появляются детеныши, (выведения потомства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6732720" y="5013360"/>
            <a:ext cx="2232000" cy="1655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3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Исаак Левитан «Большая вода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Рисунок 1" descr=""/>
          <p:cNvPicPr/>
          <p:nvPr/>
        </p:nvPicPr>
        <p:blipFill>
          <a:blip r:embed="rId1"/>
          <a:stretch/>
        </p:blipFill>
        <p:spPr>
          <a:xfrm>
            <a:off x="4140360" y="1197000"/>
            <a:ext cx="4246560" cy="53560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99240" y="2421000"/>
            <a:ext cx="349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ыхлый снег на солнце тает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етерок в ветвях играет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вонче птичьи голоса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начит, к нам пришла ...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весна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wheel spokes="3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Мнемотаблицы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знаки весн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3166920" cy="4248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867280" y="1989000"/>
            <a:ext cx="2379960" cy="3467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Уточка из бумаг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8ae"/>
                </a:solidFill>
                <a:latin typeface="Arial"/>
              </a:rPr>
              <a:t>Материал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8ae"/>
                </a:solidFill>
                <a:latin typeface="Arial"/>
              </a:rPr>
              <a:t>Обводка у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8ae"/>
                </a:solidFill>
                <a:latin typeface="Arial"/>
              </a:rPr>
              <a:t>Обычная или тонкая бума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8ae"/>
                </a:solidFill>
                <a:latin typeface="Arial"/>
              </a:rPr>
              <a:t>3 прямоугольника размер 30х15см, 9х15см(1ш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8ae"/>
                </a:solidFill>
                <a:latin typeface="Arial"/>
              </a:rPr>
              <a:t>Ножницы по кол-во чело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8ae"/>
                </a:solidFill>
                <a:latin typeface="Arial"/>
              </a:rPr>
              <a:t>Карандаши по кол-во чело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8ae"/>
                </a:solidFill>
                <a:latin typeface="Arial"/>
              </a:rPr>
              <a:t>К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8ae"/>
                </a:solidFill>
                <a:latin typeface="Arial"/>
              </a:rPr>
              <a:t>Кисточ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Рисунок 6" descr="http://www.e-mama.ru/imgs/craft_dove.gif"/>
          <p:cNvPicPr/>
          <p:nvPr/>
        </p:nvPicPr>
        <p:blipFill>
          <a:blip r:embed="rId1"/>
          <a:stretch/>
        </p:blipFill>
        <p:spPr>
          <a:xfrm>
            <a:off x="5580000" y="3789360"/>
            <a:ext cx="2498760" cy="1871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ехнология изготов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Обвести форму тела птицы на цветной бумаге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Вырежьте тело птицы из большого прямоугольника  (2 шт.) и склейте их .Проделайте отверстие в корпусе птицы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Разрежьте лист бумаги пополам и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Сложить средней и маленький прямоугольник гармошкой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Дополнительно: Разрежьте края сложенной бумаги для кружевного эффекта.(Пожеланию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Вставьте сложенные лист бумаги (крылья  в щель в корпусе птицы.) Зафиксируйте крылья клеем к корпусу птицы, склейте крылья так, чтобы они получились веером. С одного конца срежьте углы, так чтобы получился один острый угол, вставьте его в основание . Склейте хвост вместе с туловищем (хвост раскройте  веером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Нарисуйте глаза уточ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0728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пасибо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за внимание!</a:t>
            </a:r>
            <a:br>
              <a:rPr sz="4400"/>
            </a:b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частья всем и успехов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700360" y="278136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51:18Z</dcterms:created>
  <dc:creator>Admin</dc:creator>
  <dc:description/>
  <dc:language>en-US</dc:language>
  <cp:lastModifiedBy>Admin</cp:lastModifiedBy>
  <dcterms:modified xsi:type="dcterms:W3CDTF">2013-04-26T21:02:03Z</dcterms:modified>
  <cp:revision>12</cp:revision>
  <dc:subject/>
  <dc:title>Итоговая совместная интегрированная деятельность детей и родителей</dc:title>
</cp:coreProperties>
</file>