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5BE-3892-42D7-AD76-AFA710F5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03B-134E-422A-B421-39C9C45C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E0A-EF61-4DBE-B97C-35FA6640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BEC-A124-48A6-BB3B-762B08F9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4939-A628-44CD-98FC-2F940F7E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D45C-10B1-49B5-98BF-F28FEACA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05EA-643B-4373-BC10-F0F95DBC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B403-1D21-4C8C-9C0C-F945CF4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A4FC-A890-4D3B-B0D1-0979A0E8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A461-0E5C-43D7-A7AB-36294EFA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10F8-F899-43D2-B27F-60EF5F9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A5C-18A0-434D-8895-D0F2BD71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8D5C-68F6-4114-AC52-A3184C94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F22A-EE72-4C40-A137-B1AB31C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D377-1E7B-429F-9E28-5473616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2E49-71FD-489E-8A16-14A07086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9112-65D4-4AD4-A2D8-16BD8DF9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666-3143-4085-8540-3A237A0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B51-432F-4B53-BE5E-66A6F80F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77C-E4EE-40EF-8000-C5C5BA44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478-E37F-464C-92CD-522BB41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623-C41B-4EB0-A5AA-81B70946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FE9-A67B-4E18-9D5C-D1840E6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5F5-974A-482F-B8CB-3D25E7A0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9F55-4BB7-4858-91C3-D5F930DFF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E1EC-AAA8-48BA-AC28-7B58343BC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Интегрированная образовательная деятельность детей и родителей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2920" y="3068640"/>
            <a:ext cx="6472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: «Весна за окном!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уемые технологии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мотехника, физминутка, подвижная иг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БДОУ д/с №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патова Любовь Олег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3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Показать родителям, на итоговой совместной деятельности знания детей,  характерные признаки весны в живой и неживой природе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представление  родителям о знаниях детей в живой и неживой природе о изменениях в жизни птиц весной., используя мнемотехни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Совмесно с родителями сделать поделку из бумаги – уточку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Развивать у детей наблюдательность, умение анализировать, логически мыслить и делать выводы с использованием мнемотехнических табл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Познакомить родителей с такой новой технологией, как мнемотехни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Воспитывать эмоциональную отзывчивость к приро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знаки вес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знаки весны неживой природы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лнце ярче светит и греет. День становится длиннее,  а ночь короче. Капель. Температура воздуха повышается. Тает снег, и где солнце больше пригрело, появляются проталинки. И когда солнце окончательно, растопит снег. Происходит половодье - это когда река выходит из берегов, (картина Исаака Левитана «Большая Вода» рассматривани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наки весны живой природы: Просыпаются деревья, и на них набухают почки.  На проталинки в лесу, появляется подснежник. Просыпаются насекомые и с юга возвращаются перелетные птицы, (это корм для птиц). Звери в лесу просыпаются. У животных начинается линька. У животных появляются детеныши, (выведения потомства)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732720" y="501336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3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саак Левитан «Большая вода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4140360" y="1197000"/>
            <a:ext cx="4246560" cy="5356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9240" y="2421000"/>
            <a:ext cx="349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ыхлый снег на солнце та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терок в ветвях играе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вонче птичьи голо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чит, к нам пришла ...</a:t>
            </a:r>
            <a:br>
              <a:rPr sz="1800"/>
            </a:b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весна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heel spokes="3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Мнемотаблиц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знаки весн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166920" cy="4248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867280" y="1989000"/>
            <a:ext cx="2379960" cy="3467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Уточка из бума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8ae"/>
                </a:solidFill>
                <a:latin typeface="Arial"/>
              </a:rPr>
              <a:t>Материал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Обводка ут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Обычная или тонкая бума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3 прямоугольника размер 30х15см, 9х15см(1ш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Ножницы по кол-во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арандаши по кол-во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8ae"/>
                </a:solidFill>
                <a:latin typeface="Arial"/>
              </a:rPr>
              <a:t>Кисточ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6" descr="http://www.e-mama.ru/imgs/craft_dove.gif"/>
          <p:cNvPicPr/>
          <p:nvPr/>
        </p:nvPicPr>
        <p:blipFill>
          <a:blip r:embed="rId1"/>
          <a:stretch/>
        </p:blipFill>
        <p:spPr>
          <a:xfrm>
            <a:off x="5580000" y="3789360"/>
            <a:ext cx="249876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Обвести форму тела птицы на цветной бумаге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Вырежьте тело птицы из большого прямоугольника  (2 шт.) и склейте их .Проделайте отверстие в корпусе птицы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Разрежьте лист бумаги пополам 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Сложить средней и маленький прямоугольник гармошкой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Дополнительно: Разрежьте края сложенной бумаги для кружевного эффекта.(Пожеланию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Вставьте сложенные лист бумаги (крылья  в щель в корпусе птицы.) Зафиксируйте крылья клеем к корпусу птицы, склейте крылья так, чтобы они получились веером. С одного конца срежьте углы, так чтобы получился один острый угол, вставьте его в основание . Склейте хвост вместе с туловищем (хвост раскройте  веером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Нарисуйте глаза уточ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68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728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пасибо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за внимание!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частья всем и успехов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03:51:18Z</dcterms:created>
  <dc:creator>Admin</dc:creator>
  <dc:description/>
  <dc:language>en-US</dc:language>
  <cp:lastModifiedBy>Admin</cp:lastModifiedBy>
  <dcterms:modified xsi:type="dcterms:W3CDTF">2013-04-26T21:02:03Z</dcterms:modified>
  <cp:revision>12</cp:revision>
  <dc:subject/>
  <dc:title>Итоговая совместная интегрированная деятельность детей и родителей</dc:title>
</cp:coreProperties>
</file>