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E00-8EEF-4799-971F-95FEBA7F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BC3-73F4-4A01-9D0B-4EC0470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90C-B4D5-418F-9B02-A2A02143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036-3397-4002-B1AE-99E54F91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2FFE-D502-421F-A25E-A35BAA97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B79C-BCCE-4BE4-A8EB-BA37C33A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151D-E32B-44CF-9CFC-6C7C4E61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F041-F44C-4FEF-9820-114222EF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661A-6FF6-4C32-8086-BF2F8EB1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64F3-E5D9-4185-8A17-96FF0D0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C093-7CF4-43C0-A274-43DCB54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873-5EC3-4F0C-A129-BB2EEF34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0862-7BBA-44A5-B86C-4149CB47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6DD2-E553-4454-8D26-FE21F40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653A-0FA4-4C90-83BE-C5DD986B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6C18-D00A-4C4F-96E2-23AD0BB0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BB2D-B70E-46B1-A943-ECAD8882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A2A-20C3-4502-AEFA-6FCEA7C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686-FF05-4D15-8FCA-096760AE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6C9-134C-4909-B9D4-EC8DE36E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D1C-58B3-407D-9199-AD514E4E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490-E95C-45A3-865F-BE0A650D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3F3-AF9D-48B5-BF8A-8F7BFDD1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A08-08C1-4D34-BF11-9256FF0D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6CD3-8A16-4C4F-B0DD-24A816E5F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3B0D-936F-4C09-A946-0974D763CD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Знакомим детей </a:t>
            </a:r>
            <a:br>
              <a:rPr sz="6600"/>
            </a:b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с телом человек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АЛЕ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065840" cy="6093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ГРУД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88360" cy="5575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ЖИВО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900000" y="1455840"/>
            <a:ext cx="7272360" cy="5402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П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324000" y="992160"/>
            <a:ext cx="8820000" cy="5865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НО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786040" y="1542960"/>
            <a:ext cx="3533760" cy="5315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КОЛЕН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054320" cy="6093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ТУП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езентацию подготовила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учитель-дефектолог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Жолобова И.А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Цель игры: познакомить детей с частями тела,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аучить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узнавать, показывать или называть части тела на себе и на картинке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ГОЛОВ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5" descr="голова"/>
          <p:cNvPicPr/>
          <p:nvPr/>
        </p:nvPicPr>
        <p:blipFill>
          <a:blip r:embed="rId1"/>
          <a:stretch/>
        </p:blipFill>
        <p:spPr>
          <a:xfrm>
            <a:off x="1042920" y="1176480"/>
            <a:ext cx="6951600" cy="5681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ЛИЦ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116000" y="145728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УХ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5" descr="ухо"/>
          <p:cNvPicPr/>
          <p:nvPr/>
        </p:nvPicPr>
        <p:blipFill>
          <a:blip r:embed="rId1"/>
          <a:stretch/>
        </p:blipFill>
        <p:spPr>
          <a:xfrm>
            <a:off x="2340000" y="1484280"/>
            <a:ext cx="4486320" cy="5373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ЛЕЧ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684360" y="1450800"/>
            <a:ext cx="8137440" cy="5407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755640" y="1389240"/>
            <a:ext cx="7704000" cy="5468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ЛОКО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362320" y="1197000"/>
            <a:ext cx="35845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ЛАДО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403280" y="880920"/>
            <a:ext cx="5977080" cy="5977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25:35Z</dcterms:created>
  <dc:creator>Ирина</dc:creator>
  <dc:description/>
  <dc:language>en-US</dc:language>
  <cp:lastModifiedBy>7</cp:lastModifiedBy>
  <dcterms:modified xsi:type="dcterms:W3CDTF">2013-04-24T18:59:35Z</dcterms:modified>
  <cp:revision>6</cp:revision>
  <dc:subject/>
  <dc:title>Знакомим детей  с телом человека</dc:title>
</cp:coreProperties>
</file>