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5419-1B94-4E60-AC97-9397A7B5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B6A-8AF4-4336-9440-FDFCBF80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555-045F-46FE-9513-AA2E4FFB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DBF-E095-422F-B367-17D705B2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00C9-5D45-4C24-BB20-442BEAAD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3F80-6CCF-4356-8CCD-DDB6A4EC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6C24-7813-4D6A-B118-C23DA03B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0DE1-D301-4445-B575-D2A7420F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56D0-82F3-4704-AD21-8D0616F6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D0BE-2B48-47CB-B514-91D29774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9EA4-A5EC-41DB-9FEE-E73CB102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199-FD2C-44BC-87FD-411F67F4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7CB6-A9AF-4D91-81E0-6EF5954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76B7-86A0-47C1-9BE5-D0D9BD45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A261-7E69-46B5-A061-22FC2186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2609-9092-4D03-8BE6-2C316B70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7F2F-3D9B-4E9F-B0B3-6E9EFF2F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DC6-70DE-4E53-869A-EF82E77A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559-E9E4-4720-AF67-1DD08332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D4C6-B825-4D7B-9810-CCDDFEAD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9AD-5B21-4E0A-AE74-72C265EC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246-5BEA-41E6-A27D-743B3C4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498-B8AD-4234-860C-CFE64604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9D9-B81D-40AA-864D-958EC99D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162E-4BB4-4E23-AFFD-EEAA3C67F5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4CDA-D18F-4963-8054-C58875B813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Знакомим детей </a:t>
            </a:r>
            <a:br>
              <a:rPr sz="6600"/>
            </a:b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с телом человека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АЛЕ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065840" cy="6093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ГРУД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88360" cy="55753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ЖИВО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900000" y="1455840"/>
            <a:ext cx="7272360" cy="54021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П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324000" y="992160"/>
            <a:ext cx="8820000" cy="58658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НО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786040" y="1542960"/>
            <a:ext cx="3533760" cy="5315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КОЛЕН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054320" cy="6093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СТУП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резентацию подготовила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учитель-дефектолог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Жолобова И.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Цель игры: познакомить детей с частями тела, 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аучить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узнавать, показывать или называть части тела на себе и на картинк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Times New Roman"/>
              </a:rPr>
              <a:t>ГОЛОВ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голова"/>
          <p:cNvPicPr/>
          <p:nvPr/>
        </p:nvPicPr>
        <p:blipFill>
          <a:blip r:embed="rId1"/>
          <a:stretch/>
        </p:blipFill>
        <p:spPr>
          <a:xfrm>
            <a:off x="1042920" y="1176480"/>
            <a:ext cx="6951600" cy="5681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ЛИЦ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1116000" y="145728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УХ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5" descr="ухо"/>
          <p:cNvPicPr/>
          <p:nvPr/>
        </p:nvPicPr>
        <p:blipFill>
          <a:blip r:embed="rId1"/>
          <a:stretch/>
        </p:blipFill>
        <p:spPr>
          <a:xfrm>
            <a:off x="2340000" y="1484280"/>
            <a:ext cx="448632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ЛЕЧ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684360" y="1450800"/>
            <a:ext cx="8137440" cy="54072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РУ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755640" y="1389240"/>
            <a:ext cx="7704000" cy="54687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ЛОКО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362320" y="1197000"/>
            <a:ext cx="3584520" cy="56610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ЛАДО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403280" y="880920"/>
            <a:ext cx="5977080" cy="59770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25:35Z</dcterms:created>
  <dc:creator>Ирина</dc:creator>
  <dc:description/>
  <dc:language>en-US</dc:language>
  <cp:lastModifiedBy>7</cp:lastModifiedBy>
  <dcterms:modified xsi:type="dcterms:W3CDTF">2013-04-24T18:59:35Z</dcterms:modified>
  <cp:revision>6</cp:revision>
  <dc:subject/>
  <dc:title>Знакомим детей  с телом человека</dc:title>
</cp:coreProperties>
</file>