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38D-D992-49BB-AE00-4E68BB85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C65-AA2F-4815-90C1-ADFA4FE5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F14E-C8D8-4449-AD88-E086A756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FD0E-72CB-4A6F-9ABF-34F51279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F868-50A3-4B6D-A4A7-F29B6526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2ECE-12BC-4D66-9C01-558277A5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E14E-CEB2-44AB-A3A7-3F8464ED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4B24-ADBF-4A79-8CA6-2EC4F916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AAB8-05B6-476F-A551-3CE5556C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9C78-1595-4B63-87C8-AD55DA79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426F-22C3-462C-8366-4073CCB8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4B52-AF26-4909-9E5B-99682266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13F4-48BD-46C1-9A8D-6C2EDBC8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7FBC-546C-48B3-8B2F-41FB45A1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BF34-8D43-4BD7-9EC5-3B7DE8B3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F41C-6792-4CF0-B87E-9990CC69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66E0-F634-42D0-9F7A-15018197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26B5E-15EF-4147-8F56-EFFD667B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CE2FA-FDF8-40DC-9E67-505767F6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531B1-2F2A-48F8-8C7D-060E5868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0B434-DED7-4801-B83F-648692D9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BA316-AED6-4B69-A79B-E99FE7C7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3492-5C1A-44B6-9E1E-B9FC9670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01514-41CE-423D-A078-3036FC7F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62E02-0033-4D75-A718-72E96781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EA9DA-F68B-48CE-8AB8-0953A998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7A62A-6D97-4FB9-BB20-C7725C40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35F06-CB36-463B-A42D-A5D02EB7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A7635-41B1-4C71-8C9F-9958F9F6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CD736-5B8B-4AA8-AFEB-E889D205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B7A-9D13-4F83-B218-9935ED34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BD4-FD7F-4821-B582-1DB85BE5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5B2-DA4A-483F-8007-9321AE44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E14-5303-4FB8-98AC-8EA5C354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7EC-16B9-41B8-8E9A-3C23FEB9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7FAE-B64F-4611-B6E2-50B2CBAA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25.xml"/><Relationship Id="rId32" Type="http://schemas.openxmlformats.org/officeDocument/2006/relationships/slideLayout" Target="../slideLayouts/slideLayout26.xml"/><Relationship Id="rId33" Type="http://schemas.openxmlformats.org/officeDocument/2006/relationships/slideLayout" Target="../slideLayouts/slideLayout27.xml"/><Relationship Id="rId34" Type="http://schemas.openxmlformats.org/officeDocument/2006/relationships/slideLayout" Target="../slideLayouts/slideLayout28.xml"/><Relationship Id="rId35" Type="http://schemas.openxmlformats.org/officeDocument/2006/relationships/slideLayout" Target="../slideLayouts/slideLayout29.xml"/><Relationship Id="rId36" Type="http://schemas.openxmlformats.org/officeDocument/2006/relationships/slideLayout" Target="../slideLayouts/slideLayout30.xml"/><Relationship Id="rId37" Type="http://schemas.openxmlformats.org/officeDocument/2006/relationships/slideLayout" Target="../slideLayouts/slideLayout31.xml"/><Relationship Id="rId38" Type="http://schemas.openxmlformats.org/officeDocument/2006/relationships/slideLayout" Target="../slideLayouts/slideLayout32.xml"/><Relationship Id="rId39" Type="http://schemas.openxmlformats.org/officeDocument/2006/relationships/slideLayout" Target="../slideLayouts/slideLayout33.xml"/><Relationship Id="rId40" Type="http://schemas.openxmlformats.org/officeDocument/2006/relationships/slideLayout" Target="../slideLayouts/slideLayout34.xml"/><Relationship Id="rId41" Type="http://schemas.openxmlformats.org/officeDocument/2006/relationships/slideLayout" Target="../slideLayouts/slideLayout35.xml"/><Relationship Id="rId4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41B2-32A8-422A-B719-997CC225D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1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1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337E-A55E-47C0-96F2-A2E0D2180CF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1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1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1" i="1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5467-3D48-4DBE-8B24-115E6375145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1"/>
    <p:sldLayoutId id="2147483676" r:id="rId32"/>
    <p:sldLayoutId id="2147483677" r:id="rId33"/>
    <p:sldLayoutId id="2147483678" r:id="rId34"/>
    <p:sldLayoutId id="2147483679" r:id="rId35"/>
    <p:sldLayoutId id="2147483680" r:id="rId36"/>
    <p:sldLayoutId id="2147483681" r:id="rId37"/>
    <p:sldLayoutId id="2147483682" r:id="rId38"/>
    <p:sldLayoutId id="2147483683" r:id="rId39"/>
    <p:sldLayoutId id="2147483684" r:id="rId40"/>
    <p:sldLayoutId id="2147483685" r:id="rId41"/>
    <p:sldLayoutId id="2147483686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1294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80"/>
                </a:solidFill>
                <a:latin typeface="Times New Roman"/>
              </a:rPr>
              <a:t>Урок  математики </a:t>
            </a:r>
            <a:br>
              <a:rPr sz="4800"/>
            </a:br>
            <a:r>
              <a:rPr b="1" i="1" lang="en-US" sz="4800" spc="-1" strike="noStrike">
                <a:solidFill>
                  <a:srgbClr val="800080"/>
                </a:solidFill>
                <a:latin typeface="Times New Roman"/>
              </a:rPr>
              <a:t>в 5 классе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68360" y="3870000"/>
            <a:ext cx="7045200" cy="17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 Unicode MS"/>
              </a:rPr>
              <a:t>Учитель математики высшей категории МБОУ «Бриентск</a:t>
            </a:r>
            <a:r>
              <a:rPr b="1" i="1" lang="ru-RU" sz="3200" spc="-1" strike="noStrike">
                <a:solidFill>
                  <a:srgbClr val="2f1311"/>
                </a:solidFill>
                <a:latin typeface="Arial"/>
              </a:rPr>
              <a:t>ая</a:t>
            </a:r>
            <a:r>
              <a:rPr b="1" i="1" lang="ru-RU" sz="3200" spc="-1" strike="noStrike">
                <a:solidFill>
                  <a:srgbClr val="2f1311"/>
                </a:solidFill>
                <a:latin typeface="Arial Unicode MS"/>
              </a:rPr>
              <a:t> СОШ»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f1311"/>
                </a:solidFill>
                <a:latin typeface="Arial Unicode MS"/>
              </a:rPr>
              <a:t>Бакеева И. 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3"/>
          <p:cNvSpPr/>
          <p:nvPr/>
        </p:nvSpPr>
        <p:spPr>
          <a:xfrm>
            <a:off x="1343160" y="2975040"/>
            <a:ext cx="12618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16"/>
          <p:cNvSpPr/>
          <p:nvPr/>
        </p:nvSpPr>
        <p:spPr>
          <a:xfrm>
            <a:off x="457200" y="22860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Times New Roman"/>
              </a:rPr>
              <a:t>Физминутка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12"/>
          <p:cNvSpPr/>
          <p:nvPr/>
        </p:nvSpPr>
        <p:spPr>
          <a:xfrm>
            <a:off x="380880" y="18288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Стр. 211, № 1351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12"/>
          <p:cNvSpPr/>
          <p:nvPr/>
        </p:nvSpPr>
        <p:spPr>
          <a:xfrm>
            <a:off x="380880" y="2743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Стр. 211, № 1352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12"/>
          <p:cNvSpPr/>
          <p:nvPr/>
        </p:nvSpPr>
        <p:spPr>
          <a:xfrm>
            <a:off x="457200" y="3733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Стр. 211, № 1353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12"/>
          <p:cNvSpPr/>
          <p:nvPr/>
        </p:nvSpPr>
        <p:spPr>
          <a:xfrm>
            <a:off x="457200" y="46483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Стр. 212, № 1373</a:t>
            </a:r>
            <a:endParaRPr b="1" i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0000"/>
                </a:solidFill>
                <a:latin typeface="Times New Roman"/>
              </a:rPr>
              <a:t>Домашнее задание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Стр. 213 - 214,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1382, 1389 (а, б)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240" y="1600200"/>
            <a:ext cx="754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i="1" lang="en-US" sz="7200" spc="-1" strike="noStrike">
                <a:solidFill>
                  <a:srgbClr val="2f1311"/>
                </a:solidFill>
                <a:latin typeface="Times New Roman"/>
              </a:rPr>
              <a:t>«Презирай лень </a:t>
            </a: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2f1311"/>
                </a:solidFill>
                <a:latin typeface="Times New Roman"/>
              </a:rPr>
              <a:t>мысли!»</a:t>
            </a:r>
            <a:r>
              <a:rPr b="1" i="1" lang="en-US" sz="3600" spc="-1" strike="noStrike">
                <a:solidFill>
                  <a:srgbClr val="2f1311"/>
                </a:solidFill>
                <a:latin typeface="Times New Roman"/>
              </a:rPr>
              <a:t> 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f1311"/>
                </a:solidFill>
                <a:latin typeface="Times New Roman"/>
              </a:rPr>
              <a:t>                                   </a:t>
            </a:r>
            <a:r>
              <a:rPr b="1" i="1" lang="en-US" sz="2800" spc="-1" strike="noStrike">
                <a:solidFill>
                  <a:srgbClr val="2f1311"/>
                </a:solidFill>
                <a:latin typeface="Times New Roman"/>
              </a:rPr>
              <a:t>(В. А. Сухомлинский)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364840" y="0"/>
            <a:ext cx="440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Устный счёт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-456120" y="762120"/>
            <a:ext cx="98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) Какой знак нужно поставить между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ислами 2 и 3, чтобы   получить: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) натуральное число;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б) число, меньше 3 и больше 2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17524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2 + 3 = 5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86600" y="22860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2,3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-546840" y="2940120"/>
            <a:ext cx="803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) Сравните числа, где 0 – нуль: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Ϫ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и  &amp;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Ϫ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Ϫ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и  &amp;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,0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Ϫ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335268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1" i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411480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1" i="1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240" y="0"/>
            <a:ext cx="93261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) Какую цифру (одну и ту же)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можно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подставить вместо *,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чтобы было верно: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а) 2,*3 = 2,3*; 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б) 3,*5 &gt; 2,8*;  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в) 0,*7 &lt; 0,3*; 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г) 0,7*5 &lt; 0,86*?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22096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* = 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57800" y="289548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* = 0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, 1, …, 9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358128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* = 0, 1, 2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441972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* =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, 1, …, 9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32920" y="6480"/>
            <a:ext cx="824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4) Найди пропущенное число: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а) 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914400"/>
            <a:ext cx="1343160" cy="83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19520" y="914400"/>
            <a:ext cx="1342800" cy="83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8320" y="914400"/>
            <a:ext cx="1342800" cy="83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1,9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48320" y="1905120"/>
            <a:ext cx="1342800" cy="83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1905120"/>
            <a:ext cx="1342800" cy="83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1905120"/>
            <a:ext cx="1343160" cy="83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2,6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19810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7,1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6720" y="2971800"/>
            <a:ext cx="68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2971800"/>
            <a:ext cx="1343160" cy="83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Times New Roman"/>
              </a:rPr>
              <a:t>0,8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4114800"/>
            <a:ext cx="1343160" cy="83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Times New Roman"/>
              </a:rPr>
              <a:t>1,7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2971800"/>
            <a:ext cx="1342800" cy="83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Times New Roman"/>
              </a:rPr>
              <a:t>1,5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4114800"/>
            <a:ext cx="1342800" cy="83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4114800"/>
            <a:ext cx="1342800" cy="83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Times New Roman"/>
              </a:rPr>
              <a:t>2,2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2971800"/>
            <a:ext cx="1342800" cy="83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Times New Roman"/>
              </a:rPr>
              <a:t>2,3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560" y="4114800"/>
            <a:ext cx="94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0,5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" y="152280"/>
            <a:ext cx="861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5) В третьем классе 35 учеников. Из них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умеют играть в шахматы. Сколько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ребят в этом классе ещё не умеют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играть в шахматы?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8381880" y="152280"/>
                <a:ext cx="6098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5183280" y="16826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00" y="2438280"/>
            <a:ext cx="83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6) Сколько треугольников на чертеже?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3429000"/>
            <a:ext cx="4267080" cy="2743200"/>
          </a:xfrm>
          <a:custGeom>
            <a:avLst/>
            <a:gdLst>
              <a:gd name="textAreaLeft" fmla="*/ 938160 w 4267080"/>
              <a:gd name="textAreaRight" fmla="*/ 3328920 w 4267080"/>
              <a:gd name="textAreaTop" fmla="*/ 603000 h 2743200"/>
              <a:gd name="textAreaBottom" fmla="*/ 214020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971800" y="3429000"/>
            <a:ext cx="0" cy="2743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105520" y="3429000"/>
            <a:ext cx="0" cy="2743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3429000"/>
            <a:ext cx="1143000" cy="2743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114800" y="3429000"/>
            <a:ext cx="990720" cy="2743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4952880"/>
            <a:ext cx="99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4267080"/>
            <a:ext cx="1447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12080" y="4121280"/>
            <a:ext cx="63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7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79800" y="609480"/>
            <a:ext cx="8762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1) 4,28 + 0,12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=                       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Е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2) 10,2 : 3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=                         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    Е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3)  25 : 10 =                             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Е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4) 2,05 × 2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=                            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5) 0,039 × 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=                     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 Н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6) 5 – 2,7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=                              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Д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7) 14,5 : 5 =                             </a:t>
            </a: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Л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19720" y="6094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4,4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13716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3,4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20574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2,5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33920" y="27432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4,1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35053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3,9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42670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2,3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495288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2,9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52280" y="1143000"/>
            <a:ext cx="8839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9900"/>
                </a:solidFill>
                <a:latin typeface="Times New Roman"/>
              </a:rPr>
              <a:t>56,77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6600" spc="-1" strike="noStrike">
                <a:solidFill>
                  <a:srgbClr val="0000ff"/>
                </a:solidFill>
                <a:latin typeface="Times New Roman"/>
              </a:rPr>
              <a:t>14,14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6600" spc="-1" strike="noStrike">
                <a:solidFill>
                  <a:srgbClr val="800080"/>
                </a:solidFill>
                <a:latin typeface="Times New Roman"/>
              </a:rPr>
              <a:t>2,87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99"/>
                </a:solidFill>
                <a:latin typeface="Times New Roman"/>
              </a:rPr>
              <a:t>0,63 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6600" spc="-1" strike="noStrike">
                <a:solidFill>
                  <a:srgbClr val="b84a42"/>
                </a:solidFill>
                <a:latin typeface="Times New Roman"/>
              </a:rPr>
              <a:t>21,07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6600" spc="-1" strike="noStrike">
                <a:solidFill>
                  <a:srgbClr val="cc00cc"/>
                </a:solidFill>
                <a:latin typeface="Times New Roman"/>
              </a:rPr>
              <a:t>7,35</a:t>
            </a:r>
            <a:endParaRPr b="1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11280" y="304920"/>
            <a:ext cx="56671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1)  437,6 : 8 =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2)  416,52 : 78 =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3)  30 : 80 =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4)  45,78 : 14 =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5)  1124,72 : 68 =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6)  19,17 : 45 =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7)  19 : 50 =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25720" y="304920"/>
            <a:ext cx="13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54,7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11520" y="1143000"/>
            <a:ext cx="13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5,34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2200" y="1905120"/>
            <a:ext cx="17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0,375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30280" y="2743200"/>
            <a:ext cx="13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3,27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16440" y="3581280"/>
            <a:ext cx="17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16,54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30640" y="4419720"/>
            <a:ext cx="17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0,426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5880" y="5181480"/>
            <a:ext cx="13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0,38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5:47:49Z</dcterms:created>
  <dc:creator>Ирина</dc:creator>
  <dc:description/>
  <dc:language>en-US</dc:language>
  <cp:lastModifiedBy>Ирина</cp:lastModifiedBy>
  <dcterms:modified xsi:type="dcterms:W3CDTF">2013-04-16T20:19:52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