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3F7-798E-4428-9811-D4732824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0E5-2F2B-47C2-AD09-7EC4D9FD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D83-1043-453C-A385-E2C656A0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284-E2BC-4C65-BAB5-6A5904A8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ECCD-18CB-4794-95F6-B9E08E9F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D31B-FA6D-4BF1-AE97-A6B8D810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F7C7-AF13-44B5-B4F8-3EA31DF7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FD61-4FAB-4896-AE1F-5041AC7C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3928-4DCC-4699-803F-61F7ADC3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9D15-BA48-4E9E-8156-7223B7AD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1661-6FD2-4C7F-81AB-5F16EA9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64C-A7D0-4326-9910-F682C658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2D2C-59D9-44E5-8EDE-C377713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19E7-1D24-4009-8642-A7934500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593D-0E52-40D9-99ED-30B8B7F4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9A27-AE0A-429E-8988-1A841FCE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15AA-3313-4E70-ABD5-96261355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C950-05B7-469B-9250-AFC12340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6B053-10ED-446D-9D65-B996F478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DA74-9444-4311-8256-DAD77313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B361-7192-4369-B0CE-33EA591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BE4D-634E-4CB4-B85D-5850C466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7A6-8C1C-4ACE-9688-3445BDB5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2081-B2A5-4C4E-896A-F9D3ACE7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198D-40AF-4942-90E3-3A92E5CF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3B1D-E9D8-4759-ABAE-6B495C72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6292-BC7F-47D3-80AA-EB19524D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BB7B-5F66-491E-A0E4-C582F3DC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88CE-AE0B-4582-8AD2-BD558087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C547-7BF1-4882-B42C-310D7851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183-BCBB-47B6-BC69-832FF471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6CD-C952-4EE0-9B35-D463039B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330-C673-4842-BED4-4E5953A3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51B-F765-4A4C-9B77-2CFD5C77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BEF-0FD6-4AF5-80C5-0FE27C37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152-89A0-4D4B-A839-838E1220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5353-FACD-4D25-A7F5-386AC52C7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A705-F07E-4E71-A4D3-77111EC8761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15A-63FF-48E3-BBD0-3C03BDA9C4B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80"/>
                </a:solidFill>
                <a:latin typeface="Times New Roman"/>
              </a:rPr>
              <a:t>Урок  математики </a:t>
            </a:r>
            <a:br>
              <a:rPr sz="4800"/>
            </a:br>
            <a:r>
              <a:rPr b="1" i="1" lang="en-US" sz="4800" spc="-1" strike="noStrike">
                <a:solidFill>
                  <a:srgbClr val="800080"/>
                </a:solidFill>
                <a:latin typeface="Times New Roman"/>
              </a:rPr>
              <a:t>в 5 класс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68360" y="3870000"/>
            <a:ext cx="704520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 Unicode MS"/>
              </a:rPr>
              <a:t>Учитель математики высшей категории МБОУ «Бриентск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ая</a:t>
            </a:r>
            <a:r>
              <a:rPr b="1" i="1" lang="ru-RU" sz="3200" spc="-1" strike="noStrike">
                <a:solidFill>
                  <a:srgbClr val="2f1311"/>
                </a:solidFill>
                <a:latin typeface="Arial Unicode MS"/>
              </a:rPr>
              <a:t> СОШ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 Unicode MS"/>
              </a:rPr>
              <a:t>Бакеева И.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3"/>
          <p:cNvSpPr/>
          <p:nvPr/>
        </p:nvSpPr>
        <p:spPr>
          <a:xfrm>
            <a:off x="1343160" y="2975040"/>
            <a:ext cx="1261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16"/>
          <p:cNvSpPr/>
          <p:nvPr/>
        </p:nvSpPr>
        <p:spPr>
          <a:xfrm>
            <a:off x="457200" y="2286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Физминутка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12"/>
          <p:cNvSpPr/>
          <p:nvPr/>
        </p:nvSpPr>
        <p:spPr>
          <a:xfrm>
            <a:off x="380880" y="18288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1, № 1351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12"/>
          <p:cNvSpPr/>
          <p:nvPr/>
        </p:nvSpPr>
        <p:spPr>
          <a:xfrm>
            <a:off x="380880" y="2743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1, № 1352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2"/>
          <p:cNvSpPr/>
          <p:nvPr/>
        </p:nvSpPr>
        <p:spPr>
          <a:xfrm>
            <a:off x="457200" y="3733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1, № 1353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12"/>
          <p:cNvSpPr/>
          <p:nvPr/>
        </p:nvSpPr>
        <p:spPr>
          <a:xfrm>
            <a:off x="457200" y="4648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2, № 1373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Домашнее задание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3 - 214,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1382, 1389 (а, б)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" y="1600200"/>
            <a:ext cx="75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i="1" lang="en-US" sz="7200" spc="-1" strike="noStrike">
                <a:solidFill>
                  <a:srgbClr val="2f1311"/>
                </a:solidFill>
                <a:latin typeface="Times New Roman"/>
              </a:rPr>
              <a:t>«Презирай лень 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2f1311"/>
                </a:solidFill>
                <a:latin typeface="Times New Roman"/>
              </a:rPr>
              <a:t>мысли!»</a:t>
            </a:r>
            <a:r>
              <a:rPr b="1" i="1" lang="en-US" sz="3600" spc="-1" strike="noStrike">
                <a:solidFill>
                  <a:srgbClr val="2f1311"/>
                </a:solidFill>
                <a:latin typeface="Times New Roman"/>
              </a:rPr>
              <a:t> 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2f1311"/>
                </a:solidFill>
                <a:latin typeface="Times New Roman"/>
              </a:rPr>
              <a:t>(В. А. Сухомлинский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364840" y="0"/>
            <a:ext cx="440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Устный счёт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456120" y="762120"/>
            <a:ext cx="98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) Какой знак нужно поставить между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ислами 2 и 3, чтобы   получить: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) натуральное число;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) число, меньше 3 и больше 2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1752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 + 3 = 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2286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,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546840" y="2940120"/>
            <a:ext cx="803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) Сравните числа, где 0 – нуль: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Ϫ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и  &amp;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Ϫ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Ϫ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и  &amp;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Ϫ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3526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41148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1" i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" y="0"/>
            <a:ext cx="932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) Какую цифру (одну и ту же)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можно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одставить вместо *,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чтобы было верно: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а) 2,*3 = 2,3*;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б) 3,*5 &gt; 2,8*; 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) 0,*7 &lt; 0,3*;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г) 0,7*5 &lt; 0,86*?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22096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* =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* = 0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, 1, …, 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35812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* = 0, 1, 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1972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* =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, 1, …, 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32920" y="6480"/>
            <a:ext cx="824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4) Найди пропущенное число: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а)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914400"/>
            <a:ext cx="134316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9144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9144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1,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48320" y="1905120"/>
            <a:ext cx="1342800" cy="83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1905120"/>
            <a:ext cx="1342800" cy="83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905120"/>
            <a:ext cx="1343160" cy="83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2,6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19810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7,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6720" y="297180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971800"/>
            <a:ext cx="134316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0,8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4114800"/>
            <a:ext cx="134316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1,7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29718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1,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41148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1148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2,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29718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2,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560" y="4114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0,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" y="152280"/>
            <a:ext cx="861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) В третьем классе 35 учеников. Из них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меют играть в шахматы. Сколько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ебят в этом классе ещё не умеют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играть в шахматы?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381880" y="152280"/>
                <a:ext cx="6098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5183280" y="1682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00" y="2438280"/>
            <a:ext cx="83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) Сколько треугольников на чертеже?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3429000"/>
            <a:ext cx="4267080" cy="2743200"/>
          </a:xfrm>
          <a:custGeom>
            <a:avLst/>
            <a:gdLst>
              <a:gd name="textAreaLeft" fmla="*/ 938160 w 4267080"/>
              <a:gd name="textAreaRight" fmla="*/ 3328920 w 4267080"/>
              <a:gd name="textAreaTop" fmla="*/ 603000 h 2743200"/>
              <a:gd name="textAreaBottom" fmla="*/ 21402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71800" y="3429000"/>
            <a:ext cx="0" cy="2743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05520" y="3429000"/>
            <a:ext cx="0" cy="2743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3429000"/>
            <a:ext cx="1143000" cy="2743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114800" y="3429000"/>
            <a:ext cx="990720" cy="2743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95288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267080"/>
            <a:ext cx="14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2080" y="412128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7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79800" y="609480"/>
            <a:ext cx="8762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) 4,28 + 0,12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2) 10,2 : 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    Е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)  25 : 10 =    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4) 2,05 × 2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5) 0,039 × 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 Н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6) 5 – 2,7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Д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) 14,5 : 5 =   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Л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6094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4,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13716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3,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20574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,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3920" y="2743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4,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505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3,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267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,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49528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,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2280" y="1143000"/>
            <a:ext cx="883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56,77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6600" spc="-1" strike="noStrike">
                <a:solidFill>
                  <a:srgbClr val="0000ff"/>
                </a:solidFill>
                <a:latin typeface="Times New Roman"/>
              </a:rPr>
              <a:t>14,14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800080"/>
                </a:solidFill>
                <a:latin typeface="Times New Roman"/>
              </a:rPr>
              <a:t>2,87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Times New Roman"/>
              </a:rPr>
              <a:t>0,63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6600" spc="-1" strike="noStrike">
                <a:solidFill>
                  <a:srgbClr val="b84a42"/>
                </a:solidFill>
                <a:latin typeface="Times New Roman"/>
              </a:rPr>
              <a:t>21,07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cc00cc"/>
                </a:solidFill>
                <a:latin typeface="Times New Roman"/>
              </a:rPr>
              <a:t>7,35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11280" y="304920"/>
            <a:ext cx="5667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1)  437,6 : 8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2)  416,52 : 78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3)  30 : 80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)  45,78 : 14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5)  1124,72 : 68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6)  19,17 : 45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7)  19 : 50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5720" y="30492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54,7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1520" y="114300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5,34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2200" y="190512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0,375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30280" y="274320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3,27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6440" y="358128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16,54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30640" y="441972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0,426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5880" y="518148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0,38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47:49Z</dcterms:created>
  <dc:creator>Ирина</dc:creator>
  <dc:description/>
  <dc:language>en-US</dc:language>
  <cp:lastModifiedBy>Ирина</cp:lastModifiedBy>
  <dcterms:modified xsi:type="dcterms:W3CDTF">2013-04-16T20:19:5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