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png" ContentType="image/png"/>
  <Override PartName="/ppt/media/image20.jpeg" ContentType="image/jpeg"/>
  <Override PartName="/ppt/media/image1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1.png" ContentType="image/png"/>
  <Override PartName="/ppt/media/image13.png" ContentType="image/png"/>
  <Override PartName="/ppt/media/image30.jpeg" ContentType="image/jpeg"/>
  <Override PartName="/ppt/media/image24.jpeg" ContentType="image/jpeg"/>
  <Override PartName="/ppt/media/image31.png" ContentType="image/png"/>
  <Override PartName="/ppt/media/image6.jpeg" ContentType="image/jpeg"/>
  <Override PartName="/ppt/media/image27.jpeg" ContentType="image/jpe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592B-88ED-4D7F-A435-4BE2D341B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BD59-CF18-4D55-86DC-7749E051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2B67B7-EBAB-4124-9A88-F5EF531F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E40D67-8235-4641-B53D-391F0D95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013A9B-7A23-4CB1-BE59-BCE69D35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D27983-8F64-4C74-9F6E-9154DE7F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085D83-C71D-4DF3-84E3-FC173EE5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D73CAB-066B-439E-93DB-C726BB9B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866ABF-6A89-436E-BA90-C6D37788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116B8A-13E4-4570-B452-2F4E21D4C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45C6CD-8A91-4E85-9CF3-13DAA0B5E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48FD-469D-4B22-B258-2362526EF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D076-01BB-4A0F-A883-28C59C316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67C8A-EA62-4BA8-BDCF-5D35846EC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2D479-16F7-4F54-812D-792D5EBA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521E7-E6A1-4F27-B20A-6B6B92F9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42425-A27E-458F-9233-90D79D5C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7ADEF-A775-4DEA-A8A6-4ABFAD8F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D9FF2-0BDB-4703-8F40-F15F9AB6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5853C-34D3-4589-88F7-BF56CBAF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8594-FE02-485B-A5FB-399643F2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5FAB4-1618-43F5-B6EF-F4296AF0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2A36E-EBDC-44EF-880E-A5F0F5E0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4F57F-4FE7-498E-8A21-733103E8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80864-EC2E-4C2A-8CF0-74DA7CD26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750D6-64A4-4BB0-A733-444C04C27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36FAD-E09D-43FB-84B2-4086C63F1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A9DD2-1BCE-4162-8185-D3DAABB5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CC514-EC62-4A40-B830-4014F5D6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354D6-8507-49B4-A3CB-49BB4093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65157-60E4-40E6-971C-97059585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C5AF-2BE7-4F15-BE3B-906B07EB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AFF2E-852A-4D79-8745-DACD15F0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7E376-0D08-4248-9C24-BD244980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97374-AD96-41E6-8E3B-93A3CC76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666E2-5BF4-415D-8017-B8C0DA29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BA056-7B2F-4431-8292-B708FD74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7E20F-4B11-4944-8435-AFE02B80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FE56B-3774-40C3-AB59-AF2DA3B30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A36F3E-B63F-48E0-A64D-D789FCCB2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F427A2-FEA3-4817-AC96-44F7C43E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CF27D3-0B88-4FF3-9800-9D4414C9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9D0B-FA54-4838-B0E5-3F4FD9A6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4BBF7C-09AC-445F-9680-5482C3F9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1D4B40-5B62-436F-B442-0ECF8D8D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6D8C49-DCD1-4703-A931-392847BF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D8D65C-9AA4-4CDE-8D01-219F1944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5FD3F3-93A1-4B8E-A2D2-5FA69002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1D1978-6234-4BF8-83E0-349E876E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1EAE8F-E737-4310-8EC3-142485BA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19C3CD-01E2-4A84-AE4C-B9BD57E9D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3AF579-743A-4674-9DBA-B3900F000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1E7C2-AA35-4026-B601-EE1AB4310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24E3-0DFC-4974-8BD5-2949FF14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C5061-C040-492A-AA18-625494CA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06037-E9A8-4734-87D3-01F0566D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FFDA6-9B10-4156-AEFC-01F96ED7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804B2-166B-4C40-AE61-F2B4661C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B8D58-68F6-46F5-A660-C4B74F1B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13DAF-C22E-4754-A509-49DC771A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27EED-CFD2-4837-A503-EC6F3965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9DEEB-BF22-4A30-A201-66C799B4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AAF1D-7195-4739-8FA4-514C5DF4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BC258-9E9E-4DCC-B8FD-F9566C092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836D-3F8E-4D11-A9F2-07F56C81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296FB-E1DE-4FD5-BA82-037BA9CC9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74794-0CB4-4FA9-BBEB-466EC503C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3DCD6-3315-4B8B-9953-9E7DE51D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F0FB3-ADEC-4C14-AA48-887722CB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3BB99-34B9-4CC1-BC26-EB8999BA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87BB8-7A92-42B3-8AE2-596D8A62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6C24A-37ED-448D-BBE2-8CD3F318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B40FF-3668-400B-B3AE-4CD5BED5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F2D78-C120-432D-9406-A3083E38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C7A5C-C1AA-4A66-8DEB-880CF2A7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0463-3E38-4AE6-9498-F2DB20AB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92B66-F4E6-45C1-8F74-42B11073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6E869-7090-4D36-AA5A-92BF515FE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335B6-D7BD-437F-A482-654B7BA7D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E99F0-917D-46A0-AF25-C5B23D799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E3150-BB61-4F2E-BB12-88F61B18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F666B-E0DA-4995-ACE1-5CD1A56E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7FD11-7835-4B11-AEB4-E9DD05E1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E11A6-6564-4BA0-A8A2-328C38BE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5764B-06DF-4670-87AD-71103D93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4FDAF-8477-42DB-99C3-D70820D7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65CD-5DBD-418D-A649-531FD2C0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7A5C5-EAB7-4AC6-99D3-CA13FE04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68AB6-B6A7-425D-944D-F8F797FB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784FC-D8D3-4CB1-AEF1-930A57D8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4D4AC-8C92-43EC-8B82-7AD12859D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12603-F6B3-47D1-9A72-6DBA00327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3A5B8E-A196-4DF6-9219-EEB6EA114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896D4F-A37D-4CC1-B821-F9206B74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AD8A59-37B4-493C-9088-8846AB08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55456F-9FEE-4BDE-B038-2B9DA6E7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CFEE3E-B914-4B92-9740-CED36CDB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D821-9B0A-4368-BE83-282A5800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8883B7-E8F3-4E91-92A4-4AAA895C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6284AF-9C55-487A-A97F-C0BC9FD1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1DEE9D-870E-448C-A9D1-8924009B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206F05-3C8E-42C0-B916-E06E6A6C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A28690-47BB-4AE7-8651-A54F790F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3984EF-1596-462C-AF67-57552BCB6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EFE333-D083-419B-B371-B8E2E6889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1C89DD-BEF8-400A-89C1-3BE16885C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DF654B-3ADC-4CC7-8A23-E78ABC7D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B0DA7A-9328-4AE3-B3D3-16E244B6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180E-9311-4321-97A2-646F69007F2C}" type="slidenum">
              <a:rPr b="0" lang="ru-RU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8AA7-72FC-46C1-810E-EDFC1C4017B7}" type="slidenum">
              <a:rPr b="0" lang="ru-RU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FF65-2B26-49B2-988E-2381E3B08781}" type="slidenum">
              <a:rPr b="0" lang="ru-RU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DE1C-D985-4433-8477-D39B6B241DD1}" type="slidenum">
              <a:rPr b="0" lang="ru-RU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8262-8FF4-45C0-8043-95D89DE68ED7}" type="slidenum">
              <a:rPr b="0" lang="ru-RU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BC48-AB0A-4A99-B66C-DDC3822A1E44}" type="slidenum">
              <a:rPr b="0" lang="ru-RU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8E49-9FB2-4436-95B5-D6BCD38A4ECF}" type="slidenum">
              <a:rPr b="0" lang="ru-RU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FD62-F9E9-42D4-8253-5FA109FAD3C1}" type="slidenum">
              <a:rPr b="0" lang="ru-RU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DF7C-050C-4B6C-84BF-272F8088C0DC}" type="slidenum">
              <a:rPr b="0" lang="ru-RU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674200" cy="224928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"/>
              </a:rPr>
              <a:t>Britannia</a:t>
            </a:r>
            <a:endParaRPr b="0" lang="en-US" sz="60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Rockwell"/>
              </a:rPr>
              <a:t>Triumphant</a:t>
            </a:r>
            <a:endParaRPr b="0" lang="en-US" sz="6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164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battle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asted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ree hours,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eaving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oth Danish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nd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ritish fleets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eavily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amaged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2" name="Рисунок 5" descr="нельсон10.jpg"/>
          <p:cNvPicPr/>
          <p:nvPr/>
        </p:nvPicPr>
        <p:blipFill>
          <a:blip r:embed="rId2"/>
          <a:stretch/>
        </p:blipFill>
        <p:spPr>
          <a:xfrm>
            <a:off x="2928960" y="1928880"/>
            <a:ext cx="574992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combined French and Spanish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leet numbered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33 ships sailed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to the English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hannel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nd covered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planned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vasion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f Britain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5" name="Рисунок 5" descr="нельсон11.jpg"/>
          <p:cNvPicPr/>
          <p:nvPr/>
        </p:nvPicPr>
        <p:blipFill>
          <a:blip r:embed="rId2"/>
          <a:stretch/>
        </p:blipFill>
        <p:spPr>
          <a:xfrm>
            <a:off x="3571920" y="2428920"/>
            <a:ext cx="525924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ank God I have done my duty”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8" name="Рисунок 3" descr="нельсон12.jpg"/>
          <p:cNvPicPr/>
          <p:nvPr/>
        </p:nvPicPr>
        <p:blipFill>
          <a:blip r:embed="rId2"/>
          <a:stretch/>
        </p:blipFill>
        <p:spPr>
          <a:xfrm>
            <a:off x="357120" y="2286000"/>
            <a:ext cx="4149720" cy="2952720"/>
          </a:xfrm>
          <a:prstGeom prst="rect">
            <a:avLst/>
          </a:prstGeom>
          <a:ln w="0">
            <a:noFill/>
          </a:ln>
        </p:spPr>
      </p:pic>
      <p:pic>
        <p:nvPicPr>
          <p:cNvPr id="429" name="Рисунок 4" descr="нельсон13.jpg"/>
          <p:cNvPicPr/>
          <p:nvPr/>
        </p:nvPicPr>
        <p:blipFill>
          <a:blip r:embed="rId3"/>
          <a:stretch/>
        </p:blipFill>
        <p:spPr>
          <a:xfrm>
            <a:off x="4572000" y="3643200"/>
            <a:ext cx="44100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e have lost more than we have gained”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32" name="Рисунок 3" descr="нельсон14.jpg"/>
          <p:cNvPicPr/>
          <p:nvPr/>
        </p:nvPicPr>
        <p:blipFill>
          <a:blip r:embed="rId2"/>
          <a:stretch/>
        </p:blipFill>
        <p:spPr>
          <a:xfrm>
            <a:off x="285840" y="3214800"/>
            <a:ext cx="2735280" cy="259236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4" descr="нельсон15.jpg"/>
          <p:cNvPicPr/>
          <p:nvPr/>
        </p:nvPicPr>
        <p:blipFill>
          <a:blip r:embed="rId3"/>
          <a:stretch/>
        </p:blipFill>
        <p:spPr>
          <a:xfrm>
            <a:off x="3000240" y="2214720"/>
            <a:ext cx="57898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4" descr="нельсон17.jpg"/>
          <p:cNvPicPr/>
          <p:nvPr/>
        </p:nvPicPr>
        <p:blipFill>
          <a:blip r:embed="rId2"/>
          <a:stretch/>
        </p:blipFill>
        <p:spPr>
          <a:xfrm>
            <a:off x="1071720" y="1428840"/>
            <a:ext cx="6911640" cy="518472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3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Vice Admira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Viscount Nelson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9 September 1758 -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1 October1805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(aged 47)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98" name="Рисунок 4" descr="нельсон1.jpg"/>
          <p:cNvPicPr/>
          <p:nvPr/>
        </p:nvPicPr>
        <p:blipFill>
          <a:blip r:embed="rId2"/>
          <a:stretch/>
        </p:blipFill>
        <p:spPr>
          <a:xfrm>
            <a:off x="5000760" y="1785960"/>
            <a:ext cx="37036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Nelson was born 1758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is naval career began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771, when he reported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o the third-rate HMS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Rockwell"/>
              </a:rPr>
              <a:t>Raisonable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s an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rdinary seaman and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oxswain under his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uncle, Captain Maurice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uckling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1" name="Рисунок 3" descr="нельсон2.jpg"/>
          <p:cNvPicPr/>
          <p:nvPr/>
        </p:nvPicPr>
        <p:blipFill>
          <a:blip r:embed="rId2"/>
          <a:stretch/>
        </p:blipFill>
        <p:spPr>
          <a:xfrm>
            <a:off x="4929120" y="1428840"/>
            <a:ext cx="39607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Nelson was dispatched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o serve aboard the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est Indiamen of the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erchant shipping firm,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 order to gain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xperience at sea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e twice crossed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Atlantic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4" name="Рисунок 4" descr="нельсон3.jpg"/>
          <p:cNvPicPr/>
          <p:nvPr/>
        </p:nvPicPr>
        <p:blipFill>
          <a:blip r:embed="rId2"/>
          <a:stretch/>
        </p:blipFill>
        <p:spPr>
          <a:xfrm>
            <a:off x="5072040" y="1785960"/>
            <a:ext cx="36194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Nelson met Frances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anny” Nisbet, a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young widow from a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Navis plantation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amily. Nelson and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Nisbet were married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787. Nelson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returned to England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7" name="Рисунок 3" descr="нельсон 4.jpg"/>
          <p:cNvPicPr/>
          <p:nvPr/>
        </p:nvPicPr>
        <p:blipFill>
          <a:blip r:embed="rId2"/>
          <a:stretch/>
        </p:blipFill>
        <p:spPr>
          <a:xfrm>
            <a:off x="4429080" y="1785960"/>
            <a:ext cx="436716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334800" y="249120"/>
            <a:ext cx="8656920" cy="11653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Nelson joined the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ther British ships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 attacking the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attered Ça Ira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Nelson and the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leet remained in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Mediterranean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roughout the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ummer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0" name="Рисунок 3" descr="нельсон5.jpg"/>
          <p:cNvPicPr/>
          <p:nvPr/>
        </p:nvPicPr>
        <p:blipFill>
          <a:blip r:embed="rId2"/>
          <a:stretch/>
        </p:blipFill>
        <p:spPr>
          <a:xfrm>
            <a:off x="4143240" y="1857240"/>
            <a:ext cx="475956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Nelson wounded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uring the battle of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anta Cruz de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enerife. In England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e was met with a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ero’s welcome. His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ound earned him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ympathy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3" name="Рисунок 5" descr="нельсон7.jpg"/>
          <p:cNvPicPr/>
          <p:nvPr/>
        </p:nvPicPr>
        <p:blipFill>
          <a:blip r:embed="rId2"/>
          <a:stretch/>
        </p:blipFill>
        <p:spPr>
          <a:xfrm>
            <a:off x="4429080" y="1857240"/>
            <a:ext cx="444492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Nelson decided to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plit his fleet into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quadrons rather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an forming it into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milar line parallel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o the enemy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6" name="Рисунок 3" descr="нельсон8.jpg"/>
          <p:cNvPicPr/>
          <p:nvPr/>
        </p:nvPicPr>
        <p:blipFill>
          <a:blip r:embed="rId2"/>
          <a:stretch/>
        </p:blipFill>
        <p:spPr>
          <a:xfrm>
            <a:off x="4286160" y="1857240"/>
            <a:ext cx="467532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Nelson was appointed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ommander-in-chief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f the Mediterranean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leet. During Neapolitan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ampaign he met Emma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amilton, with whom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e had fallen deeply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 love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9" name="Рисунок 3" descr="нельсон9.jpg"/>
          <p:cNvPicPr/>
          <p:nvPr/>
        </p:nvPicPr>
        <p:blipFill>
          <a:blip r:embed="rId2"/>
          <a:stretch/>
        </p:blipFill>
        <p:spPr>
          <a:xfrm>
            <a:off x="5143680" y="1643040"/>
            <a:ext cx="3811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03:37:16Z</dcterms:created>
  <dc:creator>Беликова Наталья</dc:creator>
  <dc:description/>
  <dc:language>en-US</dc:language>
  <cp:lastModifiedBy>Беликова Наталья</cp:lastModifiedBy>
  <dcterms:modified xsi:type="dcterms:W3CDTF">2011-01-24T02:46:59Z</dcterms:modified>
  <cp:revision>28</cp:revision>
  <dc:subject/>
  <dc:title>Admiral Nelson</dc:title>
</cp:coreProperties>
</file>