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20.jpeg" ContentType="image/jpeg"/>
  <Override PartName="/ppt/media/image1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png" ContentType="image/png"/>
  <Override PartName="/ppt/media/image13.png" ContentType="image/png"/>
  <Override PartName="/ppt/media/image30.jpeg" ContentType="image/jpeg"/>
  <Override PartName="/ppt/media/image24.jpeg" ContentType="image/jpeg"/>
  <Override PartName="/ppt/media/image31.png" ContentType="image/png"/>
  <Override PartName="/ppt/media/image6.jpeg" ContentType="image/jpeg"/>
  <Override PartName="/ppt/media/image27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ABC2-AB8D-460F-ABA2-B6234BF6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4CBC-65DA-4B81-A121-C4833FE0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1C7A93-59CD-4F64-A9D7-368F22DC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5F2770-9495-4882-A653-DFA80377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DF6EF1-298E-4C69-813A-8DA65C0E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016D56-F0A8-48BE-A8EF-5A296F70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FB7C57-F478-4294-898D-47ED87D7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26B067-E079-4036-BDDE-5165D649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9F15D7-1A4F-4BAE-9BE7-D719351A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3C8ED1-D590-47E5-94AA-32059D15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A7DB71-E2F9-4E72-AEE2-15A4106C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87E5-0424-41D5-9BFE-093E78D9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EE8D-9FDC-4A73-B68E-9C5E57E2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35097-1FA2-49E1-ABC4-AC5C4CFC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89795-7FAB-49E9-9A19-C198E553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80686-8486-47D8-8200-B6322472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4E3F2-1B21-418C-887E-52347EEC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72E7A-3E6A-47E5-93F5-EE159425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FB319-46D6-407A-9C7C-0022B1D9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BF000-9156-4A78-ABF4-54492B9D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512D-7336-4D0D-A18C-665DE819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8ECCF-A649-4C91-A34F-417FF8CC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6CA07-5F8F-4FC2-99FE-C31AF373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AF13D-7FB6-4317-9380-50F1FA7A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F469C-FF8E-4728-9EC9-E44411D2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AF4E2-B713-4843-91F5-2C4F7EA6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6D27C-5D60-43A1-B76C-01E3B9E3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63865-D186-44DF-A573-03201066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7BA49-67FF-4BF4-BA54-362A7310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48F69-736C-4B89-B4CD-E38159C7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B28B0-F52F-469F-B3C7-8529ACE5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09E3-8A6F-437E-ABF7-5635FDD5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7B8B8-B9DA-4711-8D77-E6EA8D1B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824CF-0CEE-43AE-B1C6-4A25C34A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7B47B-D03A-497E-9C7F-69C5DF03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67785-D1D7-47F5-AB34-138391A1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EED07-D9EB-4B24-AD7E-D3A4232C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84CDC-462F-4335-BA10-263BAD21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5F948-D487-448D-BC50-D2A050C9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9AB759-BCE6-48D8-B0FC-E39F5CD3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F7F995-E66C-4354-A75A-857E3842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FA5151-360C-4DF0-AED5-16A72197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F5A1-30FE-4D21-91C6-7D6C646F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21BAAE-5305-4DDE-9692-188E4852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95BA31-E898-44FB-8600-978B6447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4A7586-37B7-45D2-923B-EE096BD4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8188B3-BC0A-4FC6-BFE2-C3B8327F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565F32-8591-4107-B9A0-F25734D4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78BB7F-6C3D-4345-9CD3-D0BA5616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40406B-BFDC-4855-8562-1C72E069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4AAA87-F14C-4769-89D3-00AF833F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E99C2A-544C-4E3A-8288-470FFD3B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DB1FD-61D4-4611-9CC5-E0E0C703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5847-E807-430A-B7B7-D60B355E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A2E0F-0B06-43E0-BA5A-D41927FF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B6C80-B6F0-4A97-BA9C-423E6AFA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212CD-940E-47B3-A055-31DB269F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A1DE2-7529-4816-9E85-995F4BD7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C0013-8C26-461D-9654-7373D01B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087BF-3BF6-447B-B9D6-FF431047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2AED2-7F88-428A-848B-D943F3E7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CB709-A3FA-4AA0-BD3E-FDC4B49F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E4E94-9931-414A-AB2A-D7814BBE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37878-B3BF-4721-A5F3-4127BA27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A85E-F6BF-4121-9DC8-4D714676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0F8D0-EE81-4E31-94B4-08137EC2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029C0-F285-46FA-935D-ED8B416D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22F44-5D3E-44F9-8720-4F3B9237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546FA-1C4E-4372-933F-52B1F8E8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4031A-998C-49B2-B583-B71B9218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E1257-42A7-49A8-934B-DF78EC85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27876-F166-4520-98F7-CB732276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58178-7AE6-4653-8D3E-3AE2E8B6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D50DB-5F82-4816-BD7F-66401613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B4F85-8205-4488-B590-C484ACC0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739B-925C-4A80-893D-8D120230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5D060-4B4D-48AD-922C-138DF0C4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D223D-EF2A-4553-9BE3-716CA92A8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0B422-20F2-4021-A808-B7F0037A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ADEFF-68A3-4879-B047-00154A8E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D483C-4B7F-4754-B895-0E503CBB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0DFD6-2EA0-4E0A-949F-54A91D13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3403D-FD91-4CDC-B37D-B6D0BD7B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22C98-16C8-45FD-AAFD-30F07378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FD0A5-47CA-4A48-A021-B62AD596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6E1A4-6853-4CCD-9457-639AC3A8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E46F-65C0-4015-B6F4-7A4A85A4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2F30A-FB2D-41FE-A409-59328EBF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0429D-CBBF-4203-9C61-BF5365C3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17AAC-A419-45D1-926C-E88214CF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F92B6-C74D-4F3D-8D1C-9E438085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F6F35-6B8F-4D3E-BF15-0F50D595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9CC288-1987-4455-8FEF-B4F15CD5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9DDCD0-34F3-4D9A-AD6C-1169B7A1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C174B2-9AC8-426A-BEF9-C854C01B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7A21A8-3B8A-4CA3-883F-661AE901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897EE7-5778-4367-8A90-5930CACC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4B31-C4C1-4988-AEB4-751D069E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531DB9-A781-451D-8B52-1A8F5E68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ACD668-5933-461A-89CC-2F2B91F2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A7262D-029A-4EAA-BE00-71905D68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6A00D2-B91A-4F8D-AC0E-46DEC6EC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1E1C7A-A78B-4E8D-BB47-10FB5981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A9B92E-E44F-4AC4-96E4-F182801D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01B68D-FB1A-499C-BD4A-F967446E4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6ECC61-D8B0-4647-837E-437D2C40B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BFD2B3-B703-4CD0-90DF-BAD47698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AB9F91-B7FE-45BD-B6B8-76C2DEDD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47F0-58D7-41AB-800C-7F39941F5BA6}" type="slidenum">
              <a:rPr b="0" lang="ru-RU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DC08-13A6-44D5-9E8E-90845733007F}" type="slidenum">
              <a:rPr b="0" lang="ru-RU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B4F3-36AD-41E7-B7E9-F615A9658671}" type="slidenum">
              <a:rPr b="0" lang="ru-RU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F4C1-5DDB-4D2E-90A7-0A151BC9DD24}" type="slidenum">
              <a:rPr b="0" lang="ru-RU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0F73-3376-476D-8FAB-4623A0F06215}" type="slidenum">
              <a:rPr b="0" lang="ru-RU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6799-9217-4867-B784-CCC2468AED3E}" type="slidenum">
              <a:rPr b="0" lang="ru-RU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8A09-6BB5-465B-BFC9-17BC43DB0097}" type="slidenum">
              <a:rPr b="0" lang="ru-RU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0f6fc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4734-9605-41D1-BBCB-C2ACDF909AF7}" type="slidenum">
              <a:rPr b="0" lang="ru-RU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bfaff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bbfaff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f6fc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009dd9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a4b8c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a4b8c4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7D8D-E9BE-42C7-AE92-F8FB2C6F9107}" type="slidenum">
              <a:rPr b="0" lang="ru-RU" sz="16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674200" cy="224928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"/>
              </a:rPr>
              <a:t>Britannia</a:t>
            </a:r>
            <a:endParaRPr b="0" lang="en-US" sz="6000" spc="-1" strike="noStrike">
              <a:solidFill>
                <a:srgbClr val="ffffff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Rockwell"/>
              </a:rPr>
              <a:t>Triumphant</a:t>
            </a:r>
            <a:endParaRPr b="0" lang="en-US" sz="6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64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battle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asted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ree hours,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eaving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oth Danish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nd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ritish fleets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eavily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amaged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2" name="Рисунок 5" descr="нельсон10.jpg"/>
          <p:cNvPicPr/>
          <p:nvPr/>
        </p:nvPicPr>
        <p:blipFill>
          <a:blip r:embed="rId2"/>
          <a:stretch/>
        </p:blipFill>
        <p:spPr>
          <a:xfrm>
            <a:off x="2928960" y="1928880"/>
            <a:ext cx="57499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combined French and Spanish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leet numbered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33 ships sailed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to the English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hannel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nd covered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planned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vasion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f Britain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5" name="Рисунок 5" descr="нельсон11.jpg"/>
          <p:cNvPicPr/>
          <p:nvPr/>
        </p:nvPicPr>
        <p:blipFill>
          <a:blip r:embed="rId2"/>
          <a:stretch/>
        </p:blipFill>
        <p:spPr>
          <a:xfrm>
            <a:off x="3571920" y="2428920"/>
            <a:ext cx="52592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ank God I have done my duty”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8" name="Рисунок 3" descr="нельсон12.jpg"/>
          <p:cNvPicPr/>
          <p:nvPr/>
        </p:nvPicPr>
        <p:blipFill>
          <a:blip r:embed="rId2"/>
          <a:stretch/>
        </p:blipFill>
        <p:spPr>
          <a:xfrm>
            <a:off x="357120" y="2286000"/>
            <a:ext cx="4149720" cy="295272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4" descr="нельсон13.jpg"/>
          <p:cNvPicPr/>
          <p:nvPr/>
        </p:nvPicPr>
        <p:blipFill>
          <a:blip r:embed="rId3"/>
          <a:stretch/>
        </p:blipFill>
        <p:spPr>
          <a:xfrm>
            <a:off x="4572000" y="3643200"/>
            <a:ext cx="4410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e have lost more than we have gained”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2" name="Рисунок 3" descr="нельсон14.jpg"/>
          <p:cNvPicPr/>
          <p:nvPr/>
        </p:nvPicPr>
        <p:blipFill>
          <a:blip r:embed="rId2"/>
          <a:stretch/>
        </p:blipFill>
        <p:spPr>
          <a:xfrm>
            <a:off x="285840" y="3214800"/>
            <a:ext cx="2735280" cy="259236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4" descr="нельсон15.jpg"/>
          <p:cNvPicPr/>
          <p:nvPr/>
        </p:nvPicPr>
        <p:blipFill>
          <a:blip r:embed="rId3"/>
          <a:stretch/>
        </p:blipFill>
        <p:spPr>
          <a:xfrm>
            <a:off x="3000240" y="2214720"/>
            <a:ext cx="57898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4" descr="нельсон17.jpg"/>
          <p:cNvPicPr/>
          <p:nvPr/>
        </p:nvPicPr>
        <p:blipFill>
          <a:blip r:embed="rId2"/>
          <a:stretch/>
        </p:blipFill>
        <p:spPr>
          <a:xfrm>
            <a:off x="1071720" y="1428840"/>
            <a:ext cx="6911640" cy="51847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3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Vice Admira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Viscount Nelson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9 September 1758 -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1 October1805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(aged 47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8" name="Рисунок 4" descr="нельсон1.jpg"/>
          <p:cNvPicPr/>
          <p:nvPr/>
        </p:nvPicPr>
        <p:blipFill>
          <a:blip r:embed="rId2"/>
          <a:stretch/>
        </p:blipFill>
        <p:spPr>
          <a:xfrm>
            <a:off x="5000760" y="1785960"/>
            <a:ext cx="37036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elson was born 1758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is naval career began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771, when he reported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o the third-rate HMS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Rockwell"/>
              </a:rPr>
              <a:t>Raisonable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s an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rdinary seaman and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xswain under his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uncle, Captain Maurice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uckling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1" name="Рисунок 3" descr="нельсон2.jpg"/>
          <p:cNvPicPr/>
          <p:nvPr/>
        </p:nvPicPr>
        <p:blipFill>
          <a:blip r:embed="rId2"/>
          <a:stretch/>
        </p:blipFill>
        <p:spPr>
          <a:xfrm>
            <a:off x="4929120" y="1428840"/>
            <a:ext cx="3960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elson was dispatched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o serve aboard the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est Indiamen of the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erchant shipping firm,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 order to gain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xperience at sea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e twice crossed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Atlantic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4" name="Рисунок 4" descr="нельсон3.jpg"/>
          <p:cNvPicPr/>
          <p:nvPr/>
        </p:nvPicPr>
        <p:blipFill>
          <a:blip r:embed="rId2"/>
          <a:stretch/>
        </p:blipFill>
        <p:spPr>
          <a:xfrm>
            <a:off x="5072040" y="1785960"/>
            <a:ext cx="36194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elson met Frances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anny” Nisbet, a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young widow from a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avis plantation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amily. Nelson and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isbet were married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787. Nelson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eturned to England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7" name="Рисунок 3" descr="нельсон 4.jpg"/>
          <p:cNvPicPr/>
          <p:nvPr/>
        </p:nvPicPr>
        <p:blipFill>
          <a:blip r:embed="rId2"/>
          <a:stretch/>
        </p:blipFill>
        <p:spPr>
          <a:xfrm>
            <a:off x="4429080" y="1785960"/>
            <a:ext cx="43671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334800" y="249120"/>
            <a:ext cx="8656920" cy="11653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elson joined the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ther British ships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 attacking the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attered Ça Ira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elson and the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leet remained in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Mediterranean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roughout the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ummer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0" name="Рисунок 3" descr="нельсон5.jpg"/>
          <p:cNvPicPr/>
          <p:nvPr/>
        </p:nvPicPr>
        <p:blipFill>
          <a:blip r:embed="rId2"/>
          <a:stretch/>
        </p:blipFill>
        <p:spPr>
          <a:xfrm>
            <a:off x="4143240" y="1857240"/>
            <a:ext cx="475956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elson wounded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uring the battle of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anta Cruz de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enerife. In England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e was met with a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ero’s welcome. His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ound earned him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ympathy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3" name="Рисунок 5" descr="нельсон7.jpg"/>
          <p:cNvPicPr/>
          <p:nvPr/>
        </p:nvPicPr>
        <p:blipFill>
          <a:blip r:embed="rId2"/>
          <a:stretch/>
        </p:blipFill>
        <p:spPr>
          <a:xfrm>
            <a:off x="4429080" y="1857240"/>
            <a:ext cx="444492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elson decided to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plit his fleet into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quadrons rather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an forming it into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milar line parallel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o the enemy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6" name="Рисунок 3" descr="нельсон8.jpg"/>
          <p:cNvPicPr/>
          <p:nvPr/>
        </p:nvPicPr>
        <p:blipFill>
          <a:blip r:embed="rId2"/>
          <a:stretch/>
        </p:blipFill>
        <p:spPr>
          <a:xfrm>
            <a:off x="4286160" y="1857240"/>
            <a:ext cx="467532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elson was appointed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mmander-in-chief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f the Mediterranean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leet. During Neapolitan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ampaign he met Emma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amilton, with whom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e had fallen deeply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 love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9" name="Рисунок 3" descr="нельсон9.jpg"/>
          <p:cNvPicPr/>
          <p:nvPr/>
        </p:nvPicPr>
        <p:blipFill>
          <a:blip r:embed="rId2"/>
          <a:stretch/>
        </p:blipFill>
        <p:spPr>
          <a:xfrm>
            <a:off x="5143680" y="1643040"/>
            <a:ext cx="3811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3:37:16Z</dcterms:created>
  <dc:creator>Беликова Наталья</dc:creator>
  <dc:description/>
  <dc:language>en-US</dc:language>
  <cp:lastModifiedBy>Беликова Наталья</cp:lastModifiedBy>
  <dcterms:modified xsi:type="dcterms:W3CDTF">2011-01-24T02:46:59Z</dcterms:modified>
  <cp:revision>28</cp:revision>
  <dc:subject/>
  <dc:title>Admiral Nelson</dc:title>
</cp:coreProperties>
</file>