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836-85B5-4470-A36A-C9479A57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CBB-E377-4D2B-9E9E-361BF32D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087-4537-4B50-9F79-2208BAE3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3E2-6D5B-478E-BF0A-55C835C6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5BB2-D82C-4D12-93E4-3AB070B9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6370-E7DF-453E-AA7A-C6A4658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3077-ED75-4672-8A91-676558E9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16D2-2EBE-42A2-A3F5-0E223B2C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CD71-8226-4ABA-8DF4-C75EB45D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E37D-C117-43C7-9E6C-3BA074AF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8F95-557A-44BC-AF41-6AB58EF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D853-F21D-4333-9C45-C01CF21F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0337-C909-4C84-9750-ECD0C01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3C84-223D-484E-BBD4-E67D7232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B024-5F90-4775-9C3C-EE64A6BD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8118-5300-45F7-86B1-E62897EA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0FE6-DE4C-400E-B3CC-31BA8CD3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128-0D9C-41DB-B9CE-5D5B0364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47B-918D-407B-80FD-8746A91C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830-7E13-4179-95E7-56BEB90B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04B-EB2C-4261-A080-DEDE3603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8ED-00EA-483A-BAC5-AD26BFB5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537-9528-4045-9020-3711BF8D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1FF-B997-4746-AC26-4FE4BEFB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708D-E9C1-4BC1-A2BE-8CE626EC2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252C-8E0F-4CCF-AF0C-65A6F3693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71640" y="404640"/>
            <a:ext cx="756108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ronet"/>
              </a:rPr>
              <a:t>Инструктаж п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ronet"/>
              <a:ea typeface="Coron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Coronet"/>
              </a:rPr>
              <a:t>электробезопас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Coronet"/>
              <a:ea typeface="Coron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56000" y="1699920"/>
            <a:ext cx="658800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Для предупреждения об опасности поражения электрическим то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-Для предупреждения об опасности подъема по конструкциям, при котором возможно приближение к токоведущим частям, находящимся под напряжени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Georgia"/>
              </a:rPr>
              <a:t>-Для предупреждения об опасности поражения электрическим то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1728720" cy="108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Georgia"/>
              </a:rPr>
              <a:t>Знаки по электробезопас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6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15640" y="40428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Georgia"/>
              </a:rPr>
              <a:t>Электробезопасность в быт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132000" y="292428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11640" y="4221000"/>
            <a:ext cx="4788000" cy="2119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0" y="1773360"/>
            <a:ext cx="418788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419640" y="2492280"/>
            <a:ext cx="5545080" cy="3457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187280" y="260280"/>
            <a:ext cx="67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Поражение током высокого напряж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3168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Как быстро обесточить пострадавшего?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1. Отключить источник питания.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2. Скинуть провода с пострадавшего любым не проводящим ток предметом.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Georgia"/>
              </a:rPr>
              <a:t>3. Оттащить пострадавшего за одежду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0" r="0" b="4180"/>
          <a:stretch/>
        </p:blipFill>
        <p:spPr>
          <a:xfrm>
            <a:off x="39528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651640" y="1052640"/>
            <a:ext cx="3492360" cy="1079280"/>
          </a:xfrm>
          <a:prstGeom prst="leftArrow">
            <a:avLst>
              <a:gd name="adj1" fmla="val 50000"/>
              <a:gd name="adj2" fmla="val 8089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0360" y="1413000"/>
            <a:ext cx="32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Вызвать скорую помощ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093080" y="836640"/>
            <a:ext cx="947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0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39640" y="1052640"/>
            <a:ext cx="8209080" cy="5805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11280" y="189000"/>
            <a:ext cx="777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3300"/>
                  </a:solidFill>
                  <a:miter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оказания помощи</a:t>
            </a:r>
            <a:endParaRPr b="1" lang="en-US" sz="1800" spc="1" strike="noStrike">
              <a:ln w="9360">
                <a:solidFill>
                  <a:srgbClr val="663300"/>
                </a:solidFill>
                <a:miter/>
              </a:ln>
              <a:solidFill>
                <a:srgbClr val="66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6:04:42Z</dcterms:created>
  <dc:creator>Г.Т.Н</dc:creator>
  <dc:description/>
  <dc:language>en-US</dc:language>
  <cp:lastModifiedBy>Г.Т.Н</cp:lastModifiedBy>
  <dcterms:modified xsi:type="dcterms:W3CDTF">2009-02-05T05:20:11Z</dcterms:modified>
  <cp:revision>5</cp:revision>
  <dc:subject/>
  <dc:title>Слайд 1</dc:title>
</cp:coreProperties>
</file>