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543-39A3-4E17-8B29-FEB2A44C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6B2-087D-458A-BC96-3D0DD9AC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355-A296-4641-8173-4284D6E6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215-5BA8-4172-8FC3-47D9E541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4CC6-E6A2-480E-809D-685F8554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5CC9-83E0-49AC-A5E3-33C55A73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3EF4-E144-4953-993F-8DE22033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4459-36C1-4BFD-861F-DF4B507D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43A8-2DC5-441B-8609-57A35E02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9645-AB36-43DE-B561-6AA6E3B9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ABCE-14DE-4332-A790-F9ED77B2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5CD-1742-4FF6-A8B6-F64F33FD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3F95-2C49-4639-90CF-EDD00767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2B84-BC5C-4A7F-8204-B3620884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5EBB-EAEE-4EBD-9E93-9CD73414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F045-BE38-4262-938C-7B8E6F5D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5E85-0534-4528-9B48-981C42B5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05C-F300-4035-A592-F087EB8F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661-8CBD-4FB7-97DC-D560B0C0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7C9-128F-405A-8BDB-565DC6C3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DF0-2A13-447A-972C-61458DD5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C232-0881-4EAB-AA8C-B57F20EE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ABD-F293-4486-BCB9-C045EB57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450B-BED4-4AC8-9925-93B2E191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2FA0-A36B-4021-8526-5ABCABBEC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5CDD-0E89-416C-9385-6DD3425B1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71640" y="404640"/>
            <a:ext cx="756108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Coronet"/>
              </a:rPr>
              <a:t>Инструктаж п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Coronet"/>
              <a:ea typeface="Coron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Coronet"/>
              </a:rPr>
              <a:t>электробезопаснос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Coronet"/>
              <a:ea typeface="Corone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56000" y="1699920"/>
            <a:ext cx="6588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0" lang="en-US" sz="2400" spc="-1" strike="noStrike">
                <a:solidFill>
                  <a:srgbClr val="663300"/>
                </a:solidFill>
                <a:latin typeface="Georgia"/>
              </a:rPr>
              <a:t>Для предупреждения об опасности поражения электрическим то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Georgia"/>
              </a:rPr>
              <a:t>-Для предупреждения об опасности подъема по конструкциям, при котором возможно приближение к токоведущим частям, находящимся под напряж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Georgia"/>
              </a:rPr>
              <a:t>-Для предупреждения об опасности поражения электрическим то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1728720" cy="1081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39640" y="2924280"/>
            <a:ext cx="1728720" cy="107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84360" y="4365720"/>
            <a:ext cx="1511280" cy="1368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Georgia"/>
              </a:rPr>
              <a:t>Знаки по электробезопасн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6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15640" y="404280"/>
            <a:ext cx="7559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Georgia"/>
              </a:rPr>
              <a:t>Электробезопасность в быт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132000" y="292428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211640" y="4221000"/>
            <a:ext cx="4788000" cy="2119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0" y="1773360"/>
            <a:ext cx="418788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419640" y="2492280"/>
            <a:ext cx="5545080" cy="3457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87280" y="260280"/>
            <a:ext cx="67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Georgia"/>
              </a:rPr>
              <a:t>Поражение током высокого напряж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79280" y="1557360"/>
            <a:ext cx="3168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000" spc="-1" strike="noStrike">
                <a:solidFill>
                  <a:srgbClr val="663300"/>
                </a:solidFill>
                <a:latin typeface="Georgia"/>
              </a:rPr>
              <a:t>Как быстро обесточить пострадавшего?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772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Georgia"/>
              </a:rPr>
              <a:t>1. Отключить источник питания.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Georgia"/>
              </a:rPr>
              <a:t>2. Скинуть провода с пострадавшего любым не проводящим ток предметом.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Georgia"/>
              </a:rPr>
              <a:t>3. Оттащить пострадавшего за одежд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rcRect l="0" t="0" r="0" b="4180"/>
          <a:stretch/>
        </p:blipFill>
        <p:spPr>
          <a:xfrm>
            <a:off x="39528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651640" y="1052640"/>
            <a:ext cx="3492360" cy="1079280"/>
          </a:xfrm>
          <a:prstGeom prst="leftArrow">
            <a:avLst>
              <a:gd name="adj1" fmla="val 50000"/>
              <a:gd name="adj2" fmla="val 8089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0360" y="141300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Вызвать скорую помощ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093080" y="836640"/>
            <a:ext cx="947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0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39640" y="1052640"/>
            <a:ext cx="8209080" cy="5805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611280" y="189000"/>
            <a:ext cx="777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горитм оказания помощи</a:t>
            </a:r>
            <a:endParaRPr b="1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6:04:42Z</dcterms:created>
  <dc:creator>Г.Т.Н</dc:creator>
  <dc:description/>
  <dc:language>en-US</dc:language>
  <cp:lastModifiedBy>Г.Т.Н</cp:lastModifiedBy>
  <dcterms:modified xsi:type="dcterms:W3CDTF">2009-02-05T05:20:11Z</dcterms:modified>
  <cp:revision>5</cp:revision>
  <dc:subject/>
  <dc:title>Слайд 1</dc:title>
</cp:coreProperties>
</file>