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31A1-982B-4B00-847B-2A660EEA5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27A5-A5AA-4CB9-9B81-FB0FCEC3E066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6204-0398-4147-93E5-6C7F3AF6BB45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94C5-5FE5-4F53-B2D6-BFC6B6CF9776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29E0-EBAB-403E-B7D6-2B352E111078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638C-5690-466B-8388-782C69F029C9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050C-FEBE-4463-8898-E73742D3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5CF-AB29-415C-8F0E-B94A8655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7D0-1C43-4374-A347-64FD9E9A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9F3-9EAB-492C-B06F-9277F7F6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FA36-B04E-4F19-A7F1-83402AE3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9E9A-5A17-4214-9D62-771EDE1B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9E54-5B35-4B79-8095-09238F82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8C45-2472-4533-B405-6A7E07A2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7AE4-FEC9-46F5-BF37-8CD9A40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D3DE-02CE-4A12-B8D7-A5B7A448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6190-755D-4F2C-A262-E992BA9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0EF-D22C-4924-B6DC-8D6794DE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96B-BFFD-4BA6-B964-2440BCCB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BED4-FC82-4951-8D8C-BD6AB1D3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4FB5-213D-472E-AAAE-EDA8F1B0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EE1A-96AE-4475-A22C-8E49978D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2639-5B62-4711-B8E4-F1C1B997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431-E167-42F7-9DFC-975F261C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D00-CE46-42EA-AE29-C53707C4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85B-7AFA-4A78-BD5C-292BDC95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C8C-DA59-43BC-85B2-BD1697E9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8DA-3491-4167-B484-B54D345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AE8-2C90-42CA-9582-11B40380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BF5-C039-4E5A-88CF-DA6A1996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A5E4-3DEB-42BE-972B-B2BB69F27B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407C-0F95-4A0B-9228-F35863EBEDD6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2000" y="596880"/>
            <a:ext cx="7316640" cy="24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1" lang="ru-RU" sz="4800" spc="-1" strike="noStrike">
                <a:solidFill>
                  <a:srgbClr val="000066"/>
                </a:solidFill>
                <a:latin typeface="Comic Sans MS"/>
              </a:rPr>
              <a:t>Фонематический </a:t>
            </a:r>
            <a:br>
              <a:rPr sz="4800"/>
            </a:br>
            <a:r>
              <a:rPr b="1" lang="ru-RU" sz="4800" spc="-1" strike="noStrike">
                <a:solidFill>
                  <a:srgbClr val="000066"/>
                </a:solidFill>
                <a:latin typeface="Comic Sans MS"/>
              </a:rPr>
              <a:t>       синтез слов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4000" y="3860280"/>
            <a:ext cx="6147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алинина Елена Анатольевн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С(к)ОУ шк.-инт. № 4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. Магнитогорск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ставь слово из звуков: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1916280"/>
            <a:ext cx="903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Г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У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Т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 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Л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И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С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И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Ч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33cc"/>
                </a:solidFill>
                <a:latin typeface="Verdana"/>
              </a:rPr>
              <a:t>]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П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Г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Н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Б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В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И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П′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–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0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Н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  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М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У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Х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М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О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С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Ы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Р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Е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Ш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К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0033cc"/>
                </a:solidFill>
                <a:latin typeface="Verdana"/>
              </a:rPr>
              <a:t>А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8" name="Picture 5" descr="груздь"/>
          <p:cNvPicPr/>
          <p:nvPr/>
        </p:nvPicPr>
        <p:blipFill>
          <a:blip r:embed="rId1"/>
          <a:stretch/>
        </p:blipFill>
        <p:spPr>
          <a:xfrm>
            <a:off x="3564000" y="765000"/>
            <a:ext cx="1655640" cy="1325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сыроежка"/>
          <p:cNvPicPr/>
          <p:nvPr/>
        </p:nvPicPr>
        <p:blipFill>
          <a:blip r:embed="rId2"/>
          <a:stretch/>
        </p:blipFill>
        <p:spPr>
          <a:xfrm>
            <a:off x="5219640" y="544500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поганка"/>
          <p:cNvPicPr/>
          <p:nvPr/>
        </p:nvPicPr>
        <p:blipFill>
          <a:blip r:embed="rId3"/>
          <a:stretch/>
        </p:blipFill>
        <p:spPr>
          <a:xfrm>
            <a:off x="6877080" y="2327400"/>
            <a:ext cx="1871640" cy="1224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боровик"/>
          <p:cNvPicPr/>
          <p:nvPr/>
        </p:nvPicPr>
        <p:blipFill>
          <a:blip r:embed="rId4"/>
          <a:stretch/>
        </p:blipFill>
        <p:spPr>
          <a:xfrm>
            <a:off x="5003640" y="3141720"/>
            <a:ext cx="1332000" cy="15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опенок"/>
          <p:cNvPicPr/>
          <p:nvPr/>
        </p:nvPicPr>
        <p:blipFill>
          <a:blip r:embed="rId5"/>
          <a:stretch/>
        </p:blipFill>
        <p:spPr>
          <a:xfrm>
            <a:off x="6443640" y="3789360"/>
            <a:ext cx="1104840" cy="14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мухомор"/>
          <p:cNvPicPr/>
          <p:nvPr/>
        </p:nvPicPr>
        <p:blipFill>
          <a:blip r:embed="rId6"/>
          <a:stretch/>
        </p:blipFill>
        <p:spPr>
          <a:xfrm>
            <a:off x="7667640" y="4869000"/>
            <a:ext cx="1301760" cy="1655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лисичка"/>
          <p:cNvPicPr/>
          <p:nvPr/>
        </p:nvPicPr>
        <p:blipFill>
          <a:blip r:embed="rId7"/>
          <a:stretch/>
        </p:blipFill>
        <p:spPr>
          <a:xfrm>
            <a:off x="5364000" y="907920"/>
            <a:ext cx="14637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оставь слово из звуков, данных в нарушенной последовательности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  <a:ea typeface="Arial"/>
              </a:rPr>
              <a:t>′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Д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Щ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Ы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Picture 4" descr="сад"/>
          <p:cNvPicPr/>
          <p:nvPr/>
        </p:nvPicPr>
        <p:blipFill>
          <a:blip r:embed="rId1"/>
          <a:stretch/>
        </p:blipFill>
        <p:spPr>
          <a:xfrm>
            <a:off x="6877080" y="285264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осень"/>
          <p:cNvPicPr/>
          <p:nvPr/>
        </p:nvPicPr>
        <p:blipFill>
          <a:blip r:embed="rId2"/>
          <a:stretch/>
        </p:blipFill>
        <p:spPr>
          <a:xfrm>
            <a:off x="6877080" y="907920"/>
            <a:ext cx="1871640" cy="1409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дождь 2"/>
          <p:cNvPicPr/>
          <p:nvPr/>
        </p:nvPicPr>
        <p:blipFill>
          <a:blip r:embed="rId3"/>
          <a:stretch/>
        </p:blipFill>
        <p:spPr>
          <a:xfrm>
            <a:off x="1476360" y="2781360"/>
            <a:ext cx="1655640" cy="1247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огород 3"/>
          <p:cNvPicPr/>
          <p:nvPr/>
        </p:nvPicPr>
        <p:blipFill>
          <a:blip r:embed="rId4"/>
          <a:stretch/>
        </p:blipFill>
        <p:spPr>
          <a:xfrm>
            <a:off x="1042920" y="907920"/>
            <a:ext cx="1656000" cy="1211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овощи 1"/>
          <p:cNvPicPr/>
          <p:nvPr/>
        </p:nvPicPr>
        <p:blipFill>
          <a:blip r:embed="rId5"/>
          <a:stretch/>
        </p:blipFill>
        <p:spPr>
          <a:xfrm>
            <a:off x="971640" y="4508640"/>
            <a:ext cx="1439640" cy="1427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фрукты 1"/>
          <p:cNvPicPr/>
          <p:nvPr/>
        </p:nvPicPr>
        <p:blipFill>
          <a:blip r:embed="rId6"/>
          <a:stretch/>
        </p:blipFill>
        <p:spPr>
          <a:xfrm>
            <a:off x="6877080" y="4727520"/>
            <a:ext cx="178416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гадай слово по его лексическому значению и определи количество букв и звуков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есто, где растет много деревьев и можно собирать грибы и ягоды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ЕС – 3 буквы, 3 звука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ра года, когда убирают урожай картофеля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СЕНЬ – 5 букв, 4 звук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5" descr="лес 2"/>
          <p:cNvPicPr/>
          <p:nvPr/>
        </p:nvPicPr>
        <p:blipFill>
          <a:blip r:embed="rId1"/>
          <a:stretch/>
        </p:blipFill>
        <p:spPr>
          <a:xfrm>
            <a:off x="4859280" y="2060640"/>
            <a:ext cx="2592360" cy="1539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осень 2"/>
          <p:cNvPicPr/>
          <p:nvPr/>
        </p:nvPicPr>
        <p:blipFill>
          <a:blip r:embed="rId2"/>
          <a:stretch/>
        </p:blipFill>
        <p:spPr>
          <a:xfrm>
            <a:off x="5292720" y="4437000"/>
            <a:ext cx="15811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Явление, которое происходит с листьями осенью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ИСТОПАД – 8 букв, 8 звуков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остояние животных: медведей, барсуков, сурков, похожее на длительный сон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ПЯЧКА – 6 букв, 6 звуков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пособность животных менять шерсть и окраск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ИНЬКА – 6 букв, 5 звуков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8" name="Picture 4" descr="листопад"/>
          <p:cNvPicPr/>
          <p:nvPr/>
        </p:nvPicPr>
        <p:blipFill>
          <a:blip r:embed="rId1"/>
          <a:stretch/>
        </p:blipFill>
        <p:spPr>
          <a:xfrm>
            <a:off x="2916360" y="907920"/>
            <a:ext cx="3600360" cy="1295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спячка 2"/>
          <p:cNvPicPr/>
          <p:nvPr/>
        </p:nvPicPr>
        <p:blipFill>
          <a:blip r:embed="rId2"/>
          <a:stretch/>
        </p:blipFill>
        <p:spPr>
          <a:xfrm>
            <a:off x="5364000" y="2997360"/>
            <a:ext cx="2016360" cy="1304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заяц с"/>
          <p:cNvPicPr/>
          <p:nvPr/>
        </p:nvPicPr>
        <p:blipFill>
          <a:blip r:embed="rId3"/>
          <a:stretch/>
        </p:blipFill>
        <p:spPr>
          <a:xfrm>
            <a:off x="1042920" y="4862520"/>
            <a:ext cx="1800360" cy="1200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заяц б"/>
          <p:cNvPicPr/>
          <p:nvPr/>
        </p:nvPicPr>
        <p:blipFill>
          <a:blip r:embed="rId4"/>
          <a:stretch/>
        </p:blipFill>
        <p:spPr>
          <a:xfrm>
            <a:off x="5292720" y="4869000"/>
            <a:ext cx="109692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9:12:48Z</dcterms:created>
  <dc:creator> </dc:creator>
  <dc:description/>
  <dc:language>en-US</dc:language>
  <cp:lastModifiedBy>User</cp:lastModifiedBy>
  <dcterms:modified xsi:type="dcterms:W3CDTF">2013-04-28T09:38:31Z</dcterms:modified>
  <cp:revision>19</cp:revision>
  <dc:subject/>
  <dc:title>Фонематический синтез с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