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4102-BC17-46A8-AD47-29B5B02D78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8893-F2C6-407F-964A-42230406B8BB}" type="slidenum">
              <a:rPr b="0" lang="ru-RU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F11F-3A76-42C4-8E84-F2ED040D7276}" type="slidenum">
              <a:rPr b="0" lang="ru-RU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5695-3353-4E09-AEC4-E2A58C6F7C21}" type="slidenum">
              <a:rPr b="0" lang="ru-RU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0B36-4D38-4100-AA35-02BF6AE1A6DA}" type="slidenum">
              <a:rPr b="0" lang="ru-RU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EB01-1419-450F-9898-C4C9A72718D1}" type="slidenum">
              <a:rPr b="0" lang="ru-RU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144C-EBDF-4A66-8880-A85E534C9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1DB9-5B33-4D89-9E46-CDF56F5E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270F-E43D-41E1-BFD9-ACF841DEF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BBAC-0A6B-47C7-B14B-3A5251751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AB70-DF3A-4DD0-9801-24D4CF211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1F74D-7DF4-4C42-888F-00A2444D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FFFB9-BDCF-4533-A098-FF126533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7BCC0-7F62-4BC3-B226-4A0D8A56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FF66-4B17-4AB1-BB4D-CFFC8BA2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9CB9-95AD-4113-97F5-1E27F85F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8113-683E-4EFA-9FF4-6D329268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4309-5577-480B-A0AC-DEBE79EE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6BF5-02CA-47E8-B27B-47078BCE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D9F5-9B88-425E-A9E8-71F1FDD8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B3EE-83AE-4487-B729-40DBB8C3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5C35-C943-44BD-8CCA-E7D3E0E1A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5189-0265-4F19-BCBE-E30ACE2DD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6AF8-71BF-491E-AA90-FC61F7F5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EA3A-3B89-4E05-B123-11622E9F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F0F6-1F5B-489C-AFB7-9A3E17C6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36BE-B1F4-4B6A-BCBE-CBAEB5E5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18FE-9435-4EF2-8542-920B9D5C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D19E-D110-4F96-B7DE-3EAA5E0D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2A87-0C94-4650-9260-85445889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0172-E878-4271-A264-DEE6A373B7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3436-DACF-4713-BCC5-CA1DA2FB5521}" type="slidenum"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32000" y="596880"/>
            <a:ext cx="7316640" cy="247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Comic Sans MS"/>
              </a:rPr>
              <a:t>    </a:t>
            </a:r>
            <a:r>
              <a:rPr b="1" lang="ru-RU" sz="4800" spc="-1" strike="noStrike">
                <a:solidFill>
                  <a:srgbClr val="000066"/>
                </a:solidFill>
                <a:latin typeface="Comic Sans MS"/>
              </a:rPr>
              <a:t>Фонематический </a:t>
            </a:r>
            <a:br>
              <a:rPr sz="4800"/>
            </a:br>
            <a:r>
              <a:rPr b="1" lang="ru-RU" sz="4800" spc="-1" strike="noStrike">
                <a:solidFill>
                  <a:srgbClr val="000066"/>
                </a:solidFill>
                <a:latin typeface="Comic Sans MS"/>
              </a:rPr>
              <a:t>       синтез слов</a:t>
            </a:r>
            <a:endParaRPr b="0" lang="en-US" sz="4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484000" y="3860280"/>
            <a:ext cx="61470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Калинина Елена Анатольевна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Учитель-логопед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МС(к)ОУ шк.-инт. № 4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г. Магнитогорск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440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Составь слово из звуков: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0" y="1916280"/>
            <a:ext cx="903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Г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Р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У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С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Т′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   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Л′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И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С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′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И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Ч′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К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А</a:t>
            </a:r>
            <a:r>
              <a:rPr b="0" lang="en-US" sz="1800" spc="-1" strike="noStrike">
                <a:solidFill>
                  <a:srgbClr val="0033cc"/>
                </a:solidFill>
                <a:latin typeface="Verdana"/>
              </a:rPr>
              <a:t>]</a:t>
            </a:r>
            <a:br>
              <a:rPr sz="1800"/>
            </a:b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П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А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Г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А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Н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К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А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 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Б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А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Р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А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В′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И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К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br>
              <a:rPr sz="1800"/>
            </a:b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А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П′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–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0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Н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А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К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   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М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У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Х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А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М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О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Р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br>
              <a:rPr sz="1800"/>
            </a:b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С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Ы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Р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А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Е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Ш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К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А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8" name="Picture 5" descr="груздь"/>
          <p:cNvPicPr/>
          <p:nvPr/>
        </p:nvPicPr>
        <p:blipFill>
          <a:blip r:embed="rId1"/>
          <a:stretch/>
        </p:blipFill>
        <p:spPr>
          <a:xfrm>
            <a:off x="3564000" y="765000"/>
            <a:ext cx="1655640" cy="1325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сыроежка"/>
          <p:cNvPicPr/>
          <p:nvPr/>
        </p:nvPicPr>
        <p:blipFill>
          <a:blip r:embed="rId2"/>
          <a:stretch/>
        </p:blipFill>
        <p:spPr>
          <a:xfrm>
            <a:off x="5219640" y="5445000"/>
            <a:ext cx="1800360" cy="13478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поганка"/>
          <p:cNvPicPr/>
          <p:nvPr/>
        </p:nvPicPr>
        <p:blipFill>
          <a:blip r:embed="rId3"/>
          <a:stretch/>
        </p:blipFill>
        <p:spPr>
          <a:xfrm>
            <a:off x="6877080" y="2327400"/>
            <a:ext cx="1871640" cy="1224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боровик"/>
          <p:cNvPicPr/>
          <p:nvPr/>
        </p:nvPicPr>
        <p:blipFill>
          <a:blip r:embed="rId4"/>
          <a:stretch/>
        </p:blipFill>
        <p:spPr>
          <a:xfrm>
            <a:off x="5003640" y="3141720"/>
            <a:ext cx="1332000" cy="1511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опенок"/>
          <p:cNvPicPr/>
          <p:nvPr/>
        </p:nvPicPr>
        <p:blipFill>
          <a:blip r:embed="rId5"/>
          <a:stretch/>
        </p:blipFill>
        <p:spPr>
          <a:xfrm>
            <a:off x="6443640" y="3789360"/>
            <a:ext cx="1104840" cy="1440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мухомор"/>
          <p:cNvPicPr/>
          <p:nvPr/>
        </p:nvPicPr>
        <p:blipFill>
          <a:blip r:embed="rId6"/>
          <a:stretch/>
        </p:blipFill>
        <p:spPr>
          <a:xfrm>
            <a:off x="7667640" y="4869000"/>
            <a:ext cx="1301760" cy="1655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лисичка"/>
          <p:cNvPicPr/>
          <p:nvPr/>
        </p:nvPicPr>
        <p:blipFill>
          <a:blip r:embed="rId7"/>
          <a:stretch/>
        </p:blipFill>
        <p:spPr>
          <a:xfrm>
            <a:off x="5364000" y="907920"/>
            <a:ext cx="14637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26028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Составь слово из звуков, данных в нарушенной последовательности: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  <a:ea typeface="Arial"/>
              </a:rPr>
              <a:t>′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  <a:ea typeface="Arial"/>
              </a:rPr>
              <a:t>′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]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Г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Д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]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Д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Д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  <a:ea typeface="Arial"/>
              </a:rPr>
              <a:t>′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Д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]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Щ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]    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Ы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7" name="Picture 4" descr="сад"/>
          <p:cNvPicPr/>
          <p:nvPr/>
        </p:nvPicPr>
        <p:blipFill>
          <a:blip r:embed="rId1"/>
          <a:stretch/>
        </p:blipFill>
        <p:spPr>
          <a:xfrm>
            <a:off x="6877080" y="2852640"/>
            <a:ext cx="1800360" cy="1352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осень"/>
          <p:cNvPicPr/>
          <p:nvPr/>
        </p:nvPicPr>
        <p:blipFill>
          <a:blip r:embed="rId2"/>
          <a:stretch/>
        </p:blipFill>
        <p:spPr>
          <a:xfrm>
            <a:off x="6877080" y="907920"/>
            <a:ext cx="1871640" cy="1409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дождь 2"/>
          <p:cNvPicPr/>
          <p:nvPr/>
        </p:nvPicPr>
        <p:blipFill>
          <a:blip r:embed="rId3"/>
          <a:stretch/>
        </p:blipFill>
        <p:spPr>
          <a:xfrm>
            <a:off x="1476360" y="2781360"/>
            <a:ext cx="1655640" cy="12477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9" descr="огород 3"/>
          <p:cNvPicPr/>
          <p:nvPr/>
        </p:nvPicPr>
        <p:blipFill>
          <a:blip r:embed="rId4"/>
          <a:stretch/>
        </p:blipFill>
        <p:spPr>
          <a:xfrm>
            <a:off x="1042920" y="907920"/>
            <a:ext cx="1656000" cy="12114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" descr="овощи 1"/>
          <p:cNvPicPr/>
          <p:nvPr/>
        </p:nvPicPr>
        <p:blipFill>
          <a:blip r:embed="rId5"/>
          <a:stretch/>
        </p:blipFill>
        <p:spPr>
          <a:xfrm>
            <a:off x="971640" y="4508640"/>
            <a:ext cx="1439640" cy="14270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1" descr="фрукты 1"/>
          <p:cNvPicPr/>
          <p:nvPr/>
        </p:nvPicPr>
        <p:blipFill>
          <a:blip r:embed="rId6"/>
          <a:stretch/>
        </p:blipFill>
        <p:spPr>
          <a:xfrm>
            <a:off x="6877080" y="4727520"/>
            <a:ext cx="178416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Угадай слово по его лексическому значению и определи количество букв и звуков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Место, где растет много деревьев и можно собирать грибы и ягоды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ЛЕС – 3 буквы, 3 звука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Пора года, когда убирают урожай картофеля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ОСЕНЬ – 5 букв, 4 звука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95" name="Picture 5" descr="лес 2"/>
          <p:cNvPicPr/>
          <p:nvPr/>
        </p:nvPicPr>
        <p:blipFill>
          <a:blip r:embed="rId1"/>
          <a:stretch/>
        </p:blipFill>
        <p:spPr>
          <a:xfrm>
            <a:off x="4859280" y="2060640"/>
            <a:ext cx="2592360" cy="1539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осень 2"/>
          <p:cNvPicPr/>
          <p:nvPr/>
        </p:nvPicPr>
        <p:blipFill>
          <a:blip r:embed="rId2"/>
          <a:stretch/>
        </p:blipFill>
        <p:spPr>
          <a:xfrm>
            <a:off x="5292720" y="4437000"/>
            <a:ext cx="15811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8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8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Явление, которое происходит с листьями осенью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ЛИСТОПАД – 8 букв, 8 звуков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Состояние животных: медведей, барсуков, сурков, похожее на длительный сон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СПЯЧКА – 6 букв, 6 звуков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Способность животных менять шерсть и окраску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ЛИНЬКА – 6 букв, 5 звуков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98" name="Picture 4" descr="листопад"/>
          <p:cNvPicPr/>
          <p:nvPr/>
        </p:nvPicPr>
        <p:blipFill>
          <a:blip r:embed="rId1"/>
          <a:stretch/>
        </p:blipFill>
        <p:spPr>
          <a:xfrm>
            <a:off x="2916360" y="907920"/>
            <a:ext cx="3600360" cy="1295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спячка 2"/>
          <p:cNvPicPr/>
          <p:nvPr/>
        </p:nvPicPr>
        <p:blipFill>
          <a:blip r:embed="rId2"/>
          <a:stretch/>
        </p:blipFill>
        <p:spPr>
          <a:xfrm>
            <a:off x="5364000" y="2997360"/>
            <a:ext cx="2016360" cy="1304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заяц с"/>
          <p:cNvPicPr/>
          <p:nvPr/>
        </p:nvPicPr>
        <p:blipFill>
          <a:blip r:embed="rId3"/>
          <a:stretch/>
        </p:blipFill>
        <p:spPr>
          <a:xfrm>
            <a:off x="1042920" y="4862520"/>
            <a:ext cx="1800360" cy="12002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заяц б"/>
          <p:cNvPicPr/>
          <p:nvPr/>
        </p:nvPicPr>
        <p:blipFill>
          <a:blip r:embed="rId4"/>
          <a:stretch/>
        </p:blipFill>
        <p:spPr>
          <a:xfrm>
            <a:off x="5292720" y="4869000"/>
            <a:ext cx="109692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8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8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8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5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8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09:12:48Z</dcterms:created>
  <dc:creator> </dc:creator>
  <dc:description/>
  <dc:language>en-US</dc:language>
  <cp:lastModifiedBy>User</cp:lastModifiedBy>
  <dcterms:modified xsi:type="dcterms:W3CDTF">2013-04-28T09:38:31Z</dcterms:modified>
  <cp:revision>19</cp:revision>
  <dc:subject/>
  <dc:title>Фонематический синтез сл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