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F7C-5FDB-48ED-AC46-CBC177BC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88D-9696-4FA6-A640-5483059C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758-BB50-4DC5-8CA9-900B097D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EE3-520B-45EC-A11E-401F37C4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F39-A643-491C-AA2A-0F34ABF3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62E6-E779-4FD2-B2F8-9274C74F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F38E-E60A-4216-96F0-90F1704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6F93-509B-46C6-B5CF-B6AFF247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735D-8BFE-49BD-B6D7-D4FDF586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8F4C-B91A-4FE2-BDEB-5A1702C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7AB-1D86-4C22-A0B1-ADE5D85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688-51DD-48D7-83C4-216C57E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B2D-7087-4EC5-8A43-1F13A77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2F3D-4592-450D-AC90-A677C21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04A4-E330-43A2-BA8A-95273ED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C531-8CCB-4289-994C-058CA724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8FD-0D7A-4848-847B-48F6EC5E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E45-D9B1-48F4-9EF5-16A9654F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F92-383B-4F8F-9277-D11D803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D56-C2AE-4D16-8C66-8609349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F80-EBA8-447C-9298-FA1D990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F51-4A6C-4788-9E5C-3BCECDD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E93-2D49-4EC3-9734-A019CC6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4E3-8D1B-47A3-979C-9B84F4C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1D69-B019-4600-864F-66B490BD3D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0F3-68BF-4020-A387-4DE132C9EA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онематические представлен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.-инт. №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7991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ерите слово, которое будет начинаться на тот же звук, что и изображение на картин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11280" y="4869000"/>
            <a:ext cx="1181160" cy="1582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77080" y="2060640"/>
            <a:ext cx="124632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16360" y="4869000"/>
            <a:ext cx="1193760" cy="158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55640" y="227664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516720" y="4581360"/>
            <a:ext cx="1800360" cy="13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635280" y="3141720"/>
            <a:ext cx="118296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68360" y="4437000"/>
            <a:ext cx="1511280" cy="143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859280" y="1628640"/>
            <a:ext cx="151308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слово, которое обозначает птицу и имеет 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95640" y="3429000"/>
            <a:ext cx="1197000" cy="1368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1231920" cy="1368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1800000" cy="1589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685880" cy="172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43640" y="450864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708360" y="5229360"/>
            <a:ext cx="1871640" cy="1388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924360" y="1268280"/>
            <a:ext cx="13269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названия фруктов, в которых 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дет пятый по сч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160344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47640" y="1359000"/>
            <a:ext cx="2087640" cy="1562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1728720" cy="1873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651640" y="1413000"/>
            <a:ext cx="2087280" cy="1569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635280" y="2924280"/>
            <a:ext cx="2016360" cy="167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588000" y="3429000"/>
            <a:ext cx="1871640" cy="835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763640" y="306864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4140360" y="1557360"/>
            <a:ext cx="99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0:42:36Z</dcterms:created>
  <dc:creator> </dc:creator>
  <dc:description/>
  <dc:language>en-US</dc:language>
  <cp:lastModifiedBy>Калинина </cp:lastModifiedBy>
  <dcterms:modified xsi:type="dcterms:W3CDTF">2008-10-26T13:48:38Z</dcterms:modified>
  <cp:revision>17</cp:revision>
  <dc:subject/>
  <dc:title>Слайд 1</dc:title>
</cp:coreProperties>
</file>