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38F-6E6F-4B53-88FE-70F35E2B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C5D-4A8E-44F8-BAFD-34950A00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EB5-D406-4328-8CBB-9678DA3E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63A-79C3-45C4-9FE8-2BB199C5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4388-E87F-49DD-804A-60F68DD4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7471-9047-4E23-8B20-0795A7D2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FB7F-7C4C-4A0E-B386-E84B03A7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065B-2997-43B6-9F7E-C4EEF08B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B159-6C0C-4DA8-AC5D-9809C431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C05D-9FA7-4923-93FC-D438FE9E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579B-69E4-4329-B283-5DC9CBA7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F81-89F6-4969-B06E-DE0F2110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C883-DA57-4AB6-AF0A-EB3728C2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C6A6-9A00-433A-8B8F-85876C88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9767-0CA8-47A0-854B-3E494701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56C6-7949-4DBF-AF75-EA871D68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D9C9-9F6B-4305-B167-DC682394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5F5-612A-4B83-B86D-433C792A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F6BA-6D89-42B6-9410-735E88B1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B2A-B899-4A36-99E0-DCDA4C4D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80E-E995-4B75-9381-F7C9E6DB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A91-A193-44D3-A027-15FC68F0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7327-BBBB-44AB-868A-196E1433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5EF-600D-4940-8B70-AD188C82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83EE-0BEC-4579-9099-0AF82BEC180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A5FA-F200-44B1-AE13-0EFACAD04B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Фонематические представлени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линина Елена Анатолье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-логопед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к.-инт. №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Магнитогорс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79912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берите слово, которое будет начинаться на тот же звук, что и изображение на картин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1800360" cy="1344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411280" y="4869000"/>
            <a:ext cx="1181160" cy="1582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77080" y="2060640"/>
            <a:ext cx="1246320" cy="1657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716360" y="4869000"/>
            <a:ext cx="1193760" cy="1584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755640" y="227664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6516720" y="4581360"/>
            <a:ext cx="1800360" cy="133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3635280" y="3141720"/>
            <a:ext cx="1182960" cy="1584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468360" y="4437000"/>
            <a:ext cx="1511280" cy="1430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4859280" y="1628640"/>
            <a:ext cx="1513080" cy="14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слово, которое обозначает птицу и имеет зву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редине сл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995640" y="3429000"/>
            <a:ext cx="1197000" cy="1368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403280" y="1989000"/>
            <a:ext cx="1231920" cy="1368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659640" y="1916280"/>
            <a:ext cx="1800000" cy="1589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900000" y="4365720"/>
            <a:ext cx="1685880" cy="1727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6443640" y="450864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3708360" y="5229360"/>
            <a:ext cx="1871640" cy="1388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3924360" y="1268280"/>
            <a:ext cx="13269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ерите названия фруктов, в которых зву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удет пятый по сче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1603440" cy="1800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547640" y="1359000"/>
            <a:ext cx="2087640" cy="1562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651640" y="4581360"/>
            <a:ext cx="1728720" cy="1873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5651640" y="1413000"/>
            <a:ext cx="2087280" cy="1569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635280" y="2924280"/>
            <a:ext cx="2016360" cy="1674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3995640" y="4869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6588000" y="3429000"/>
            <a:ext cx="1871640" cy="835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8"/>
          <a:stretch/>
        </p:blipFill>
        <p:spPr>
          <a:xfrm>
            <a:off x="1763640" y="3068640"/>
            <a:ext cx="1225800" cy="1368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9"/>
          <a:stretch/>
        </p:blipFill>
        <p:spPr>
          <a:xfrm>
            <a:off x="4140360" y="1557360"/>
            <a:ext cx="9903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0:42:36Z</dcterms:created>
  <dc:creator> </dc:creator>
  <dc:description/>
  <dc:language>en-US</dc:language>
  <cp:lastModifiedBy>Калинина </cp:lastModifiedBy>
  <dcterms:modified xsi:type="dcterms:W3CDTF">2008-10-26T13:48:38Z</dcterms:modified>
  <cp:revision>17</cp:revision>
  <dc:subject/>
  <dc:title>Слайд 1</dc:title>
</cp:coreProperties>
</file>