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6620-30A6-41F7-A9B0-91FB384E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8953-B71E-432C-8914-27DF0B55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72D5-A78B-4330-81BA-7E2DB3FE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AC5C-B0D2-4489-8AF2-18E234C0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977F-080C-491F-BD20-A3AA6E26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E79D-40B1-4AA4-8266-AE1E8C37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BEF1-CF8C-4FD8-8E7E-3393CF0C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70D5-6994-466D-AE0A-0C9FDF71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3F76-EB3D-4A11-90CD-B82F292A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EE73-9C43-4462-9747-05A4A762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C582-6211-448D-A8C2-E937B7D8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C6E-51E8-49D1-BE23-58A30964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9627-CC8D-4CD4-B319-3166EE4B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3E9A-4978-464D-8849-6A7D9CB4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F7B4-81FE-4371-BBD5-945F62C6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7096-BB7D-40FA-980B-111D4C84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1F5A-3568-430D-BC0B-7DC59CEC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E470-101A-4E87-89B9-F74B2C88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6C44-4A29-4A84-A185-61CCB9CA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3DA3-5D01-434F-B6F2-F13CB462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E651-72D6-45C3-B20E-945B2E2A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BF73-697D-4D00-8891-9DAA5E17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CBA5-D19A-48EF-966C-14D4CF71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011D-D8A2-4B93-870C-BF53FF54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9337-231C-48B3-9788-23F5CD00C61B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AB70-A422-46B2-B6D9-0B3CE4F4C1B8}" type="slidenum">
              <a:rPr b="0" lang="en-US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Comic Sans MS"/>
              </a:rPr>
              <a:t>Фонематическое восприятие</a:t>
            </a:r>
            <a:endParaRPr b="0" lang="en-US" sz="4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700000" y="3141720"/>
            <a:ext cx="598644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алинина Елена Анатольевна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Учитель-логопед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Шк.-инт. № 4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г. Магнитогорск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324000" y="404640"/>
            <a:ext cx="83073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Отгадайте загадки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Опустел колхозный сад,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Паутинки вдаль летят,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И на южный край земли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Потянулись журавли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Распахнулись двери школ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Что за месяц к нам пришел?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Все мрачней лицо природы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Почернели огороды,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Оголяются леса,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Молкнут птичьи голоса,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Мишка в спячку завалился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Что за месяц к нам явился?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5640" y="3789360"/>
            <a:ext cx="2303640" cy="1760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932360" y="1060560"/>
            <a:ext cx="2808360" cy="1768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7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оле черно-белым стало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адает то дождь, то снег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А ещё похолодало –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Льдом сковало воды рек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Мерзнет в поле озимь ржи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Что за месяц, подскажи?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Назовите осенний месяц, в названии которого есть звук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[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К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Назовите осенний месяц, в названии которого есть звук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[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С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Выделите в названии третьего месяца последний звук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Р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′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]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и звук, стоящий перед ним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Назовите все осенние месяцы по порядку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508720" y="260280"/>
            <a:ext cx="2166840" cy="2809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Определите, какой по счету звук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А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в словах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643280" y="4797360"/>
            <a:ext cx="1366920" cy="1657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443640" y="1987560"/>
            <a:ext cx="1717560" cy="12938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3780000" y="2997360"/>
            <a:ext cx="1871640" cy="12477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443640" y="4149720"/>
            <a:ext cx="1665360" cy="1252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rcRect l="0" t="0" r="0" b="22179"/>
          <a:stretch/>
        </p:blipFill>
        <p:spPr>
          <a:xfrm>
            <a:off x="1763640" y="1268280"/>
            <a:ext cx="1368360" cy="1513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2268360" y="5084640"/>
            <a:ext cx="1729080" cy="1293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3780000" y="1125360"/>
            <a:ext cx="1728720" cy="13017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8"/>
          <a:stretch/>
        </p:blipFill>
        <p:spPr>
          <a:xfrm>
            <a:off x="1547640" y="3257640"/>
            <a:ext cx="1511640" cy="1214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Назовите животных, в названии которых есть звук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[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К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916360" y="1413000"/>
            <a:ext cx="1363680" cy="1938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916360" y="4292640"/>
            <a:ext cx="1420560" cy="21128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643280" y="2421000"/>
            <a:ext cx="1584360" cy="1301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684360" y="3860640"/>
            <a:ext cx="1992240" cy="18496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6732720" y="3716280"/>
            <a:ext cx="2009520" cy="20098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6588000" y="112536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539640" y="1125360"/>
            <a:ext cx="2089440" cy="2089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4788000" y="4292640"/>
            <a:ext cx="1625400" cy="205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102960"/>
            <a:ext cx="83628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«Буквоед съел» первую букву в словах.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Восстановите слово и определите, сколько в слове букв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76720" y="1125000"/>
            <a:ext cx="2232000" cy="30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__бка                                                      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__апоги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__рюки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__апочки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__ерет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__офта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__апка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__латье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4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1403280" y="4797360"/>
            <a:ext cx="6050160" cy="1608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Что обозначают все эти слова?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Назовите одежду, обувь, головные уборы, которые носят осенью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ff"/>
                </a:solidFill>
                <a:latin typeface="Verdana"/>
              </a:rPr>
              <a:t>ю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87280" y="1773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ff"/>
                </a:solidFill>
                <a:latin typeface="Verdana"/>
              </a:rPr>
              <a:t>с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1989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ff"/>
                </a:solidFill>
                <a:latin typeface="Verdana"/>
              </a:rPr>
              <a:t>б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76360" y="2349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ff"/>
                </a:solidFill>
                <a:latin typeface="Verdana"/>
              </a:rPr>
              <a:t>т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68360" y="270828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ff"/>
                </a:solidFill>
                <a:latin typeface="Verdana"/>
              </a:rPr>
              <a:t>б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332000" y="3141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ff"/>
                </a:solidFill>
                <a:latin typeface="Verdana"/>
              </a:rPr>
              <a:t>к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24000" y="3429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ff"/>
                </a:solidFill>
                <a:latin typeface="Verdana"/>
              </a:rPr>
              <a:t>ш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58920" y="3860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ff"/>
                </a:solidFill>
                <a:latin typeface="Verdana"/>
              </a:rPr>
              <a:t>п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3.58316E-006 L 0.24428 0.01064 E">
                                      <p:cBhvr>
                                        <p:cTn id="345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85774E-007 L 0.28872 -0.03956 E">
                                      <p:cBhvr>
                                        <p:cTn id="353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96715E-006 L 0.16545 -0.02081 E">
                                      <p:cBhvr>
                                        <p:cTn id="361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0.01295 L 0.25 -0.01851 E">
                                      <p:cBhvr>
                                        <p:cTn id="369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5.28799E-006 L 0.18108 -0.02106 E">
                                      <p:cBhvr>
                                        <p:cTn id="377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0254 L 0.27969 -0.02892 E">
                                      <p:cBhvr>
                                        <p:cTn id="385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7601E-006 L 0.18507 -0.01851 E">
                                      <p:cBhvr>
                                        <p:cTn id="393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60699E-006 L 0.28698 -0.02892 E">
                                      <p:cBhvr>
                                        <p:cTn id="401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0:08:50Z</dcterms:created>
  <dc:creator> </dc:creator>
  <dc:description/>
  <dc:language>en-US</dc:language>
  <cp:lastModifiedBy>Калинина </cp:lastModifiedBy>
  <dcterms:modified xsi:type="dcterms:W3CDTF">2008-10-26T13:48:20Z</dcterms:modified>
  <cp:revision>17</cp:revision>
  <dc:subject/>
  <dc:title>Фонематическое восприятие</dc:title>
</cp:coreProperties>
</file>