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E50-DD89-48C9-87F6-0906D67E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913-6009-4B7C-B897-0D3DE751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3C2-A4C3-4029-8B39-7CB9B023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301-2E49-498F-A030-01963514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BE8-2C45-4B5D-B739-F4B520C2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2AE7-64A0-41B8-B230-CF23A9F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753-55CB-443C-98F0-0DB0ED1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D83E-C8B6-44B7-B31E-73BCA42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52E-18F1-4299-BF05-A2B0B4E4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0BA-23C7-486D-99D4-1BC641B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362-640F-4912-8448-57607CA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B36-263C-4F31-8EAE-540B620A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494-8BFD-4D89-AE7E-C206ABE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7F3-16A5-4ABB-865D-A0947C9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1966-7F8A-47AF-9017-80E3F54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6B1-84F3-41F9-ADC2-D8DB8AE6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067-D643-4092-A73F-CC727C5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F63-BAE2-4275-9E2B-0455FB3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624-A2F2-493B-9D5B-44DB592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F90-540C-4741-8BE0-8F1E9BD1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778-EB45-4400-862C-393F8C3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851-50B1-4EEC-B844-47235C3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B7A-DCAD-4BE6-9439-752E617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E09-2003-4B70-B473-803CD02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1CF7-C97C-4A91-8913-7B890CF54C40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AF44-A057-4641-895F-C761F3CACFEC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Фонематическое восприятие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0" y="3141720"/>
            <a:ext cx="5986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к.-инт. № 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Магнитогорск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24000" y="404640"/>
            <a:ext cx="8307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Отгадайте загадки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пустел колхозный сад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аутинки вдаль летят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И на южный край земли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тянулись журавли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аспахнулись двери школ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Что за месяц к нам пришел?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Все мрачней лицо природы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чернели огороды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голяются леса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Молкнут птичьи голоса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Мишка в спячку завалился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Что за месяц к нам явился?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303640" cy="1760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1060560"/>
            <a:ext cx="2808360" cy="176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ле черно-белым стало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адает то дождь, то снег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 ещё похолодало –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ьдом сковало воды рек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рзнет в поле озимь рж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то за месяц, подскажи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осенний месяц, в названии которого есть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осенний месяц, в названии которого есть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делите в названии третьего месяца последний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Р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и звук, стоящий перед ни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все осенние месяцы по поряд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2166840" cy="280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ределите, какой по счету зву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в словах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3280" y="4797360"/>
            <a:ext cx="1366920" cy="165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43640" y="1987560"/>
            <a:ext cx="1717560" cy="1293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443640" y="4149720"/>
            <a:ext cx="1665360" cy="1252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0" t="0" r="0" b="22179"/>
          <a:stretch/>
        </p:blipFill>
        <p:spPr>
          <a:xfrm>
            <a:off x="1763640" y="126828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268360" y="5084640"/>
            <a:ext cx="1729080" cy="129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3780000" y="1125360"/>
            <a:ext cx="1728720" cy="1301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1547640" y="3257640"/>
            <a:ext cx="1511640" cy="121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зовите животных, в названии которых есть зву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1363680" cy="1938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16360" y="4292640"/>
            <a:ext cx="1420560" cy="211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1584360" cy="130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1992240" cy="1849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732720" y="37162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588000" y="1125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39640" y="112536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16254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02960"/>
            <a:ext cx="8362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«Буквоед съел» первую букву в словах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осстановите слово и определите, сколько в слове бук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76720" y="1125000"/>
            <a:ext cx="2232000" cy="30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бка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ог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рю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оч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ер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офт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к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лать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4797360"/>
            <a:ext cx="6050160" cy="160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Что обозначают все эти слова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Назовите одежду, обувь, головные уборы, которые носят осенью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Verdana"/>
              </a:rPr>
              <a:t>ю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7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198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6360" y="2349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2708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31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ш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58316E-006 L 0.24428 0.01064 E">
                                      <p:cBhvr>
                                        <p:cTn id="34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5774E-007 L 0.28872 -0.03956 E">
                                      <p:cBhvr>
                                        <p:cTn id="35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6715E-006 L 0.16545 -0.02081 E">
                                      <p:cBhvr>
                                        <p:cTn id="36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1295 L 0.25 -0.01851 E">
                                      <p:cBhvr>
                                        <p:cTn id="3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28799E-006 L 0.18108 -0.02106 E">
                                      <p:cBhvr>
                                        <p:cTn id="377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254 L 0.27969 -0.02892 E">
                                      <p:cBhvr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7601E-006 L 0.18507 -0.01851 E">
                                      <p:cBhvr>
                                        <p:cTn id="3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0699E-006 L 0.28698 -0.02892 E">
                                      <p:cBhvr>
                                        <p:cTn id="401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0:08:50Z</dcterms:created>
  <dc:creator> </dc:creator>
  <dc:description/>
  <dc:language>en-US</dc:language>
  <cp:lastModifiedBy>Калинина </cp:lastModifiedBy>
  <dcterms:modified xsi:type="dcterms:W3CDTF">2008-10-26T13:48:20Z</dcterms:modified>
  <cp:revision>17</cp:revision>
  <dc:subject/>
  <dc:title>Фонематическое восприятие</dc:title>
</cp:coreProperties>
</file>