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3C7-D8E4-476B-805D-604D5BBB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498-DEC3-4688-98ED-FB40106F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AF7A-9FD9-4F46-AD07-2FCB238E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405-B036-4088-83A4-EDFD045E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D9B9-061C-4A1A-8C5E-496E92DF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8981-F2EF-436B-9FC3-71AA31AF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57E3-DED5-4AEA-BFEB-573B299A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BE8A-B724-4B4B-9A27-EEECF211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22E0-AA41-4B7D-BA4B-D763C477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1AFE-A177-4AEC-9200-1B4CADBF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0AE6-3117-4A7C-B4C7-81D37DA4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63F6-D129-4203-89E7-CED28A8D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5ED1-424A-44A4-B074-50C7EB3B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899D-3301-4DB1-B65D-A5827AD4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89A9-81E2-4AB7-837C-0098CFEC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A7DE-D447-4982-B485-03FC44E8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B59B-BCBE-4587-B062-A7B0A35F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1FC-2C67-4D96-8FF6-FDFF1060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1627-B764-4E7F-9957-2C42DC36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7BF-5439-4045-A74A-82A3274A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AFB-D16E-4EB6-AC5D-2F3064DF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2AA-E19C-4580-AAA7-AA96E553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A00-4095-487F-8DDB-D8EBD57B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188-8AE5-4847-B6AE-8332444D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F182-4655-4DDA-A695-46688372B32B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24DC-6417-4597-9C60-77BF07704A3C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6400800" cy="1766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6699"/>
                </a:solidFill>
                <a:latin typeface="Comic Sans MS"/>
              </a:rPr>
              <a:t>Сыйфат</a:t>
            </a:r>
            <a:endParaRPr b="0" lang="en-US" sz="8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6  кл.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451640" y="602136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20218" y="10800"/>
                </a:lnTo>
                <a:lnTo>
                  <a:pt x="62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C349-70C9-40DA-8F27-A62EAFE596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1890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33cccc"/>
                </a:solidFill>
                <a:latin typeface="Times New Roman"/>
              </a:rPr>
              <a:t>9. Аерып бирелгән сүз нинди җөмлә кисәге булып килә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32000" y="2421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Максат хәл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421000"/>
            <a:ext cx="158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76360" y="3284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үләм хәл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03280" y="41497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Сәбәп хәл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59500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837"/>
                </a:moveTo>
                <a:lnTo>
                  <a:pt x="13382" y="6448"/>
                </a:ln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5" y="10800"/>
                </a:lnTo>
                <a:lnTo>
                  <a:pt x="16115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1" h="21600">
                <a:moveTo>
                  <a:pt x="13382" y="6448"/>
                </a:move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1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5" y="17989"/>
                </a:lnTo>
                <a:lnTo>
                  <a:pt x="16115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19280" y="4941720"/>
            <a:ext cx="36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400" spc="-1" strike="noStrike">
                <a:solidFill>
                  <a:srgbClr val="ffffff"/>
                </a:solidFill>
                <a:latin typeface="Times New Roman"/>
              </a:rPr>
              <a:t>Шарт хәле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119700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айтым җитсәм, бер </a:t>
            </a:r>
            <a:r>
              <a:rPr b="0" lang="tt-RU" sz="3200" spc="-1" strike="noStrike">
                <a:solidFill>
                  <a:srgbClr val="cc00cc"/>
                </a:solidFill>
                <a:latin typeface="Times New Roman"/>
              </a:rPr>
              <a:t>туйганчы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елыйм сиңа ятып, яшел чирәмем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B78-BA34-4283-8E2E-844536F5E8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33cccc"/>
                </a:solidFill>
                <a:latin typeface="Times New Roman"/>
              </a:rPr>
              <a:t>10.</a:t>
            </a:r>
            <a:r>
              <a:rPr b="0" lang="tt-RU" sz="2400" spc="-1" strike="noStrike">
                <a:solidFill>
                  <a:srgbClr val="ffffff"/>
                </a:solidFill>
                <a:latin typeface="Times New Roman"/>
              </a:rPr>
              <a:t> Җөмләдәге кайсы сүз вакыт хәле ролендә килгән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2565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ояш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2421000"/>
            <a:ext cx="158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47640" y="3860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үптә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92720" y="2637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иткә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40000" y="59500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837"/>
                </a:moveTo>
                <a:lnTo>
                  <a:pt x="13382" y="6448"/>
                </a:ln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5" y="10800"/>
                </a:lnTo>
                <a:lnTo>
                  <a:pt x="16115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1" h="21600">
                <a:moveTo>
                  <a:pt x="13382" y="6448"/>
                </a:move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1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5" y="17989"/>
                </a:lnTo>
                <a:lnTo>
                  <a:pt x="16115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08720" y="3716280"/>
            <a:ext cx="19429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400" spc="-1" strike="noStrike">
                <a:solidFill>
                  <a:srgbClr val="ffffff"/>
                </a:solidFill>
                <a:latin typeface="Times New Roman"/>
              </a:rPr>
              <a:t>эңгер-меңгер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1197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Күптән кояш баеган, эгер-меңгер чак узып киткән. (Р.Фәх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5F4-62CD-4DC9-B8A5-A85953D921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76520" y="11430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ffffff"/>
                </a:solidFill>
                <a:latin typeface="Times New Roman"/>
              </a:rPr>
              <a:t>Дөрес җаваплар саны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endshow"/>
          </p:cNvPr>
          <p:cNvSpPr/>
          <p:nvPr/>
        </p:nvSpPr>
        <p:spPr>
          <a:xfrm>
            <a:off x="457200" y="41911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7467480" y="41911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нача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987-3C60-491B-A8B8-52A2EDDAF9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53352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ff"/>
                </a:solidFill>
                <a:latin typeface="Times New Roman"/>
              </a:rPr>
              <a:t>1.  Хәл җөмләнең нинди кисәге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220500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2349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баш кисәг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350028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иярчен кисәк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4508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җавап ю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61F-53C1-4440-9FD3-DCDE99AA93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5335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Times New Roman"/>
              </a:rPr>
              <a:t>2.Хәлнең ничә төре бар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19280" y="2205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7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27280" y="2421000"/>
            <a:ext cx="158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284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8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42926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59500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837"/>
                </a:moveTo>
                <a:lnTo>
                  <a:pt x="13382" y="6448"/>
                </a:ln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5" y="10800"/>
                </a:lnTo>
                <a:lnTo>
                  <a:pt x="16115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1" h="21600">
                <a:moveTo>
                  <a:pt x="13382" y="6448"/>
                </a:move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1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5" y="17989"/>
                </a:lnTo>
                <a:lnTo>
                  <a:pt x="16115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173-F5C0-495C-B7D9-3F6013237D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26028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33cccc"/>
                </a:solidFill>
                <a:latin typeface="Times New Roman"/>
              </a:rPr>
              <a:t>3. Хәлнең дөрес билгеләмәсен күрсәтегез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2133720"/>
            <a:ext cx="67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Җөмләнең фигыл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ь</a:t>
            </a: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 белән белдерелгән кисәген ачыклап, кемгә? Нәрсәгә? Кемнән? Нәрсәдән? Кемдә? Нәрсәдә? Кем белән? Нәрсә белән? Кем тарафыннан? Нәрсә тарафыннан? кебек сорауларга җавап булып килгән иярчен кисә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3860640"/>
            <a:ext cx="66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Җөмләдә эш яки хәлнең кайда, ничек, кайчан, ни сәбәпле, нинди шартларда, нинди максат белән үтәлүен яки үтәлмәвен белдерә торган иярчен кисә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2627280" y="595008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13212" y="3837"/>
                </a:moveTo>
                <a:lnTo>
                  <a:pt x="15788" y="6448"/>
                </a:lnTo>
                <a:lnTo>
                  <a:pt x="15788" y="4707"/>
                </a:lnTo>
                <a:lnTo>
                  <a:pt x="17564" y="4707"/>
                </a:lnTo>
                <a:lnTo>
                  <a:pt x="17564" y="8224"/>
                </a:lnTo>
                <a:lnTo>
                  <a:pt x="20175" y="10800"/>
                </a:lnTo>
                <a:lnTo>
                  <a:pt x="18521" y="10800"/>
                </a:lnTo>
                <a:lnTo>
                  <a:pt x="18521" y="17989"/>
                </a:lnTo>
                <a:lnTo>
                  <a:pt x="7903" y="17989"/>
                </a:lnTo>
                <a:lnTo>
                  <a:pt x="7903" y="10800"/>
                </a:lnTo>
                <a:lnTo>
                  <a:pt x="6249" y="10800"/>
                </a:lnTo>
                <a:close/>
              </a:path>
              <a:path fill="darkenLess" w="26424" h="21600">
                <a:moveTo>
                  <a:pt x="15788" y="6448"/>
                </a:moveTo>
                <a:lnTo>
                  <a:pt x="15788" y="4707"/>
                </a:lnTo>
                <a:lnTo>
                  <a:pt x="17564" y="4707"/>
                </a:lnTo>
                <a:lnTo>
                  <a:pt x="17564" y="8224"/>
                </a:lnTo>
                <a:close/>
              </a:path>
              <a:path fill="darkenLess" w="26424" h="21600">
                <a:moveTo>
                  <a:pt x="12289" y="14299"/>
                </a:moveTo>
                <a:lnTo>
                  <a:pt x="14135" y="14299"/>
                </a:lnTo>
                <a:lnTo>
                  <a:pt x="14135" y="17989"/>
                </a:lnTo>
                <a:lnTo>
                  <a:pt x="18521" y="17989"/>
                </a:lnTo>
                <a:lnTo>
                  <a:pt x="18521" y="10800"/>
                </a:lnTo>
                <a:lnTo>
                  <a:pt x="7903" y="10800"/>
                </a:lnTo>
                <a:lnTo>
                  <a:pt x="7903" y="17989"/>
                </a:lnTo>
                <a:lnTo>
                  <a:pt x="1228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24C-F18C-43CF-B66B-81B078542D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5335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33cccc"/>
                </a:solidFill>
                <a:latin typeface="Times New Roman"/>
              </a:rPr>
              <a:t>4 Дөрес ..... күрсәт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2205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Хәл дулкынлы сызык белән билгелән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92360" y="3284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Хәл өзек-өзек сызык белән билгелән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4292640"/>
            <a:ext cx="63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Хәл сызык нокта сызык белән билгелән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234000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837"/>
                </a:moveTo>
                <a:lnTo>
                  <a:pt x="14711" y="6448"/>
                </a:ln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lnTo>
                  <a:pt x="19098" y="10800"/>
                </a:lnTo>
                <a:lnTo>
                  <a:pt x="17444" y="10800"/>
                </a:lnTo>
                <a:lnTo>
                  <a:pt x="17444" y="17989"/>
                </a:lnTo>
                <a:lnTo>
                  <a:pt x="6826" y="17989"/>
                </a:lnTo>
                <a:lnTo>
                  <a:pt x="6826" y="10800"/>
                </a:lnTo>
                <a:lnTo>
                  <a:pt x="5172" y="10800"/>
                </a:lnTo>
                <a:close/>
              </a:path>
              <a:path fill="darkenLess" w="24270" h="21600">
                <a:moveTo>
                  <a:pt x="14711" y="6448"/>
                </a:move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close/>
              </a:path>
              <a:path fill="darkenLess" w="24270" h="21600">
                <a:moveTo>
                  <a:pt x="11212" y="14299"/>
                </a:moveTo>
                <a:lnTo>
                  <a:pt x="13057" y="14299"/>
                </a:lnTo>
                <a:lnTo>
                  <a:pt x="13057" y="17989"/>
                </a:lnTo>
                <a:lnTo>
                  <a:pt x="17444" y="17989"/>
                </a:lnTo>
                <a:lnTo>
                  <a:pt x="17444" y="10800"/>
                </a:lnTo>
                <a:lnTo>
                  <a:pt x="6826" y="10800"/>
                </a:lnTo>
                <a:lnTo>
                  <a:pt x="6826" y="17989"/>
                </a:lnTo>
                <a:lnTo>
                  <a:pt x="11212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A50C-B43A-4A04-B95E-B277ECB6A1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24000" y="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cccc"/>
                </a:solidFill>
                <a:latin typeface="Times New Roman"/>
              </a:rPr>
              <a:t>5. Аерып бирелгән сүз нинди җөмлә кисәге булып кил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29973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рәвеш хәл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27280" y="2421000"/>
            <a:ext cx="158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47640" y="3789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ире хәл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458136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шарт хәл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59500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10805" y="3837"/>
                </a:moveTo>
                <a:lnTo>
                  <a:pt x="13382" y="6448"/>
                </a:ln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5" y="10800"/>
                </a:lnTo>
                <a:lnTo>
                  <a:pt x="16115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1" h="21600">
                <a:moveTo>
                  <a:pt x="13382" y="6448"/>
                </a:moveTo>
                <a:lnTo>
                  <a:pt x="13382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1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5" y="17989"/>
                </a:lnTo>
                <a:lnTo>
                  <a:pt x="16115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1197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Бу дөн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ь</a:t>
            </a: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яда </a:t>
            </a:r>
            <a:r>
              <a:rPr b="0" lang="tt-RU" sz="3600" spc="-1" strike="noStrike">
                <a:solidFill>
                  <a:srgbClr val="cc00cc"/>
                </a:solidFill>
                <a:latin typeface="Times New Roman"/>
              </a:rPr>
              <a:t>яшәсәм дә</a:t>
            </a: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, бер хикмәтнең серенә төшенә алмый интекте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7FF-CF62-46D5-BB83-717957AABF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260280"/>
            <a:ext cx="770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33cccc"/>
                </a:solidFill>
                <a:latin typeface="Times New Roman"/>
              </a:rPr>
              <a:t>6. Аерып бирелгән сүз нинди җөмлә кисәге булып кил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3860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Рәвеш хәл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2627280" y="595008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13212" y="3837"/>
                </a:moveTo>
                <a:lnTo>
                  <a:pt x="15788" y="6448"/>
                </a:lnTo>
                <a:lnTo>
                  <a:pt x="15788" y="4707"/>
                </a:lnTo>
                <a:lnTo>
                  <a:pt x="17564" y="4707"/>
                </a:lnTo>
                <a:lnTo>
                  <a:pt x="17564" y="8224"/>
                </a:lnTo>
                <a:lnTo>
                  <a:pt x="20175" y="10800"/>
                </a:lnTo>
                <a:lnTo>
                  <a:pt x="18521" y="10800"/>
                </a:lnTo>
                <a:lnTo>
                  <a:pt x="18521" y="17989"/>
                </a:lnTo>
                <a:lnTo>
                  <a:pt x="7903" y="17989"/>
                </a:lnTo>
                <a:lnTo>
                  <a:pt x="7903" y="10800"/>
                </a:lnTo>
                <a:lnTo>
                  <a:pt x="6249" y="10800"/>
                </a:lnTo>
                <a:close/>
              </a:path>
              <a:path fill="darkenLess" w="26424" h="21600">
                <a:moveTo>
                  <a:pt x="15788" y="6448"/>
                </a:moveTo>
                <a:lnTo>
                  <a:pt x="15788" y="4707"/>
                </a:lnTo>
                <a:lnTo>
                  <a:pt x="17564" y="4707"/>
                </a:lnTo>
                <a:lnTo>
                  <a:pt x="17564" y="8224"/>
                </a:lnTo>
                <a:close/>
              </a:path>
              <a:path fill="darkenLess" w="26424" h="21600">
                <a:moveTo>
                  <a:pt x="12289" y="14299"/>
                </a:moveTo>
                <a:lnTo>
                  <a:pt x="14135" y="14299"/>
                </a:lnTo>
                <a:lnTo>
                  <a:pt x="14135" y="17989"/>
                </a:lnTo>
                <a:lnTo>
                  <a:pt x="18521" y="17989"/>
                </a:lnTo>
                <a:lnTo>
                  <a:pt x="18521" y="10800"/>
                </a:lnTo>
                <a:lnTo>
                  <a:pt x="7903" y="10800"/>
                </a:lnTo>
                <a:lnTo>
                  <a:pt x="7903" y="17989"/>
                </a:lnTo>
                <a:lnTo>
                  <a:pt x="1228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03280" y="285264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Максат хәл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134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cc00cc"/>
                </a:solidFill>
                <a:latin typeface="Times New Roman"/>
              </a:rPr>
              <a:t>Сезнең кебек</a:t>
            </a: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 матур ярлар авылда ла түгел, илдә юк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AFB-5F5C-402A-9092-5EC3098839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4360" y="26028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33cccc"/>
                </a:solidFill>
                <a:latin typeface="Times New Roman"/>
              </a:rPr>
              <a:t>7. Аерып бирелгән сүз нинди җөмлә кисәге булып килә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2565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Максат хәл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371628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Сәбәп хәле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63640" y="465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Урын хәл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234000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837"/>
                </a:moveTo>
                <a:lnTo>
                  <a:pt x="14711" y="6448"/>
                </a:ln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lnTo>
                  <a:pt x="19098" y="10800"/>
                </a:lnTo>
                <a:lnTo>
                  <a:pt x="17444" y="10800"/>
                </a:lnTo>
                <a:lnTo>
                  <a:pt x="17444" y="17989"/>
                </a:lnTo>
                <a:lnTo>
                  <a:pt x="6826" y="17989"/>
                </a:lnTo>
                <a:lnTo>
                  <a:pt x="6826" y="10800"/>
                </a:lnTo>
                <a:lnTo>
                  <a:pt x="5172" y="10800"/>
                </a:lnTo>
                <a:close/>
              </a:path>
              <a:path fill="darkenLess" w="24270" h="21600">
                <a:moveTo>
                  <a:pt x="14711" y="6448"/>
                </a:moveTo>
                <a:lnTo>
                  <a:pt x="14711" y="4707"/>
                </a:lnTo>
                <a:lnTo>
                  <a:pt x="16487" y="4707"/>
                </a:lnTo>
                <a:lnTo>
                  <a:pt x="16487" y="8224"/>
                </a:lnTo>
                <a:close/>
              </a:path>
              <a:path fill="darkenLess" w="24270" h="21600">
                <a:moveTo>
                  <a:pt x="11212" y="14299"/>
                </a:moveTo>
                <a:lnTo>
                  <a:pt x="13057" y="14299"/>
                </a:lnTo>
                <a:lnTo>
                  <a:pt x="13057" y="17989"/>
                </a:lnTo>
                <a:lnTo>
                  <a:pt x="17444" y="17989"/>
                </a:lnTo>
                <a:lnTo>
                  <a:pt x="17444" y="10800"/>
                </a:lnTo>
                <a:lnTo>
                  <a:pt x="6826" y="10800"/>
                </a:lnTo>
                <a:lnTo>
                  <a:pt x="6826" y="17989"/>
                </a:lnTo>
                <a:lnTo>
                  <a:pt x="11212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4360" y="14842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Яман </a:t>
            </a:r>
            <a:r>
              <a:rPr b="0" lang="tt-RU" sz="3600" spc="-1" strike="noStrike">
                <a:solidFill>
                  <a:srgbClr val="cc00cc"/>
                </a:solidFill>
                <a:latin typeface="Times New Roman"/>
              </a:rPr>
              <a:t>эшкә</a:t>
            </a: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 килер, ялкау </a:t>
            </a:r>
            <a:r>
              <a:rPr b="0" lang="tt-RU" sz="3600" spc="-1" strike="noStrike">
                <a:solidFill>
                  <a:srgbClr val="cc00cc"/>
                </a:solidFill>
                <a:latin typeface="Times New Roman"/>
              </a:rPr>
              <a:t>ашка</a:t>
            </a: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 килер.(мәка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ь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22A-2D2D-4ECF-AC35-59FE7259AF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189000"/>
            <a:ext cx="79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33cccc"/>
                </a:solidFill>
                <a:latin typeface="Times New Roman"/>
              </a:rPr>
              <a:t>8. Нинди хәлләр булмый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2421000"/>
            <a:ext cx="158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3280" y="27813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авыр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03280" y="407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урын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2852640"/>
            <a:ext cx="216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2852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Times New Roman"/>
              </a:rPr>
              <a:t>вакыт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4076640"/>
            <a:ext cx="244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400" spc="-1" strike="noStrike">
                <a:solidFill>
                  <a:srgbClr val="ffffff"/>
                </a:solidFill>
                <a:latin typeface="Times New Roman"/>
              </a:rPr>
              <a:t>сәбәп;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5013360"/>
            <a:ext cx="208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400" spc="-1" strike="noStrike">
                <a:solidFill>
                  <a:srgbClr val="ffffff"/>
                </a:solidFill>
                <a:latin typeface="Times New Roman"/>
              </a:rPr>
              <a:t>максат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9834-0E07-4CD3-93C4-B73EEF4BE4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1:12:03Z</dcterms:created>
  <dc:creator>Андрей</dc:creator>
  <dc:description/>
  <dc:language>en-US</dc:language>
  <cp:lastModifiedBy>Я</cp:lastModifiedBy>
  <dcterms:modified xsi:type="dcterms:W3CDTF">2005-01-01T04:19:30Z</dcterms:modified>
  <cp:revision>12</cp:revision>
  <dc:subject/>
  <dc:title>Заголовок</dc:title>
</cp:coreProperties>
</file>