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4AF8-C4B3-493E-8A70-C2062A0C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6292-915F-48AA-B4BF-D5527833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1299-052E-4BE9-9A7E-07EFF51C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A4D-5A37-4D24-8280-862B2244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F748-E028-4850-BCD0-6CDE0A2A0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9FD4-FCC9-4CC8-B6F7-8659ED36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A7B3-8AD9-49AC-9F4E-1C6C6418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77B4-4679-44BB-8AF5-31B9F32B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0CEF-E4F8-45CD-825C-865AA4C5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F186-9388-4B64-BB27-AACF9B66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E09F-16C4-43C5-A849-449DDF40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C666-1047-462C-9B69-DB3D3371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BDF3-1AAB-422B-86D3-EBBBBE29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A694-BA78-4E20-A555-6DD48373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A52A-F035-43AA-B561-A6BB2D6C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5540-09D3-4507-AEE1-94E12DCF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184A-91CA-4A5E-806B-60301D40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2A4F-6375-4E55-9BBC-969BC688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06EB-6E22-4F16-B039-F287DCDB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EDD0-A629-4D64-AE14-D09E7828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7AE2-4BA5-44D3-B2FB-AE89F90E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02CC-21E1-4732-B97E-27CA345A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A4F0-6A72-4D4E-815F-B6A1FCEF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C693-7FE9-4CE0-9518-E11730D5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BF7B-BFA4-413A-976C-DCC805A8831E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5302-872E-4630-B243-98BF7D198E1C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752480"/>
            <a:ext cx="6400800" cy="1766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6699"/>
                </a:solidFill>
                <a:latin typeface="Comic Sans MS"/>
              </a:rPr>
              <a:t>Сыйфат</a:t>
            </a:r>
            <a:endParaRPr b="0" lang="en-US" sz="88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6  кл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7451640" y="602136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6" y="3794"/>
                </a:moveTo>
                <a:lnTo>
                  <a:pt x="20218" y="10800"/>
                </a:lnTo>
                <a:lnTo>
                  <a:pt x="62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E066-BBE7-4DB5-B50D-5AA6819377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11280" y="1890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33cccc"/>
                </a:solidFill>
                <a:latin typeface="Times New Roman"/>
              </a:rPr>
              <a:t>9. Аерып бирелгән сүз нинди җөмлә кисәге булып килә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32000" y="2421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Максат хәл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2421000"/>
            <a:ext cx="158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76360" y="328464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Күләм хәл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03280" y="41497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Сәбәп хәл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40000" y="595008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10805" y="3837"/>
                </a:moveTo>
                <a:lnTo>
                  <a:pt x="13382" y="6448"/>
                </a:lnTo>
                <a:lnTo>
                  <a:pt x="13382" y="4707"/>
                </a:lnTo>
                <a:lnTo>
                  <a:pt x="15157" y="4707"/>
                </a:lnTo>
                <a:lnTo>
                  <a:pt x="15157" y="8224"/>
                </a:lnTo>
                <a:lnTo>
                  <a:pt x="17768" y="10800"/>
                </a:lnTo>
                <a:lnTo>
                  <a:pt x="16115" y="10800"/>
                </a:lnTo>
                <a:lnTo>
                  <a:pt x="16115" y="17989"/>
                </a:lnTo>
                <a:lnTo>
                  <a:pt x="5496" y="17989"/>
                </a:lnTo>
                <a:lnTo>
                  <a:pt x="5496" y="10800"/>
                </a:lnTo>
                <a:lnTo>
                  <a:pt x="3842" y="10800"/>
                </a:lnTo>
                <a:close/>
              </a:path>
              <a:path fill="darkenLess" w="21611" h="21600">
                <a:moveTo>
                  <a:pt x="13382" y="6448"/>
                </a:moveTo>
                <a:lnTo>
                  <a:pt x="13382" y="4707"/>
                </a:lnTo>
                <a:lnTo>
                  <a:pt x="15157" y="4707"/>
                </a:lnTo>
                <a:lnTo>
                  <a:pt x="15157" y="8224"/>
                </a:lnTo>
                <a:close/>
              </a:path>
              <a:path fill="darkenLess" w="21611" h="21600">
                <a:moveTo>
                  <a:pt x="9883" y="14299"/>
                </a:moveTo>
                <a:lnTo>
                  <a:pt x="11728" y="14299"/>
                </a:lnTo>
                <a:lnTo>
                  <a:pt x="11728" y="17989"/>
                </a:lnTo>
                <a:lnTo>
                  <a:pt x="16115" y="17989"/>
                </a:lnTo>
                <a:lnTo>
                  <a:pt x="16115" y="10800"/>
                </a:lnTo>
                <a:lnTo>
                  <a:pt x="5496" y="10800"/>
                </a:lnTo>
                <a:lnTo>
                  <a:pt x="5496" y="17989"/>
                </a:lnTo>
                <a:lnTo>
                  <a:pt x="9883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19280" y="4941720"/>
            <a:ext cx="367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400" spc="-1" strike="noStrike">
                <a:solidFill>
                  <a:srgbClr val="ffffff"/>
                </a:solidFill>
                <a:latin typeface="Times New Roman"/>
              </a:rPr>
              <a:t>Шарт хәле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26920" y="119700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Кайтым җитсәм, бер </a:t>
            </a:r>
            <a:r>
              <a:rPr b="0" lang="tt-RU" sz="3200" spc="-1" strike="noStrike">
                <a:solidFill>
                  <a:srgbClr val="cc00cc"/>
                </a:solidFill>
                <a:latin typeface="Times New Roman"/>
              </a:rPr>
              <a:t>туйганчы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елыйм сиңа ятып, яшел чирәмем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AFF6-207C-4B62-9B81-78F10D0DAE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33cccc"/>
                </a:solidFill>
                <a:latin typeface="Times New Roman"/>
              </a:rPr>
              <a:t>10.</a:t>
            </a:r>
            <a:r>
              <a:rPr b="0" lang="tt-RU" sz="2400" spc="-1" strike="noStrike">
                <a:solidFill>
                  <a:srgbClr val="ffffff"/>
                </a:solidFill>
                <a:latin typeface="Times New Roman"/>
              </a:rPr>
              <a:t> Җөмләдәге кайсы сүз вакыт хәле ролендә килгән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19280" y="256536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кояш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2421000"/>
            <a:ext cx="158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47640" y="386064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күптән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92720" y="263700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киткә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40000" y="595008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10805" y="3837"/>
                </a:moveTo>
                <a:lnTo>
                  <a:pt x="13382" y="6448"/>
                </a:lnTo>
                <a:lnTo>
                  <a:pt x="13382" y="4707"/>
                </a:lnTo>
                <a:lnTo>
                  <a:pt x="15157" y="4707"/>
                </a:lnTo>
                <a:lnTo>
                  <a:pt x="15157" y="8224"/>
                </a:lnTo>
                <a:lnTo>
                  <a:pt x="17768" y="10800"/>
                </a:lnTo>
                <a:lnTo>
                  <a:pt x="16115" y="10800"/>
                </a:lnTo>
                <a:lnTo>
                  <a:pt x="16115" y="17989"/>
                </a:lnTo>
                <a:lnTo>
                  <a:pt x="5496" y="17989"/>
                </a:lnTo>
                <a:lnTo>
                  <a:pt x="5496" y="10800"/>
                </a:lnTo>
                <a:lnTo>
                  <a:pt x="3842" y="10800"/>
                </a:lnTo>
                <a:close/>
              </a:path>
              <a:path fill="darkenLess" w="21611" h="21600">
                <a:moveTo>
                  <a:pt x="13382" y="6448"/>
                </a:moveTo>
                <a:lnTo>
                  <a:pt x="13382" y="4707"/>
                </a:lnTo>
                <a:lnTo>
                  <a:pt x="15157" y="4707"/>
                </a:lnTo>
                <a:lnTo>
                  <a:pt x="15157" y="8224"/>
                </a:lnTo>
                <a:close/>
              </a:path>
              <a:path fill="darkenLess" w="21611" h="21600">
                <a:moveTo>
                  <a:pt x="9883" y="14299"/>
                </a:moveTo>
                <a:lnTo>
                  <a:pt x="11728" y="14299"/>
                </a:lnTo>
                <a:lnTo>
                  <a:pt x="11728" y="17989"/>
                </a:lnTo>
                <a:lnTo>
                  <a:pt x="16115" y="17989"/>
                </a:lnTo>
                <a:lnTo>
                  <a:pt x="16115" y="10800"/>
                </a:lnTo>
                <a:lnTo>
                  <a:pt x="5496" y="10800"/>
                </a:lnTo>
                <a:lnTo>
                  <a:pt x="5496" y="17989"/>
                </a:lnTo>
                <a:lnTo>
                  <a:pt x="9883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08720" y="3716280"/>
            <a:ext cx="19429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400" spc="-1" strike="noStrike">
                <a:solidFill>
                  <a:srgbClr val="ffffff"/>
                </a:solidFill>
                <a:latin typeface="Times New Roman"/>
              </a:rPr>
              <a:t>эңгер-меңгер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1280" y="1197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Times New Roman"/>
              </a:rPr>
              <a:t>Күптән кояш баеган, эгер-меңгер чак узып киткән. (Р.Фәх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1792-797D-45CC-8FA4-626CE85634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676520" y="114300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ffffff"/>
                </a:solidFill>
                <a:latin typeface="Times New Roman"/>
              </a:rPr>
              <a:t>Дөрес җаваплар саны: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endshow"/>
          </p:cNvPr>
          <p:cNvSpPr/>
          <p:nvPr/>
        </p:nvSpPr>
        <p:spPr>
          <a:xfrm>
            <a:off x="457200" y="41911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ых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>
            <a:hlinkClick r:id="" action="ppaction://hlinkshowjump?jump=firstslide"/>
          </p:cNvPr>
          <p:cNvSpPr/>
          <p:nvPr/>
        </p:nvSpPr>
        <p:spPr>
          <a:xfrm>
            <a:off x="7467480" y="4191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начал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D33F-A80E-4932-A03C-8C9323CBE4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53352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ffff"/>
                </a:solidFill>
                <a:latin typeface="Times New Roman"/>
              </a:rPr>
              <a:t>1.  Хәл җөмләнең нинди кисәге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2205000"/>
            <a:ext cx="33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03280" y="2349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баш кисәг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03280" y="350028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иярчен кисәк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45086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җавап юк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F367-103B-4B9D-9E48-03A774873F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5335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imes New Roman"/>
              </a:rPr>
              <a:t>2.Хәлнең ничә төре бар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19280" y="2205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7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27280" y="2421000"/>
            <a:ext cx="158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328464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8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429264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595008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10805" y="3837"/>
                </a:moveTo>
                <a:lnTo>
                  <a:pt x="13382" y="6448"/>
                </a:lnTo>
                <a:lnTo>
                  <a:pt x="13382" y="4707"/>
                </a:lnTo>
                <a:lnTo>
                  <a:pt x="15157" y="4707"/>
                </a:lnTo>
                <a:lnTo>
                  <a:pt x="15157" y="8224"/>
                </a:lnTo>
                <a:lnTo>
                  <a:pt x="17768" y="10800"/>
                </a:lnTo>
                <a:lnTo>
                  <a:pt x="16115" y="10800"/>
                </a:lnTo>
                <a:lnTo>
                  <a:pt x="16115" y="17989"/>
                </a:lnTo>
                <a:lnTo>
                  <a:pt x="5496" y="17989"/>
                </a:lnTo>
                <a:lnTo>
                  <a:pt x="5496" y="10800"/>
                </a:lnTo>
                <a:lnTo>
                  <a:pt x="3842" y="10800"/>
                </a:lnTo>
                <a:close/>
              </a:path>
              <a:path fill="darkenLess" w="21611" h="21600">
                <a:moveTo>
                  <a:pt x="13382" y="6448"/>
                </a:moveTo>
                <a:lnTo>
                  <a:pt x="13382" y="4707"/>
                </a:lnTo>
                <a:lnTo>
                  <a:pt x="15157" y="4707"/>
                </a:lnTo>
                <a:lnTo>
                  <a:pt x="15157" y="8224"/>
                </a:lnTo>
                <a:close/>
              </a:path>
              <a:path fill="darkenLess" w="21611" h="21600">
                <a:moveTo>
                  <a:pt x="9883" y="14299"/>
                </a:moveTo>
                <a:lnTo>
                  <a:pt x="11728" y="14299"/>
                </a:lnTo>
                <a:lnTo>
                  <a:pt x="11728" y="17989"/>
                </a:lnTo>
                <a:lnTo>
                  <a:pt x="16115" y="17989"/>
                </a:lnTo>
                <a:lnTo>
                  <a:pt x="16115" y="10800"/>
                </a:lnTo>
                <a:lnTo>
                  <a:pt x="5496" y="10800"/>
                </a:lnTo>
                <a:lnTo>
                  <a:pt x="5496" y="17989"/>
                </a:lnTo>
                <a:lnTo>
                  <a:pt x="9883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0AA-ACDF-4150-9571-9B6873A0F5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26028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33cccc"/>
                </a:solidFill>
                <a:latin typeface="Times New Roman"/>
              </a:rPr>
              <a:t>3. Хәлнең дөрес билгеләмәсен күрсәтегез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2133720"/>
            <a:ext cx="676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Җөмләнең фигыл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ь</a:t>
            </a: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 белән белдерелгән кисәген ачыклап, кемгә? Нәрсәгә? Кемнән? Нәрсәдән? Кемдә? Нәрсәдә? Кем белән? Нәрсә белән? Кем тарафыннан? Нәрсә тарафыннан? кебек сорауларга җавап булып килгән иярчен кисә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47640" y="3860640"/>
            <a:ext cx="66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Җөмләдә эш яки хәлнең кайда, ничек, кайчан, ни сәбәпле, нинди шартларда, нинди максат белән үтәлүен яки үтәлмәвен белдерә торган иярчен кисә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2627280" y="595008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13212" y="3837"/>
                </a:moveTo>
                <a:lnTo>
                  <a:pt x="15788" y="6448"/>
                </a:lnTo>
                <a:lnTo>
                  <a:pt x="15788" y="4707"/>
                </a:lnTo>
                <a:lnTo>
                  <a:pt x="17564" y="4707"/>
                </a:lnTo>
                <a:lnTo>
                  <a:pt x="17564" y="8224"/>
                </a:lnTo>
                <a:lnTo>
                  <a:pt x="20175" y="10800"/>
                </a:lnTo>
                <a:lnTo>
                  <a:pt x="18521" y="10800"/>
                </a:lnTo>
                <a:lnTo>
                  <a:pt x="18521" y="17989"/>
                </a:lnTo>
                <a:lnTo>
                  <a:pt x="7903" y="17989"/>
                </a:lnTo>
                <a:lnTo>
                  <a:pt x="7903" y="10800"/>
                </a:lnTo>
                <a:lnTo>
                  <a:pt x="6249" y="10800"/>
                </a:lnTo>
                <a:close/>
              </a:path>
              <a:path fill="darkenLess" w="26424" h="21600">
                <a:moveTo>
                  <a:pt x="15788" y="6448"/>
                </a:moveTo>
                <a:lnTo>
                  <a:pt x="15788" y="4707"/>
                </a:lnTo>
                <a:lnTo>
                  <a:pt x="17564" y="4707"/>
                </a:lnTo>
                <a:lnTo>
                  <a:pt x="17564" y="8224"/>
                </a:lnTo>
                <a:close/>
              </a:path>
              <a:path fill="darkenLess" w="26424" h="21600">
                <a:moveTo>
                  <a:pt x="12289" y="14299"/>
                </a:moveTo>
                <a:lnTo>
                  <a:pt x="14135" y="14299"/>
                </a:lnTo>
                <a:lnTo>
                  <a:pt x="14135" y="17989"/>
                </a:lnTo>
                <a:lnTo>
                  <a:pt x="18521" y="17989"/>
                </a:lnTo>
                <a:lnTo>
                  <a:pt x="18521" y="10800"/>
                </a:lnTo>
                <a:lnTo>
                  <a:pt x="7903" y="10800"/>
                </a:lnTo>
                <a:lnTo>
                  <a:pt x="7903" y="17989"/>
                </a:lnTo>
                <a:lnTo>
                  <a:pt x="1228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D5CD-6B1C-419D-89AA-8B916DC65E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5335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33cccc"/>
                </a:solidFill>
                <a:latin typeface="Times New Roman"/>
              </a:rPr>
              <a:t>4 Дөрес ..... күрсәт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19280" y="2205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Хәл дулкынлы сызык белән билгелән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92360" y="328464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Хәл өзек-өзек сызык белән билгелән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63640" y="4292640"/>
            <a:ext cx="63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Хәл сызык нокта сызык белән билгелән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2340000" y="602136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3837"/>
                </a:moveTo>
                <a:lnTo>
                  <a:pt x="14711" y="6448"/>
                </a:lnTo>
                <a:lnTo>
                  <a:pt x="14711" y="4707"/>
                </a:lnTo>
                <a:lnTo>
                  <a:pt x="16487" y="4707"/>
                </a:lnTo>
                <a:lnTo>
                  <a:pt x="16487" y="8224"/>
                </a:lnTo>
                <a:lnTo>
                  <a:pt x="19098" y="10800"/>
                </a:lnTo>
                <a:lnTo>
                  <a:pt x="17444" y="10800"/>
                </a:lnTo>
                <a:lnTo>
                  <a:pt x="17444" y="17989"/>
                </a:lnTo>
                <a:lnTo>
                  <a:pt x="6826" y="17989"/>
                </a:lnTo>
                <a:lnTo>
                  <a:pt x="6826" y="10800"/>
                </a:lnTo>
                <a:lnTo>
                  <a:pt x="5172" y="10800"/>
                </a:lnTo>
                <a:close/>
              </a:path>
              <a:path fill="darkenLess" w="24270" h="21600">
                <a:moveTo>
                  <a:pt x="14711" y="6448"/>
                </a:moveTo>
                <a:lnTo>
                  <a:pt x="14711" y="4707"/>
                </a:lnTo>
                <a:lnTo>
                  <a:pt x="16487" y="4707"/>
                </a:lnTo>
                <a:lnTo>
                  <a:pt x="16487" y="8224"/>
                </a:lnTo>
                <a:close/>
              </a:path>
              <a:path fill="darkenLess" w="24270" h="21600">
                <a:moveTo>
                  <a:pt x="11212" y="14299"/>
                </a:moveTo>
                <a:lnTo>
                  <a:pt x="13057" y="14299"/>
                </a:lnTo>
                <a:lnTo>
                  <a:pt x="13057" y="17989"/>
                </a:lnTo>
                <a:lnTo>
                  <a:pt x="17444" y="17989"/>
                </a:lnTo>
                <a:lnTo>
                  <a:pt x="17444" y="10800"/>
                </a:lnTo>
                <a:lnTo>
                  <a:pt x="6826" y="10800"/>
                </a:lnTo>
                <a:lnTo>
                  <a:pt x="6826" y="17989"/>
                </a:lnTo>
                <a:lnTo>
                  <a:pt x="11212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1625-DFD2-42CD-AEC1-262FC99871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24000" y="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33cccc"/>
                </a:solidFill>
                <a:latin typeface="Times New Roman"/>
              </a:rPr>
              <a:t>5. Аерып бирелгән сүз нинди җөмлә кисәге булып кил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299736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рәвеш хәл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27280" y="2421000"/>
            <a:ext cx="158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47640" y="378936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кире хәл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47640" y="458136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шарт хәл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40000" y="595008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10805" y="3837"/>
                </a:moveTo>
                <a:lnTo>
                  <a:pt x="13382" y="6448"/>
                </a:lnTo>
                <a:lnTo>
                  <a:pt x="13382" y="4707"/>
                </a:lnTo>
                <a:lnTo>
                  <a:pt x="15157" y="4707"/>
                </a:lnTo>
                <a:lnTo>
                  <a:pt x="15157" y="8224"/>
                </a:lnTo>
                <a:lnTo>
                  <a:pt x="17768" y="10800"/>
                </a:lnTo>
                <a:lnTo>
                  <a:pt x="16115" y="10800"/>
                </a:lnTo>
                <a:lnTo>
                  <a:pt x="16115" y="17989"/>
                </a:lnTo>
                <a:lnTo>
                  <a:pt x="5496" y="17989"/>
                </a:lnTo>
                <a:lnTo>
                  <a:pt x="5496" y="10800"/>
                </a:lnTo>
                <a:lnTo>
                  <a:pt x="3842" y="10800"/>
                </a:lnTo>
                <a:close/>
              </a:path>
              <a:path fill="darkenLess" w="21611" h="21600">
                <a:moveTo>
                  <a:pt x="13382" y="6448"/>
                </a:moveTo>
                <a:lnTo>
                  <a:pt x="13382" y="4707"/>
                </a:lnTo>
                <a:lnTo>
                  <a:pt x="15157" y="4707"/>
                </a:lnTo>
                <a:lnTo>
                  <a:pt x="15157" y="8224"/>
                </a:lnTo>
                <a:close/>
              </a:path>
              <a:path fill="darkenLess" w="21611" h="21600">
                <a:moveTo>
                  <a:pt x="9883" y="14299"/>
                </a:moveTo>
                <a:lnTo>
                  <a:pt x="11728" y="14299"/>
                </a:lnTo>
                <a:lnTo>
                  <a:pt x="11728" y="17989"/>
                </a:lnTo>
                <a:lnTo>
                  <a:pt x="16115" y="17989"/>
                </a:lnTo>
                <a:lnTo>
                  <a:pt x="16115" y="10800"/>
                </a:lnTo>
                <a:lnTo>
                  <a:pt x="5496" y="10800"/>
                </a:lnTo>
                <a:lnTo>
                  <a:pt x="5496" y="17989"/>
                </a:lnTo>
                <a:lnTo>
                  <a:pt x="9883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1197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Times New Roman"/>
              </a:rPr>
              <a:t>Бу дө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ь</a:t>
            </a:r>
            <a:r>
              <a:rPr b="0" lang="tt-RU" sz="3600" spc="-1" strike="noStrike">
                <a:solidFill>
                  <a:srgbClr val="ffffff"/>
                </a:solidFill>
                <a:latin typeface="Times New Roman"/>
              </a:rPr>
              <a:t>яда </a:t>
            </a:r>
            <a:r>
              <a:rPr b="0" lang="tt-RU" sz="3600" spc="-1" strike="noStrike">
                <a:solidFill>
                  <a:srgbClr val="cc00cc"/>
                </a:solidFill>
                <a:latin typeface="Times New Roman"/>
              </a:rPr>
              <a:t>яшәсәм дә</a:t>
            </a:r>
            <a:r>
              <a:rPr b="0" lang="tt-RU" sz="3600" spc="-1" strike="noStrike">
                <a:solidFill>
                  <a:srgbClr val="ffffff"/>
                </a:solidFill>
                <a:latin typeface="Times New Roman"/>
              </a:rPr>
              <a:t>, бер хикмәтнең серенә төшенә алмый интектем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2611-4F56-4AE6-B335-769077DD3D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260280"/>
            <a:ext cx="770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33cccc"/>
                </a:solidFill>
                <a:latin typeface="Times New Roman"/>
              </a:rPr>
              <a:t>6. Аерып бирелгән сүз нинди җөмлә кисәге булып кил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47640" y="3860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Рәвеш хәл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2627280" y="595008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13212" y="3837"/>
                </a:moveTo>
                <a:lnTo>
                  <a:pt x="15788" y="6448"/>
                </a:lnTo>
                <a:lnTo>
                  <a:pt x="15788" y="4707"/>
                </a:lnTo>
                <a:lnTo>
                  <a:pt x="17564" y="4707"/>
                </a:lnTo>
                <a:lnTo>
                  <a:pt x="17564" y="8224"/>
                </a:lnTo>
                <a:lnTo>
                  <a:pt x="20175" y="10800"/>
                </a:lnTo>
                <a:lnTo>
                  <a:pt x="18521" y="10800"/>
                </a:lnTo>
                <a:lnTo>
                  <a:pt x="18521" y="17989"/>
                </a:lnTo>
                <a:lnTo>
                  <a:pt x="7903" y="17989"/>
                </a:lnTo>
                <a:lnTo>
                  <a:pt x="7903" y="10800"/>
                </a:lnTo>
                <a:lnTo>
                  <a:pt x="6249" y="10800"/>
                </a:lnTo>
                <a:close/>
              </a:path>
              <a:path fill="darkenLess" w="26424" h="21600">
                <a:moveTo>
                  <a:pt x="15788" y="6448"/>
                </a:moveTo>
                <a:lnTo>
                  <a:pt x="15788" y="4707"/>
                </a:lnTo>
                <a:lnTo>
                  <a:pt x="17564" y="4707"/>
                </a:lnTo>
                <a:lnTo>
                  <a:pt x="17564" y="8224"/>
                </a:lnTo>
                <a:close/>
              </a:path>
              <a:path fill="darkenLess" w="26424" h="21600">
                <a:moveTo>
                  <a:pt x="12289" y="14299"/>
                </a:moveTo>
                <a:lnTo>
                  <a:pt x="14135" y="14299"/>
                </a:lnTo>
                <a:lnTo>
                  <a:pt x="14135" y="17989"/>
                </a:lnTo>
                <a:lnTo>
                  <a:pt x="18521" y="17989"/>
                </a:lnTo>
                <a:lnTo>
                  <a:pt x="18521" y="10800"/>
                </a:lnTo>
                <a:lnTo>
                  <a:pt x="7903" y="10800"/>
                </a:lnTo>
                <a:lnTo>
                  <a:pt x="7903" y="17989"/>
                </a:lnTo>
                <a:lnTo>
                  <a:pt x="1228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03280" y="285264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Максат хәл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1341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cc00cc"/>
                </a:solidFill>
                <a:latin typeface="Times New Roman"/>
              </a:rPr>
              <a:t>Сезнең кебек</a:t>
            </a:r>
            <a:r>
              <a:rPr b="0" lang="tt-RU" sz="3600" spc="-1" strike="noStrike">
                <a:solidFill>
                  <a:srgbClr val="ffffff"/>
                </a:solidFill>
                <a:latin typeface="Times New Roman"/>
              </a:rPr>
              <a:t> матур ярлар авылда ла түгел, илдә юк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BE26-B926-455F-9036-23A97FE68E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4360" y="26028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33cccc"/>
                </a:solidFill>
                <a:latin typeface="Times New Roman"/>
              </a:rPr>
              <a:t>7. Аерып бирелгән сүз нинди җөмлә кисәге булып килә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19280" y="2565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Максат хәл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371628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Сәбәп хәл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63640" y="4653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Урын хәл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2340000" y="602136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3837"/>
                </a:moveTo>
                <a:lnTo>
                  <a:pt x="14711" y="6448"/>
                </a:lnTo>
                <a:lnTo>
                  <a:pt x="14711" y="4707"/>
                </a:lnTo>
                <a:lnTo>
                  <a:pt x="16487" y="4707"/>
                </a:lnTo>
                <a:lnTo>
                  <a:pt x="16487" y="8224"/>
                </a:lnTo>
                <a:lnTo>
                  <a:pt x="19098" y="10800"/>
                </a:lnTo>
                <a:lnTo>
                  <a:pt x="17444" y="10800"/>
                </a:lnTo>
                <a:lnTo>
                  <a:pt x="17444" y="17989"/>
                </a:lnTo>
                <a:lnTo>
                  <a:pt x="6826" y="17989"/>
                </a:lnTo>
                <a:lnTo>
                  <a:pt x="6826" y="10800"/>
                </a:lnTo>
                <a:lnTo>
                  <a:pt x="5172" y="10800"/>
                </a:lnTo>
                <a:close/>
              </a:path>
              <a:path fill="darkenLess" w="24270" h="21600">
                <a:moveTo>
                  <a:pt x="14711" y="6448"/>
                </a:moveTo>
                <a:lnTo>
                  <a:pt x="14711" y="4707"/>
                </a:lnTo>
                <a:lnTo>
                  <a:pt x="16487" y="4707"/>
                </a:lnTo>
                <a:lnTo>
                  <a:pt x="16487" y="8224"/>
                </a:lnTo>
                <a:close/>
              </a:path>
              <a:path fill="darkenLess" w="24270" h="21600">
                <a:moveTo>
                  <a:pt x="11212" y="14299"/>
                </a:moveTo>
                <a:lnTo>
                  <a:pt x="13057" y="14299"/>
                </a:lnTo>
                <a:lnTo>
                  <a:pt x="13057" y="17989"/>
                </a:lnTo>
                <a:lnTo>
                  <a:pt x="17444" y="17989"/>
                </a:lnTo>
                <a:lnTo>
                  <a:pt x="17444" y="10800"/>
                </a:lnTo>
                <a:lnTo>
                  <a:pt x="6826" y="10800"/>
                </a:lnTo>
                <a:lnTo>
                  <a:pt x="6826" y="17989"/>
                </a:lnTo>
                <a:lnTo>
                  <a:pt x="11212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4360" y="148428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Times New Roman"/>
              </a:rPr>
              <a:t>Яман </a:t>
            </a:r>
            <a:r>
              <a:rPr b="0" lang="tt-RU" sz="3600" spc="-1" strike="noStrike">
                <a:solidFill>
                  <a:srgbClr val="cc00cc"/>
                </a:solidFill>
                <a:latin typeface="Times New Roman"/>
              </a:rPr>
              <a:t>эшкә</a:t>
            </a:r>
            <a:r>
              <a:rPr b="0" lang="tt-RU" sz="3600" spc="-1" strike="noStrike">
                <a:solidFill>
                  <a:srgbClr val="ffffff"/>
                </a:solidFill>
                <a:latin typeface="Times New Roman"/>
              </a:rPr>
              <a:t> килер, ялкау </a:t>
            </a:r>
            <a:r>
              <a:rPr b="0" lang="tt-RU" sz="3600" spc="-1" strike="noStrike">
                <a:solidFill>
                  <a:srgbClr val="cc00cc"/>
                </a:solidFill>
                <a:latin typeface="Times New Roman"/>
              </a:rPr>
              <a:t>ашка</a:t>
            </a:r>
            <a:r>
              <a:rPr b="0" lang="tt-RU" sz="3600" spc="-1" strike="noStrike">
                <a:solidFill>
                  <a:srgbClr val="ffffff"/>
                </a:solidFill>
                <a:latin typeface="Times New Roman"/>
              </a:rPr>
              <a:t> килер.(мәкал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ь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C3C7-5C5D-46D4-AC39-0B3A255DBB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0920" y="189000"/>
            <a:ext cx="798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33cccc"/>
                </a:solidFill>
                <a:latin typeface="Times New Roman"/>
              </a:rPr>
              <a:t>8. Нинди хәлләр булмый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27280" y="2421000"/>
            <a:ext cx="158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03280" y="278136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авыр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03280" y="4076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урын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19640" y="2852640"/>
            <a:ext cx="216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64000" y="285264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Times New Roman"/>
              </a:rPr>
              <a:t>вакыт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35640" y="4076640"/>
            <a:ext cx="2449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400" spc="-1" strike="noStrike">
                <a:solidFill>
                  <a:srgbClr val="ffffff"/>
                </a:solidFill>
                <a:latin typeface="Times New Roman"/>
              </a:rPr>
              <a:t>сәбәп;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35280" y="5013360"/>
            <a:ext cx="208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400" spc="-1" strike="noStrike">
                <a:solidFill>
                  <a:srgbClr val="ffffff"/>
                </a:solidFill>
                <a:latin typeface="Times New Roman"/>
              </a:rPr>
              <a:t>максат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A742-75A6-44C9-8974-B01E14420D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11:12:03Z</dcterms:created>
  <dc:creator>Андрей</dc:creator>
  <dc:description/>
  <dc:language>en-US</dc:language>
  <cp:lastModifiedBy>Я</cp:lastModifiedBy>
  <dcterms:modified xsi:type="dcterms:W3CDTF">2005-01-01T04:19:30Z</dcterms:modified>
  <cp:revision>12</cp:revision>
  <dc:subject/>
  <dc:title>Заголовок</dc:title>
</cp:coreProperties>
</file>