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E20-CBDE-4CB8-AEB5-C0B5BF84D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540-8140-4DFB-8E21-FD18DE59C3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2E0-2185-489C-AEBE-693A986A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129-1FB0-4A41-80ED-531231E4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791-8E40-4ECF-83D5-9A0ECC12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7F9-08D4-480A-BF17-51346848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C13A-4B7D-4CDC-8B0F-3609E535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CA16B-ADFF-4C73-9470-9CB6D1A0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420AD-C6AF-45D0-B7FA-BD3CF809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E3DFD-7FB6-4457-94C5-A50D8008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DDC69-67C9-4BA2-AD24-B7B25E05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22836-63A5-4F8D-809D-2F7591DD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2F5DA-2F1D-4DD4-92F4-418066A0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8AF-EE52-49C3-BC25-75A88C96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5264B-51E8-4B22-987E-41EBE737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502B9-61DD-42A9-9376-5A5F21FC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7BDCE-8779-4AEE-AD9B-72A7CECF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FE5A7-0401-4D79-B7B6-0B71A540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68E69-4636-4975-AADA-70B88E58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7896-BCC9-44AB-BE98-7D038330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B2B1-7406-4E5D-8DCE-C03F30A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1CD3-46DC-4EF0-A822-BF3F7A06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F2217-B663-4CB5-9229-81557FD8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41F1-6AA6-4411-A265-5AE1A5C0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CAE-1E20-478B-9F30-F7587570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D44C-203A-4399-B8B9-C7A2EA4A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2C5E-9406-49C3-A60F-26EA150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2A7C-E3EB-4B66-8B7E-EDA8A2F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5B154-49EC-45FC-B5A4-45162F8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733E-19BA-49F4-9A69-7B075EB9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3F7A-8C01-4E58-9E99-C95A9661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36EA-A3AC-43A5-A628-2F87E4DC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6C218-8A1B-4161-9E10-8CE53D55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1958C-D50C-45FB-B910-7D8B5688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5E438-5F8D-4287-954F-693B7CDA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0EE-03DD-43DA-994D-EFE85596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6735E-0B8C-4A11-AD4B-CAD64B62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B553B-379B-4198-8A7F-FB51387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EEDC50-5957-4D21-AC2A-29B76C07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8BAC6-B434-4614-9F9C-0DBF780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14C45-1CE7-4F79-9679-06E4B244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E99FD-E864-4A77-B845-26530BF1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35FB1-0871-432B-A7E5-F6E27E79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A1846-A6F2-4FB1-9A69-934FA780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1DAB2-8EFD-484D-90E6-31810F81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16F66-53A1-43A1-AB3D-268982C5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927-AE47-4E4B-BA7A-FCF35C38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8428F-FC9D-46D1-A5D2-14004516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795F7-8F71-4EF1-95D8-9E3C2564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096C2-E580-4AC7-B732-6C11D3B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40770-C362-42BD-B588-F0545C73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41DE7-0FBA-47F4-80EB-3ABAD977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3DB68-98BF-492A-AC18-8FA5FCC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50A1C-C49F-4906-B2CF-99676E3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B4397-0073-4673-9274-A9BE40EC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9377A-7F84-4AE5-AB84-AF89DDCB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89D05-2EED-4687-93F7-C4B02A9C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EDE-2D7D-481F-BB9C-8DAEB649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7216A-BAE3-4365-8436-BF2645D4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7650F-72A9-416F-8FB9-B40DEC31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A9649-E772-4969-8867-4D3F842B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D68D5-1A0C-4B5B-AB64-27570C03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5CD75-3834-4055-93FE-86D7994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DC302-6E89-4D20-850D-044B3528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36F21-2D36-4076-B5B3-0253DBB9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5A7A6-5E21-40C8-85EF-6F566F8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F306B-9659-45C9-B56E-437D0F41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0F66D-2807-4FE0-9AB7-A988C8AD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6E0-3C75-4C50-BBF0-BDE9D51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8919F-70BA-4386-8CE6-6B1572E3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5B011-148E-4CBA-8F22-A5E02425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C618B-CCFE-46BF-ACDA-99896F15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E74F4-62F6-462B-B832-E9EDE407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5DDB6-5D2B-4AD2-B6A7-2DC26363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E92C2-C533-4C1F-84C1-BB27F95E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FBB8-1117-4B1C-B3D9-563535CE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9B03D-B2B9-4C1F-82D8-04B72319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FE03F-EB05-468E-9A9A-42592EC0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C66FD-88AC-43A7-8FB7-A5D8A4B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092-8727-4BFB-AC55-BB959C5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16243-88F6-4447-A5AC-916D3C65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00DB3-07B2-4B58-B5B5-1C62ACB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E554F-85F7-428C-9CE0-EEDEEF5A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7511-A651-4B43-ADC2-CACB570C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99A02-240E-4341-9269-D254B219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973-80EF-4EAA-B3BD-0331693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7ADB-9CD9-4B72-B555-166F0E7F57E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DB7E-C0BA-47B8-81B8-25FEE19DC40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97AC-134B-4084-9CB9-27394D9F3A2A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C21D-A617-47F0-AB00-BB8F32EEBD3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1660-80CA-455A-8D86-D95A701A94F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BE80-083B-481B-B183-3B0E9D3E30C7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A772-74E9-4924-91E6-024CCCBB6C3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hali33@bk.ru" TargetMode="External"/><Relationship Id="rId2" Type="http://schemas.openxmlformats.org/officeDocument/2006/relationships/hyperlink" Target="mailto:zifa94@yandex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D:\ДОКУМЕНТЫ\письма\Босова\DRAW\1185379042_karandashik[1].jpg"/>
          <p:cNvPicPr/>
          <p:nvPr/>
        </p:nvPicPr>
        <p:blipFill>
          <a:blip r:embed="rId1"/>
          <a:srcRect l="4293" t="3128" r="6376" b="10630"/>
          <a:stretch/>
        </p:blipFill>
        <p:spPr>
          <a:xfrm>
            <a:off x="5429160" y="221472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D:\ДОКУМЕНТЫ\письма\Босова\DRAW\1263974281_6.jpg"/>
          <p:cNvPicPr/>
          <p:nvPr/>
        </p:nvPicPr>
        <p:blipFill>
          <a:blip r:embed="rId2"/>
          <a:stretch/>
        </p:blipFill>
        <p:spPr>
          <a:xfrm>
            <a:off x="642960" y="2286000"/>
            <a:ext cx="4203720" cy="3105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6" descr=""/>
          <p:cNvPicPr/>
          <p:nvPr/>
        </p:nvPicPr>
        <p:blipFill>
          <a:blip r:embed="rId3"/>
          <a:stretch/>
        </p:blipFill>
        <p:spPr>
          <a:xfrm>
            <a:off x="371520" y="324000"/>
            <a:ext cx="85597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214200" y="452160"/>
            <a:ext cx="8715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Задание на д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1.Построить чертеж своего рисунка в тетрадях: например, для начала можно нарисовать </a:t>
            </a:r>
            <a:r>
              <a:rPr b="1" i="1" lang="ru-RU" sz="2800" spc="-1" strike="noStrike">
                <a:solidFill>
                  <a:srgbClr val="ff3300"/>
                </a:solidFill>
                <a:latin typeface="Cambria"/>
              </a:rPr>
              <a:t>конверт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i="1" lang="ru-RU" sz="2800" spc="-1" strike="noStrike">
                <a:solidFill>
                  <a:srgbClr val="0000ff"/>
                </a:solidFill>
                <a:latin typeface="Cambria"/>
              </a:rPr>
              <a:t>куб,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Cambria"/>
              </a:rPr>
              <a:t>пирамиду;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нарисовать </a:t>
            </a:r>
            <a:r>
              <a:rPr b="1" i="1" lang="ru-RU" sz="2800" spc="-1" strike="noStrike">
                <a:solidFill>
                  <a:srgbClr val="cc00ff"/>
                </a:solidFill>
                <a:latin typeface="Cambria"/>
              </a:rPr>
              <a:t>прямоугольники,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расположенные на экране случайным образом; </a:t>
            </a:r>
            <a:r>
              <a:rPr b="1" i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построить </a:t>
            </a:r>
            <a:r>
              <a:rPr b="1" i="1" lang="ru-RU" sz="2800" spc="-1" strike="noStrike">
                <a:solidFill>
                  <a:srgbClr val="0033cc"/>
                </a:solidFill>
                <a:latin typeface="Cambria"/>
              </a:rPr>
              <a:t>многоугольник;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построить </a:t>
            </a:r>
            <a:r>
              <a:rPr b="1" i="1" lang="ru-RU" sz="2800" spc="-1" strike="noStrike">
                <a:solidFill>
                  <a:srgbClr val="ff3300"/>
                </a:solidFill>
                <a:latin typeface="Cambria"/>
              </a:rPr>
              <a:t>Российский флаг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и </a:t>
            </a:r>
            <a:r>
              <a:rPr b="1" i="1" lang="ru-RU" sz="2800" spc="-1" strike="noStrike">
                <a:solidFill>
                  <a:srgbClr val="fefac9"/>
                </a:solidFill>
                <a:latin typeface="Cambria"/>
              </a:rPr>
              <a:t>флаг </a:t>
            </a:r>
            <a:r>
              <a:rPr b="1" i="1" lang="ru-RU" sz="2800" spc="-1" strike="noStrike">
                <a:solidFill>
                  <a:srgbClr val="0f07b5"/>
                </a:solidFill>
                <a:latin typeface="Cambria"/>
              </a:rPr>
              <a:t>Республики Татарстан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и попробовать написать програм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2.  Учить</a:t>
            </a:r>
            <a:r>
              <a:rPr b="1" i="1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направления  </a:t>
            </a:r>
            <a:r>
              <a:rPr b="1" i="1" lang="tt-RU" sz="2800" spc="-1" strike="noStrike">
                <a:solidFill>
                  <a:srgbClr val="ffffff"/>
                </a:solidFill>
                <a:latin typeface="Cambria"/>
              </a:rPr>
              <a:t>испольнителя </a:t>
            </a:r>
            <a:r>
              <a:rPr b="1" i="1" lang="en-US" sz="2800" spc="-1" strike="noStrike">
                <a:solidFill>
                  <a:srgbClr val="ffffff"/>
                </a:solidFill>
                <a:latin typeface="Rockwell"/>
              </a:rPr>
              <a:t>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9"/>
          <p:cNvSpPr/>
          <p:nvPr/>
        </p:nvSpPr>
        <p:spPr>
          <a:xfrm>
            <a:off x="250920" y="189000"/>
            <a:ext cx="889308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р: Миннезифа Шакуровна Гимадиева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читель информатик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tt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ой квалифика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</a:t>
            </a:r>
            <a:r>
              <a:rPr b="1" i="1" lang="tt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онной катег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У «Шалинская средняя общеобразовательная» Пестречинского муниципального района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Электронный адрес : </a:t>
            </a:r>
            <a:r>
              <a:rPr b="0" lang="en-US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"/>
              </a:rPr>
              <a:t>shali33@bk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2"/>
              </a:rPr>
              <a:t>  zifa94@yandex.ru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571680" y="214200"/>
            <a:ext cx="81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mbria"/>
              </a:rPr>
              <a:t>Экранные режи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714680" y="785880"/>
          <a:ext cx="6265800" cy="5761080"/>
        </p:xfrm>
        <a:graphic>
          <a:graphicData uri="http://schemas.openxmlformats.org/drawingml/2006/table">
            <a:tbl>
              <a:tblPr/>
              <a:tblGrid>
                <a:gridCol w="1850760"/>
                <a:gridCol w="2208240"/>
                <a:gridCol w="220680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Номер режи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Раз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Количество цв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екстовый реж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2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2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2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214200" y="642960"/>
            <a:ext cx="87156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 них 9 и 12 обладает наибольшей разрешающей способностью и позволяет получать качественные графические объекты. После включения графического режима можно давать компьютеру команды рисования графических примитивов. Графический режим включается только один раз. Для включения экранного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жима используется оператор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 C R E E 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463680" y="85680"/>
            <a:ext cx="6881760" cy="66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1979640" y="692280"/>
          <a:ext cx="5761080" cy="5983200"/>
        </p:xfrm>
        <a:graphic>
          <a:graphicData uri="http://schemas.openxmlformats.org/drawingml/2006/table">
            <a:tbl>
              <a:tblPr/>
              <a:tblGrid>
                <a:gridCol w="2301840"/>
                <a:gridCol w="345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Цв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Чер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Фиоле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Коричне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Темн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си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зеле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голу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к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Васильк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Жел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Ярко-бел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5"/>
          <p:cNvSpPr/>
          <p:nvPr/>
        </p:nvSpPr>
        <p:spPr>
          <a:xfrm>
            <a:off x="826920" y="3789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17"/>
          <p:cNvGrpSpPr/>
          <p:nvPr/>
        </p:nvGrpSpPr>
        <p:grpSpPr>
          <a:xfrm>
            <a:off x="642960" y="2786040"/>
            <a:ext cx="7558560" cy="3637800"/>
            <a:chOff x="642960" y="2786040"/>
            <a:chExt cx="7558560" cy="3637800"/>
          </a:xfrm>
        </p:grpSpPr>
        <p:grpSp>
          <p:nvGrpSpPr>
            <p:cNvPr id="310" name="Group 14"/>
            <p:cNvGrpSpPr/>
            <p:nvPr/>
          </p:nvGrpSpPr>
          <p:grpSpPr>
            <a:xfrm>
              <a:off x="642960" y="2786040"/>
              <a:ext cx="7558560" cy="3637800"/>
              <a:chOff x="642960" y="2786040"/>
              <a:chExt cx="7558560" cy="3637800"/>
            </a:xfrm>
          </p:grpSpPr>
          <p:sp>
            <p:nvSpPr>
              <p:cNvPr id="311" name="Rectangle 5"/>
              <p:cNvSpPr/>
              <p:nvPr/>
            </p:nvSpPr>
            <p:spPr>
              <a:xfrm>
                <a:off x="1851480" y="3406320"/>
                <a:ext cx="6249960" cy="3017520"/>
              </a:xfrm>
              <a:prstGeom prst="rect">
                <a:avLst/>
              </a:prstGeom>
              <a:solidFill>
                <a:srgbClr val="a5b59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6"/>
              <p:cNvSpPr/>
              <p:nvPr/>
            </p:nvSpPr>
            <p:spPr>
              <a:xfrm>
                <a:off x="2053800" y="3052080"/>
                <a:ext cx="3830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7"/>
              <p:cNvSpPr/>
              <p:nvPr/>
            </p:nvSpPr>
            <p:spPr>
              <a:xfrm>
                <a:off x="1449360" y="3494160"/>
                <a:ext cx="0" cy="1776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8"/>
              <p:cNvSpPr/>
              <p:nvPr/>
            </p:nvSpPr>
            <p:spPr>
              <a:xfrm>
                <a:off x="1147320" y="2962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,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Text Box 10"/>
              <p:cNvSpPr/>
              <p:nvPr/>
            </p:nvSpPr>
            <p:spPr>
              <a:xfrm>
                <a:off x="5782320" y="2786040"/>
                <a:ext cx="40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Cambria"/>
                  </a:rPr>
                  <a:t>Х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12"/>
              <p:cNvSpPr/>
              <p:nvPr/>
            </p:nvSpPr>
            <p:spPr>
              <a:xfrm>
                <a:off x="7295400" y="2786040"/>
                <a:ext cx="90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64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13"/>
              <p:cNvSpPr/>
              <p:nvPr/>
            </p:nvSpPr>
            <p:spPr>
              <a:xfrm>
                <a:off x="642960" y="5803560"/>
                <a:ext cx="110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350(48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Text Box 16"/>
            <p:cNvSpPr/>
            <p:nvPr/>
          </p:nvSpPr>
          <p:spPr>
            <a:xfrm>
              <a:off x="1044720" y="5271480"/>
              <a:ext cx="40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mbria"/>
                </a:rPr>
                <a:t>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Text Box 18"/>
          <p:cNvSpPr/>
          <p:nvPr/>
        </p:nvSpPr>
        <p:spPr>
          <a:xfrm>
            <a:off x="285840" y="5000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рафические режимы экрана представляют собой координатную сетку с началом в левом верхнем уг-лу, вправо от которого увеличивается координата Х, а вниз - координата У. Максимальное значение Х на экране 640, а У - 350 (48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725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3" descr=""/>
          <p:cNvPicPr/>
          <p:nvPr/>
        </p:nvPicPr>
        <p:blipFill>
          <a:blip r:embed="rId1"/>
          <a:stretch/>
        </p:blipFill>
        <p:spPr>
          <a:xfrm>
            <a:off x="5187960" y="895320"/>
            <a:ext cx="3554280" cy="331632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4"/>
          <p:cNvGrpSpPr/>
          <p:nvPr/>
        </p:nvGrpSpPr>
        <p:grpSpPr>
          <a:xfrm>
            <a:off x="5286240" y="1071360"/>
            <a:ext cx="2858040" cy="2857680"/>
            <a:chOff x="5286240" y="1071360"/>
            <a:chExt cx="2858040" cy="2857680"/>
          </a:xfrm>
        </p:grpSpPr>
        <p:cxnSp>
          <p:nvCxnSpPr>
            <p:cNvPr id="322" name="AutoShape 5"/>
            <p:cNvCxnSpPr/>
            <p:nvPr/>
          </p:nvCxnSpPr>
          <p:spPr>
            <a:xfrm>
              <a:off x="5707800" y="1304640"/>
              <a:ext cx="2069280" cy="223776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3" name="AutoShape 6"/>
            <p:cNvCxnSpPr/>
            <p:nvPr/>
          </p:nvCxnSpPr>
          <p:spPr>
            <a:xfrm flipH="1">
              <a:off x="5748480" y="1304640"/>
              <a:ext cx="2028240" cy="216504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4" name="AutoShape 7"/>
            <p:cNvCxnSpPr/>
            <p:nvPr/>
          </p:nvCxnSpPr>
          <p:spPr>
            <a:xfrm flipH="1">
              <a:off x="6743880" y="1071360"/>
              <a:ext cx="42840" cy="285804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5" name="AutoShape 8"/>
            <p:cNvCxnSpPr/>
            <p:nvPr/>
          </p:nvCxnSpPr>
          <p:spPr>
            <a:xfrm>
              <a:off x="5286240" y="2386440"/>
              <a:ext cx="2858400" cy="108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2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38880" y="457560"/>
            <a:ext cx="47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22"/>
          <p:cNvSpPr/>
          <p:nvPr/>
        </p:nvSpPr>
        <p:spPr>
          <a:xfrm>
            <a:off x="500040" y="214200"/>
            <a:ext cx="4572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тор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RAW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графическое "перо" ) используется для построения на экране фигур, состоящих из отрезков прямых линий. Он так же может использовать заранее заготовленные элементы, производя над ними такие преобразования, как масштабирование, поворот, перенос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дура рисования нужной фигуры предварительно разбивается на отдельные шаги: шаг вправо, влево, вверх, вниз, по какой-то из диагоналей, шаг в точку с заданными коор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натами, шаг с возвратом, поворот и т.д. Затем эти шаги последовательно записываются отдельными командами оператор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RAW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тор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RAW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ключает в себя 15 графических команд, 9 из которых обеспечивают вычерчивание линий на экране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M x,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), а остальные 6 (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C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являются управляющи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6"/>
          <p:cNvGrpSpPr/>
          <p:nvPr/>
        </p:nvGrpSpPr>
        <p:grpSpPr>
          <a:xfrm>
            <a:off x="0" y="285840"/>
            <a:ext cx="8929440" cy="6357600"/>
            <a:chOff x="0" y="285840"/>
            <a:chExt cx="8929440" cy="6357600"/>
          </a:xfrm>
        </p:grpSpPr>
        <p:sp>
          <p:nvSpPr>
            <p:cNvPr id="330" name="Rectangle 24"/>
            <p:cNvSpPr/>
            <p:nvPr/>
          </p:nvSpPr>
          <p:spPr>
            <a:xfrm>
              <a:off x="0" y="285840"/>
              <a:ext cx="8929440" cy="6357600"/>
            </a:xfrm>
            <a:prstGeom prst="rect">
              <a:avLst/>
            </a:prstGeom>
            <a:solidFill>
              <a:srgbClr val="444d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25"/>
            <p:cNvSpPr/>
            <p:nvPr/>
          </p:nvSpPr>
          <p:spPr>
            <a:xfrm>
              <a:off x="178920" y="458640"/>
              <a:ext cx="8571600" cy="6029280"/>
            </a:xfrm>
            <a:prstGeom prst="rect">
              <a:avLst/>
            </a:prstGeom>
            <a:solidFill>
              <a:srgbClr val="fefac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Прямоугольник 6"/>
          <p:cNvSpPr/>
          <p:nvPr/>
        </p:nvSpPr>
        <p:spPr>
          <a:xfrm>
            <a:off x="285840" y="714240"/>
            <a:ext cx="5929200" cy="69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C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SCREEN 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REM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ru-RU" sz="2800" spc="-1" strike="noStrike">
                <a:solidFill>
                  <a:srgbClr val="706702"/>
                </a:solidFill>
                <a:latin typeface="Arial"/>
              </a:rPr>
              <a:t>Пример программы, которая рисует зеленую елочку на голубом фо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SCREEN </a:t>
            </a:r>
            <a:r>
              <a:rPr b="1" lang="ru-RU" sz="2800" spc="-1" strike="noStrike">
                <a:solidFill>
                  <a:srgbClr val="706702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COLOR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DRAW «BM 120,100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DRAW«C2E10F10H10D15G15E15F15H15D20G20E20F20H20D30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F5-</a:t>
            </a:r>
            <a:r>
              <a:rPr b="1" lang="ru-RU" sz="2800" spc="-1" strike="noStrike">
                <a:solidFill>
                  <a:srgbClr val="706702"/>
                </a:solidFill>
                <a:latin typeface="Arial"/>
              </a:rPr>
              <a:t>кнопка запуска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6702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6786720" y="4786200"/>
            <a:ext cx="1655640" cy="1297080"/>
            <a:chOff x="6786720" y="4786200"/>
            <a:chExt cx="1655640" cy="1297080"/>
          </a:xfrm>
        </p:grpSpPr>
        <p:grpSp>
          <p:nvGrpSpPr>
            <p:cNvPr id="334" name="AutoShape 30"/>
            <p:cNvGrpSpPr/>
            <p:nvPr/>
          </p:nvGrpSpPr>
          <p:grpSpPr>
            <a:xfrm>
              <a:off x="6786720" y="4786200"/>
              <a:ext cx="1655640" cy="1297080"/>
              <a:chOff x="6786720" y="4786200"/>
              <a:chExt cx="1655640" cy="1297080"/>
            </a:xfrm>
          </p:grpSpPr>
          <p:pic>
            <p:nvPicPr>
              <p:cNvPr id="335" name="AutoShape 30" descr="">
                <a:hlinkClick r:id="" action="ppaction://hlinkshowjump?jump=nextslide"/>
              </p:cNvPr>
              <p:cNvPicPr/>
              <p:nvPr/>
            </p:nvPicPr>
            <p:blipFill>
              <a:blip r:embed="rId1"/>
              <a:stretch/>
            </p:blipFill>
            <p:spPr>
              <a:xfrm>
                <a:off x="6786720" y="4786200"/>
                <a:ext cx="1655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6806160" y="4804920"/>
                <a:ext cx="1623600" cy="12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31"/>
            <p:cNvGrpSpPr/>
            <p:nvPr/>
          </p:nvGrpSpPr>
          <p:grpSpPr>
            <a:xfrm>
              <a:off x="7018200" y="5086800"/>
              <a:ext cx="1269000" cy="632160"/>
              <a:chOff x="7018200" y="5086800"/>
              <a:chExt cx="1269000" cy="632160"/>
            </a:xfrm>
          </p:grpSpPr>
          <p:pic>
            <p:nvPicPr>
              <p:cNvPr id="338" name="Picture 28" descr="L_F"/>
              <p:cNvPicPr/>
              <p:nvPr/>
            </p:nvPicPr>
            <p:blipFill>
              <a:blip r:embed="rId2"/>
              <a:stretch/>
            </p:blipFill>
            <p:spPr>
              <a:xfrm>
                <a:off x="7018200" y="5086800"/>
                <a:ext cx="672480" cy="60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Picture 29" descr="num5"/>
              <p:cNvPicPr/>
              <p:nvPr/>
            </p:nvPicPr>
            <p:blipFill>
              <a:blip r:embed="rId3"/>
              <a:stretch/>
            </p:blipFill>
            <p:spPr>
              <a:xfrm>
                <a:off x="7695720" y="5114520"/>
                <a:ext cx="591480" cy="60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40" name="Picture 13" descr="ELKASNEG"/>
          <p:cNvPicPr/>
          <p:nvPr/>
        </p:nvPicPr>
        <p:blipFill>
          <a:blip r:embed="rId4"/>
          <a:stretch/>
        </p:blipFill>
        <p:spPr>
          <a:xfrm>
            <a:off x="6215040" y="571680"/>
            <a:ext cx="24256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WIND1"/>
          <p:cNvPicPr/>
          <p:nvPr/>
        </p:nvPicPr>
        <p:blipFill>
          <a:blip r:embed="rId1"/>
          <a:stretch/>
        </p:blipFill>
        <p:spPr>
          <a:xfrm>
            <a:off x="1357200" y="1571760"/>
            <a:ext cx="1662120" cy="1068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WIND2"/>
          <p:cNvPicPr/>
          <p:nvPr/>
        </p:nvPicPr>
        <p:blipFill>
          <a:blip r:embed="rId2"/>
          <a:stretch/>
        </p:blipFill>
        <p:spPr>
          <a:xfrm>
            <a:off x="6000840" y="1571760"/>
            <a:ext cx="1780920" cy="1144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9ris"/>
          <p:cNvPicPr/>
          <p:nvPr/>
        </p:nvPicPr>
        <p:blipFill>
          <a:blip r:embed="rId3"/>
          <a:stretch/>
        </p:blipFill>
        <p:spPr>
          <a:xfrm>
            <a:off x="642960" y="3500280"/>
            <a:ext cx="2730600" cy="2730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3sqr"/>
          <p:cNvPicPr/>
          <p:nvPr/>
        </p:nvPicPr>
        <p:blipFill>
          <a:blip r:embed="rId4"/>
          <a:stretch/>
        </p:blipFill>
        <p:spPr>
          <a:xfrm>
            <a:off x="5643720" y="3286080"/>
            <a:ext cx="2771640" cy="28576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5"/>
          <p:cNvSpPr/>
          <p:nvPr/>
        </p:nvSpPr>
        <p:spPr>
          <a:xfrm>
            <a:off x="857160" y="6429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мся показываю рисунки, которые можно программировать с помощью исполнител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RAW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32:53Z</dcterms:created>
  <dc:creator>Преподаватель</dc:creator>
  <dc:description/>
  <dc:language>en-US</dc:language>
  <cp:lastModifiedBy>Преподаватель</cp:lastModifiedBy>
  <dcterms:modified xsi:type="dcterms:W3CDTF">2010-06-24T19:15:27Z</dcterms:modified>
  <cp:revision>22</cp:revision>
  <dc:subject/>
  <dc:title>Слайд 1</dc:title>
</cp:coreProperties>
</file>