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DC5A-0EA8-4097-A0D2-21DE8DBF91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46D3-B303-4E19-95DE-12CE832027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2E9-2818-4A48-80FB-FC79900A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53D-3A58-4E71-8041-A619B622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139-C649-4EDD-8F01-2ED3748D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6D6-0AA0-43DF-887B-30978BDC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6EEB9-5664-4E56-866E-32D3B218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B1F99-9A24-4F44-AFEE-1C5899DF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C26DF-F141-4DA1-8F17-F0DAAF63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0D923-0E30-4817-98B3-5F40196F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DDDA1-0421-4CFD-9778-65760B1E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79662-4D61-4233-B4FF-EAD88335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7D845-0C61-4C7B-AF93-18215AFA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400-A5E0-4868-8C16-E04D3808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4484C-1B69-4E2C-8B46-C17466DF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A5C0F-00E1-48EE-8E86-F0BCA6B9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82318-32D6-4E23-A06A-FAA9C595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B641C-C8B1-4A1E-9CEA-8F83B795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3A889-5738-4751-ABA9-59460A22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47341-991F-405A-8772-F8886469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BC8D-07E5-4DE9-873B-3D01F234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5A85-CCF5-41A3-9AC3-9F02355D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8CBC-7497-461F-B9DB-04E3FD32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F622-D54E-43E5-A9B1-C6E67DA9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867-9E81-4F94-83B9-2D24DCF7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E4B7C-D6A5-4A8F-8568-1DD84AAD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5674-000B-4A17-99B8-F90B8F4F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AC458-669F-4792-AF1A-E787D893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E452-0BA1-465A-8A1B-A2369669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56A5-A615-46D4-A959-9DFDE9F9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7B149-9B45-479E-BF20-91C575DE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6751-0208-4639-ABE2-ABCEBB2A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06A762-7D5F-469D-A143-A4FD1718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606C71-1430-4E78-83AF-5F5FCBE0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05024D-3701-4848-BD9E-5D6E5A3A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C90-8F87-48AC-8FBB-2BD96229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70B8E-6EB2-4047-91A6-4D3098F1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11AE6-CE58-455A-9041-4CFA9563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096CB-6EB6-4460-8D15-0ABDECDD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4F1557-F28F-4520-9C65-9FA1A7FF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B7903-C400-40FB-8961-C1A26BA7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F8F2B-9787-4BBF-B466-0E52904B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B77961-C38C-4DEC-A46A-856674E5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B98F95-B0FA-49FA-8D19-0B087655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A5EDE-2B4B-4F10-A057-911BA9AC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E332F-5823-4C88-B4D1-5E8FA926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C55-BC38-470E-B6FC-FA7A4C39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65C23-C2B4-4086-AFF9-2EBB9A8D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BE6DF-A86F-44B1-8535-8C654EDD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FCB70-D7D8-4770-BCC3-23DDA93C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EDFDC-FE5D-405D-96E5-F0263DFE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FA4157-0DBE-4D30-ABDA-3B12D024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22ED43-7AB1-4C5E-A6D5-D8DB51C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189E0-7786-4AFD-98DF-42E22DAD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2C09D-58D9-4E1D-8DC9-CF71A021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43E9C0-2C3B-46DD-84C0-B1438E08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B512CD-B2C1-475F-91E6-913F9AEE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7A6-A344-4F0F-9759-FD1EACDF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E6DBED-771A-4800-8016-F1AA2982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95684-5359-4A1C-989B-6906F50F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60566-C34F-48B5-BDCB-9905CDE6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322C3B-2B22-4E65-B908-C1DDC283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8CBDEA-6826-41B1-918C-E96241BB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B44C4-33BE-496A-AEA5-EDC71819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02807-3907-42ED-961D-8075606A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6ED16-A848-4882-8DF6-5E580AA0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C1707-1FD0-4423-A464-7829312A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0A944-D3E0-463B-AAE5-A21524B2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E65-B8E5-4B23-8B7A-E73CDDAE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A3FD0-7B51-4C00-AF08-086FC34E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71167-B8A7-4DD7-BD86-6E909556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A7DE0-C6DF-4FF2-BD97-918F4637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78970-4794-4B04-8F52-89ECB24F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3D90D-0082-43FD-8809-0089AD2A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73158-FC37-4727-8DFA-D5A8DFC6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C22D0-3094-4F37-BA1F-6BC36A6F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36A72-9A6C-42DA-BF91-A4437E0E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8F19D-CA7B-4885-88B7-17A94590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714E2-EEC4-47B2-B32C-E6E4C0BC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368-D5ED-4789-BF63-D19A4AF9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A87FC-280D-412B-8617-455C386F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04439-DCD6-4165-B967-731F8973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9D90B-7097-4506-9E61-30A56EB6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39AB3-D327-47F3-A459-6C2917EF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ECCD3-AB78-44B1-8101-807D1C7B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A25-DF21-4736-BEB9-A08D5F86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93CB-180F-47C4-9F3B-0EF8134E1F8B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832B-F5BF-4BA3-B221-6EF589D8988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2AD3-1C2A-4F00-A876-4BDF0A46CE12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F725-58BA-487F-B9E5-5276EDD62B2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736F-6631-4D4B-820C-45810FD92F79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5059-D452-428D-A29B-D919DDFD36B9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98BF-12C4-4B85-A7B2-FB3F8323AB4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shali33@bk.ru" TargetMode="External"/><Relationship Id="rId2" Type="http://schemas.openxmlformats.org/officeDocument/2006/relationships/hyperlink" Target="mailto:zifa94@yandex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D:\ДОКУМЕНТЫ\письма\Босова\DRAW\1185379042_karandashik[1].jpg"/>
          <p:cNvPicPr/>
          <p:nvPr/>
        </p:nvPicPr>
        <p:blipFill>
          <a:blip r:embed="rId1"/>
          <a:srcRect l="4293" t="3128" r="6376" b="10630"/>
          <a:stretch/>
        </p:blipFill>
        <p:spPr>
          <a:xfrm>
            <a:off x="5429160" y="2214720"/>
            <a:ext cx="3071880" cy="3286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D:\ДОКУМЕНТЫ\письма\Босова\DRAW\1263974281_6.jpg"/>
          <p:cNvPicPr/>
          <p:nvPr/>
        </p:nvPicPr>
        <p:blipFill>
          <a:blip r:embed="rId2"/>
          <a:stretch/>
        </p:blipFill>
        <p:spPr>
          <a:xfrm>
            <a:off x="642960" y="2286000"/>
            <a:ext cx="4203720" cy="31050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6" descr=""/>
          <p:cNvPicPr/>
          <p:nvPr/>
        </p:nvPicPr>
        <p:blipFill>
          <a:blip r:embed="rId3"/>
          <a:stretch/>
        </p:blipFill>
        <p:spPr>
          <a:xfrm>
            <a:off x="371520" y="324000"/>
            <a:ext cx="85597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"/>
          <p:cNvSpPr/>
          <p:nvPr/>
        </p:nvSpPr>
        <p:spPr>
          <a:xfrm>
            <a:off x="214200" y="452160"/>
            <a:ext cx="87156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Задание на д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1.Построить чертеж своего рисунка в тетрадях: например, для начала можно нарисовать </a:t>
            </a:r>
            <a:r>
              <a:rPr b="1" i="1" lang="ru-RU" sz="2800" spc="-1" strike="noStrike">
                <a:solidFill>
                  <a:srgbClr val="ff3300"/>
                </a:solidFill>
                <a:latin typeface="Cambria"/>
              </a:rPr>
              <a:t>конверт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, </a:t>
            </a:r>
            <a:r>
              <a:rPr b="1" i="1" lang="ru-RU" sz="2800" spc="-1" strike="noStrike">
                <a:solidFill>
                  <a:srgbClr val="0000ff"/>
                </a:solidFill>
                <a:latin typeface="Cambria"/>
              </a:rPr>
              <a:t>куб,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Cambria"/>
              </a:rPr>
              <a:t>пирамиду;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нарисовать </a:t>
            </a:r>
            <a:r>
              <a:rPr b="1" i="1" lang="ru-RU" sz="2800" spc="-1" strike="noStrike">
                <a:solidFill>
                  <a:srgbClr val="cc00ff"/>
                </a:solidFill>
                <a:latin typeface="Cambria"/>
              </a:rPr>
              <a:t>прямоугольники,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расположенные на экране случайным образом; </a:t>
            </a:r>
            <a:r>
              <a:rPr b="1" i="1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построить </a:t>
            </a:r>
            <a:r>
              <a:rPr b="1" i="1" lang="ru-RU" sz="2800" spc="-1" strike="noStrike">
                <a:solidFill>
                  <a:srgbClr val="0033cc"/>
                </a:solidFill>
                <a:latin typeface="Cambria"/>
              </a:rPr>
              <a:t>многоугольник;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построить </a:t>
            </a:r>
            <a:r>
              <a:rPr b="1" i="1" lang="ru-RU" sz="2800" spc="-1" strike="noStrike">
                <a:solidFill>
                  <a:srgbClr val="ff3300"/>
                </a:solidFill>
                <a:latin typeface="Cambria"/>
              </a:rPr>
              <a:t>Российский флаг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и </a:t>
            </a:r>
            <a:r>
              <a:rPr b="1" i="1" lang="ru-RU" sz="2800" spc="-1" strike="noStrike">
                <a:solidFill>
                  <a:srgbClr val="fefac9"/>
                </a:solidFill>
                <a:latin typeface="Cambria"/>
              </a:rPr>
              <a:t>флаг </a:t>
            </a:r>
            <a:r>
              <a:rPr b="1" i="1" lang="ru-RU" sz="2800" spc="-1" strike="noStrike">
                <a:solidFill>
                  <a:srgbClr val="0f07b5"/>
                </a:solidFill>
                <a:latin typeface="Cambria"/>
              </a:rPr>
              <a:t>Республики Татарстан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и попробовать написать програм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2.  Учить</a:t>
            </a:r>
            <a:r>
              <a:rPr b="1" i="1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ambria"/>
              </a:rPr>
              <a:t> направления  </a:t>
            </a:r>
            <a:r>
              <a:rPr b="1" i="1" lang="tt-RU" sz="2800" spc="-1" strike="noStrike">
                <a:solidFill>
                  <a:srgbClr val="ffffff"/>
                </a:solidFill>
                <a:latin typeface="Cambria"/>
              </a:rPr>
              <a:t>испольнителя </a:t>
            </a:r>
            <a:r>
              <a:rPr b="1" i="1" lang="en-US" sz="2800" spc="-1" strike="noStrike">
                <a:solidFill>
                  <a:srgbClr val="ffffff"/>
                </a:solidFill>
                <a:latin typeface="Rockwell"/>
              </a:rPr>
              <a:t> 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9"/>
          <p:cNvSpPr/>
          <p:nvPr/>
        </p:nvSpPr>
        <p:spPr>
          <a:xfrm>
            <a:off x="250920" y="189000"/>
            <a:ext cx="889308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втор: Миннезифа Шакуровна Гимадиева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читель информатик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tt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ой квалифика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</a:t>
            </a:r>
            <a:r>
              <a:rPr b="1" i="1" lang="tt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онной катего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У «Шалинская средняя общеобразовательная» Пестречинского муниципального района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публики Татарст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Электронный адрес : </a:t>
            </a:r>
            <a:r>
              <a:rPr b="0" lang="en-US" sz="18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1"/>
              </a:rPr>
              <a:t>shali33@bk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e58b6"/>
                </a:solidFill>
                <a:uFillTx/>
                <a:latin typeface="Times New Roman"/>
                <a:ea typeface="Times New Roman"/>
                <a:hlinkClick r:id="rId2"/>
              </a:rPr>
              <a:t>  zifa94@yandex.ru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571680" y="214200"/>
            <a:ext cx="81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mbria"/>
              </a:rPr>
              <a:t>Экранные режи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714680" y="785880"/>
          <a:ext cx="6265800" cy="5761080"/>
        </p:xfrm>
        <a:graphic>
          <a:graphicData uri="http://schemas.openxmlformats.org/drawingml/2006/table">
            <a:tbl>
              <a:tblPr/>
              <a:tblGrid>
                <a:gridCol w="1850760"/>
                <a:gridCol w="2208240"/>
                <a:gridCol w="220680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Номер режи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Раз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Количество цве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Текстовый реж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20*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0*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20*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0*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0*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0*3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0*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40*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20*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"/>
          <p:cNvSpPr/>
          <p:nvPr/>
        </p:nvSpPr>
        <p:spPr>
          <a:xfrm>
            <a:off x="214200" y="642960"/>
            <a:ext cx="87156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и них 9 и 12 обладает наибольшей разрешающей способностью и позволяет получать качественные графические объекты. После включения графического режима можно давать компьютеру команды рисования графических примитивов. Графический режим включается только один раз. Для включения экранного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жима используется оператор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 C R E E 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463680" y="85680"/>
            <a:ext cx="6881760" cy="663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1979640" y="692280"/>
          <a:ext cx="5761080" cy="5983200"/>
        </p:xfrm>
        <a:graphic>
          <a:graphicData uri="http://schemas.openxmlformats.org/drawingml/2006/table">
            <a:tbl>
              <a:tblPr/>
              <a:tblGrid>
                <a:gridCol w="2301840"/>
                <a:gridCol w="3459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Но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2d050"/>
                          </a:solidFill>
                          <a:latin typeface="Comic Sans MS"/>
                        </a:rPr>
                        <a:t>Цв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Чер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Зеле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Фиолет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Коричне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ветло-сер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Темно-сер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ветло-си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ветло-зеле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ветло-голуб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Светло-крас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Василько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Жел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Ярко-бел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5"/>
          <p:cNvSpPr/>
          <p:nvPr/>
        </p:nvSpPr>
        <p:spPr>
          <a:xfrm>
            <a:off x="826920" y="37893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17"/>
          <p:cNvGrpSpPr/>
          <p:nvPr/>
        </p:nvGrpSpPr>
        <p:grpSpPr>
          <a:xfrm>
            <a:off x="642960" y="2786040"/>
            <a:ext cx="7558560" cy="3637800"/>
            <a:chOff x="642960" y="2786040"/>
            <a:chExt cx="7558560" cy="3637800"/>
          </a:xfrm>
        </p:grpSpPr>
        <p:grpSp>
          <p:nvGrpSpPr>
            <p:cNvPr id="310" name="Group 14"/>
            <p:cNvGrpSpPr/>
            <p:nvPr/>
          </p:nvGrpSpPr>
          <p:grpSpPr>
            <a:xfrm>
              <a:off x="642960" y="2786040"/>
              <a:ext cx="7558560" cy="3637800"/>
              <a:chOff x="642960" y="2786040"/>
              <a:chExt cx="7558560" cy="3637800"/>
            </a:xfrm>
          </p:grpSpPr>
          <p:sp>
            <p:nvSpPr>
              <p:cNvPr id="311" name="Rectangle 5"/>
              <p:cNvSpPr/>
              <p:nvPr/>
            </p:nvSpPr>
            <p:spPr>
              <a:xfrm>
                <a:off x="1851480" y="3406320"/>
                <a:ext cx="6249960" cy="3017520"/>
              </a:xfrm>
              <a:prstGeom prst="rect">
                <a:avLst/>
              </a:prstGeom>
              <a:solidFill>
                <a:srgbClr val="a5b59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6"/>
              <p:cNvSpPr/>
              <p:nvPr/>
            </p:nvSpPr>
            <p:spPr>
              <a:xfrm>
                <a:off x="2053800" y="3052080"/>
                <a:ext cx="38307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7"/>
              <p:cNvSpPr/>
              <p:nvPr/>
            </p:nvSpPr>
            <p:spPr>
              <a:xfrm>
                <a:off x="1449360" y="3494160"/>
                <a:ext cx="0" cy="1776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8"/>
              <p:cNvSpPr/>
              <p:nvPr/>
            </p:nvSpPr>
            <p:spPr>
              <a:xfrm>
                <a:off x="1147320" y="2962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0,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Text Box 10"/>
              <p:cNvSpPr/>
              <p:nvPr/>
            </p:nvSpPr>
            <p:spPr>
              <a:xfrm>
                <a:off x="5782320" y="2786040"/>
                <a:ext cx="40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Cambria"/>
                  </a:rPr>
                  <a:t>Х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Text Box 12"/>
              <p:cNvSpPr/>
              <p:nvPr/>
            </p:nvSpPr>
            <p:spPr>
              <a:xfrm>
                <a:off x="7295400" y="2786040"/>
                <a:ext cx="90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64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Text Box 13"/>
              <p:cNvSpPr/>
              <p:nvPr/>
            </p:nvSpPr>
            <p:spPr>
              <a:xfrm>
                <a:off x="642960" y="5803560"/>
                <a:ext cx="110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350(480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8" name="Text Box 16"/>
            <p:cNvSpPr/>
            <p:nvPr/>
          </p:nvSpPr>
          <p:spPr>
            <a:xfrm>
              <a:off x="1044720" y="5271480"/>
              <a:ext cx="40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mbria"/>
                </a:rPr>
                <a:t>У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Text Box 18"/>
          <p:cNvSpPr/>
          <p:nvPr/>
        </p:nvSpPr>
        <p:spPr>
          <a:xfrm>
            <a:off x="285840" y="50004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рафические режимы экрана представляют собой координатную сетку с началом в левом верхнем уг-лу, вправо от которого увеличивается координата Х, а вниз - координата У. Максимальное значение Х на экране 640, а У - 350 (480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725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3" descr=""/>
          <p:cNvPicPr/>
          <p:nvPr/>
        </p:nvPicPr>
        <p:blipFill>
          <a:blip r:embed="rId1"/>
          <a:stretch/>
        </p:blipFill>
        <p:spPr>
          <a:xfrm>
            <a:off x="5187960" y="895320"/>
            <a:ext cx="3554280" cy="331632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4"/>
          <p:cNvGrpSpPr/>
          <p:nvPr/>
        </p:nvGrpSpPr>
        <p:grpSpPr>
          <a:xfrm>
            <a:off x="5286240" y="1071360"/>
            <a:ext cx="2858040" cy="2857680"/>
            <a:chOff x="5286240" y="1071360"/>
            <a:chExt cx="2858040" cy="2857680"/>
          </a:xfrm>
        </p:grpSpPr>
        <p:cxnSp>
          <p:nvCxnSpPr>
            <p:cNvPr id="322" name="AutoShape 5"/>
            <p:cNvCxnSpPr/>
            <p:nvPr/>
          </p:nvCxnSpPr>
          <p:spPr>
            <a:xfrm>
              <a:off x="5707800" y="1304640"/>
              <a:ext cx="2069280" cy="223776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3" name="AutoShape 6"/>
            <p:cNvCxnSpPr/>
            <p:nvPr/>
          </p:nvCxnSpPr>
          <p:spPr>
            <a:xfrm flipH="1">
              <a:off x="5748480" y="1304640"/>
              <a:ext cx="2028240" cy="216504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4" name="AutoShape 7"/>
            <p:cNvCxnSpPr/>
            <p:nvPr/>
          </p:nvCxnSpPr>
          <p:spPr>
            <a:xfrm flipH="1">
              <a:off x="6743880" y="1071360"/>
              <a:ext cx="42840" cy="285804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5" name="AutoShape 8"/>
            <p:cNvCxnSpPr/>
            <p:nvPr/>
          </p:nvCxnSpPr>
          <p:spPr>
            <a:xfrm>
              <a:off x="5286240" y="2386440"/>
              <a:ext cx="2858400" cy="1080"/>
            </a:xfrm>
            <a:prstGeom prst="straightConnector1">
              <a:avLst/>
            </a:prstGeom>
            <a:ln w="38160">
              <a:solidFill>
                <a:srgbClr val="00206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2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0"/>
          <p:cNvSpPr/>
          <p:nvPr/>
        </p:nvSpPr>
        <p:spPr>
          <a:xfrm>
            <a:off x="38880" y="457560"/>
            <a:ext cx="47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22"/>
          <p:cNvSpPr/>
          <p:nvPr/>
        </p:nvSpPr>
        <p:spPr>
          <a:xfrm>
            <a:off x="500040" y="214200"/>
            <a:ext cx="4572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ератор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DRAW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 графическое "перо" ) используется для построения на экране фигур, состоящих из отрезков прямых линий. Он так же может использовать заранее заготовленные элементы, производя над ними такие преобразования, как масштабирование, поворот, перенос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цедура рисования нужной фигуры предварительно разбивается на отдельные шаги: шаг вправо, влево, вверх, вниз, по какой-то из диагоналей, шаг в точку с заданными коор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инатами, шаг с возвратом, поворот и т.д. Затем эти шаги последовательно записываются отдельными командами оператор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DRAW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ератор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DRAW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ключает в себя 15 графических команд, 9 из которых обеспечивают вычерчивание линий на экране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M x,y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), а остальные 6 (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C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являются управляющи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6"/>
          <p:cNvGrpSpPr/>
          <p:nvPr/>
        </p:nvGrpSpPr>
        <p:grpSpPr>
          <a:xfrm>
            <a:off x="0" y="285840"/>
            <a:ext cx="8929440" cy="6357600"/>
            <a:chOff x="0" y="285840"/>
            <a:chExt cx="8929440" cy="6357600"/>
          </a:xfrm>
        </p:grpSpPr>
        <p:sp>
          <p:nvSpPr>
            <p:cNvPr id="330" name="Rectangle 24"/>
            <p:cNvSpPr/>
            <p:nvPr/>
          </p:nvSpPr>
          <p:spPr>
            <a:xfrm>
              <a:off x="0" y="285840"/>
              <a:ext cx="8929440" cy="6357600"/>
            </a:xfrm>
            <a:prstGeom prst="rect">
              <a:avLst/>
            </a:prstGeom>
            <a:solidFill>
              <a:srgbClr val="444d2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25"/>
            <p:cNvSpPr/>
            <p:nvPr/>
          </p:nvSpPr>
          <p:spPr>
            <a:xfrm>
              <a:off x="178920" y="458640"/>
              <a:ext cx="8571600" cy="6029280"/>
            </a:xfrm>
            <a:prstGeom prst="rect">
              <a:avLst/>
            </a:prstGeom>
            <a:solidFill>
              <a:srgbClr val="fefac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Прямоугольник 6"/>
          <p:cNvSpPr/>
          <p:nvPr/>
        </p:nvSpPr>
        <p:spPr>
          <a:xfrm>
            <a:off x="285840" y="714240"/>
            <a:ext cx="5929200" cy="69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C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SCREEN  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ockwell"/>
              </a:rPr>
              <a:t>REM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ru-RU" sz="2800" spc="-1" strike="noStrike">
                <a:solidFill>
                  <a:srgbClr val="706702"/>
                </a:solidFill>
                <a:latin typeface="Arial"/>
              </a:rPr>
              <a:t>Пример программы, которая рисует зеленую елочку на голубом фон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06702"/>
                </a:solidFill>
                <a:latin typeface="Arial"/>
              </a:rPr>
              <a:t>SCREEN </a:t>
            </a:r>
            <a:r>
              <a:rPr b="1" lang="ru-RU" sz="2800" spc="-1" strike="noStrike">
                <a:solidFill>
                  <a:srgbClr val="706702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06702"/>
                </a:solidFill>
                <a:latin typeface="Arial"/>
              </a:rPr>
              <a:t>COLOR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06702"/>
                </a:solidFill>
                <a:latin typeface="Arial"/>
              </a:rPr>
              <a:t>DRAW «BM 120,100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06702"/>
                </a:solidFill>
                <a:latin typeface="Arial"/>
              </a:rPr>
              <a:t>DRAW«C2E10F10H10D15G15E15F15H15D20G20E20F20H20D30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706702"/>
                </a:solidFill>
                <a:latin typeface="Arial"/>
              </a:rPr>
              <a:t>F5-</a:t>
            </a:r>
            <a:r>
              <a:rPr b="1" lang="ru-RU" sz="2800" spc="-1" strike="noStrike">
                <a:solidFill>
                  <a:srgbClr val="706702"/>
                </a:solidFill>
                <a:latin typeface="Arial"/>
              </a:rPr>
              <a:t>кнопка запуска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6702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32"/>
          <p:cNvGrpSpPr/>
          <p:nvPr/>
        </p:nvGrpSpPr>
        <p:grpSpPr>
          <a:xfrm>
            <a:off x="6786720" y="4786200"/>
            <a:ext cx="1655640" cy="1297080"/>
            <a:chOff x="6786720" y="4786200"/>
            <a:chExt cx="1655640" cy="1297080"/>
          </a:xfrm>
        </p:grpSpPr>
        <p:grpSp>
          <p:nvGrpSpPr>
            <p:cNvPr id="334" name="AutoShape 30"/>
            <p:cNvGrpSpPr/>
            <p:nvPr/>
          </p:nvGrpSpPr>
          <p:grpSpPr>
            <a:xfrm>
              <a:off x="6786720" y="4786200"/>
              <a:ext cx="1655640" cy="1297080"/>
              <a:chOff x="6786720" y="4786200"/>
              <a:chExt cx="1655640" cy="1297080"/>
            </a:xfrm>
          </p:grpSpPr>
          <p:pic>
            <p:nvPicPr>
              <p:cNvPr id="335" name="AutoShape 30" descr="">
                <a:hlinkClick r:id="" action="ppaction://hlinkshowjump?jump=nextslide"/>
              </p:cNvPr>
              <p:cNvPicPr/>
              <p:nvPr/>
            </p:nvPicPr>
            <p:blipFill>
              <a:blip r:embed="rId1"/>
              <a:stretch/>
            </p:blipFill>
            <p:spPr>
              <a:xfrm>
                <a:off x="6786720" y="4786200"/>
                <a:ext cx="1655640" cy="12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6806160" y="4804920"/>
                <a:ext cx="1623600" cy="12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31"/>
            <p:cNvGrpSpPr/>
            <p:nvPr/>
          </p:nvGrpSpPr>
          <p:grpSpPr>
            <a:xfrm>
              <a:off x="7018200" y="5086800"/>
              <a:ext cx="1269000" cy="632160"/>
              <a:chOff x="7018200" y="5086800"/>
              <a:chExt cx="1269000" cy="632160"/>
            </a:xfrm>
          </p:grpSpPr>
          <p:pic>
            <p:nvPicPr>
              <p:cNvPr id="338" name="Picture 28" descr="L_F"/>
              <p:cNvPicPr/>
              <p:nvPr/>
            </p:nvPicPr>
            <p:blipFill>
              <a:blip r:embed="rId2"/>
              <a:stretch/>
            </p:blipFill>
            <p:spPr>
              <a:xfrm>
                <a:off x="7018200" y="5086800"/>
                <a:ext cx="672480" cy="60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Picture 29" descr="num5"/>
              <p:cNvPicPr/>
              <p:nvPr/>
            </p:nvPicPr>
            <p:blipFill>
              <a:blip r:embed="rId3"/>
              <a:stretch/>
            </p:blipFill>
            <p:spPr>
              <a:xfrm>
                <a:off x="7695720" y="5114520"/>
                <a:ext cx="591480" cy="604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40" name="Picture 13" descr="ELKASNEG"/>
          <p:cNvPicPr/>
          <p:nvPr/>
        </p:nvPicPr>
        <p:blipFill>
          <a:blip r:embed="rId4"/>
          <a:stretch/>
        </p:blipFill>
        <p:spPr>
          <a:xfrm>
            <a:off x="6215040" y="571680"/>
            <a:ext cx="242568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WIND1"/>
          <p:cNvPicPr/>
          <p:nvPr/>
        </p:nvPicPr>
        <p:blipFill>
          <a:blip r:embed="rId1"/>
          <a:stretch/>
        </p:blipFill>
        <p:spPr>
          <a:xfrm>
            <a:off x="1357200" y="1571760"/>
            <a:ext cx="1662120" cy="1068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WIND2"/>
          <p:cNvPicPr/>
          <p:nvPr/>
        </p:nvPicPr>
        <p:blipFill>
          <a:blip r:embed="rId2"/>
          <a:stretch/>
        </p:blipFill>
        <p:spPr>
          <a:xfrm>
            <a:off x="6000840" y="1571760"/>
            <a:ext cx="1780920" cy="1144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9ris"/>
          <p:cNvPicPr/>
          <p:nvPr/>
        </p:nvPicPr>
        <p:blipFill>
          <a:blip r:embed="rId3"/>
          <a:stretch/>
        </p:blipFill>
        <p:spPr>
          <a:xfrm>
            <a:off x="642960" y="3500280"/>
            <a:ext cx="2730600" cy="2730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3sqr"/>
          <p:cNvPicPr/>
          <p:nvPr/>
        </p:nvPicPr>
        <p:blipFill>
          <a:blip r:embed="rId4"/>
          <a:stretch/>
        </p:blipFill>
        <p:spPr>
          <a:xfrm>
            <a:off x="5643720" y="3286080"/>
            <a:ext cx="2771640" cy="2857680"/>
          </a:xfrm>
          <a:prstGeom prst="rect">
            <a:avLst/>
          </a:prstGeom>
          <a:ln w="0">
            <a:noFill/>
          </a:ln>
        </p:spPr>
      </p:pic>
      <p:sp>
        <p:nvSpPr>
          <p:cNvPr id="345" name="TextBox 5"/>
          <p:cNvSpPr/>
          <p:nvPr/>
        </p:nvSpPr>
        <p:spPr>
          <a:xfrm>
            <a:off x="857160" y="6429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щимся показываю рисунки, которые можно программировать с помощью исполнител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RAW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5:32:53Z</dcterms:created>
  <dc:creator>Преподаватель</dc:creator>
  <dc:description/>
  <dc:language>en-US</dc:language>
  <cp:lastModifiedBy>Преподаватель</cp:lastModifiedBy>
  <dcterms:modified xsi:type="dcterms:W3CDTF">2010-06-24T19:15:27Z</dcterms:modified>
  <cp:revision>22</cp:revision>
  <dc:subject/>
  <dc:title>Слайд 1</dc:title>
</cp:coreProperties>
</file>