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906-9DD3-4C13-AE16-581D3E2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346-FB87-4ABE-8991-89018A41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E25-0746-4CE4-999E-30D6471F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F1F-4E37-41BD-BA11-1866BF0D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8B9-A591-4158-91C2-9A18272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D78-97E0-4CC6-A3BE-CC4501A7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517-2B99-48E1-A087-7469939E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035-9EE1-4EB3-86B2-CDEE0F6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FE5-7ACE-4769-AD87-AE1DB7BF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9AF-C216-481C-A4DE-BB6B482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D28-32E9-4B24-8B88-2FEF0F8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1C9-E87C-4C9B-BF67-7398947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5952-6457-40CC-B2B9-180E47341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Admin</cp:lastModifiedBy>
  <dcterms:modified xsi:type="dcterms:W3CDTF">2013-04-28T06:26:17Z</dcterms:modified>
  <cp:revision>8</cp:revision>
  <dc:subject/>
  <dc:title>Слайд 1</dc:title>
</cp:coreProperties>
</file>