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8F9-9711-4BEC-BDE2-899F2FA4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E58-E6BD-4E76-941F-36C971F2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488-7AB8-4080-9BC8-8217FD22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51E-742A-4105-BADC-77D26A0A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6A34-2161-49F6-84E1-B7831706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91E0-EEDF-4F93-A935-93B3D6BC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8E90-B9B1-4346-8F88-23090057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0605-4C8F-4861-B031-3093CC86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CE4E-A5B2-47D2-B6EA-C887D79F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5A3A-8302-435A-B355-7A532C44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1B9-6A3C-4937-8A67-33F02B2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928-23F1-4105-B374-F18683A0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1988-0506-48C3-9F04-8CE0E99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7433-7F78-4269-899D-6AF26660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7953-2440-4703-A1D6-F935C201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0EF3-1ED4-4123-B12F-B5B73A69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F599-09F5-4C18-89D5-0D113AAC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5E4-184E-40ED-B7E4-D6C8E1BA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808-8DAE-4AA0-89EA-553D6566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D0C-04CE-4CB0-958B-65384F0E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EF7-6E65-4648-96A3-51A21DAD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B15-24C8-4941-B328-B23A0D2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54C-171B-4B53-86D5-31D7DD7F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69F-19BD-413B-AAAB-CD108ACA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2588-669B-4FB3-8796-B664A612BA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6936-0649-4F3E-8BBB-19D712D2CD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1p/18066" TargetMode="External"/><Relationship Id="rId2" Type="http://schemas.openxmlformats.org/officeDocument/2006/relationships/hyperlink" Target="http://dic.academic.ru/dic.nsf/enc1p/48362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езентация по теме: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Мезозойская эра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600" y="3429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и:  ученицы 9 класса Лаврова Ю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овская Александ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уличкова Ма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: учитель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ина Ю.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«Нижнесанар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оицкого района Челябин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4876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ЗОЗОЙ [мезозойская эратема (эра)] (мезо... и греческое zoe -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жизн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, среднее подразделение фанерозоя. Начался 235 млн. лет назад, продолжительность около 170 млн. лет. Делится на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триа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юру, мел (смотри Геохронология). На рубеже палеозоя и мезозоя происходили существенные изменения в мире животных и растений. Для мезозоя характерны господство пресмыкающихся (динозавры, ихтиозавры, птерозавры и другие), иногда достигавших громадных размеров, появление многочисленных насекомых, птиц, млекопитающих. Среди беспозвоночных преобладали головоногие моллюски. Происходили обновление флоры, расцвет голосеменных. Климатическая зональность в мезозое сходна с позднепалеозойской, выделяются гумидные и аридные зоны тропического и умеренного климата, с позднего триаса происходило неоднократное увлажнение и потепление климата. В мезозое отмечалось интенсивное проявление складчатости, горообразования и магматизма. В мезозое распались Гондвана и Лавразия, сформировались основные контуры современных материков и океанов. К отложениям мезозоя приурочены основные запасы нефти и газа, а также угля, торфа, писчего мела, солей, гипсов, рудных полезных ископаемых и д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d5"/>
          <p:cNvPicPr/>
          <p:nvPr/>
        </p:nvPicPr>
        <p:blipFill>
          <a:blip r:embed="rId3"/>
          <a:stretch/>
        </p:blipFill>
        <p:spPr>
          <a:xfrm>
            <a:off x="5486400" y="1219320"/>
            <a:ext cx="325764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зозойская э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4"/>
          <p:cNvSpPr/>
          <p:nvPr/>
        </p:nvSpPr>
        <p:spPr>
          <a:xfrm flipH="1">
            <a:off x="1752480" y="1295280"/>
            <a:ext cx="137160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343400" y="12193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6"/>
          <p:cNvSpPr/>
          <p:nvPr/>
        </p:nvSpPr>
        <p:spPr>
          <a:xfrm>
            <a:off x="5562720" y="1295280"/>
            <a:ext cx="121896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0560" y="30798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асовый перио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248-213млн.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470040" y="300348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ский пери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213-144млн.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922720" y="315612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ловой пери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44-65млн.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риас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91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     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География и климат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Триасовый период в истории Земли ознаменовал собой начало мезозойской эры, или эры "средней жизни". До него все материки были слиты в единый гигантский сверхматерик Панагею. С наступлением Триаса Пангея вновь начала раскалываться на Гондвану и Лавразию, начал образовываться Атлантический океан. Уровень моря по всему миру был очень низок. Климат, почти повсеместно тёплый, постепенно становился более сухим, и во внутриматериковых областях сформировались обширные пустыни. Мелкие моря и озёра интенсивно испарялись, из-за чего вода в них стала очень солёной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  Триасовый период в истории Земли ознаменовал собой начало мезозойской эры, или (эры средней жизни). До него все материки были  слиты в единый гигантский сверхматерик Пангею. С наступлением триаса Пангея начала постепенно раскалываться. Климат в те времена был ровным по всему земному шару. Даже у полюсов и на экваторе погодные условия были гораздо более сходными, чем в наши дни. Ближе к концу триаса климат стал суше. Озёра и реки начали быстро пересыхать, и во внутренних областях материков образовались обширные пустыни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str87"/>
          <p:cNvPicPr/>
          <p:nvPr/>
        </p:nvPicPr>
        <p:blipFill>
          <a:blip r:embed="rId1"/>
          <a:stretch/>
        </p:blipFill>
        <p:spPr>
          <a:xfrm>
            <a:off x="6800760" y="1219320"/>
            <a:ext cx="2343240" cy="1380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ris7"/>
          <p:cNvPicPr/>
          <p:nvPr/>
        </p:nvPicPr>
        <p:blipFill>
          <a:blip r:embed="rId2"/>
          <a:stretch/>
        </p:blipFill>
        <p:spPr>
          <a:xfrm>
            <a:off x="4343400" y="5124600"/>
            <a:ext cx="1905120" cy="1733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876920" y="2591280"/>
            <a:ext cx="3886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тительный ми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росло разнообразие голосеменных растений, образовавших обширные леса саговников, араукарий, гинкго и хвойных деревьев. Ниже расстилался ковер из плаунов и хвощей, а также пальмовидных беннеттитов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Юрски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География и клим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началу юрского периода гигантский сверхматерик Пангея находился в процессе активного распада. К югу от экватора всё ещё существовал единый обширный материк, который снова назвали Гондваной. В дальнейшем он также раскололся на части, образовавшие сегодняшнее Австралию, Индию, Африку и Южную Америку. Море затопило значительную часть суши. Происходило интенсивное горообразование. В начале периода климат был повсеместно тёплым и сухим, затем стал более влажным.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mir16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r19"/>
          <p:cNvPicPr/>
          <p:nvPr/>
        </p:nvPicPr>
        <p:blipFill>
          <a:blip r:embed="rId2"/>
          <a:stretch/>
        </p:blipFill>
        <p:spPr>
          <a:xfrm>
            <a:off x="6934320" y="4572000"/>
            <a:ext cx="171108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152280" y="3670200"/>
            <a:ext cx="40388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Животный ми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Увеличились численность и разнообразие морских черепах и крокодилов, появились новые виды плезиозавров и ихтиозавров. На суше господствовали насекомые, предшественники современных мух, ос, уховерток, муравьев и пчел. Появилась и первая птица-археоптерикс. Господствовали динозавры, эволюционировавшие во множество форм: от гигантских зауроподов до более мелких и быстроногих хищник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ris8"/>
          <p:cNvPicPr/>
          <p:nvPr/>
        </p:nvPicPr>
        <p:blipFill>
          <a:blip r:embed="rId3"/>
          <a:stretch/>
        </p:blipFill>
        <p:spPr>
          <a:xfrm>
            <a:off x="4114800" y="47242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600200" y="1292760"/>
            <a:ext cx="2209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Растительный ми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лимат стал более влажным, и вся суша поросла обильной растительностью. В лесах появились предшественники нынешних кипарисов, сосен и мамонтовых деревье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лово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География и клима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течение мелового периода на нашей планете продолжался "великий раскол" материков. Громадные массивы суши, образовавшие Лавразию и Гондвану, постепенно распадались на части. Южная Америка и Африка удалялись друг от друга, и Атлантический океан становился всё шире и шире. Африка, Индия и Австралия также начали расходиться в разные стороны, и к югу от экватора в итоге образовались гигантские острова. Большая часть территории современной Европы находилась тогда под водой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ris9"/>
          <p:cNvPicPr/>
          <p:nvPr/>
        </p:nvPicPr>
        <p:blipFill>
          <a:blip r:embed="rId1"/>
          <a:stretch/>
        </p:blipFill>
        <p:spPr>
          <a:xfrm>
            <a:off x="609480" y="1143000"/>
            <a:ext cx="2210040" cy="2022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533520" y="3089880"/>
            <a:ext cx="32605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Животный ми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орях возросло количество белемнитов. В океанах господствовали гигантские морские черепахи и хищные морские рептилии. На суше появились змеи, кроме того, возникли новые разновидности динозавров, а также насекомых, таких, как мотыльки и бабочки. В конце периода очередное массовое вымирание привело к исчезновению аммонитов, ихтиозавров и многих других групп морских животных, а на суше вымерли все динозавры и птерозавр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191120" y="4495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тительный ми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явились первые цветковые растения, завязавшие тесное "сотрудничество" с насекомыми, переносившими их пыльцу. Они стали быстро распространяться по всей суш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8T18:09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