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1B9-7724-4453-BCEF-4573D197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730-625D-4665-85C0-E16F2F08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5A9-889D-47A7-BE90-21ED404F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8F8D-2D64-423E-8EAB-93046CF3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DF51-BA49-4B7E-8BCD-5B7914C6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4744-2D36-43BC-9C33-F3D13595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29A3-1212-4BF7-AAB4-69ABF439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2C64-F07E-4797-ADCA-A65CDF38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7FA7-3687-401F-A5CC-6D80585C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A77B-42E8-42BC-A636-748281BF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A5CA-A57A-4206-BDF9-0A2B5163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509-613B-4E0F-BC40-8A97AA16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0234-FAB0-48F2-BF62-4A2416BD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6312-98E3-4AE2-A7DC-B299E489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9DB8-B972-49FD-B505-8E89F91B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260C-1449-4900-9893-0BD6F0E0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CACF-2BCE-4CBB-BAA7-6BA6A0D6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4CB-11EA-4468-8EB7-63C573AA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038F-9A0E-4964-90F0-B592CA2E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20BB-1658-4A18-B4CB-89D33134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3CF-6976-49BA-A6D8-4941E08D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908-A322-402F-A3B3-04521494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5B8-BD25-4414-9BF2-B250CA05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8FB-01DD-4704-8106-8680C40D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B328-BA83-4C94-A144-D1D7293864A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051B-CBB3-473B-813F-295209C6D0F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ic.academic.ru/dic.nsf/enc1p/18066" TargetMode="External"/><Relationship Id="rId2" Type="http://schemas.openxmlformats.org/officeDocument/2006/relationships/hyperlink" Target="http://dic.academic.ru/dic.nsf/enc1p/48362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резентация по теме: 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Мезозойская эра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600" y="34290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и:  ученицы 9 класса Лаврова Юл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ровская Александ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уличкова Мар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ководитель: учитель биолог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тина Ю.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КОУ «Нижнесанар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оицкого района Челябинской обл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51920" y="609480"/>
            <a:ext cx="48769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ЗОЗОЙ [мезозойская эратема (эра)] (мезо... и греческое zoe -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жизнь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, среднее подразделение фанерозоя. Начался 235 млн. лет назад, продолжительность около 170 млн. лет. Делится на </a:t>
            </a:r>
            <a:r>
              <a:rPr b="0" lang="ru-RU" sz="16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триа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юру, мел (смотри Геохронология). На рубеже палеозоя и мезозоя происходили существенные изменения в мире животных и растений. Для мезозоя характерны господство пресмыкающихся (динозавры, ихтиозавры, птерозавры и другие), иногда достигавших громадных размеров, появление многочисленных насекомых, птиц, млекопитающих. Среди беспозвоночных преобладали головоногие моллюски. Происходили обновление флоры, расцвет голосеменных. Климатическая зональность в мезозое сходна с позднепалеозойской, выделяются гумидные и аридные зоны тропического и умеренного климата, с позднего триаса происходило неоднократное увлажнение и потепление климата. В мезозое отмечалось интенсивное проявление складчатости, горообразования и магматизма. В мезозое распались Гондвана и Лавразия, сформировались основные контуры современных материков и океанов. К отложениям мезозоя приурочены основные запасы нефти и газа, а также угля, торфа, писчего мела, солей, гипсов, рудных полезных ископаемых и др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d5"/>
          <p:cNvPicPr/>
          <p:nvPr/>
        </p:nvPicPr>
        <p:blipFill>
          <a:blip r:embed="rId3"/>
          <a:stretch/>
        </p:blipFill>
        <p:spPr>
          <a:xfrm>
            <a:off x="5486400" y="1219320"/>
            <a:ext cx="3257640" cy="3581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зозойская эр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4"/>
          <p:cNvSpPr/>
          <p:nvPr/>
        </p:nvSpPr>
        <p:spPr>
          <a:xfrm flipH="1">
            <a:off x="1752480" y="1295280"/>
            <a:ext cx="137160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343400" y="12193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Line 6"/>
          <p:cNvSpPr/>
          <p:nvPr/>
        </p:nvSpPr>
        <p:spPr>
          <a:xfrm>
            <a:off x="5562720" y="1295280"/>
            <a:ext cx="121896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20560" y="307980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иасовый перио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248-213млн.ле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470040" y="300348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ский пери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213-144млн.ле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922720" y="315612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ловой пери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44-65млн.лет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риасовы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191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      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География и климат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Триасовый период в истории Земли ознаменовал собой начало мезозойской эры, или эры "средней жизни". До него все материки были слиты в единый гигантский сверхматерик Панагею. С наступлением Триаса Пангея вновь начала раскалываться на Гондвану и Лавразию, начал образовываться Атлантический океан. Уровень моря по всему миру был очень низок. Климат, почти повсеместно тёплый, постепенно становился более сухим, и во внутриматериковых областях сформировались обширные пустыни. Мелкие моря и озёра интенсивно испарялись, из-за чего вода в них стала очень солёной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  Триасовый период в истории Земли ознаменовал собой начало мезозойской эры, или (эры средней жизни). До него все материки были  слиты в единый гигантский сверхматерик Пангею. С наступлением триаса Пангея начала постепенно раскалываться. Климат в те времена был ровным по всему земному шару. Даже у полюсов и на экваторе погодные условия были гораздо более сходными, чем в наши дни. Ближе к концу триаса климат стал суше. Озёра и реки начали быстро пересыхать, и во внутренних областях материков образовались обширные пустыни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str87"/>
          <p:cNvPicPr/>
          <p:nvPr/>
        </p:nvPicPr>
        <p:blipFill>
          <a:blip r:embed="rId1"/>
          <a:stretch/>
        </p:blipFill>
        <p:spPr>
          <a:xfrm>
            <a:off x="6800760" y="1219320"/>
            <a:ext cx="2343240" cy="1380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ris7"/>
          <p:cNvPicPr/>
          <p:nvPr/>
        </p:nvPicPr>
        <p:blipFill>
          <a:blip r:embed="rId2"/>
          <a:stretch/>
        </p:blipFill>
        <p:spPr>
          <a:xfrm>
            <a:off x="4343400" y="5124600"/>
            <a:ext cx="1905120" cy="1733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4876920" y="2591280"/>
            <a:ext cx="3886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астительный ми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зросло разнообразие голосеменных растений, образовавших обширные леса саговников, араукарий, гинкго и хвойных деревьев. Ниже расстилался ковер из плаунов и хвощей, а также пальмовидных беннеттитов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Юрски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География и клима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 началу юрского периода гигантский сверхматерик Пангея находился в процессе активного распада. К югу от экватора всё ещё существовал единый обширный материк, который снова назвали Гондваной. В дальнейшем он также раскололся на части, образовавшие сегодняшнее Австралию, Индию, Африку и Южную Америку. Море затопило значительную часть суши. Происходило интенсивное горообразование. В начале периода климат был повсеместно тёплым и сухим, затем стал более влажным.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mir16"/>
          <p:cNvPicPr/>
          <p:nvPr/>
        </p:nvPicPr>
        <p:blipFill>
          <a:blip r:embed="rId1"/>
          <a:stretch/>
        </p:blipFill>
        <p:spPr>
          <a:xfrm>
            <a:off x="228600" y="152280"/>
            <a:ext cx="1219320" cy="3048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ir19"/>
          <p:cNvPicPr/>
          <p:nvPr/>
        </p:nvPicPr>
        <p:blipFill>
          <a:blip r:embed="rId2"/>
          <a:stretch/>
        </p:blipFill>
        <p:spPr>
          <a:xfrm>
            <a:off x="6934320" y="4572000"/>
            <a:ext cx="1711080" cy="17524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152280" y="3670200"/>
            <a:ext cx="40388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Животный ми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 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Увеличились численность и разнообразие морских черепах и крокодилов, появились новые виды плезиозавров и ихтиозавров. На суше господствовали насекомые, предшественники современных мух, ос, уховерток, муравьев и пчел. Появилась и первая птица-археоптерикс. Господствовали динозавры, эволюционировавшие во множество форм: от гигантских зауроподов до более мелких и быстроногих хищнико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6" descr="ris8"/>
          <p:cNvPicPr/>
          <p:nvPr/>
        </p:nvPicPr>
        <p:blipFill>
          <a:blip r:embed="rId3"/>
          <a:stretch/>
        </p:blipFill>
        <p:spPr>
          <a:xfrm>
            <a:off x="4114800" y="4724280"/>
            <a:ext cx="1905120" cy="16765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600200" y="1292760"/>
            <a:ext cx="2209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Растительный ми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лимат стал более влажным, и вся суша поросла обильной растительностью. В лесах появились предшественники нынешних кипарисов, сосен и мамонтовых деревье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ловой пери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География и клима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течение мелового периода на нашей планете продолжался "великий раскол" материков. Громадные массивы суши, образовавшие Лавразию и Гондвану, постепенно распадались на части. Южная Америка и Африка удалялись друг от друга, и Атлантический океан становился всё шире и шире. Африка, Индия и Австралия также начали расходиться в разные стороны, и к югу от экватора в итоге образовались гигантские острова. Большая часть территории современной Европы находилась тогда под водой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ris9"/>
          <p:cNvPicPr/>
          <p:nvPr/>
        </p:nvPicPr>
        <p:blipFill>
          <a:blip r:embed="rId1"/>
          <a:stretch/>
        </p:blipFill>
        <p:spPr>
          <a:xfrm>
            <a:off x="609480" y="1143000"/>
            <a:ext cx="2210040" cy="20224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533520" y="3089880"/>
            <a:ext cx="32605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Животный мир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морях возросло количество белемнитов. В океанах господствовали гигантские морские черепахи и хищные морские рептилии. На суше появились змеи, кроме того, возникли новые разновидности динозавров, а также насекомых, таких, как мотыльки и бабочки. В конце периода очередное массовое вымирание привело к исчезновению аммонитов, ихтиозавров и многих других групп морских животных, а на суше вымерли все динозавры и птерозавр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191120" y="4495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астительный ми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явились первые цветковые растения, завязавшие тесное "сотрудничество" с насекомыми, переносившими их пыльцу. Они стали быстро распространяться по всей суш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7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8T18:09:5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