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F29-9075-4643-9E2F-0352720A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552-A9B4-4E3B-973A-6866D271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2E8-5240-48BB-B5F7-24F8CC1D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25C-6C90-49DC-B7E0-200B454A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621-C37B-465F-9557-353116F6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77FD-C92F-4C57-AD73-A120B04E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823-8F8F-4BA7-9DE4-F8D9F70D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D41-B005-42A1-B1F6-55792EBF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5B71-E0E7-4B14-B762-B3E384D0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FBB-09C2-4DEC-A3F8-0D460568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D7F-05EF-435D-9FA3-A4F53F43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4C5-3D24-4D1C-8F07-83EC9CCD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557C-7238-4448-AF49-DEBA209C1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&amp;SHcy;&amp;icy;&amp;shcy;&amp;kcy;&amp;icy; &amp;ncy;&amp;acy; &amp;iecy;&amp;lcy;&amp;ocy;&amp;vcy;&amp;ocy;&amp;jcy; &amp;vcy;&amp;iecy;&amp;tcy;&amp;kcy;&amp;iecy;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&amp;Fcy;&amp;ocy;&amp;tcy;&amp;ocy; &amp;scy;&amp;ncy;&amp;iecy;&amp;zhcy;&amp;icy;&amp;ncy;&amp;ocy;&amp;kcy;"/>
          <p:cNvPicPr/>
          <p:nvPr/>
        </p:nvPicPr>
        <p:blipFill>
          <a:blip r:embed="rId1"/>
          <a:stretch/>
        </p:blipFill>
        <p:spPr>
          <a:xfrm>
            <a:off x="0" y="0"/>
            <a:ext cx="4716360" cy="378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&amp;Fcy;&amp;ocy;&amp;tcy;&amp;ocy; &amp;scy;&amp;ncy;&amp;iecy;&amp;zhcy;&amp;icy;&amp;ncy;&amp;ocy;&amp;kcy;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860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&amp;Fcy;&amp;ocy;&amp;tcy;&amp;ocy; &amp;scy;&amp;ncy;&amp;iecy;&amp;zhcy;&amp;icy;&amp;ncy;&amp;ocy;&amp;kcy;"/>
          <p:cNvPicPr/>
          <p:nvPr/>
        </p:nvPicPr>
        <p:blipFill>
          <a:blip r:embed="rId3"/>
          <a:stretch/>
        </p:blipFill>
        <p:spPr>
          <a:xfrm>
            <a:off x="0" y="3716280"/>
            <a:ext cx="4716360" cy="3141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&amp;Fcy;&amp;ocy;&amp;tcy;&amp;ocy; &amp;scy;&amp;ncy;&amp;iecy;&amp;zhcy;&amp;icy;&amp;ncy;&amp;ocy;&amp;kcy;"/>
          <p:cNvPicPr/>
          <p:nvPr/>
        </p:nvPicPr>
        <p:blipFill>
          <a:blip r:embed="rId4"/>
          <a:stretch/>
        </p:blipFill>
        <p:spPr>
          <a:xfrm>
            <a:off x="4572000" y="3716280"/>
            <a:ext cx="4572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The image “http://www.handmade-ltd.ru/files/www/hlopushka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39640" y="765000"/>
            <a:ext cx="4187880" cy="3327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The image “http://www.handmade-ltd.ru/files/www/hlopushka.jpg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3419640" y="2664000"/>
            <a:ext cx="45370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http://www.ra-navigator.ru/img/balls013.jpg"/>
          <p:cNvPicPr/>
          <p:nvPr/>
        </p:nvPicPr>
        <p:blipFill>
          <a:blip r:embed="rId1"/>
          <a:stretch/>
        </p:blipFill>
        <p:spPr>
          <a:xfrm>
            <a:off x="900000" y="692280"/>
            <a:ext cx="3240360" cy="322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http://www.ra-navigator.ru/img/balls013.jpg"/>
          <p:cNvPicPr/>
          <p:nvPr/>
        </p:nvPicPr>
        <p:blipFill>
          <a:blip r:embed="rId2"/>
          <a:stretch/>
        </p:blipFill>
        <p:spPr>
          <a:xfrm>
            <a:off x="4427640" y="2276640"/>
            <a:ext cx="32400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http://zooclub.ru/fotogal/oboi/rodent/1.jpg"/>
          <p:cNvPicPr/>
          <p:nvPr/>
        </p:nvPicPr>
        <p:blipFill>
          <a:blip r:embed="rId1"/>
          <a:stretch/>
        </p:blipFill>
        <p:spPr>
          <a:xfrm>
            <a:off x="-324000" y="-457200"/>
            <a:ext cx="1080000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12000" y="3573360"/>
            <a:ext cx="1655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Comic Sans MS"/>
                <a:ea typeface="Arial"/>
              </a:rPr>
              <a:t>Ё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333360"/>
            <a:ext cx="230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Comic Sans MS"/>
                <a:ea typeface="Arial"/>
              </a:rPr>
              <a:t>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407320" y="3718440"/>
            <a:ext cx="1949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Comic Sans MS"/>
                <a:ea typeface="Arial"/>
              </a:rPr>
              <a:t>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2843280" y="2852640"/>
            <a:ext cx="2160360" cy="20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556000" y="3213000"/>
            <a:ext cx="28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132000" y="1989000"/>
            <a:ext cx="1584360" cy="122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276720" y="4653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4643280" y="4653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0"/>
          <p:cNvSpPr/>
          <p:nvPr/>
        </p:nvSpPr>
        <p:spPr>
          <a:xfrm>
            <a:off x="4427640" y="5589720"/>
            <a:ext cx="1152360" cy="647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H="1">
            <a:off x="2124000" y="3860640"/>
            <a:ext cx="7192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003640" y="4005360"/>
            <a:ext cx="792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2340000" y="5589720"/>
            <a:ext cx="1152360" cy="647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The image “http://foto.cheb.ru/foto/centr/nikolaeva/foto_cheb_ru_7875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http://dn.vtomske.ru/press/news/thumb_big/news_121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9:03:34Z</dcterms:created>
  <dc:creator>Тамара</dc:creator>
  <dc:description/>
  <dc:language>en-US</dc:language>
  <cp:lastModifiedBy>Тамара</cp:lastModifiedBy>
  <dcterms:modified xsi:type="dcterms:W3CDTF">2011-11-16T22:18:54Z</dcterms:modified>
  <cp:revision>4</cp:revision>
  <dc:subject/>
  <dc:title>Слайд 1</dc:title>
</cp:coreProperties>
</file>