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CC5-1552-4282-A746-C749D2D2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0B2-604F-4032-AC1E-1A0DD38E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0BE-70A2-46D1-BA77-E86A1644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9C2-147C-46E1-9EBC-35F8D982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C87-2957-4619-9BDB-F52C9E9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83A-3BDB-44FF-9171-168EE7E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2BD-A632-4E61-8C10-2B8359B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BA8-2355-4F94-854E-65A4AE5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6C8-A632-40A9-A609-D6B0FBA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C05-B1B6-4DF9-A536-3736E66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842-6DA8-47A3-A331-8A8630F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144-745F-4B02-A419-0445942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284-8951-42C9-B94A-F36D7D2B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SHcy;&amp;icy;&amp;shcy;&amp;kcy;&amp;icy; &amp;ncy;&amp;acy; &amp;iecy;&amp;lcy;&amp;ocy;&amp;vcy;&amp;ocy;&amp;jcy; &amp;vcy;&amp;iecy;&amp;tcy;&amp;kcy;&amp;ie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&amp;Fcy;&amp;ocy;&amp;tcy;&amp;ocy; &amp;scy;&amp;ncy;&amp;iecy;&amp;zhcy;&amp;icy;&amp;ncy;&amp;ocy;&amp;kcy;"/>
          <p:cNvPicPr/>
          <p:nvPr/>
        </p:nvPicPr>
        <p:blipFill>
          <a:blip r:embed="rId1"/>
          <a:stretch/>
        </p:blipFill>
        <p:spPr>
          <a:xfrm>
            <a:off x="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&amp;Fcy;&amp;ocy;&amp;tcy;&amp;ocy; &amp;scy;&amp;ncy;&amp;iecy;&amp;zhcy;&amp;icy;&amp;ncy;&amp;ocy;&amp;kcy;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Fcy;&amp;ocy;&amp;tcy;&amp;ocy; &amp;scy;&amp;ncy;&amp;iecy;&amp;zhcy;&amp;icy;&amp;ncy;&amp;ocy;&amp;kcy;"/>
          <p:cNvPicPr/>
          <p:nvPr/>
        </p:nvPicPr>
        <p:blipFill>
          <a:blip r:embed="rId3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&amp;Fcy;&amp;ocy;&amp;tcy;&amp;ocy; &amp;scy;&amp;ncy;&amp;iecy;&amp;zhcy;&amp;icy;&amp;ncy;&amp;ocy;&amp;kcy;"/>
          <p:cNvPicPr/>
          <p:nvPr/>
        </p:nvPicPr>
        <p:blipFill>
          <a:blip r:embed="rId4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handmade-ltd.ru/files/www/hlopushka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39640" y="765000"/>
            <a:ext cx="4187880" cy="332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he image “http://www.handmade-ltd.ru/files/www/hlopushka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419640" y="2664000"/>
            <a:ext cx="4537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www.ra-navigator.ru/img/balls013.jpg"/>
          <p:cNvPicPr/>
          <p:nvPr/>
        </p:nvPicPr>
        <p:blipFill>
          <a:blip r:embed="rId1"/>
          <a:stretch/>
        </p:blipFill>
        <p:spPr>
          <a:xfrm>
            <a:off x="900000" y="692280"/>
            <a:ext cx="3240360" cy="322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http://www.ra-navigator.ru/img/balls013.jpg"/>
          <p:cNvPicPr/>
          <p:nvPr/>
        </p:nvPicPr>
        <p:blipFill>
          <a:blip r:embed="rId2"/>
          <a:stretch/>
        </p:blipFill>
        <p:spPr>
          <a:xfrm>
            <a:off x="4427640" y="2276640"/>
            <a:ext cx="3240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zooclub.ru/fotogal/oboi/rodent/1.jpg"/>
          <p:cNvPicPr/>
          <p:nvPr/>
        </p:nvPicPr>
        <p:blipFill>
          <a:blip r:embed="rId1"/>
          <a:stretch/>
        </p:blipFill>
        <p:spPr>
          <a:xfrm>
            <a:off x="-324000" y="-457200"/>
            <a:ext cx="108000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3573360"/>
            <a:ext cx="165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Comic Sans MS"/>
                <a:ea typeface="Arial"/>
              </a:rPr>
              <a:t>Ё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33360"/>
            <a:ext cx="23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  <a:ea typeface="Arial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407320" y="3718440"/>
            <a:ext cx="194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  <a:ea typeface="Arial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843280" y="2852640"/>
            <a:ext cx="216036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556000" y="32130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32000" y="1989000"/>
            <a:ext cx="158436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276720" y="465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643280" y="465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4427640" y="5589720"/>
            <a:ext cx="115236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2124000" y="386064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003640" y="400536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340000" y="5589720"/>
            <a:ext cx="115236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The image “http://foto.cheb.ru/foto/centr/nikolaeva/foto_cheb_ru_7875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ttp://dn.vtomske.ru/press/news/thumb_big/news_121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9:03:34Z</dcterms:created>
  <dc:creator>Тамара</dc:creator>
  <dc:description/>
  <dc:language>en-US</dc:language>
  <cp:lastModifiedBy>Тамара</cp:lastModifiedBy>
  <dcterms:modified xsi:type="dcterms:W3CDTF">2011-11-16T22:18:54Z</dcterms:modified>
  <cp:revision>4</cp:revision>
  <dc:subject/>
  <dc:title>Слайд 1</dc:title>
</cp:coreProperties>
</file>