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8983-80BA-4B09-A190-78EBACEAA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6EB6-4B5B-4E77-A87B-9350716AF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5979-D886-4E73-A7A0-650898A25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D49F-2D57-425E-AF08-91CDC1381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B13FA-1C3B-47E6-A336-1F4E0B9E2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4D78E-645D-436C-BB7C-C55CC847A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5C70A-EDBD-4107-AB04-B8EB726CD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25B27-176D-406D-853E-6A881144C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352BF-D9F7-4998-872C-A8B58ED2F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47C0D-270A-4D02-B9F7-7E8D53AC0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777FF-C21C-4394-9579-2BA579E40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40CC-07CB-453E-873A-5EC971C14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6C9E2-4722-4721-B418-211B33F0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D650C-4846-4736-88F1-E93D80204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D475A-FCD3-4020-A8E2-7E0062E62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3A7A3-D248-4BE9-B3D9-DA7E56C27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AF2EF-A8AF-413D-9BA4-AE0DEBB95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1968-3598-4CF2-A48F-C89D5D2E6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7D8D-3F6B-4630-A0E6-20C867695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6B11-E688-4111-803A-1A7DDA7EE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04FC-91BB-47BA-B74C-34166568F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2C65-B17F-43A5-9CA6-127665810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A4E9-4676-4005-A346-5CA83EE93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6703-FF9F-4872-AF67-DA97436E9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BF653-62D0-4B27-8627-3FEC63B88FCD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83118-2CC2-4584-A163-B79BCFD9435F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64720" cy="694368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cc"/>
                </a:solidFill>
                <a:uFillTx/>
                <a:latin typeface="Arial"/>
              </a:rPr>
              <a:t>Направления альтернативной энергетики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356000" y="5373720"/>
            <a:ext cx="45626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cff33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ccff33"/>
                </a:solidFill>
                <a:latin typeface="Verdana"/>
              </a:rPr>
              <a:t>Максименко В.И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ff33"/>
                </a:solidFill>
                <a:latin typeface="Verdana"/>
              </a:rPr>
              <a:t>Учитель физики МБОУ ЕСОШ№7, ст.Егорлыкская, Ростовская обл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eaeaea"/>
                </a:solidFill>
                <a:uFillTx/>
                <a:latin typeface="Verdana"/>
              </a:rPr>
              <a:t>Биото́пливо -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 </a:t>
            </a:r>
            <a:r>
              <a:rPr b="0" i="1" lang="ru-RU" sz="3200" spc="-1" strike="noStrike">
                <a:solidFill>
                  <a:srgbClr val="eaeaea"/>
                </a:solidFill>
                <a:latin typeface="Verdana"/>
              </a:rPr>
              <a:t>это топливо из биологического сырья, получаемое, в результате переработки стеблей сахарного тростника или семян рапса, кукурузы, сои и др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547640" y="3160800"/>
            <a:ext cx="5328000" cy="36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17640"/>
            <a:ext cx="8964720" cy="46908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3716280"/>
            <a:ext cx="91440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cc"/>
                </a:solidFill>
                <a:latin typeface="Verdana"/>
              </a:rPr>
              <a:t>Различается жидкое биотопливо (для ДВС- этанол, метанол, биодизель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1" i="1" lang="ru-RU" sz="3200" spc="-1" strike="noStrike">
                <a:solidFill>
                  <a:srgbClr val="ffffcc"/>
                </a:solidFill>
                <a:latin typeface="Verdana"/>
              </a:rPr>
              <a:t>твёрдое биотопливо (дрова, брикеты,щепа,солома,лузга)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cc"/>
                </a:solidFill>
                <a:latin typeface="Verdana"/>
              </a:rPr>
              <a:t>и газообразное (биогаз, водород)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1131840"/>
            <a:ext cx="91440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aeaea"/>
                </a:solidFill>
                <a:latin typeface="Verdana"/>
              </a:rPr>
              <a:t>Существуют  проекты, направленные на получение биотоплива из целлюлозы и различного типа органических отходов, но эти технологии находятся в ранней стадии разработки 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493560"/>
            <a:ext cx="9144000" cy="636444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cc"/>
                </a:solidFill>
                <a:uFillTx/>
                <a:latin typeface="Arial"/>
              </a:rPr>
              <a:t>Геотермальная энергетика</a:t>
            </a:r>
            <a:r>
              <a:rPr b="1" lang="en-US" sz="4000" spc="-1" strike="noStrike" u="sng">
                <a:solidFill>
                  <a:srgbClr val="ffffcc"/>
                </a:solidFill>
                <a:uFillTx/>
                <a:latin typeface="Arial"/>
              </a:rPr>
              <a:t> 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4941720"/>
            <a:ext cx="8686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Verdana"/>
              </a:rPr>
              <a:t>направление энергетики, основанное на производстве электрической энергии за счёт тепловой энергии, содержащейся                         в недрах земли, на геотермальных                  станциях</a:t>
            </a:r>
            <a:r>
              <a:rPr b="1" i="1" lang="en-US" sz="32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24000" y="1171440"/>
            <a:ext cx="8532720" cy="568656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ffcc"/>
                </a:solidFill>
                <a:uFillTx/>
                <a:latin typeface="Arial"/>
              </a:rPr>
              <a:t>Водородная энергетика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 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Verdana"/>
              </a:rPr>
              <a:t>         </a:t>
            </a:r>
            <a:r>
              <a:rPr b="0" i="1" lang="en-US" sz="3200" spc="-1" strike="noStrike">
                <a:solidFill>
                  <a:srgbClr val="eaeaea"/>
                </a:solidFill>
                <a:latin typeface="Verdana"/>
              </a:rPr>
              <a:t>Водородную энергию предлагается использовать вместо бензина для автомобильных двигателей в виде жидкого водорода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24000" y="4292640"/>
            <a:ext cx="864072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cc"/>
                </a:solidFill>
                <a:latin typeface="Verdana"/>
              </a:rPr>
              <a:t>Водород можно получать, разлагая воду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cc"/>
                </a:solidFill>
                <a:latin typeface="Verdana"/>
              </a:rPr>
              <a:t> </a:t>
            </a:r>
            <a:r>
              <a:rPr b="0" i="1" lang="en-US" sz="3600" spc="-1" strike="noStrike">
                <a:solidFill>
                  <a:srgbClr val="0000cc"/>
                </a:solidFill>
                <a:latin typeface="Verdana"/>
              </a:rPr>
              <a:t>электролитическим методом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cc"/>
                </a:solidFill>
                <a:latin typeface="Verdana"/>
              </a:rPr>
              <a:t>(кроме водорода получается еще и кислород).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77004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79280" y="-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Verdana"/>
              </a:rPr>
              <a:t>При этом нигде не происходит никакого загрязнения и преобразования среды, кроме узлов производства электроэнергии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-7477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360" y="260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Verdana"/>
              </a:rPr>
              <a:t>Внедрение альтернативных источников энергии - очень затратный процесс . Поэтому к глобальному их использованию мы придем не скоро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291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291600" indent="-291600">
              <a:lnSpc>
                <a:spcPct val="9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eaeaea"/>
                </a:solidFill>
                <a:latin typeface="Verdana"/>
              </a:rPr>
              <a:t>Необходимо принимать меры по сохранению используемых в настоящее время энергетических ресурсов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722160"/>
            <a:ext cx="9144000" cy="61358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Энергосбережение-наиболее дешёвый и экологически чистый источник энергии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611280" y="1341360"/>
            <a:ext cx="7848360" cy="272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187280" y="4005360"/>
            <a:ext cx="7056720" cy="181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329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а внимание!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42472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ffcc"/>
                </a:solidFill>
                <a:uFillTx/>
                <a:latin typeface="Arial"/>
              </a:rPr>
              <a:t>Альтернати́вная энерге́тика</a:t>
            </a:r>
            <a:r>
              <a:rPr b="1" i="1" lang="ru-RU" sz="2400" spc="-1" strike="noStrike">
                <a:solidFill>
                  <a:srgbClr val="ffffcc"/>
                </a:solidFill>
                <a:latin typeface="Arial"/>
              </a:rPr>
              <a:t> — </a:t>
            </a:r>
            <a:r>
              <a:rPr b="1" i="1" lang="ru-RU" sz="4000" spc="-1" strike="noStrike">
                <a:solidFill>
                  <a:srgbClr val="ffffcc"/>
                </a:solidFill>
                <a:latin typeface="Arial"/>
              </a:rPr>
              <a:t>совокупность перспективных способов получения энергии, которые представляют интерес из-за выгодности их использования при низком риске причинения вреда экологии района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cc"/>
                </a:solidFill>
                <a:uFillTx/>
                <a:latin typeface="Arial"/>
              </a:rPr>
              <a:t>Ветроэнергетика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55640" y="509760"/>
            <a:ext cx="81374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eaeaea"/>
                </a:solidFill>
                <a:uFillTx/>
                <a:latin typeface="Verdana"/>
              </a:rPr>
              <a:t>Ветроэнергетика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 — </a:t>
            </a:r>
            <a:r>
              <a:rPr b="0" i="1" lang="en-US" sz="3200" spc="-1" strike="noStrike">
                <a:solidFill>
                  <a:srgbClr val="eaeaea"/>
                </a:solidFill>
                <a:latin typeface="Verdana"/>
              </a:rPr>
              <a:t> специализируется на преобразовании кинетической энергии воздушных масс в атмосфере в электрическую, механическую или тепловую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Verdana"/>
              </a:rPr>
              <a:t>География:</a:t>
            </a:r>
            <a:br>
              <a:rPr sz="3200"/>
            </a:br>
            <a:r>
              <a:rPr b="0" i="1" lang="en-US" sz="3200" spc="-1" strike="noStrike">
                <a:solidFill>
                  <a:srgbClr val="eaeaea"/>
                </a:solidFill>
                <a:latin typeface="Verdana"/>
              </a:rPr>
              <a:t>Перспективные районы для строительства: </a:t>
            </a:r>
            <a:r>
              <a:rPr b="1" i="1" lang="en-US" sz="3200" spc="-1" strike="noStrike">
                <a:solidFill>
                  <a:srgbClr val="eaeaea"/>
                </a:solidFill>
                <a:latin typeface="Verdana"/>
              </a:rPr>
              <a:t>Краснодарский край, Кавказ, Ленинградская область, Мурманская область, Дальний Восток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897360" cy="26128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3835440"/>
            <a:ext cx="4032360" cy="302256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252360" y="836640"/>
            <a:ext cx="9648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i="1" lang="ru-RU" sz="4000" spc="-1" strike="noStrike">
                <a:solidFill>
                  <a:srgbClr val="ffffcc"/>
                </a:solidFill>
                <a:latin typeface="Arial"/>
              </a:rPr>
              <a:t>                                                   </a:t>
            </a:r>
            <a:r>
              <a:rPr b="1" i="1" lang="ru-RU" sz="4000" spc="-1" strike="noStrike">
                <a:solidFill>
                  <a:srgbClr val="ffffcc"/>
                </a:solidFill>
                <a:latin typeface="Arial"/>
              </a:rPr>
              <a:t>Такое                     преобразование                                                   осуществляется    ветрогенераторами, </a:t>
            </a:r>
            <a:br>
              <a:rPr sz="4000"/>
            </a:br>
            <a:r>
              <a:rPr b="1" i="1" lang="ru-RU" sz="4000" spc="-1" strike="noStrike">
                <a:solidFill>
                  <a:srgbClr val="ffffcc"/>
                </a:solidFill>
                <a:latin typeface="Arial"/>
              </a:rPr>
              <a:t>ветряными мельницами, </a:t>
            </a:r>
            <a:br>
              <a:rPr sz="4000"/>
            </a:br>
            <a:r>
              <a:rPr b="1" i="1" lang="ru-RU" sz="4000" spc="-1" strike="noStrike">
                <a:solidFill>
                  <a:srgbClr val="ffffcc"/>
                </a:solidFill>
                <a:latin typeface="Arial"/>
              </a:rPr>
              <a:t>парусами и  т.д.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4" name="Рисунок 25" descr="C:\Documents and Settings\0000\Local Settings\Temporary Internet Files\Content.Word\Изображение 042.jpg"/>
          <p:cNvPicPr/>
          <p:nvPr/>
        </p:nvPicPr>
        <p:blipFill>
          <a:blip r:embed="rId3"/>
          <a:stretch/>
        </p:blipFill>
        <p:spPr>
          <a:xfrm>
            <a:off x="4716360" y="3789360"/>
            <a:ext cx="442764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332000" y="985680"/>
            <a:ext cx="7812000" cy="58168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ffcc"/>
                </a:solidFill>
                <a:uFillTx/>
                <a:latin typeface="Arial"/>
              </a:rPr>
              <a:t>Гелиоэнергетик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Verdana"/>
              </a:rPr>
              <a:t>Солнечный водонагреватель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Verdana"/>
              </a:rPr>
              <a:t>Солнечный коллектор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Verdana"/>
              </a:rPr>
              <a:t>Фотоэлектрические элементы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Альтернативные источники электроэнергии"/>
          <p:cNvPicPr/>
          <p:nvPr/>
        </p:nvPicPr>
        <p:blipFill>
          <a:blip r:embed="rId1"/>
          <a:stretch/>
        </p:blipFill>
        <p:spPr>
          <a:xfrm>
            <a:off x="5508720" y="4218120"/>
            <a:ext cx="3216240" cy="26398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24000" y="-36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eaeaea"/>
                </a:solidFill>
                <a:uFillTx/>
                <a:latin typeface="Verdana"/>
              </a:rPr>
              <a:t>Солнечная энергетика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 — </a:t>
            </a:r>
            <a:r>
              <a:rPr b="0" i="1" lang="en-US" sz="3200" spc="-1" strike="noStrike">
                <a:solidFill>
                  <a:srgbClr val="eaeaea"/>
                </a:solidFill>
                <a:latin typeface="Verdana"/>
              </a:rPr>
              <a:t> основана на использовании возобновляемого источник энергии и является экологически чистой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Verdana"/>
              </a:rPr>
              <a:t>География:</a:t>
            </a:r>
            <a:br>
              <a:rPr sz="3200"/>
            </a:br>
            <a:r>
              <a:rPr b="0" i="1" lang="en-US" sz="3200" spc="-1" strike="noStrike">
                <a:solidFill>
                  <a:srgbClr val="eaeaea"/>
                </a:solidFill>
                <a:latin typeface="Verdana"/>
              </a:rPr>
              <a:t>Солнечные батареи работают  в условиях Подмосковья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Verdana"/>
              </a:rPr>
              <a:t>в регионах РФ – Юг европейской части России,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Verdana"/>
              </a:rPr>
              <a:t>юг Поволжья,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Verdana"/>
              </a:rPr>
              <a:t>Южный Урал,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i="1" lang="en-US" sz="3200" spc="-1" strike="noStrike">
                <a:solidFill>
                  <a:srgbClr val="eaeaea"/>
                </a:solidFill>
                <a:latin typeface="Verdana"/>
              </a:rPr>
              <a:t>Восточная Сибирь,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i="1" lang="en-US" sz="3200" spc="-1" strike="noStrike">
                <a:solidFill>
                  <a:srgbClr val="eaeaea"/>
                </a:solidFill>
                <a:latin typeface="Verdana"/>
              </a:rPr>
              <a:t>Дальний Восток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708360" y="1779480"/>
            <a:ext cx="5278320" cy="50785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cc"/>
                </a:solidFill>
                <a:uFillTx/>
                <a:latin typeface="Arial"/>
              </a:rPr>
              <a:t>Альтернативная гидроэнергетик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Verdana"/>
              </a:rPr>
              <a:t>Приливные электростанци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Verdana"/>
              </a:rPr>
              <a:t>Волновые электростанци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Verdana"/>
              </a:rPr>
              <a:t>Мини и микро ГЭС (устанавливаются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i="1" lang="en-US" sz="3200" spc="-1" strike="noStrike">
                <a:solidFill>
                  <a:srgbClr val="eaeaea"/>
                </a:solidFill>
                <a:latin typeface="Verdana"/>
              </a:rPr>
              <a:t>в основном н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i="1" lang="en-US" sz="3200" spc="-1" strike="noStrike">
                <a:solidFill>
                  <a:srgbClr val="eaeaea"/>
                </a:solidFill>
                <a:latin typeface="Verdana"/>
              </a:rPr>
              <a:t>малых реках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Verdana"/>
              </a:rPr>
              <a:t>Водопадные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Verdana"/>
              </a:rPr>
              <a:t>электростанци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ffcc"/>
                </a:solidFill>
                <a:uFillTx/>
                <a:latin typeface="Arial"/>
              </a:rPr>
              <a:t>Биотопливо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4000" y="76500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Verdana"/>
              </a:rPr>
              <a:t>Получение биодизеля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Verdana"/>
              </a:rPr>
              <a:t>Получение метана и синтез-газ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Verdana"/>
              </a:rPr>
              <a:t>Получение биогаз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11280" y="2451240"/>
            <a:ext cx="6697440" cy="44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9T16:56:51Z</dcterms:created>
  <dc:creator>Егорлыкский фил. РКТ</dc:creator>
  <dc:description/>
  <dc:language>en-US</dc:language>
  <cp:lastModifiedBy>Егорлыкский фил. РКТ</cp:lastModifiedBy>
  <dcterms:modified xsi:type="dcterms:W3CDTF">2013-04-26T17:17:55Z</dcterms:modified>
  <cp:revision>9</cp:revision>
  <dc:subject/>
  <dc:title>Альтернати́вная энерге́тика — совокупность перспективных способов получения энергии, которые распространены не так широко, как традиционные, однако представляют интерес из-за выгодности их использования при низком риске причинения вреда экологии района.</dc:title>
</cp:coreProperties>
</file>