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11F-33AA-4163-B143-26713ED9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EF5-679F-4364-B7DC-10FBC3BE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D32-5C11-4E44-A0A1-DB145B44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370-06ED-4186-9047-EC48EBDC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8DBE-DC1E-46BA-8D46-03870F1F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5057-333B-4B66-AC1E-986D7FDC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8133-3E66-49DA-A253-E1469105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A5D7-C2FC-4473-B147-E72E0914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262C-7CB3-4C9D-9B7D-BF7DC2FA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85F8-4B16-4833-BD14-E9B7F1FE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A56E-FF1F-488D-96E4-D0064239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20E-68A9-4398-8032-FD9382CA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4345-EBB9-4A5E-804E-096EC67C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C860-C943-49C7-AB4C-0AD11689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3233-955C-4A01-8AD4-EF3089B0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0B08-9EA5-48AB-B242-83C70816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DC21-1D3A-4F0A-BDAD-4D00D2B8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5D5-AFA6-4C6D-A6C4-EF26701F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B3C-3D22-425D-89F6-DC3F86B5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541-B6B1-470F-A4FB-091EBCF3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1A5-FDC5-4548-8E8F-222F7B81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3FB-EFC4-4B76-8E6F-4D57F37C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A97-993E-4A77-BBB3-F74860D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5FC-F02F-4A8C-862A-C0CF122C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0B8D-6996-4218-A5D6-8480EB7434E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6C43-0CDD-4766-9444-FE6FA2E7643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943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Направления альтернативной энергети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5373720"/>
            <a:ext cx="4562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ff33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cff33"/>
                </a:solidFill>
                <a:latin typeface="Verdana"/>
              </a:rPr>
              <a:t>Максименко В.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Verdana"/>
              </a:rPr>
              <a:t>Учитель физики МБОУ ЕСОШ№7, ст.Егорлыкская, Ростовская об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Биото́пливо -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это топливо из биологического сырья, получаемое, в результате переработки стеблей сахарного тростника или семян рапса, кукурузы, сои и др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47640" y="3160800"/>
            <a:ext cx="53280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8964720" cy="4690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Различается жидкое биотопливо (для ДВС- этанол, метанол, биодизель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твёрдое биотопливо (дрова, брикеты,щепа,солома,лузга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и газообразное (биогаз, водород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318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Verdana"/>
              </a:rPr>
              <a:t>Существуют  проекты, направленные на получение биотоплива из целлюлозы и различного типа органических отходов, но эти технологии находятся в ранней стадии разработки 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493560"/>
            <a:ext cx="9144000" cy="6364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Геотермальная энергетика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494172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направление энергетики, основанное на производстве электрической энергии за счёт тепловой энергии, содержащейся                         в недрах земли, на геотермальных                  станциях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171440"/>
            <a:ext cx="8532720" cy="56865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Водородная энергетик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        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одородную энергию предлагается использовать вместо бензина для автомобильных двигателей в виде жидкого водород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4000" y="4292640"/>
            <a:ext cx="8640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Водород можно получать, разлагая вод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электролитическим методом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(кроме водорода получается еще и кислород)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При этом нигде не происходит никакого загрязнения и преобразования среды, кроме узлов производства электроэнерги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74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Внедрение альтернативных источников энергии - очень затратный процесс . Поэтому к глобальному их использованию мы придем не скоро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Необходимо принимать меры по сохранению используемых в настоящее время энергетических ресурсов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722160"/>
            <a:ext cx="9144000" cy="6135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нергосбережение-наиболее дешёвый и экологически чистый источник энерг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11280" y="1341360"/>
            <a:ext cx="7848360" cy="27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7280" y="4005360"/>
            <a:ext cx="7056720" cy="18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3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Альтернати́вная энерге́тика</a:t>
            </a: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 — 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совокупность перспективных способов получения энергии, которые представляют интерес из-за выгодности их использования при низком риске причинения вреда экологии район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Ветроэнергетика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509760"/>
            <a:ext cx="81374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Ветроэнергетик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— 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специализируется на преобразовании кинетической энергии воздушных масс в атмосфере в электрическую, механическую или тепловую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География:</a:t>
            </a:r>
            <a:br>
              <a:rPr sz="3200"/>
            </a:b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ерспективные районы для строительства: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Краснодарский край, Кавказ, Ленинградская область, Мурманская область, Дальний Восто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97360" cy="2612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835440"/>
            <a:ext cx="4032360" cy="3022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252360" y="836640"/>
            <a:ext cx="9648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                                                   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Такое                     преобразование                                                   осуществляется    ветрогенераторами,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ветряными мельницами,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парусами и  т.д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Рисунок 25" descr="C:\Documents and Settings\0000\Local Settings\Temporary Internet Files\Content.Word\Изображение 042.jpg"/>
          <p:cNvPicPr/>
          <p:nvPr/>
        </p:nvPicPr>
        <p:blipFill>
          <a:blip r:embed="rId3"/>
          <a:stretch/>
        </p:blipFill>
        <p:spPr>
          <a:xfrm>
            <a:off x="4716360" y="3789360"/>
            <a:ext cx="4427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32000" y="985680"/>
            <a:ext cx="7812000" cy="5816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Гелиоэнергет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Солнечный водонагревател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Солнечный коллекто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Фотоэлектрические эле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Альтернативные источники электроэнергии"/>
          <p:cNvPicPr/>
          <p:nvPr/>
        </p:nvPicPr>
        <p:blipFill>
          <a:blip r:embed="rId1"/>
          <a:stretch/>
        </p:blipFill>
        <p:spPr>
          <a:xfrm>
            <a:off x="5508720" y="4218120"/>
            <a:ext cx="3216240" cy="2639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Солнечная энергетик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— 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основана на использовании возобновляемого источник энергии и является экологически чист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География:</a:t>
            </a:r>
            <a:br>
              <a:rPr sz="3200"/>
            </a:b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Солнечные батареи работают  в условиях Подмосковь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 регионах РФ – Юг европейской части России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юг Поволжья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Южный Урал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осточная Сибирь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Дальний Восток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08360" y="1779480"/>
            <a:ext cx="5278320" cy="507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Альтернативная гидроэнергети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риливные электростанц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олновые электростанц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Мини и микро ГЭС (устанавливают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 основном 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малых реках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одопадны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электростанц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Биотопливо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Получение биодизел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Получение метана и синтез-газ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Получение биогаз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2451240"/>
            <a:ext cx="669744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6:56:51Z</dcterms:created>
  <dc:creator>Егорлыкский фил. РКТ</dc:creator>
  <dc:description/>
  <dc:language>en-US</dc:language>
  <cp:lastModifiedBy>Егорлыкский фил. РКТ</cp:lastModifiedBy>
  <dcterms:modified xsi:type="dcterms:W3CDTF">2013-04-26T17:17:55Z</dcterms:modified>
  <cp:revision>9</cp:revision>
  <dc:subject/>
  <dc:title>Альтернати́вная энерге́тика — совокупность перспективных способов получения энергии, которые распространены не так широко, как традиционные, однако представляют интерес из-за выгодности их использования при низком риске причинения вреда экологии района.</dc:title>
</cp:coreProperties>
</file>