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06C-6C34-462E-A4B4-7DA3D2C7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24A-5288-412E-8EF4-662A5B7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D70-8616-414B-9224-A68341B8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40B-107B-4AAB-A23D-BA5904E9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E24-976B-44B4-8EEC-CEFF677D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961-E4D2-45F1-A61E-1C48AB6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847-E62D-45E0-8446-CCF8A67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2E4-232A-409F-8DCC-328577A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318-B59F-4E10-A696-86C14CE2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C86-7922-41A6-ADB3-B67F4AE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16E-D486-40F8-91B0-27EC1F1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9F9-B306-4E25-9FEB-7506FA06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4FB-3562-4382-91CA-D8C8396A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9560" cy="626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476280"/>
            <a:ext cx="5759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- друзья природ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4360" y="0"/>
            <a:ext cx="6697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 родной любимый кра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4:27:59Z</dcterms:created>
  <dc:creator>D845EPI/D845GVSR</dc:creator>
  <dc:description/>
  <dc:language>en-US</dc:language>
  <cp:lastModifiedBy>D845EPI/D845GVSR</cp:lastModifiedBy>
  <dcterms:modified xsi:type="dcterms:W3CDTF">2013-04-28T08:46:13Z</dcterms:modified>
  <cp:revision>12</cp:revision>
  <dc:subject/>
  <dc:title>Слайд 1</dc:title>
</cp:coreProperties>
</file>