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9B6-F1C2-4D9D-AAF8-D7914489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9E1-2D01-4266-8988-712EDF5E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111B-399C-41CD-818A-505B747F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C62-6579-4F6A-9368-2B0C16FB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D7B-7207-426B-BA66-144A38E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410-C8EC-4F79-8000-F62FE7F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464-AC6E-4905-817D-1971D97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3B5-DA52-4C4A-AE3F-9C5E08E0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C5C-3303-4A36-836B-4B9A4781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7AD-14D9-45EA-BB56-9D492C2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986-48C0-4292-BC8E-5BDD1E1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AEAC-3104-45F3-A67F-CF710FDF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5A2-81A2-4350-BD84-07C268018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9560" cy="6269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39640" y="476280"/>
            <a:ext cx="5759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ы- друзья природ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84360" y="0"/>
            <a:ext cx="6697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 родной любимый кра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4:27:59Z</dcterms:created>
  <dc:creator>D845EPI/D845GVSR</dc:creator>
  <dc:description/>
  <dc:language>en-US</dc:language>
  <cp:lastModifiedBy>D845EPI/D845GVSR</cp:lastModifiedBy>
  <dcterms:modified xsi:type="dcterms:W3CDTF">2013-04-28T08:46:13Z</dcterms:modified>
  <cp:revision>12</cp:revision>
  <dc:subject/>
  <dc:title>Слайд 1</dc:title>
</cp:coreProperties>
</file>