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8D7-CFAE-4113-BD5F-59DEF40B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122-717C-4B2A-9275-CBBEEDE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5EC-578A-47E2-A716-F3AEE2EA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576-853D-44D3-BDD3-0362F872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AC2-96A9-4ECD-ADED-45E936A4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0BCE-6783-42E9-B40B-B14AC758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48FC-6296-4BF5-B5B8-3BB3913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69F3-A240-47A7-B6A9-224FA58B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79D-2BBD-4754-902C-F302375E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F310-FADE-4985-86CE-69BDDEEC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BFF1-1C00-49CF-BE95-AD7C865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7B5-56D8-40AE-A4A5-FC22C24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2829-259E-4D6B-8F04-0BF8B79C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5C10-3893-4090-BF30-81886B5F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3683-500F-456A-BC1D-6CF2A492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FDF7-0A59-495A-BAA8-6674A75A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21DC-21CB-46BB-9420-0030D32A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3B20-5244-488A-A8F9-F87E9CE8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C9492-6668-4362-919F-8BA880B7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7831-2CF3-47DA-B794-664656D5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8AF4-979E-487F-A19D-093E9CB8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556AC-2518-4838-9A7B-3C7DE6E8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D62-2133-4E74-8B9E-9E07EE5C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B699-EC73-4816-B84C-34862F03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4597-E2FE-458E-907F-8AF44F61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599F-94F0-4D9C-BF5A-987A3B6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4CA1-545F-498B-8F95-C5FAF102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F6389-18BE-4AB9-9D9B-D13188FB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F2B68-DCCA-4233-BE9B-20ED4054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F287-9D78-427F-9C63-47355BBB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A6827-B97D-48ED-816A-5AD70ABC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56A3-1B5C-4307-BA05-820DE573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247D-C23D-45C8-8D7D-26BA774B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ED6-6176-49E3-8209-E0AEB8AD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6F582-58E5-4C1D-96D5-82CA1D02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5F28-FEA4-4B31-AC4D-9CBAB4DA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42E6B-FEC4-4213-8F81-6FE2F64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8126-BE77-4008-A5B4-DB7E48C8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3358C-343F-466D-8D56-7980648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C447-FB09-499B-919A-FE4DBB1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32EA-8F58-4EA2-9AE2-A882D89B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FCB44-6051-4287-A7CC-2EB94290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63EA-4054-40A9-8461-ED477EBC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237-CDCB-4DD4-93AE-54549112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1AB-E929-4184-8243-8C57041A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FD5-CAC2-4889-88D6-512389BD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059-D38E-467E-9E41-EF48197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020-FD11-4DD5-B6BF-3849B601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62A7-E8B0-45CE-B859-D71F04020C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5C43-1A38-46AC-8DBB-A6180A0C35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5000-B9D1-40D5-976B-A411B0474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A790-05AC-4E2E-B5A7-E65F49BE3A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PHOT014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9"/>
          <p:cNvSpPr txBox="1"/>
          <p:nvPr/>
        </p:nvSpPr>
        <p:spPr>
          <a:xfrm>
            <a:off x="3505320" y="2362320"/>
            <a:ext cx="4647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4920" y="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алининская средняя общеобразовательная школ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чное общество учащихся «Росто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 Калинино, Михайлов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105520" y="4114800"/>
            <a:ext cx="38098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ила: Рощина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аяся 4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 АОУ «Калининская СОШ»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хайловского рай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мур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ководител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 Пашк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ина Петро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Прямоугольник 5" descr=""/>
          <p:cNvPicPr/>
          <p:nvPr/>
        </p:nvPicPr>
        <p:blipFill>
          <a:blip r:embed="rId2"/>
          <a:stretch/>
        </p:blipFill>
        <p:spPr>
          <a:xfrm>
            <a:off x="4711680" y="1427040"/>
            <a:ext cx="452448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При какой температуре содержать черепаху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пахи теплолюбивые животные. Лучше содержать черепаху в террариуме. Но в домашних условиях возможно содержание в чистой сухой коробочке. В качестве подстилки используют опилки, небольшую гальку или газе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тимальная температура содержания   при    +20ºС - +30º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PHOT0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Органы  чувств   черепах.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паха слышит очень плох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то видит Боня очень хорош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репахи обладают хорошо развитым цветовым зрением, так как при поиске пищи они в первую очередь ориентируются на её цвет и лишь затем на запах и вкус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b7"/>
                </a:solidFill>
                <a:latin typeface="Times New Roman"/>
              </a:rPr>
              <a:t>Основные болезни черепах это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Глазные боле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ростудные заболе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Повреждения панцир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PHOT0195"/>
          <p:cNvPicPr/>
          <p:nvPr/>
        </p:nvPicPr>
        <p:blipFill>
          <a:blip r:embed="rId1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я за Боней, я узнала много нового и интересного, что поможет мне правильно ухаживать за моей черепахой. При неправильном содержании они могут быстро погибну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им образом, гипотеза не подтвердила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85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  <a:ea typeface="Times New Roman"/>
              </a:rPr>
              <a:t>Цели:</a:t>
            </a: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изучить условия жизни черепах в природе, исследовать поведение их в домашних условиях, сделать вывод о правильности содержания животного дома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23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ffc2"/>
                </a:solidFill>
                <a:latin typeface="Arial"/>
              </a:rPr>
              <a:t>Задачи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Изучение литературы о среднеазиатских черепаха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Наблюдение за черепахой в период кормления и бодрств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Обобщение наблюдений за черепах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ffc2"/>
                </a:solidFill>
                <a:latin typeface="Times New Roman"/>
              </a:rPr>
              <a:t>Разработать наиболее оптимальный вариант ухода за            среднеазиатской черепахой в домашних услов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385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Объект исследования: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ведение среднеазиатской 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черепашки  в комнатных условиях.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800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ха неприхотливое животное в уход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ерепахи – древнейшие животны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ременные черепахи – потомки вымерших котилозавров, наиболее древних и примитивных рептил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другим данным древняя черепаха, представляла собой небольшое хищное живот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зубам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юшным панцир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PHOT0138"/>
          <p:cNvPicPr/>
          <p:nvPr/>
        </p:nvPicPr>
        <p:blipFill>
          <a:blip r:embed="rId1"/>
          <a:stretch/>
        </p:blipFill>
        <p:spPr>
          <a:xfrm>
            <a:off x="5715000" y="4286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неазиатская сухопутная черепаха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23880"/>
            <a:ext cx="430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 нашей черепахи невысокий округлый панцирь буровато - оливкового цвета с размывчатыми чёрными пятнами длиной 9,5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ва оливковая с крючковидной верхней челю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чик хвоста заострё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передних конечностях по 4 когтя – это является отличительной чертой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реднеазиатских черепа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у других черепах по 5 когтей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PHOT0193"/>
          <p:cNvPicPr/>
          <p:nvPr/>
        </p:nvPicPr>
        <p:blipFill>
          <a:blip r:embed="rId1"/>
          <a:stretch/>
        </p:blipFill>
        <p:spPr>
          <a:xfrm>
            <a:off x="4943520" y="1685880"/>
            <a:ext cx="3771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Жизнь среднеазиатских                         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           черепах в невол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ределение пола среднеазиатской черепах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хвосту. У самцов узкий и длинный. У самок хвост короткий и широ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глублению на брюшном щите у самцов, которое отсутствует у сам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шпорам. У самца среднеазиатской черепахи один роговой бугорок на тыльной стороне бедра, у самки таких бугорков 3–5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PHOT0152"/>
          <p:cNvPicPr/>
          <p:nvPr/>
        </p:nvPicPr>
        <p:blipFill>
          <a:blip r:embed="rId1"/>
          <a:stretch/>
        </p:blipFill>
        <p:spPr>
          <a:xfrm>
            <a:off x="228600" y="171360"/>
            <a:ext cx="8610480" cy="63817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/>
          <p:cNvSpPr/>
          <p:nvPr/>
        </p:nvSpPr>
        <p:spPr>
          <a:xfrm rot="1305600">
            <a:off x="6019560" y="3962520"/>
            <a:ext cx="1892160" cy="485640"/>
          </a:xfrm>
          <a:prstGeom prst="leftArrow">
            <a:avLst>
              <a:gd name="adj1" fmla="val 50000"/>
              <a:gd name="adj2" fmla="val 9740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новной корм -для черепах – растительная пища. Наша черепаха очень любит листья одуванчика, свежую не-ядовитую траву, листья капусты, морковь, натёртую на тёрке, кусочки яблок, бана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PHOT0171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упание и кормление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пают минимум один раз в неделю. Нельзя оставлять без присмо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епах кормят каждый день, в одно и то же время. Дома черепах можно кормить разнообразной растительной пищей - зелень, фрукты, овощи, яг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ярное питьё ей не нуж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сенне-зимний сезон черепахам можно давать сено, но при этом нужно давать им много во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черепахи любят сладкие фрукты, но в большом количестве давать нельзя — это ведёт к ожир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одых черепах кормят 1-2 раза в день, тех, что постарше - через 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ичество корма зависит от размера черепахи, от её насыщ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PHOT0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Times New Roman"/>
              </a:rPr>
              <a:t>Нужна ли  сухопутной черепахе вода?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условиях неволи сухопутным черепахам нужны   поилки со свежей водой. Своей черепахе я ставлю ёмкость с водой, когда кормлю её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паха не очень любит принимать ванн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вает, она пьёт  воду во время куп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0:09:26Z</dcterms:created>
  <dc:creator>LinkWorld</dc:creator>
  <dc:description/>
  <dc:language>en-US</dc:language>
  <cp:lastModifiedBy>Николай</cp:lastModifiedBy>
  <dcterms:modified xsi:type="dcterms:W3CDTF">2013-04-28T00:08:1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