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AE6-93CE-40B5-94C8-C6C778D1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2FE-F303-46B6-9B02-FDE861A1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52B-5F7F-4D75-9D92-FECD2031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49D-920A-4C16-9DD5-35216815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59AD-06DA-42F9-9208-CAFC74C4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DC46-CA31-4827-9CFD-5495D20C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3B58-0A63-45C3-A3F0-AACA2C84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726A-B9AC-4D19-99A6-B363F80F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0D2D-25FE-4689-B66D-7FFD463F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5CB5-D334-42C1-84E4-8E04A44D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975D-CF89-4340-B8AF-363D60BF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5B1-3F52-45D2-A3E8-FDF83A11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3A90-41BD-460B-8323-05CD1859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2F5E-5F84-44FC-B6FD-E1CB470E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DA69-9E74-4B1F-880C-DEBC82EF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F9F8-069B-4252-B522-23B50183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5166-1059-41B7-A0B3-CE23C7D9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AB7C-51D0-47C2-8004-515895E7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87C08-89B2-4F1E-A735-BFC1DDE1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25973-610E-4225-991F-5A31DF86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CE42-BCA4-4909-8970-1434C5ED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A2FE-959D-4D77-B9AC-FCACED81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7CB-1C4A-4AFF-B82E-53817242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7A74-9D4C-4B43-A10F-30EA3686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08FDA-BCD6-4ECF-81AA-CAE83450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8B927-ABA1-44C0-8ECC-C9EDB563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6912-2E4B-4000-B753-9EE8027F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964C-F650-4A42-BB0E-FB779C9D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F22A-CABD-4112-881B-BC326B31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0263-8643-4504-A10A-354726A3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7122-44E4-462B-AA2A-F5EF72BD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725E-78A1-41BB-BF8C-B342EEB7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D8E3-3CE7-4730-92FF-2EC91EF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5BF-93E2-4189-B313-7CC8E42C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24352-382E-4042-BEBA-B655452A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E9D1D-3B34-4FCA-8772-820565AF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12B9B-F5AC-428E-89FE-0F8C295B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E2BB-DCD0-42C8-AE68-DCFCAC6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30580-EBBA-49E7-9CB6-BCD22331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674F3-89AB-4E32-B7D0-6F4AFE3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F6F50-EC96-4D57-B658-8768E9AA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99BC1-02DD-454D-8824-427992F5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9496-9DC8-4C23-B07F-F78B742A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F7E-F1CB-41F0-8D53-005F852D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49D-51E8-4CC5-9086-797570F3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331-28FC-48CA-AAA5-ABD04377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621-631F-4742-83B5-D1132493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D80-E059-473A-84F5-B8AC12F8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AC2F-6A10-4673-BF43-907675D9A4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AAA4-A544-44A0-B720-9C12AF0E81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4182-075C-4CDA-AA5E-289E518A93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B8DE-CEAB-4C45-80D2-60940E7308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PHOT014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9"/>
          <p:cNvSpPr txBox="1"/>
          <p:nvPr/>
        </p:nvSpPr>
        <p:spPr>
          <a:xfrm>
            <a:off x="3505320" y="2362320"/>
            <a:ext cx="4647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304920" y="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алинин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чное общество учащихся «Рост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 Калинино, Михайлов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105520" y="4114800"/>
            <a:ext cx="38098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а: Рощина Е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аяся 4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 АОУ «Калининская СОШ»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айлов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мур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 Пашк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ина Петро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Прямоугольник 5" descr=""/>
          <p:cNvPicPr/>
          <p:nvPr/>
        </p:nvPicPr>
        <p:blipFill>
          <a:blip r:embed="rId2"/>
          <a:stretch/>
        </p:blipFill>
        <p:spPr>
          <a:xfrm>
            <a:off x="4711680" y="1427040"/>
            <a:ext cx="45244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При какой температуре содержать черепаху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пахи теплолюбивые животные. Лучше содержать черепаху в террариуме. Но в домашних условиях возможно содержание в чистой сухой коробочке. В качестве подстилки используют опилки, небольшую гальку или газе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тимальная температура содержания   при    +20ºС - +30º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PHOT0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Органы  чувств   черепах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репаха слышит очень плох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то видит Боня очень хорош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репахи обладают хорошо развитым цветовым зрением, так как при поиске пищи они в первую очередь ориентируются на её цвет и лишь затем на запах и вкус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Основные болезни черепах это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Глазные боле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ростудные заболе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вреждения панцир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PHOT0195"/>
          <p:cNvPicPr/>
          <p:nvPr/>
        </p:nvPicPr>
        <p:blipFill>
          <a:blip r:embed="rId1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клю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я за Боней, я узнала много нового и интересного, что поможет мне правильно ухаживать за моей черепахой. При неправильном содержании они могут быстро погибну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м образом, гипотеза не подтвердила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85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Цели: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изучить условия жизни черепах в природе, исследовать поведение их в домашних условиях, сделать вывод о правильности содержания животного дома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23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ffc2"/>
                </a:solidFill>
                <a:latin typeface="Arial"/>
              </a:rPr>
              <a:t>Задачи исслед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ffc2"/>
                </a:solidFill>
                <a:latin typeface="Times New Roman"/>
              </a:rPr>
              <a:t>Изучение литературы о среднеазиатских черепах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ffc2"/>
                </a:solidFill>
                <a:latin typeface="Times New Roman"/>
              </a:rPr>
              <a:t>Наблюдение за черепахой в период кормления и бодрств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ffc2"/>
                </a:solidFill>
                <a:latin typeface="Times New Roman"/>
              </a:rPr>
              <a:t>Обобщение наблюдений за черепах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ffc2"/>
                </a:solidFill>
                <a:latin typeface="Times New Roman"/>
              </a:rPr>
              <a:t>Разработать наиболее оптимальный вариант ухода за            среднеазиатской черепахой в домашних услов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385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Объект исследовани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ведение среднеазиатской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черепашки  в комнатных условиях.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ха неприхотливое животное в уход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ерепахи – древнейшие живот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ременные черепахи – потомки вымерших котилозавров, наиболее древних и примитивных рептил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другим данным древняя черепаха, представляла собой небольшое хищное живот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зубам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юшным панцир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PHOT0138"/>
          <p:cNvPicPr/>
          <p:nvPr/>
        </p:nvPicPr>
        <p:blipFill>
          <a:blip r:embed="rId1"/>
          <a:stretch/>
        </p:blipFill>
        <p:spPr>
          <a:xfrm>
            <a:off x="5715000" y="42861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неазиатская сухопутная черепаха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23880"/>
            <a:ext cx="430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нашей черепахи невысокий округлый панцирь буровато - оливкового цвета с размывчатыми чёрными пятнами длиной 9,5 с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лова оливковая с крючковидной верхней челюсть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чик хвоста заострё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ередних конечностях по 4 когтя – это является отличительной чертой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реднеазиатских черепа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у других черепах по 5 когтей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7" descr="PHOT0193"/>
          <p:cNvPicPr/>
          <p:nvPr/>
        </p:nvPicPr>
        <p:blipFill>
          <a:blip r:embed="rId1"/>
          <a:stretch/>
        </p:blipFill>
        <p:spPr>
          <a:xfrm>
            <a:off x="4943520" y="168588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Жизнь среднеазиатских                         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 черепах в невол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ение пола среднеазиатской черепах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хвосту. У самцов узкий и длинный. У самок хвост короткий и широ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глублению на брюшном щите у самцов, которое отсутствует у сам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шпорам. У самца среднеазиатской черепахи один роговой бугорок на тыльной стороне бедра, у самки таких бугорков 3–5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PHOT0152"/>
          <p:cNvPicPr/>
          <p:nvPr/>
        </p:nvPicPr>
        <p:blipFill>
          <a:blip r:embed="rId1"/>
          <a:stretch/>
        </p:blipFill>
        <p:spPr>
          <a:xfrm>
            <a:off x="228600" y="171360"/>
            <a:ext cx="8610480" cy="63817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/>
          <p:cNvSpPr/>
          <p:nvPr/>
        </p:nvSpPr>
        <p:spPr>
          <a:xfrm rot="1305600">
            <a:off x="6019560" y="3962520"/>
            <a:ext cx="1892160" cy="485640"/>
          </a:xfrm>
          <a:prstGeom prst="leftArrow">
            <a:avLst>
              <a:gd name="adj1" fmla="val 50000"/>
              <a:gd name="adj2" fmla="val 9740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ой корм -для черепах – растительная пища. Наша черепаха очень любит листья одуванчика, свежую не-ядовитую траву, листья капусты, морковь, натёртую на тёрке, кусочки яблок, бана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PHOT0171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упание и кормле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пают минимум один раз в неделю. Нельзя оставлять без присмо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пах кормят каждый день, в одно и то же время. Дома черепах можно кормить разнообразной растительной пищей - зелень, фрукты, овощи, яг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ое питьё ей не нуж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сенне-зимний сезон черепахам можно давать сено, но при этом нужно давать им много в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черепахи любят сладкие фрукты, но в большом количестве давать нельзя — это ведёт к ожир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одых черепах кормят 1-2 раза в день, тех, что постарше - через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ичество корма зависит от размера черепахи, от её насыщ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PHOT0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Нужна ли  сухопутной черепахе вода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условиях неволи сухопутным черепахам нужны   поилки со свежей водой. Своей черепахе я ставлю ёмкость с водой, когда кормлю её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паха не очень любит принимать ванн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вает, она пьёт  воду во время куп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0:09:26Z</dcterms:created>
  <dc:creator>LinkWorld</dc:creator>
  <dc:description/>
  <dc:language>en-US</dc:language>
  <cp:lastModifiedBy>Николай</cp:lastModifiedBy>
  <dcterms:modified xsi:type="dcterms:W3CDTF">2013-04-28T00:08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