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78E-D458-40C8-9F3F-13B82F5C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FF7-AD28-4711-B01B-73F10C90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9A9-BCEE-4FBA-8C81-C4B75E96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F59-C89F-411D-A951-1E6DA510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63D1-4ED4-41BE-8E4D-EFA0A02E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A105-E060-435E-BA44-63CAAD03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54CE-B3CE-47EC-98D6-7E36C045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8431-51A4-466F-8120-21DAABC7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C3CC-5F1D-4516-AED2-D9434584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E6AE-7759-4F11-A8D9-61750FE2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B59E-8DCE-46E9-B687-1F0A0D14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A9B-D250-45BF-81EF-AF671892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D350-4434-4198-B172-69B56638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006E-1750-4F65-8849-6AB46147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1AAC-72DD-4846-A67A-D96217CE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9062-A618-44EF-97FD-89033591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9CA9-2E3F-409C-91D3-D1F7DFEC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DE753-573B-492D-9EB4-446B68D4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6C546-A87A-4E39-A0D8-2D1CBDEC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A0ADA-AF5B-469F-97A7-474A867E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6C566-3C17-4842-8047-B0F421BC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F7D78-A4E0-4E1F-A813-98918958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206-1C93-4DBE-97FB-48A26D9D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826DD-8D88-4F33-9E67-1A647B18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7B025-9116-409E-9314-12DE1A2E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CED60-762D-482B-B108-DE762D67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301E5-2CC9-4732-A308-FC725164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873A0-A690-4909-8F6A-0D313D4E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5CF1A-BE7A-4011-A809-C9878616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61D3B-9713-47C5-9FCA-FFEC411B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171-DE72-4E69-B97D-CF505FF7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F4C-FF15-463A-86A1-EECEFF02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24C-C741-4AFE-8C13-3A0B9906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44F-C88E-4CA5-95A6-5B39B124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FE9-7AAC-414D-9EB6-52ACDD0F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CC2-2AC8-42C9-B6D1-844069AF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0D10-B779-4C69-8A95-AA32C06C58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FDB6-C15E-4B89-BB65-5E291C5D0A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55AD-86A6-4B96-9C99-9119DD0CEF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85960" y="2214720"/>
            <a:ext cx="568656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Проект «Экологи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500040" y="142920"/>
            <a:ext cx="8286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У Серебряно-Прудская СОШ им. Маршала В. И. Чуй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214800" y="3643200"/>
            <a:ext cx="55432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Белякова Александра, 2 «В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уководитель проекта: Колгано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ультант: Беляк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928880" y="6000840"/>
            <a:ext cx="5543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Животны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071720" y="2214720"/>
            <a:ext cx="7034040" cy="42447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692360" y="14288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раконь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1"/>
          <p:cNvPicPr/>
          <p:nvPr/>
        </p:nvPicPr>
        <p:blipFill>
          <a:blip r:embed="rId1"/>
          <a:stretch/>
        </p:blipFill>
        <p:spPr>
          <a:xfrm>
            <a:off x="765000" y="428760"/>
            <a:ext cx="31593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2"/>
          <p:cNvPicPr/>
          <p:nvPr/>
        </p:nvPicPr>
        <p:blipFill>
          <a:blip r:embed="rId2"/>
          <a:stretch/>
        </p:blipFill>
        <p:spPr>
          <a:xfrm>
            <a:off x="4122720" y="428760"/>
            <a:ext cx="4356000" cy="32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11"/>
          <p:cNvPicPr/>
          <p:nvPr/>
        </p:nvPicPr>
        <p:blipFill>
          <a:blip r:embed="rId3"/>
          <a:stretch/>
        </p:blipFill>
        <p:spPr>
          <a:xfrm>
            <a:off x="622440" y="3857760"/>
            <a:ext cx="3348000" cy="245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7"/>
          <p:cNvPicPr/>
          <p:nvPr/>
        </p:nvPicPr>
        <p:blipFill>
          <a:blip r:embed="rId4"/>
          <a:stretch/>
        </p:blipFill>
        <p:spPr>
          <a:xfrm>
            <a:off x="4051440" y="3857760"/>
            <a:ext cx="2014560" cy="2525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12"/>
          <p:cNvPicPr/>
          <p:nvPr/>
        </p:nvPicPr>
        <p:blipFill>
          <a:blip r:embed="rId5"/>
          <a:stretch/>
        </p:blipFill>
        <p:spPr>
          <a:xfrm>
            <a:off x="6194520" y="3857760"/>
            <a:ext cx="2306520" cy="2786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dryzja"/>
          <p:cNvPicPr/>
          <p:nvPr/>
        </p:nvPicPr>
        <p:blipFill>
          <a:blip r:embed="rId1"/>
          <a:stretch/>
        </p:blipFill>
        <p:spPr>
          <a:xfrm>
            <a:off x="214200" y="1571760"/>
            <a:ext cx="4195800" cy="45003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4859280" y="189000"/>
            <a:ext cx="403236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Schoolbook"/>
              </a:rPr>
              <a:t>Давайте будем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беречь планет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entury Schoolbook"/>
              </a:rPr>
              <a:t>Во всей Вселенной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Century Schoolbook"/>
              </a:rPr>
              <a:t>похожей нет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Земной шар"/>
          <p:cNvPicPr/>
          <p:nvPr/>
        </p:nvPicPr>
        <p:blipFill>
          <a:blip r:embed="rId2"/>
          <a:stretch/>
        </p:blipFill>
        <p:spPr>
          <a:xfrm>
            <a:off x="2195640" y="3141720"/>
            <a:ext cx="79056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214200" y="285840"/>
            <a:ext cx="4429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ш мир - наш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регит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0_3e50_dfdac324_-1-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40" y="3214440"/>
            <a:ext cx="83534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Цель проекта:</a:t>
            </a:r>
            <a:br>
              <a:rPr sz="3200"/>
            </a:b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анализировать экологическое состояние природы</a:t>
            </a:r>
            <a:br>
              <a:rPr sz="36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адачи проекта:</a:t>
            </a:r>
            <a:br>
              <a:rPr sz="3600"/>
            </a:b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-Расширение  представления об экологии,о ее роли в жизни человека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-Формирование основ экологической грамотности, чувства ответственности и любви к природ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0_3e54_103e1090_-1-L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357120" y="1714680"/>
            <a:ext cx="83581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ружающая ср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та среда обитания, в которой мы живё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наука о взаимодействии живых существ, в том числе человека, между собой и с окружающей 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01480" y="642960"/>
            <a:ext cx="81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всегда оказывали большое влияни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ающую среду, но сегодня деятельность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ревата катастрофическими последств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Возду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Рисунок 19" descr="Vozduh-300.jpg"/>
          <p:cNvPicPr/>
          <p:nvPr/>
        </p:nvPicPr>
        <p:blipFill>
          <a:blip r:embed="rId1"/>
          <a:stretch/>
        </p:blipFill>
        <p:spPr>
          <a:xfrm>
            <a:off x="4932360" y="1628640"/>
            <a:ext cx="3568680" cy="3894120"/>
          </a:xfrm>
          <a:prstGeom prst="rect">
            <a:avLst/>
          </a:prstGeom>
          <a:ln w="38160">
            <a:solidFill>
              <a:srgbClr val="05050e"/>
            </a:solidFill>
            <a:miter/>
          </a:ln>
        </p:spPr>
      </p:pic>
      <p:pic>
        <p:nvPicPr>
          <p:cNvPr id="135" name="Рисунок 18" descr="R%20-%20zhilkino2156!.jpg"/>
          <p:cNvPicPr/>
          <p:nvPr/>
        </p:nvPicPr>
        <p:blipFill>
          <a:blip r:embed="rId2"/>
          <a:stretch/>
        </p:blipFill>
        <p:spPr>
          <a:xfrm>
            <a:off x="468360" y="1628640"/>
            <a:ext cx="3674880" cy="3938760"/>
          </a:xfrm>
          <a:prstGeom prst="rect">
            <a:avLst/>
          </a:prstGeom>
          <a:ln w="38160">
            <a:solidFill>
              <a:srgbClr val="05050e"/>
            </a:solidFill>
            <a:miter/>
          </a:ln>
        </p:spPr>
      </p:pic>
      <p:sp>
        <p:nvSpPr>
          <p:cNvPr id="136" name="Rectangle 6"/>
          <p:cNvSpPr/>
          <p:nvPr/>
        </p:nvSpPr>
        <p:spPr>
          <a:xfrm>
            <a:off x="357120" y="5572080"/>
            <a:ext cx="8280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Атмосфера загрязняется вредными газами от машин и </a:t>
            </a:r>
            <a:br>
              <a:rPr sz="2400"/>
            </a:b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промышленных предприятий.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70012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2268360" y="2852640"/>
            <a:ext cx="68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имические вещества разрушают озоновый слой – защитный барьер вокруг атмосферы Земли, который не пропускает губительную радиацию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50920" y="189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громное количество загрязняющих веществ выбрасывается в окружающую среду в результате аварий или сбоев в системах техническ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Вод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додел"/>
          <p:cNvPicPr/>
          <p:nvPr/>
        </p:nvPicPr>
        <p:blipFill>
          <a:blip r:embed="rId1"/>
          <a:stretch/>
        </p:blipFill>
        <p:spPr>
          <a:xfrm>
            <a:off x="1547640" y="2276640"/>
            <a:ext cx="6391440" cy="3844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393840" y="16984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очные воды, нефтяные загряз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Расте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4786200" y="2000160"/>
            <a:ext cx="3695760" cy="4397400"/>
          </a:xfrm>
          <a:prstGeom prst="rect">
            <a:avLst/>
          </a:prstGeom>
          <a:ln w="3240">
            <a:solidFill>
              <a:srgbClr val="ccffff"/>
            </a:solidFill>
            <a:miter/>
          </a:ln>
        </p:spPr>
      </p:pic>
      <p:pic>
        <p:nvPicPr>
          <p:cNvPr id="145" name="Рисунок 1" descr="C:\Documents and Settings\Rustemka\Мои документы\Мои рисунки\Рисунки и анимация\PHOTO1\J0185130.JPG"/>
          <p:cNvPicPr/>
          <p:nvPr/>
        </p:nvPicPr>
        <p:blipFill>
          <a:blip r:embed="rId2"/>
          <a:stretch/>
        </p:blipFill>
        <p:spPr>
          <a:xfrm>
            <a:off x="324000" y="2070000"/>
            <a:ext cx="3676680" cy="4311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-181080" y="145728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рубка леса, пож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6:26:38Z</dcterms:created>
  <dc:creator>Семенова Е</dc:creator>
  <dc:description/>
  <dc:language>en-US</dc:language>
  <cp:lastModifiedBy>Наталья</cp:lastModifiedBy>
  <dcterms:modified xsi:type="dcterms:W3CDTF">2013-03-19T14:29:33Z</dcterms:modified>
  <cp:revision>50</cp:revision>
  <dc:subject/>
  <dc:title>«Презентация на тему Экология».</dc:title>
</cp:coreProperties>
</file>