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07A-A76E-4F97-BC4C-0F8FC9D3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E81-D929-40CF-AD5C-1BC468D3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B76-A393-40E1-AB16-3DA34AE1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7AD-783B-49EF-9A68-3D2618B6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D9B0-FEDD-459D-BCB5-6169E692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E034-2EEE-4C70-96CB-B40EB80C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6B33-4C01-4C1A-A424-6F15E121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3160-DF44-4FFE-87D5-8B44E06C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19D6-D4E1-4B44-A7EB-F8092E12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4E04-8179-46AD-9CC5-884DF619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8C08-EC79-4CA1-A744-08278D0E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C6E-88D4-4239-8379-FC199F42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A2EF-0B6D-4C4A-8F65-9FF3312E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AEF2-4F3B-485D-838E-2D2069DE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A2CC-CDFB-48D8-9575-9212DA67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A0D2-741F-4D7F-AF07-649FFCFD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779A-0251-4CB8-B148-A480C77E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D00E7-11E4-416F-827C-F31D5A30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D9811-CC70-4EB4-9857-079F854E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BB826-3160-45D6-926F-5CE52828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C0C36-CE11-4D5C-86F0-1A16FE75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7BE92-B958-4DE0-A4B2-20C1688D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54EA-3B81-409F-A9D9-33C7CF57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3CE0E-8AA6-4909-B665-E925CC98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CF4A83-A6A0-4C73-9E82-A691DFAE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572E3-1EC9-47F8-8C28-181D7541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FF8245-75F2-4131-BD1D-FAD1749E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1624A-6FDA-49BA-AB66-46007BD3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A5C3C-99E7-4E48-B7D7-C46B8771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391F5-125F-4AFF-90BC-3E399FFD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CF6-C424-4FB4-BC6D-A9BEED95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2086-0B28-4D23-BC13-03345F77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9109-EACE-4600-A695-E900FC1D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EA6-7448-446D-AC00-C24BF6B2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65C-7ADB-44B8-870D-CB52B3FA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07C-A65E-4339-8ED4-89DBBFC8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A958-D412-42A1-AF4D-A423B61C4B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211A-B674-40ED-BB51-064AA6656C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D3FF-12C2-4C0B-B6BC-E778727BA9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85960" y="2214720"/>
            <a:ext cx="568656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Проект «Экология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500040" y="142920"/>
            <a:ext cx="82868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У Серебряно-Прудская СОШ им. Маршала В. И. Чуй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214800" y="3643200"/>
            <a:ext cx="554328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тор: Белякова Александра, 2 «В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уководитель проекта: Колганова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ультант: Белякова Н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928880" y="6000840"/>
            <a:ext cx="55436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013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Животны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071720" y="2214720"/>
            <a:ext cx="7034040" cy="42447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692360" y="14288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Браконь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1"/>
          <p:cNvPicPr/>
          <p:nvPr/>
        </p:nvPicPr>
        <p:blipFill>
          <a:blip r:embed="rId1"/>
          <a:stretch/>
        </p:blipFill>
        <p:spPr>
          <a:xfrm>
            <a:off x="765000" y="428760"/>
            <a:ext cx="31593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2"/>
          <p:cNvPicPr/>
          <p:nvPr/>
        </p:nvPicPr>
        <p:blipFill>
          <a:blip r:embed="rId2"/>
          <a:stretch/>
        </p:blipFill>
        <p:spPr>
          <a:xfrm>
            <a:off x="4122720" y="428760"/>
            <a:ext cx="4356000" cy="32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11"/>
          <p:cNvPicPr/>
          <p:nvPr/>
        </p:nvPicPr>
        <p:blipFill>
          <a:blip r:embed="rId3"/>
          <a:stretch/>
        </p:blipFill>
        <p:spPr>
          <a:xfrm>
            <a:off x="622440" y="3857760"/>
            <a:ext cx="3348000" cy="2452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7"/>
          <p:cNvPicPr/>
          <p:nvPr/>
        </p:nvPicPr>
        <p:blipFill>
          <a:blip r:embed="rId4"/>
          <a:stretch/>
        </p:blipFill>
        <p:spPr>
          <a:xfrm>
            <a:off x="4051440" y="3857760"/>
            <a:ext cx="2014560" cy="2525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12"/>
          <p:cNvPicPr/>
          <p:nvPr/>
        </p:nvPicPr>
        <p:blipFill>
          <a:blip r:embed="rId5"/>
          <a:stretch/>
        </p:blipFill>
        <p:spPr>
          <a:xfrm>
            <a:off x="6194520" y="3857760"/>
            <a:ext cx="2306520" cy="2786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dryzja"/>
          <p:cNvPicPr/>
          <p:nvPr/>
        </p:nvPicPr>
        <p:blipFill>
          <a:blip r:embed="rId1"/>
          <a:stretch/>
        </p:blipFill>
        <p:spPr>
          <a:xfrm>
            <a:off x="214200" y="1571760"/>
            <a:ext cx="4195800" cy="45003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4859280" y="189000"/>
            <a:ext cx="4032360" cy="63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Century Schoolbook"/>
              </a:rPr>
              <a:t>Давайте будем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Century Schoolbook"/>
              </a:rPr>
              <a:t>беречь планет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entury Schoolbook"/>
              </a:rPr>
              <a:t>Во всей Вселенной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4800" spc="-1" strike="noStrike">
                <a:solidFill>
                  <a:srgbClr val="009900"/>
                </a:solidFill>
                <a:latin typeface="Century Schoolbook"/>
              </a:rPr>
              <a:t>похожей нет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Земной шар"/>
          <p:cNvPicPr/>
          <p:nvPr/>
        </p:nvPicPr>
        <p:blipFill>
          <a:blip r:embed="rId2"/>
          <a:stretch/>
        </p:blipFill>
        <p:spPr>
          <a:xfrm>
            <a:off x="2195640" y="3141720"/>
            <a:ext cx="790560" cy="792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214200" y="285840"/>
            <a:ext cx="4429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ш мир - наш ми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регите ег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0_3e50_dfdac324_-1-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840" y="3214440"/>
            <a:ext cx="83534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Цель проекта:</a:t>
            </a:r>
            <a:br>
              <a:rPr sz="3200"/>
            </a:b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анализировать экологическое состояние природы</a:t>
            </a:r>
            <a:br>
              <a:rPr sz="36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Задачи проекта:</a:t>
            </a:r>
            <a:br>
              <a:rPr sz="3600"/>
            </a:b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-Расширение  представления об экологии,о ее роли в жизни человека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-Формирование основ экологической грамотности, чувства ответственности и любви к природе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0_3e54_103e1090_-1-L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357120" y="1714680"/>
            <a:ext cx="83581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кружающая сре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та среда обитания, в которой мы живё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наука о взаимодействии живых существ, в том числе человека, между собой и с окружающей 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501480" y="642960"/>
            <a:ext cx="816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всегда оказывали большое влияние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жающую среду, но сегодня деятельность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ревата катастрофическими последств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Воздух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Рисунок 19" descr="Vozduh-300.jpg"/>
          <p:cNvPicPr/>
          <p:nvPr/>
        </p:nvPicPr>
        <p:blipFill>
          <a:blip r:embed="rId1"/>
          <a:stretch/>
        </p:blipFill>
        <p:spPr>
          <a:xfrm>
            <a:off x="4932360" y="1628640"/>
            <a:ext cx="3568680" cy="3894120"/>
          </a:xfrm>
          <a:prstGeom prst="rect">
            <a:avLst/>
          </a:prstGeom>
          <a:ln w="38160">
            <a:solidFill>
              <a:srgbClr val="05050e"/>
            </a:solidFill>
            <a:miter/>
          </a:ln>
        </p:spPr>
      </p:pic>
      <p:pic>
        <p:nvPicPr>
          <p:cNvPr id="135" name="Рисунок 18" descr="R%20-%20zhilkino2156!.jpg"/>
          <p:cNvPicPr/>
          <p:nvPr/>
        </p:nvPicPr>
        <p:blipFill>
          <a:blip r:embed="rId2"/>
          <a:stretch/>
        </p:blipFill>
        <p:spPr>
          <a:xfrm>
            <a:off x="468360" y="1628640"/>
            <a:ext cx="3674880" cy="3938760"/>
          </a:xfrm>
          <a:prstGeom prst="rect">
            <a:avLst/>
          </a:prstGeom>
          <a:ln w="38160">
            <a:solidFill>
              <a:srgbClr val="05050e"/>
            </a:solidFill>
            <a:miter/>
          </a:ln>
        </p:spPr>
      </p:pic>
      <p:sp>
        <p:nvSpPr>
          <p:cNvPr id="136" name="Rectangle 6"/>
          <p:cNvSpPr/>
          <p:nvPr/>
        </p:nvSpPr>
        <p:spPr>
          <a:xfrm>
            <a:off x="357120" y="5572080"/>
            <a:ext cx="8280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Атмосфера загрязняется вредными газами от машин и </a:t>
            </a:r>
            <a:br>
              <a:rPr sz="2400"/>
            </a:b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промышленных предприятий.</a:t>
            </a: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70012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7"/>
          <p:cNvSpPr/>
          <p:nvPr/>
        </p:nvSpPr>
        <p:spPr>
          <a:xfrm>
            <a:off x="2268360" y="2852640"/>
            <a:ext cx="68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имические вещества разрушают озоновый слой – защитный барьер вокруг атмосферы Земли, который не пропускает губительную радиацию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50920" y="1890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громное количество загрязняющих веществ выбрасывается в окружающую среду в результате аварий или сбоев в системах техническ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Вод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додел"/>
          <p:cNvPicPr/>
          <p:nvPr/>
        </p:nvPicPr>
        <p:blipFill>
          <a:blip r:embed="rId1"/>
          <a:stretch/>
        </p:blipFill>
        <p:spPr>
          <a:xfrm>
            <a:off x="1547640" y="2276640"/>
            <a:ext cx="6391440" cy="3844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393840" y="16984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очные воды, нефтяные загряз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Растен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4786200" y="2000160"/>
            <a:ext cx="3695760" cy="4397400"/>
          </a:xfrm>
          <a:prstGeom prst="rect">
            <a:avLst/>
          </a:prstGeom>
          <a:ln w="3240">
            <a:solidFill>
              <a:srgbClr val="ccffff"/>
            </a:solidFill>
            <a:miter/>
          </a:ln>
        </p:spPr>
      </p:pic>
      <p:pic>
        <p:nvPicPr>
          <p:cNvPr id="145" name="Рисунок 1" descr="C:\Documents and Settings\Rustemka\Мои документы\Мои рисунки\Рисунки и анимация\PHOTO1\J0185130.JPG"/>
          <p:cNvPicPr/>
          <p:nvPr/>
        </p:nvPicPr>
        <p:blipFill>
          <a:blip r:embed="rId2"/>
          <a:stretch/>
        </p:blipFill>
        <p:spPr>
          <a:xfrm>
            <a:off x="324000" y="2070000"/>
            <a:ext cx="3676680" cy="4311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-181080" y="145728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ырубка леса, пож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6:26:38Z</dcterms:created>
  <dc:creator>Семенова Е</dc:creator>
  <dc:description/>
  <dc:language>en-US</dc:language>
  <cp:lastModifiedBy>Наталья</cp:lastModifiedBy>
  <dcterms:modified xsi:type="dcterms:W3CDTF">2013-03-19T14:29:33Z</dcterms:modified>
  <cp:revision>50</cp:revision>
  <dc:subject/>
  <dc:title>«Презентация на тему Экология».</dc:title>
</cp:coreProperties>
</file>