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DCA-4EE9-409A-8C48-44BB252F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237-5F9B-4E01-AD35-EFB98A27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813-45DF-4167-BA47-D3315C50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5E3-63B0-4BFC-BCF6-E58BF37F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9C31-A14D-463E-86D9-F094150A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943F-DEE4-43F5-B830-D2FD3937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A918-6F94-44C2-9AB3-DEA50682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3E39-5D21-421F-9419-AF60EAC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7779-C320-4710-9A51-38BD0C98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7944-2278-4B0B-A604-B3EC5660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9316-E3E6-494D-A100-E24C7C0E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53B-580A-4B5E-ADA9-7834AE1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61F5-2694-49E4-B819-88AA8E1F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B980-4A5D-4A7F-AE30-6BB2813C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30BA-2F59-4170-959C-B8EED64A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CB87-9BFD-4ACD-9DE3-217E08FD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6701-FD60-4D25-A11D-D914CC42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4E0-E9B9-4C30-A639-21DD79C2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50A-C51C-4A1C-AEB3-2CF179BF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571-7913-4DF6-A0AD-671E9140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CD5-D80E-48AE-9202-D9E2E6F1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C3C-B59E-42A0-B329-D88568EC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9B5-8F01-4B74-B094-FEAA9C4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0F7-AAB7-4196-B928-A84F941D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FF1B-1B79-4B55-845D-35C70A65C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B2F4-905B-454C-B706-E0D46AB29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 днем рожденья, детский сад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м 7 л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277920"/>
            <a:ext cx="823104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868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336600"/>
            <a:ext cx="8496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295200"/>
            <a:ext cx="822960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6400" y="277920"/>
            <a:ext cx="80694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24000" y="277920"/>
            <a:ext cx="81468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89308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0920" y="27792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9280" y="84240"/>
            <a:ext cx="849636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122400"/>
            <a:ext cx="864072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277920"/>
            <a:ext cx="80596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818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487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3744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8:18:55Z</dcterms:created>
  <dc:creator>User</dc:creator>
  <dc:description/>
  <dc:language>en-US</dc:language>
  <cp:lastModifiedBy>User</cp:lastModifiedBy>
  <dcterms:modified xsi:type="dcterms:W3CDTF">2013-02-25T14:34:56Z</dcterms:modified>
  <cp:revision>4</cp:revision>
  <dc:subject/>
  <dc:title>Слайд 1</dc:title>
</cp:coreProperties>
</file>