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43A-33FD-4B36-8D72-0C198DCD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0F-14D0-45EB-85F4-A2CF896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7AC-38E6-4149-B5A8-54CED5F4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843-43DB-40A9-A6C6-DF9A93C4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609E-01D2-483F-82B5-AC96CBB5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D318-ABF9-49C7-902B-D8CC6FA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E9D2-F338-458C-9E8B-CF8B582A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B5DA-D69B-4AC5-BC4E-27453484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FBAC-9996-4F34-91A6-2C55C5E4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9A0E-924E-41A6-AF42-A566594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8E8-C5B9-4F87-A896-9EEADD9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BB8-A79F-42B7-B0AD-EBDC2FF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2CBC-E74D-42E8-8CE9-B5CF954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2E17-DE34-4351-8589-FF2F4AA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5343-4613-4B70-8CF1-A6A391C1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302-193C-4B7E-9623-61A643D4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02A6-FB80-4B84-AC77-BB256ED7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E1C-B8FF-4F33-A5EA-734AF0E8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A9E-A435-435B-9DC3-66BA1286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779-EEE2-4614-8328-511C4F48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FE6-5AFB-409A-B4D2-22C371C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8CD-2978-425A-9195-2EFB019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213-94E5-44B9-8115-577436C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FDE-E402-4249-BDF1-813945C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05C-F4BA-417F-9503-BA031AADD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D1A6-5BAF-4A6D-87AA-32C6A0A26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 днем рожденья, детский сад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м 7 л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277920"/>
            <a:ext cx="82310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868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336600"/>
            <a:ext cx="8496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295200"/>
            <a:ext cx="82296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6400" y="277920"/>
            <a:ext cx="8069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24000" y="277920"/>
            <a:ext cx="81468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89308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27792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84963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122400"/>
            <a:ext cx="86407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277920"/>
            <a:ext cx="80596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8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744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8:18:55Z</dcterms:created>
  <dc:creator>User</dc:creator>
  <dc:description/>
  <dc:language>en-US</dc:language>
  <cp:lastModifiedBy>User</cp:lastModifiedBy>
  <dcterms:modified xsi:type="dcterms:W3CDTF">2013-02-25T14:34:56Z</dcterms:modified>
  <cp:revision>4</cp:revision>
  <dc:subject/>
  <dc:title>Слайд 1</dc:title>
</cp:coreProperties>
</file>