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gif" ContentType="image/gif"/>
  <Override PartName="/ppt/media/image3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BBF-C546-42E4-BBB5-A078A5398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6AB8-BE11-4999-929F-47D3E84A2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3ABE-A9A6-493F-9D9E-A593F5FE2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12B6-4A4C-45A7-863B-70DF28AB9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8DB-3C20-4D0C-9328-8CAAEFF93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F808-4842-4D05-B09F-49866158E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FF6-D088-4D1C-BE15-79E05A496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5FB-E6A3-44F4-8F45-D3FBD5BA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996-B598-4D3F-82F4-69775010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06F-D54F-4BE8-9EBD-02EC16A6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015-2512-4A13-ADFA-20830631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CF1-386F-4C57-B5AF-E84E8E1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4E0-9611-48CE-9A6B-061E6DBE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455-B627-474D-88B3-AFAFDBCE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BF7-75FE-482D-9943-D3818831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44A-FF7F-4D03-9BBF-71CA06A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72F-69EC-466A-BE9D-5BA6AB8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712-9A0B-42B9-90A4-973D55C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8F5-FA3D-4CF4-9D66-06BD3F8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C533-AF2F-49F2-8CB4-48131411D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image" Target="../media/image11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image" Target="../media/image15.wmf"/><Relationship Id="rId7" Type="http://schemas.openxmlformats.org/officeDocument/2006/relationships/image" Target="../media/image11.wm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gif"/><Relationship Id="rId4" Type="http://schemas.openxmlformats.org/officeDocument/2006/relationships/image" Target="../media/image13.wmf"/><Relationship Id="rId5" Type="http://schemas.openxmlformats.org/officeDocument/2006/relationships/image" Target="../media/image16.wmf"/><Relationship Id="rId6" Type="http://schemas.openxmlformats.org/officeDocument/2006/relationships/image" Target="../media/image14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image" Target="../media/image11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Словарные слова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9900"/>
                </a:solidFill>
                <a:latin typeface="Comic Sans MS"/>
              </a:rPr>
              <a:t>«ОГОРОД»</a:t>
            </a:r>
            <a:br>
              <a:rPr sz="4800"/>
            </a:b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9417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тавила: Ганиева Л.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ь МБОУ «Кубянская СОШ»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3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23990"/>
          <p:cNvPicPr/>
          <p:nvPr/>
        </p:nvPicPr>
        <p:blipFill>
          <a:blip r:embed="rId2"/>
          <a:stretch/>
        </p:blipFill>
        <p:spPr>
          <a:xfrm>
            <a:off x="4859280" y="189000"/>
            <a:ext cx="3646440" cy="482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j0428161"/>
          <p:cNvPicPr/>
          <p:nvPr/>
        </p:nvPicPr>
        <p:blipFill>
          <a:blip r:embed="rId3"/>
          <a:stretch/>
        </p:blipFill>
        <p:spPr>
          <a:xfrm>
            <a:off x="7356600" y="4653000"/>
            <a:ext cx="1787400" cy="186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353835"/>
          <p:cNvPicPr/>
          <p:nvPr/>
        </p:nvPicPr>
        <p:blipFill>
          <a:blip r:embed="rId4"/>
          <a:stretch/>
        </p:blipFill>
        <p:spPr>
          <a:xfrm>
            <a:off x="0" y="1557360"/>
            <a:ext cx="2349360" cy="3021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an02394_"/>
          <p:cNvPicPr/>
          <p:nvPr/>
        </p:nvPicPr>
        <p:blipFill>
          <a:blip r:embed="rId5"/>
          <a:stretch/>
        </p:blipFill>
        <p:spPr>
          <a:xfrm>
            <a:off x="-2270160" y="4869000"/>
            <a:ext cx="2270160" cy="15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0432587"/>
          <p:cNvPicPr/>
          <p:nvPr/>
        </p:nvPicPr>
        <p:blipFill>
          <a:blip r:embed="rId6"/>
          <a:stretch/>
        </p:blipFill>
        <p:spPr>
          <a:xfrm>
            <a:off x="0" y="0"/>
            <a:ext cx="21240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j0428195"/>
          <p:cNvPicPr/>
          <p:nvPr/>
        </p:nvPicPr>
        <p:blipFill>
          <a:blip r:embed="rId7"/>
          <a:stretch/>
        </p:blipFill>
        <p:spPr>
          <a:xfrm>
            <a:off x="7667640" y="4365720"/>
            <a:ext cx="1008000" cy="82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j0430005"/>
          <p:cNvPicPr/>
          <p:nvPr/>
        </p:nvPicPr>
        <p:blipFill>
          <a:blip r:embed="rId8"/>
          <a:stretch/>
        </p:blipFill>
        <p:spPr>
          <a:xfrm>
            <a:off x="3708360" y="7101000"/>
            <a:ext cx="581040" cy="69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j0345236"/>
          <p:cNvPicPr/>
          <p:nvPr/>
        </p:nvPicPr>
        <p:blipFill>
          <a:blip r:embed="rId9"/>
          <a:stretch/>
        </p:blipFill>
        <p:spPr>
          <a:xfrm>
            <a:off x="2843280" y="3141720"/>
            <a:ext cx="2232000" cy="13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j0344872"/>
          <p:cNvPicPr/>
          <p:nvPr/>
        </p:nvPicPr>
        <p:blipFill>
          <a:blip r:embed="rId10"/>
          <a:stretch/>
        </p:blipFill>
        <p:spPr>
          <a:xfrm rot="1006200">
            <a:off x="7451280" y="764640"/>
            <a:ext cx="674640" cy="70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j0344872"/>
          <p:cNvPicPr/>
          <p:nvPr/>
        </p:nvPicPr>
        <p:blipFill>
          <a:blip r:embed="rId11"/>
          <a:stretch/>
        </p:blipFill>
        <p:spPr>
          <a:xfrm rot="19704600">
            <a:off x="5003280" y="1052280"/>
            <a:ext cx="6750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-0.08509 C 0.02621 -0.08925 0.02691 -0.09434 0.02934 -0.09781 C 0.03576 -0.10729 0.04809 -0.11099 0.05625 -0.117 C 0.06892 -0.12648 0.08211 -0.13596 0.096 -0.1422 C 0.11041 -0.13573 0.11927 -0.12278 0.13246 -0.117 C 0.13767 -0.11237 0.14288 -0.11006 0.14843 -0.10636 C 0.16944 -0.10937 0.17691 -0.10821 0.19288 -0.11908 C 0.19965 -0.1237 0.20156 -0.12833 0.20711 -0.13388 C 0.21996 -0.14682 0.22968 -0.15654 0.24514 -0.16347 C 0.25052 -0.16278 0.2559 -0.16255 0.26111 -0.16139 C 0.26614 -0.16023 0.27048 -0.15492 0.27534 -0.15284 C 0.28333 -0.15422 0.29132 -0.15445 0.29913 -0.157 C 0.30069 -0.15746 0.30121 -0.16 0.30243 -0.16139 C 0.30902 -0.16856 0.3151 -0.17503 0.31979 -0.18451 C 0.3243 -0.20301 0.32309 -0.22428 0.31666 -0.24162 C 0.31475 -0.24671 0.31319 -0.25249 0.31024 -0.25642 C 0.30746 -0.26012 0.30069 -0.26497 0.30069 -0.26497 C 0.29253 -0.26336 0.27795 -0.2622 0.26909 -0.25642 C 0.25191 -0.24509 0.28107 -0.25896 0.26111 -0.25018 C 0.25416 -0.24324 0.2467 -0.23977 0.24045 -0.23099 C 0.2368 -0.23237 0.23264 -0.2326 0.22934 -0.23538 C 0.22482 -0.23908 0.22257 -0.25064 0.21979 -0.25642 C 0.2217 -0.31492 0.21944 -0.29156 0.22777 -0.32625 C 0.22586 -0.35492 0.22795 -0.35746 0.20711 -0.36208 C 0.19496 -0.36116 0.18159 -0.36532 0.17066 -0.35792 C 0.16857 -0.35654 0.16753 -0.3533 0.1658 -0.35145 C 0.16232 -0.34775 0.15468 -0.34104 0.15468 -0.34104 C 0.14722 -0.32578 0.15694 -0.34405 0.14514 -0.32833 C 0.13889 -0.32 0.13889 -0.3096 0.1309 -0.30289 C 0.12291 -0.28879 0.121 -0.2911 0.11024 -0.28185 C 0.10451 -0.28255 0.09861 -0.28232 0.09288 -0.28393 C 0.09132 -0.2844 0.0908 -0.28671 0.08958 -0.2881 C 0.0875 -0.29041 0.08541 -0.29226 0.08333 -0.29457 C 0.07205 -0.30752 0.06232 -0.33688 0.04843 -0.34312 C 0.01406 -0.34081 0.0177 -0.35075 0.00711 -0.32185 C 0.00399 -0.30127 0.00121 -0.27815 -0.01042 -0.26266 C -0.01233 -0.2548 -0.01563 -0.25364 -0.0198 -0.24786 C -0.0257 -0.24902 -0.03264 -0.2474 -0.03733 -0.25226 C -0.04723 -0.26266 -0.0323 -0.25573 -0.04688 -0.26058 C -0.05052 -0.26567 -0.05955 -0.2733 -0.05955 -0.2733 C -0.06233 -0.2807 -0.06719 -0.28671 -0.0691 -0.29457 C -0.07257 -0.30867 -0.07709 -0.32208 -0.08646 -0.33041 C -0.09011 -0.32971 -0.09497 -0.3318 -0.09757 -0.32833 C -0.10018 -0.32486 -0.09931 -0.31862 -0.09931 -0.31353 C -0.09931 -0.27607 -0.09601 -0.23885 -0.09601 -0.20139 C -0.09601 -0.19838 -0.09688 -0.20717 -0.09757 -0.20995 C -0.09861 -0.21434 -0.09948 -0.2185 -0.10087 -0.22266 C -0.10469 -0.23469 -0.10747 -0.24694 -0.11198 -0.2585 C -0.11389 -0.26867 -0.11545 -0.27746 -0.1198 -0.28601 C -0.11927 -0.29156 -0.11962 -0.29758 -0.11823 -0.30289 C -0.11459 -0.3163 -0.10105 -0.31862 -0.09289 -0.32417 C -0.09115 -0.32532 -0.09011 -0.3281 -0.0882 -0.32833 C -0.07032 -0.33018 -0.05226 -0.32971 -0.0342 -0.33041 C -0.03316 -0.3318 -0.03108 -0.33249 -0.03091 -0.33457 C -0.03091 -0.33526 -0.03091 -0.35214 -0.03577 -0.35376 C -0.03941 -0.35492 -0.04323 -0.35376 -0.04688 -0.35376 E">
                                      <p:cBhvr>
                                        <p:cTn id="1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7 -0.35376 C -0.03576 -0.35746 -0.02743 -0.3681 -0.01684 -0.37272 C -0.00451 -0.38844 -0.02639 -0.36139 -0.00729 -0.38128 C -0.00434 -0.38428 -0.00191 -0.38821 0.0007 -0.39168 C 0.00087 -0.39191 0.01233 -0.40209 0.01493 -0.4044 C 0.02136 -0.41018 0.02639 -0.41781 0.03403 -0.42128 C 0.05139 -0.41272 0.04306 -0.42081 0.05156 -0.4044 C 0.05452 -0.39862 0.05781 -0.39307 0.06094 -0.38752 C 0.06198 -0.38544 0.06424 -0.38128 0.06424 -0.38128 C 0.06476 -0.3792 0.06667 -0.36925 0.06892 -0.36856 C 0.07083 -0.3681 0.07205 -0.37157 0.07379 -0.37272 C 0.07587 -0.37434 0.07795 -0.3755 0.08004 -0.37688 C 0.08715 -0.38128 0.09479 -0.38636 0.10226 -0.3896 C 0.11129 -0.40209 0.09879 -0.3859 0.11024 -0.39607 C 0.12222 -0.40648 0.10816 -0.39931 0.11979 -0.4044 C 0.12934 -0.41342 0.14028 -0.4192 0.14983 -0.42775 C 0.15521 -0.43792 0.16372 -0.44301 0.16892 -0.45318 C 0.17292 -0.46105 0.17726 -0.46683 0.18316 -0.47214 C 0.19965 -0.47076 0.21615 -0.47029 0.23247 -0.46798 C 0.2434 -0.46636 0.25122 -0.45573 0.26094 -0.45087 C 0.2625 -0.44879 0.26441 -0.44694 0.2658 -0.44463 C 0.26702 -0.44278 0.26754 -0.44024 0.26892 -0.43839 C 0.28368 -0.41873 0.26771 -0.44555 0.28004 -0.42359 C 0.28212 -0.4148 0.28542 -0.40671 0.28802 -0.39816 C 0.28698 -0.38613 0.28663 -0.37388 0.2849 -0.36209 C 0.28142 -0.33873 0.24636 -0.32255 0.23247 -0.32001 C 0.21771 -0.3133 0.20261 -0.31006 0.18802 -0.3029 C 0.16632 -0.29226 0.19149 -0.30359 0.17379 -0.29665 C 0.17066 -0.2955 0.16424 -0.29249 0.16424 -0.29249 C 0.16267 -0.2911 0.16111 -0.28925 0.15938 -0.2881 C 0.15799 -0.28717 0.15608 -0.28717 0.15469 -0.28602 C 0.14827 -0.28116 0.14566 -0.27422 0.13872 -0.27122 C 0.13247 -0.26012 0.12587 -0.25203 0.12136 -0.23954 C 0.11719 -0.20555 0.1316 -0.16024 0.15938 -0.15284 C 0.23785 -0.15469 0.22066 -0.14798 0.26094 -0.16139 C 0.2757 -0.17388 0.2967 -0.17434 0.31337 -0.18035 C 0.33333 -0.18752 0.32153 -0.18683 0.34202 -0.19099 C 0.35642 -0.19399 0.36927 -0.19654 0.38316 -0.20162 C 0.38559 -0.2037 0.39149 -0.2081 0.39271 -0.21203 C 0.39601 -0.22336 0.3908 -0.22729 0.39913 -0.2333 C 0.41354 -0.24347 0.42986 -0.24555 0.44514 -0.25226 C 0.44948 -0.2511 0.45469 -0.2511 0.45781 -0.24602 C 0.47309 -0.22105 0.45191 -0.24879 0.46424 -0.2333 C 0.46563 -0.22544 0.46754 -0.21781 0.46892 -0.20995 C 0.46945 -0.18174 0.46945 -0.15353 0.47049 -0.12532 C 0.47066 -0.12024 0.47309 -0.11561 0.47379 -0.11053 C 0.47535 -0.0992 0.47379 -0.09619 0.47847 -0.0874 C 0.4842 -0.07654 0.5092 -0.06636 0.51823 -0.06197 C 0.52656 -0.05804 0.53351 -0.05087 0.54202 -0.04717 C 0.55191 -0.03376 0.54879 -0.03561 0.55469 -0.01966 C 0.55521 -0.0155 0.55625 -0.01133 0.55625 -0.00694 C 0.55625 0.00369 0.55642 0.01433 0.55469 0.02473 C 0.55417 0.0282 0.55139 0.03028 0.54983 0.03306 C 0.53993 0.05132 0.53507 0.04762 0.51979 0.05433 C 0.51181 0.05364 0.49601 0.05225 0.49601 0.05225 E">
                                      <p:cBhvr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01734E-006 C -0.01754 -0.00369 -0.0349 -0.00762 -0.05243 -0.0104 C -0.0684 -0.01572 -0.08524 -0.01895 -0.10156 -0.02312 C -0.10469 -0.02404 -0.10799 -0.02427 -0.11111 -0.0252 C -0.1132 -0.02566 -0.11545 -0.02681 -0.11754 -0.02728 C -0.12274 -0.0289 -0.13333 -0.03144 -0.13333 -0.03144 C -0.1408 -0.03653 -0.14844 -0.03999 -0.15556 -0.04624 C -0.15868 -0.05895 -0.15191 -0.05618 -0.14445 -0.05895 C -0.1316 -0.06381 -0.11979 -0.06774 -0.10642 -0.06959 C -0.08802 -0.07676 -0.06997 -0.08207 -0.05087 -0.08439 C -0.03733 -0.08878 -0.02344 -0.09017 -0.00955 -0.09294 C 0.01736 -0.09225 0.04444 -0.09433 0.07135 -0.09063 C 0.07587 -0.08994 0.07031 -0.07745 0.06667 -0.07375 C 0.06476 -0.0719 0.05208 -0.06774 0.04913 -0.06751 C 0.02378 -0.06635 -0.00156 -0.06612 -0.02691 -0.06543 C -0.03906 -0.06473 -0.05139 -0.06358 -0.06354 -0.06358 C -0.09445 -0.06358 -0.14132 -0.04323 -0.16667 -0.07814 C -0.1691 -0.08809 -0.17379 -0.10173 -0.16354 -0.10774 C -0.16146 -0.1089 -0.1592 -0.10913 -0.15712 -0.10982 C -0.14757 -0.11838 -0.13611 -0.12046 -0.12535 -0.12462 C -0.10521 -0.13248 -0.08576 -0.13618 -0.06511 -0.13942 C -0.05122 -0.1415 -0.03767 -0.14566 -0.02379 -0.14774 C -0.00573 -0.15375 0.00295 -0.15075 0.02378 -0.14774 C 0.02535 -0.14566 0.03142 -0.13895 0.03177 -0.13502 C 0.03368 -0.11444 0.01424 -0.11329 0.00469 -0.1119 C -0.0566 -0.1126 -0.11806 -0.11121 -0.17934 -0.11398 C -0.18646 -0.11421 -0.19531 -0.13294 -0.19531 -0.13294 C -0.19705 -0.14034 -0.19896 -0.14381 -0.19358 -0.15213 C -0.19219 -0.15421 -0.18941 -0.15352 -0.18733 -0.15421 C -0.17882 -0.15745 -0.17257 -0.16092 -0.16354 -0.16254 C -0.14583 -0.17155 -0.12708 -0.17456 -0.10955 -0.18381 C -0.1 -0.18866 -0.09097 -0.19213 -0.0809 -0.19421 C -0.06511 -0.20531 -0.04288 -0.20647 -0.02535 -0.20901 C -0.0184 -0.20832 -0.01129 -0.20947 -0.00469 -0.20693 C -0.00104 -0.20554 -0.00347 -0.19537 -0.00642 -0.19213 C -0.02292 -0.17364 -0.0408 -0.16901 -0.06024 -0.16046 C -0.12431 -0.16115 -0.18837 -0.15976 -0.25243 -0.16254 C -0.25504 -0.16254 -0.25642 -0.16716 -0.25868 -0.16901 C -0.26007 -0.17017 -0.26198 -0.1704 -0.26354 -0.17109 C -0.26615 -0.17456 -0.2684 -0.17872 -0.27136 -0.18173 C -0.27344 -0.18381 -0.27587 -0.18543 -0.27778 -0.18797 C -0.27969 -0.19051 -0.28073 -0.19375 -0.28247 -0.19653 C -0.28351 -0.19814 -0.28472 -0.1993 -0.28576 -0.20069 C -0.28629 -0.20277 -0.28924 -0.21387 -0.28889 -0.21549 C -0.28594 -0.22866 -0.28299 -0.22728 -0.27622 -0.23236 C -0.26406 -0.24138 -0.25122 -0.24762 -0.23802 -0.2534 C -0.22986 -0.26127 -0.22083 -0.26196 -0.21111 -0.26404 C -0.1875 -0.26288 -0.17969 -0.26959 -0.16667 -0.25132 C -0.16875 -0.23491 -0.16771 -0.23653 -0.17934 -0.23236 C -0.19011 -0.22381 -0.20139 -0.22381 -0.21267 -0.21757 C -0.22552 -0.2104 -0.23906 -0.20647 -0.25243 -0.20069 C -0.26007 -0.19745 -0.2684 -0.19861 -0.27622 -0.19653 C -0.29375 -0.19213 -0.31094 -0.18497 -0.32865 -0.18173 C -0.35955 -0.16439 -0.40747 -0.17572 -0.44132 -0.17734 C -0.44479 -0.18196 -0.44965 -0.18473 -0.45243 -0.19005 C -0.45365 -0.19236 -0.4533 -0.19583 -0.45399 -0.19861 C -0.45486 -0.203 -0.45712 -0.21132 -0.45712 -0.21132 C -0.45556 -0.23768 -0.45816 -0.23699 -0.44445 -0.24924 C -0.42708 -0.2467 -0.42083 -0.24554 -0.41111 -0.22612 C -0.41163 -0.22404 -0.41111 -0.21872 -0.41267 -0.21965 C -0.41771 -0.22242 -0.42222 -0.23213 -0.42535 -0.23861 C -0.42934 -0.25549 -0.42066 -0.25433 -0.41111 -0.25988 C -0.40781 -0.26173 -0.40486 -0.2645 -0.40156 -0.26612 C -0.38924 -0.27283 -0.37639 -0.27537 -0.36354 -0.27884 C -0.35174 -0.28231 -0.3408 -0.28716 -0.32865 -0.28971 C -0.31563 -0.29502 -0.32292 -0.29549 -0.30469 -0.2978 C -0.29358 -0.30196 -0.28299 -0.30312 -0.27136 -0.30427 C -0.24688 -0.31514 -0.21927 -0.31861 -0.19358 -0.32115 C -0.17622 -0.32693 -0.18524 -0.32462 -0.16667 -0.32739 C -0.15642 -0.32647 -0.13889 -0.33271 -0.1349 -0.31699 C -0.13542 -0.31352 -0.13472 -0.30913 -0.13646 -0.30635 C -0.14167 -0.29734 -0.15625 -0.29063 -0.16354 -0.28762 C -0.17379 -0.27676 -0.16615 -0.28231 -0.18247 -0.27884 C -0.19236 -0.27676 -0.20122 -0.27075 -0.21111 -0.2682 C -0.38559 -0.27121 -0.30261 -0.2571 -0.36354 -0.27676 C -0.37761 -0.29086 -0.37431 -0.30473 -0.37136 -0.32971 C -0.37101 -0.3334 -0.36267 -0.34335 -0.36198 -0.3445 C -0.36059 -0.34705 -0.36024 -0.35051 -0.35868 -0.35283 C -0.35087 -0.36462 -0.34028 -0.36971 -0.33021 -0.37618 C -0.32083 -0.38242 -0.31042 -0.39028 -0.3 -0.39306 C -0.28802 -0.39606 -0.26927 -0.39907 -0.25556 -0.40138 C -0.22934 -0.4104 -0.20521 -0.40716 -0.17778 -0.40577 C -0.17188 -0.40161 -0.16823 -0.39583 -0.16198 -0.39306 C -0.15695 -0.38681 -0.14931 -0.37826 -0.15556 -0.36762 C -0.15886 -0.36184 -0.16649 -0.36138 -0.17136 -0.3593 C -0.19063 -0.35051 -0.21007 -0.34335 -0.23021 -0.33803 C -0.25139 -0.33872 -0.27257 -0.33826 -0.29358 -0.34011 C -0.29497 -0.34034 -0.30313 -0.34705 -0.30469 -0.34866 C -0.30747 -0.3519 -0.31267 -0.3593 -0.31267 -0.3593 C -0.31146 -0.37063 -0.31337 -0.38404 -0.30799 -0.39306 C -0.30677 -0.39514 -0.30469 -0.3956 -0.30313 -0.39722 C -0.30139 -0.39907 -0.30017 -0.40184 -0.29844 -0.40369 C -0.29271 -0.40971 -0.28681 -0.41525 -0.2809 -0.42057 C -0.24844 -0.44971 -0.22014 -0.46612 -0.1809 -0.47121 C -0.13958 -0.48508 -0.17153 -0.47514 -0.06511 -0.47121 C -0.06129 -0.47098 -0.05781 -0.4682 -0.05399 -0.46705 C -0.04861 -0.46566 -0.03802 -0.46288 -0.03802 -0.46288 C -0.02969 -0.45502 -0.0217 -0.44901 -0.01424 -0.43953 C -0.00903 -0.41132 -0.01823 -0.38658 -0.03646 -0.37179 C -0.03993 -0.36901 -0.0441 -0.36809 -0.04757 -0.36554 C -0.05035 -0.36346 -0.05261 -0.36023 -0.05556 -0.3593 C -0.06129 -0.35745 -0.06719 -0.35768 -0.07309 -0.35699 C -0.09201 -0.3519 -0.11094 -0.35352 -0.12691 -0.36762 C -0.13125 -0.38381 -0.11945 -0.38774 -0.10955 -0.39098 C -0.07153 -0.39028 -0.03333 -0.39098 0.00469 -0.3889 C 0.01562 -0.3882 0.00903 -0.36577 0.00469 -0.3593 C -0.00122 -0.35028 -0.01233 -0.33086 -0.02066 -0.32531 C -0.02813 -0.32023 -0.03663 -0.31676 -0.04445 -0.31283 C -0.07292 -0.31583 -0.10052 -0.31907 -0.12865 -0.32323 C -0.16632 -0.33595 -0.20504 -0.3556 -0.24288 -0.36554 C -0.25382 -0.37271 -0.26597 -0.38288 -0.27778 -0.38658 C -0.28802 -0.39699 -0.30087 -0.40346 -0.30799 -0.41849 C -0.31024 -0.42312 -0.31163 -0.42797 -0.31267 -0.43329 C -0.31372 -0.43884 -0.3158 -0.45017 -0.3158 -0.45017 C -0.31476 -0.47468 -0.31667 -0.49872 -0.3 -0.51352 C -0.29358 -0.52531 -0.28403 -0.53202 -0.27309 -0.53456 C -0.2533 -0.55236 -0.2507 -0.54265 -0.2158 -0.54103 C -0.20625 -0.53595 -0.20903 -0.53734 -0.19844 -0.53248 C -0.19688 -0.53179 -0.19358 -0.5304 -0.19358 -0.5304 C -0.18351 -0.52138 -0.18681 -0.52554 -0.18247 -0.51976 E">
                                      <p:cBhvr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6.7052E-006 C -0.02881 -0.01226 -0.05798 -0.00301 -0.08888 -0.00209 C -0.03975 0.01965 0.01476 0.00369 0.06667 0.00438 C 0.01581 0.00508 -0.03489 0.00462 -0.08576 0.00647 C -0.09635 0.00693 -0.06423 0.00508 -0.05399 0.00855 C -0.04982 0.00993 -0.06249 0.01086 -0.06666 0.01271 C -0.07603 0.01664 -0.06978 0.01456 -0.08576 0.0171 C -0.05242 0.0178 0.01129 0.01317 0.0507 0.02334 C 0.00522 0.02404 -0.04027 0.02404 -0.08576 0.02543 C -0.08749 0.02543 -0.09097 0.02519 -0.09062 0.02751 C -0.08906 0.03606 -0.07378 0.03583 -0.07152 0.03606 C -0.05451 0.03768 -0.02065 0.04022 -0.02065 0.04022 C 0.00244 0.04415 0.01147 0.0467 0.03647 0.0467 C 0.04862 0.0467 0.06077 0.04531 0.07292 0.04438 C 0.07397 0.04438 0.0698 0.04438 0.0698 0.04438 C 0.06251 0.03722 0.05469 0.03282 0.04601 0.02959 C 0.03178 0.01756 0.05278 0.03421 0.03334 0.02334 C 0.03195 0.02265 0.03143 0.02011 0.03004 0.01918 C 0.02709 0.0171 0.02362 0.01618 0.02049 0.01479 C 0.01893 0.0141 0.01737 0.01363 0.01581 0.01271 C 0.00157 0.00346 0.00765 0.00623 -0.00173 0.0023 C -0.00329 0.00092 -0.00468 -0.00093 -0.00642 -0.00209 C -0.00954 -0.00394 -0.01597 -0.00625 -0.01597 -0.00625 E">
                                      <p:cBhvr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2.42775E-006 C 0.25052 -0.02151 0.24861 -0.0511 0.25486 -0.07399 C 0.25642 -0.07954 0.26007 -0.09018 0.26441 -0.09295 C 0.26736 -0.0948 0.27066 -0.09573 0.27378 -0.09711 C 0.27534 -0.09781 0.27864 -0.0992 0.27864 -0.0992 C 0.29462 -0.09203 0.30191 -0.07723 0.3151 -0.06544 C 0.31805 -0.05341 0.31423 -0.06451 0.32153 -0.0548 C 0.3276 -0.04671 0.33021 -0.03607 0.33732 -0.0296 C 0.35139 -0.00185 0.33646 -0.02844 0.35 -0.01041 C 0.35694 -0.00116 0.34913 -0.00602 0.35798 -0.00209 C 0.36406 0.00624 0.37083 0.01225 0.37864 0.01711 C 0.38403 0.02034 0.39444 0.02751 0.39444 0.02751 C 0.43107 0.02566 0.4276 0.03283 0.44687 0.01479 C 0.44791 0.01202 0.44861 0.00901 0.45 0.00647 C 0.45087 0.00485 0.4526 0.00416 0.4533 0.00231 C 0.45607 -0.00509 0.45729 -0.01341 0.45955 -0.02104 C 0.45903 -0.0548 0.46493 -0.12047 0.44687 -0.1563 C 0.44496 -0.16394 0.44409 -0.17203 0.44218 -0.17966 C 0.4375 -0.19792 0.43073 -0.21526 0.42778 -0.23446 C 0.4283 -0.2444 0.42795 -0.25434 0.42934 -0.26405 C 0.43021 -0.26983 0.44444 -0.28301 0.44687 -0.28532 C 0.46562 -0.30197 0.48524 -0.31584 0.50712 -0.32324 C 0.51823 -0.32694 0.52899 -0.32925 0.54045 -0.3318 C 0.54357 -0.33249 0.55 -0.33388 0.55 -0.33388 C 0.61441 -0.32948 0.59462 -0.33665 0.62934 -0.32116 C 0.63593 -0.31284 0.62899 -0.32047 0.64045 -0.31284 C 0.64566 -0.30937 0.64618 -0.30613 0.65156 -0.3022 C 0.66163 -0.29457 0.65087 -0.30729 0.66267 -0.29596 C 0.6776 -0.28162 0.68889 -0.26128 0.70399 -0.24717 C 0.70972 -0.23191 0.70382 -0.24532 0.71198 -0.23237 C 0.7158 -0.22613 0.72309 -0.21341 0.72309 -0.21341 C 0.72534 -0.20463 0.7342 -0.19006 0.7342 -0.19006 C 0.74149 -0.16116 0.73819 -0.1237 0.71666 -0.10983 C 0.71545 -0.11006 0.70191 -0.11076 0.69774 -0.11399 C 0.69253 -0.11815 0.69218 -0.12671 0.68975 -0.13318 C 0.68611 -0.14313 0.68316 -0.1533 0.67864 -0.16278 C 0.67812 -0.16694 0.67795 -0.17133 0.67708 -0.17526 C 0.67639 -0.17827 0.67448 -0.18081 0.67378 -0.18382 C 0.671 -0.1963 0.6684 -0.21272 0.66597 -0.22613 C 0.6684 -0.2696 0.66458 -0.29203 0.68333 -0.32324 C 0.69218 -0.33804 0.69357 -0.34359 0.70712 -0.35076 C 0.71284 -0.35839 0.72066 -0.35862 0.72778 -0.36347 C 0.74965 -0.37827 0.7875 -0.39052 0.81198 -0.39099 C 0.87604 -0.39237 0.93993 -0.39237 1.00399 -0.39307 C 1.01528 -0.39677 1.02569 -0.4 1.03732 -0.40162 C 1.05069 -0.40602 1.06389 -0.40948 1.07708 -0.41434 C 1.08837 -0.42544 1.10451 -0.43584 1.11823 -0.43954 C 1.1467 -0.45526 1.10642 -0.43376 1.1342 -0.44602 C 1.14843 -0.45226 1.15173 -0.45827 1.16597 -0.46081 C 1.1809 -0.46752 1.19653 -0.46983 1.21198 -0.47353 C 1.23212 -0.47839 1.2533 -0.48763 1.27378 -0.48833 C 1.29132 -0.48902 1.30868 -0.48833 1.32621 -0.48833 E">
                                      <p:cBhvr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3640" y="765000"/>
            <a:ext cx="3311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Наш урожа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32000" y="1699920"/>
            <a:ext cx="2232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г о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 о 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353835"/>
          <p:cNvPicPr/>
          <p:nvPr/>
        </p:nvPicPr>
        <p:blipFill>
          <a:blip r:embed="rId2"/>
          <a:stretch/>
        </p:blipFill>
        <p:spPr>
          <a:xfrm>
            <a:off x="-252360" y="3213000"/>
            <a:ext cx="2349360" cy="302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423990"/>
          <p:cNvPicPr/>
          <p:nvPr/>
        </p:nvPicPr>
        <p:blipFill>
          <a:blip r:embed="rId3"/>
          <a:stretch/>
        </p:blipFill>
        <p:spPr>
          <a:xfrm>
            <a:off x="5364000" y="404640"/>
            <a:ext cx="3484800" cy="453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28161"/>
          <p:cNvPicPr/>
          <p:nvPr/>
        </p:nvPicPr>
        <p:blipFill>
          <a:blip r:embed="rId4"/>
          <a:stretch/>
        </p:blipFill>
        <p:spPr>
          <a:xfrm>
            <a:off x="7164360" y="4797360"/>
            <a:ext cx="1787400" cy="186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j0345236"/>
          <p:cNvPicPr/>
          <p:nvPr/>
        </p:nvPicPr>
        <p:blipFill>
          <a:blip r:embed="rId5"/>
          <a:stretch/>
        </p:blipFill>
        <p:spPr>
          <a:xfrm>
            <a:off x="1692360" y="4437000"/>
            <a:ext cx="4751280" cy="2421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5865120" y="256536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 о р к о в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48400" y="155736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 а р т о ф е л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3203640" y="2492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 о м и д о 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6083280" y="17002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я б л о к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2421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 г у р е 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j0112422"/>
          <p:cNvPicPr/>
          <p:nvPr/>
        </p:nvPicPr>
        <p:blipFill>
          <a:blip r:embed="rId6"/>
          <a:stretch/>
        </p:blipFill>
        <p:spPr>
          <a:xfrm rot="20612400">
            <a:off x="1476000" y="6858000"/>
            <a:ext cx="203832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344872"/>
          <p:cNvPicPr/>
          <p:nvPr/>
        </p:nvPicPr>
        <p:blipFill>
          <a:blip r:embed="rId7"/>
          <a:stretch/>
        </p:blipFill>
        <p:spPr>
          <a:xfrm rot="1006200">
            <a:off x="6876720" y="980640"/>
            <a:ext cx="674640" cy="70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j0112424"/>
          <p:cNvPicPr/>
          <p:nvPr/>
        </p:nvPicPr>
        <p:blipFill>
          <a:blip r:embed="rId8"/>
          <a:stretch/>
        </p:blipFill>
        <p:spPr>
          <a:xfrm flipH="1">
            <a:off x="6227640" y="7244640"/>
            <a:ext cx="860400" cy="90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j0122761"/>
          <p:cNvPicPr/>
          <p:nvPr/>
        </p:nvPicPr>
        <p:blipFill>
          <a:blip r:embed="rId9"/>
          <a:stretch/>
        </p:blipFill>
        <p:spPr>
          <a:xfrm rot="14682600">
            <a:off x="3618720" y="6947280"/>
            <a:ext cx="1487520" cy="130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j0193432"/>
          <p:cNvPicPr/>
          <p:nvPr/>
        </p:nvPicPr>
        <p:blipFill>
          <a:blip r:embed="rId10"/>
          <a:stretch/>
        </p:blipFill>
        <p:spPr>
          <a:xfrm rot="8341800">
            <a:off x="7454880" y="7101000"/>
            <a:ext cx="1689120" cy="838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j0112420"/>
          <p:cNvPicPr/>
          <p:nvPr/>
        </p:nvPicPr>
        <p:blipFill>
          <a:blip r:embed="rId11"/>
          <a:stretch/>
        </p:blipFill>
        <p:spPr>
          <a:xfrm rot="751200">
            <a:off x="-396360" y="7101000"/>
            <a:ext cx="1896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6821E-006 C 0.00278 -0.01156 -0.00156 -0.02636 -0.00312 -0.03815 C -0.00694 -0.06705 -0.01111 -0.09573 -0.01424 -0.12486 C -0.01371 -0.15237 -0.01337 -0.17966 -0.01267 -0.20717 C -0.01181 -0.24023 -0.00625 -0.28185 0.02066 -0.29388 C 0.03229 -0.29226 0.04514 -0.2948 0.05556 -0.28763 C 0.0599 -0.28463 0.06441 -0.277 0.06823 -0.27284 C 0.06979 -0.27122 0.0717 -0.27006 0.07309 -0.26844 C 0.07622 -0.26451 0.07951 -0.26012 0.08264 -0.25596 C 0.08524 -0.25249 0.09601 -0.22867 0.1 -0.22197 C 0.10226 -0.21295 0.10608 -0.20486 0.10955 -0.19677 C 0.11267 -0.18914 0.11458 -0.18104 0.11754 -0.17341 C 0.11701 -0.16925 0.11806 -0.16393 0.11597 -0.1607 C 0.11493 -0.15885 0.11267 -0.16185 0.11111 -0.16278 C 0.10417 -0.16694 0.09722 -0.17249 0.09201 -0.17966 C 0.08941 -0.18312 0.08663 -0.18682 0.0842 -0.19029 C 0.08264 -0.19237 0.07934 -0.19677 0.07934 -0.19677 C 0.0776 -0.20255 0.07465 -0.20786 0.07309 -0.21364 C 0.07083 -0.22197 0.06979 -0.23237 0.06823 -0.24116 C 0.0691 -0.27099 0.06563 -0.29919 0.07934 -0.32347 C 0.08194 -0.3348 0.07899 -0.32578 0.08576 -0.33619 C 0.09045 -0.34336 0.08906 -0.34405 0.09375 -0.3489 C 0.09931 -0.35469 0.10625 -0.3563 0.11267 -0.35954 C 0.12795 -0.35885 0.1434 -0.35862 0.15868 -0.35723 C 0.17014 -0.3563 0.17899 -0.34474 0.18889 -0.33827 C 0.19236 -0.3311 0.19618 -0.32625 0.20156 -0.32139 C 0.20538 -0.31422 0.20764 -0.30636 0.20955 -0.29804 C 0.21076 -0.29249 0.21267 -0.28116 0.21267 -0.28116 C 0.21111 -0.26474 0.21337 -0.25711 0.20156 -0.2622 C 0.19931 -0.26428 0.19757 -0.26659 0.19531 -0.26844 C 0.19375 -0.2696 0.19184 -0.2696 0.19045 -0.27075 C 0.18368 -0.2763 0.18004 -0.28278 0.17309 -0.28763 C 0.17205 -0.28971 0.17118 -0.29203 0.16979 -0.29388 C 0.16788 -0.29642 0.16528 -0.29758 0.16354 -0.30035 C 0.1625 -0.30197 0.16285 -0.30474 0.16198 -0.30659 C 0.16059 -0.3096 0.15868 -0.31237 0.15712 -0.31515 C 0.15556 -0.32578 0.15382 -0.33619 0.15243 -0.34682 C 0.15347 -0.36162 0.15382 -0.37665 0.15556 -0.39122 C 0.15677 -0.40093 0.15885 -0.39769 0.16198 -0.40393 C 0.16806 -0.41596 0.17153 -0.42844 0.18264 -0.43353 C 0.18854 -0.44139 0.19549 -0.44393 0.20313 -0.44833 C 0.21493 -0.45526 0.21892 -0.46174 0.23177 -0.46521 C 0.23629 -0.46451 0.24722 -0.46312 0.25243 -0.46081 C 0.25903 -0.45781 0.26302 -0.45133 0.26823 -0.44601 C 0.28438 -0.42983 0.2724 -0.44486 0.28264 -0.43122 C 0.28542 -0.41989 0.29358 -0.41179 0.29844 -0.40162 C 0.30035 -0.37503 0.30313 -0.36463 0.30313 -0.33619 E">
                                      <p:cBhvr>
                                        <p:cTn id="4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7052E-006 C 0.01076 -0.00462 0.0158 -0.0067 0.02708 -0.00855 C 0.03785 -0.0134 0.03021 -0.01017 0.05087 -0.01479 C 0.05399 -0.01548 0.05729 -0.01618 0.06042 -0.01687 C 0.06354 -0.01756 0.06996 -0.01895 0.06996 -0.01895 C 0.0783 -0.02311 0.08663 -0.02543 0.09531 -0.02751 C 0.10052 -0.02889 0.11111 -0.03167 0.11111 -0.03167 C 0.11944 -0.03745 0.12535 -0.0393 0.13489 -0.0423 C 0.13715 -0.043 0.13906 -0.04531 0.14132 -0.04647 C 0.14618 -0.04924 0.15 -0.04947 0.15555 -0.05086 C 0.16285 -0.05548 0.17031 -0.05733 0.17778 -0.06126 C 0.18524 -0.07121 0.17587 -0.06011 0.18732 -0.06774 C 0.21389 -0.08531 0.19097 -0.07398 0.20486 -0.08045 C 0.21111 -0.08878 0.21996 -0.09479 0.22552 -0.10358 C 0.22969 -0.11005 0.23663 -0.12485 0.23663 -0.12485 C 0.2408 -0.14126 0.23507 -0.12022 0.24132 -0.13733 C 0.2441 -0.14473 0.24479 -0.15467 0.24601 -0.16277 C 0.24548 -0.19398 0.25243 -0.25548 0.23489 -0.2897 C 0.23038 -0.30774 0.21996 -0.31953 0.20798 -0.32762 C 0.20521 -0.32947 0.20295 -0.33294 0.2 -0.3341 C 0.19601 -0.33571 0.19149 -0.33548 0.18732 -0.33618 C 0.1467 -0.33433 0.14705 -0.34936 0.13333 -0.32346 C 0.1243 -0.28739 0.14601 -0.25988 0.16996 -0.25363 C 0.1868 -0.25433 0.20382 -0.25294 0.22066 -0.25571 C 0.22986 -0.25733 0.24792 -0.27444 0.25885 -0.27907 C 0.26406 -0.28947 0.27048 -0.2971 0.27778 -0.3045 C 0.28264 -0.31745 0.28698 -0.32878 0.29375 -0.34034 C 0.29653 -0.36254 0.30243 -0.38358 0.30486 -0.406 C 0.30434 -0.43699 0.30469 -0.46797 0.3033 -0.49895 C 0.30278 -0.51074 0.29809 -0.52161 0.29531 -0.53271 C 0.29479 -0.53479 0.29375 -0.53918 0.29375 -0.53918 C 0.29323 -0.54473 0.2934 -0.55051 0.29219 -0.55606 C 0.29167 -0.5586 0.28976 -0.55999 0.28889 -0.5623 C 0.28715 -0.56716 0.28611 -0.57248 0.2842 -0.5771 C 0.28177 -0.58288 0.27795 -0.58774 0.27621 -0.59398 C 0.26753 -0.62358 0.25121 -0.65155 0.22708 -0.65965 C 0.21962 -0.66612 0.21198 -0.66774 0.2033 -0.67005 C 0.19375 -0.66936 0.1842 -0.66912 0.17465 -0.66797 C 0.1651 -0.66681 0.15555 -0.66011 0.14601 -0.65756 C 0.14149 -0.65109 0.13194 -0.64554 0.12552 -0.64277 C 0.11337 -0.63051 0.10052 -0.62057 0.08732 -0.61086 C 0.06684 -0.59583 0.08576 -0.60924 0.07309 -0.59606 C 0.07014 -0.59306 0.06354 -0.58774 0.06354 -0.58774 C 0.05521 -0.57063 0.04167 -0.56138 0.03663 -0.54126 C 0.03785 -0.52207 0.03524 -0.5186 0.04288 -0.50728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32948E-006 C -0.00764 -0.01017 -0.01493 -0.01873 -0.02535 -0.02335 C -0.03351 -0.03376 -0.02309 -0.02173 -0.03334 -0.02959 C -0.04705 -0.04023 -0.03316 -0.03167 -0.04445 -0.04231 C -0.05018 -0.04786 -0.0566 -0.05272 -0.06354 -0.05503 C -0.07066 -0.06243 -0.07726 -0.07075 -0.0842 -0.07838 C -0.09097 -0.08555 -0.09167 -0.08139 -0.09844 -0.09526 C -0.10313 -0.10474 -0.10695 -0.1126 -0.11268 -0.12069 C -0.11719 -0.13896 -0.11077 -0.1163 -0.11754 -0.1311 C -0.1184 -0.13295 -0.11823 -0.13549 -0.1191 -0.13757 C -0.12084 -0.14196 -0.12535 -0.15029 -0.12535 -0.15029 C -0.12691 -0.16069 -0.12934 -0.17202 -0.1349 -0.17988 C -0.13698 -0.19052 -0.13993 -0.20231 -0.14445 -0.21156 C -0.14618 -0.22589 -0.14879 -0.23954 -0.15087 -0.25387 C -0.15139 -0.25734 -0.15243 -0.26428 -0.15243 -0.26428 C -0.15035 -0.30751 -0.154 -0.3489 -0.13021 -0.38058 C -0.11563 -0.37688 -0.10573 -0.36601 -0.09358 -0.35514 C -0.08993 -0.35191 -0.08663 -0.34751 -0.0842 -0.34266 C -0.08212 -0.3385 -0.07778 -0.32994 -0.07778 -0.32994 C -0.0757 -0.32115 -0.07292 -0.31584 -0.07136 -0.30659 C -0.07188 -0.29965 -0.07118 -0.29202 -0.07309 -0.28555 C -0.07448 -0.28092 -0.0809 -0.27491 -0.0809 -0.27491 C -0.15764 -0.27769 -0.1165 -0.27329 -0.154 -0.28555 C -0.16146 -0.29295 -0.1684 -0.2948 -0.17622 -0.30243 C -0.17986 -0.30589 -0.18733 -0.31306 -0.18733 -0.31306 C -0.19097 -0.32277 -0.19636 -0.33225 -0.20313 -0.33826 C -0.2099 -0.35329 -0.21493 -0.37017 -0.22222 -0.38474 C -0.22465 -0.39607 -0.22622 -0.40624 -0.23021 -0.41665 C -0.23316 -0.43283 -0.23472 -0.44763 -0.23976 -0.46312 C -0.24236 -0.4978 -0.25018 -0.54011 -0.2349 -0.57087 C -0.2316 -0.58451 -0.2283 -0.59838 -0.2191 -0.6067 C -0.21146 -0.62173 -0.19705 -0.62867 -0.1842 -0.63214 C -0.17118 -0.64092 -0.16042 -0.64578 -0.14601 -0.64902 C -0.13334 -0.65595 -0.12847 -0.65873 -0.1158 -0.66173 C -0.11059 -0.66312 -0.1 -0.66589 -0.1 -0.66589 C -0.08681 -0.6652 -0.07344 -0.66566 -0.06025 -0.66381 C -0.05625 -0.66335 -0.04184 -0.65133 -0.03646 -0.64902 C -0.03004 -0.64324 -0.02188 -0.64069 -0.0158 -0.63422 C -0.0092 -0.62705 -0.00347 -0.61803 0.00156 -0.60902 C 0.00798 -0.57364 0.00642 -0.58543 0.00642 -0.53063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80347E-006 C 0.00053 -0.00647 0.0007 -0.01294 0.00157 -0.01918 C 0.00227 -0.02358 0.0047 -0.03167 0.0047 -0.03167 C 0.00522 -0.03583 0.00556 -0.04022 0.00626 -0.04439 C 0.00713 -0.04878 0.00938 -0.0571 0.00938 -0.0571 C 0.01199 -0.07999 0.00904 -0.06427 0.01424 -0.08046 C 0.01494 -0.08254 0.01424 -0.08624 0.01581 -0.0867 C 0.02569 -0.08924 0.03595 -0.08809 0.04602 -0.08878 C 0.05626 -0.0934 0.04914 -0.0904 0.06824 -0.09525 C 0.07483 -0.09687 0.08716 -0.10358 0.08716 -0.10358 C 0.09671 -0.11213 0.10834 -0.11491 0.11893 -0.12046 C 0.12206 -0.12207 0.12727 -0.126 0.13004 -0.12901 C 0.13247 -0.13155 0.13369 -0.13595 0.13647 -0.13757 C 0.14671 -0.14358 0.15869 -0.1408 0.1698 -0.14173 C 0.17674 -0.14473 0.18213 -0.1519 0.18716 -0.15861 C 0.18959 -0.16716 0.19098 -0.17826 0.19671 -0.18404 C 0.19983 -0.18704 0.20626 -0.19236 0.20626 -0.19236 C 0.19602 -0.17202 0.20261 -0.20785 0.20313 -0.21155 C 0.19983 -0.21294 0.19202 -0.21456 0.19515 -0.22404 C 0.19879 -0.23514 0.21112 -0.25363 0.21112 -0.25363 C 0.20852 -0.27236 0.21199 -0.28994 0.20938 -0.30866 C 0.21494 -0.32924 0.21164 -0.35121 0.21581 -0.37202 C 0.21667 -0.37664 0.21945 -0.38034 0.22049 -0.38473 C 0.21945 -0.3882 0.21945 -0.39283 0.21737 -0.39537 C 0.21477 -0.39837 0.21095 -0.39814 0.20782 -0.39953 C 0.20556 -0.40046 0.20383 -0.403 0.20157 -0.40392 C 0.19185 -0.40832 0.18126 -0.40994 0.17136 -0.41433 C 0.1356 -0.41271 0.1224 -0.42265 0.1047 -0.39121 C 0.09897 -0.36785 0.10799 -0.40277 0.10001 -0.37849 C 0.0974 -0.37063 0.09688 -0.36115 0.09515 -0.35306 C 0.09428 -0.34936 0.09289 -0.34612 0.09202 -0.34242 C 0.09133 -0.33965 0.09098 -0.33687 0.09046 -0.3341 C 0.09185 -0.30473 0.08994 -0.29595 0.10626 -0.27907 C 0.11737 -0.27976 0.12865 -0.27884 0.13959 -0.28115 C 0.1422 -0.28161 0.14358 -0.286 0.14602 -0.28762 C 0.14897 -0.2897 0.15244 -0.2904 0.15556 -0.29178 C 0.15765 -0.29387 0.15956 -0.29618 0.16181 -0.29803 C 0.16338 -0.29918 0.16529 -0.29895 0.16667 -0.30034 C 0.16858 -0.30242 0.17206 -0.31283 0.17292 -0.31514 C 0.18178 -0.38658 0.16806 -0.44508 0.13334 -0.49687 C 0.12136 -0.51491 0.10383 -0.52439 0.0889 -0.5371 C 0.07084 -0.55259 0.05001 -0.56947 0.02848 -0.57502 C 0.00713 -0.58936 -0.01475 -0.59144 -0.03819 -0.59629 C -0.05555 -0.59468 -0.0618 -0.59375 -0.07621 -0.58982 C -0.08298 -0.58543 -0.09027 -0.58358 -0.09687 -0.57918 C -0.1078 -0.57178 -0.09583 -0.57757 -0.10642 -0.57294 C -0.11805 -0.56184 -0.11579 -0.56624 -0.12221 -0.55398 C -0.12448 -0.54982 -0.12865 -0.54126 -0.12865 -0.54126 C -0.1309 -0.53178 -0.1342 -0.52323 -0.13663 -0.51375 C -0.14132 -0.49548 -0.14063 -0.47676 -0.14618 -0.45872 C -0.15087 -0.42704 -0.16198 -0.40092 -0.17952 -0.37849 C -0.18038 -0.37733 -0.19045 -0.37433 -0.19063 -0.37433 C -0.22205 -0.37525 -0.24497 -0.37317 -0.27309 -0.38057 C -0.29584 -0.39537 -0.32518 -0.40415 -0.33507 -0.43976 C -0.33455 -0.44392 -0.33611 -0.4504 -0.33334 -0.45248 C -0.33056 -0.45456 -0.32709 -0.4497 -0.32396 -0.44832 C -0.30538 -0.43976 -0.33368 -0.45317 -0.31441 -0.44184 C -0.31129 -0.43999 -0.30781 -0.43953 -0.30486 -0.43768 C -0.30278 -0.43629 -0.30052 -0.43491 -0.29844 -0.43352 C -0.2974 -0.43213 -0.29653 -0.43051 -0.29531 -0.42913 C -0.29393 -0.42751 -0.29063 -0.42496 -0.29063 -0.42496 E">
                                      <p:cBhvr>
                                        <p:cTn id="9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9017E-007 C 0.00694 -0.00671 0.01614 -0.01965 0.02378 -0.02312 C 0.02986 -0.03121 0.03646 -0.03676 0.04132 -0.04647 C 0.04479 -0.05341 0.04653 -0.06243 0.04913 -0.06983 C 0.04792 -0.09665 0.05191 -0.12509 0.04444 -0.15006 C 0.03403 -0.18451 0.01406 -0.22428 -0.00955 -0.24509 C -0.02396 -0.2578 -0.05122 -0.26266 -0.06823 -0.26844 C -0.1092 -0.26705 -0.11927 -0.28162 -0.13976 -0.25572 C -0.14392 -0.23908 -0.13507 -0.22682 -0.12379 -0.22197 C -0.11267 -0.22266 -0.10156 -0.2222 -0.09045 -0.22405 C -0.0875 -0.22451 -0.07517 -0.2363 -0.07465 -0.23676 C -0.06389 -0.24671 -0.05886 -0.25757 -0.05556 -0.27468 C -0.05608 -0.29156 -0.05573 -0.30867 -0.05712 -0.32555 C -0.05712 -0.32624 -0.06441 -0.34335 -0.06511 -0.34451 C -0.07969 -0.37017 -0.1033 -0.38913 -0.12708 -0.39306 C -0.13455 -0.4 -0.14358 -0.40185 -0.15243 -0.4037 C -0.16771 -0.41156 -0.18229 -0.4141 -0.19844 -0.41642 C -0.20642 -0.41572 -0.21441 -0.41572 -0.22222 -0.41434 C -0.23125 -0.41272 -0.23611 -0.40647 -0.24445 -0.4037 C -0.24636 -0.40208 -0.25365 -0.39653 -0.25399 -0.39306 C -0.25608 -0.37272 -0.25347 -0.36902 -0.24445 -0.35931 C -0.24271 -0.35746 -0.24184 -0.35376 -0.23976 -0.35306 C -0.23299 -0.35075 -0.22604 -0.35168 -0.2191 -0.35098 C -0.21962 -0.3452 -0.21962 -0.33942 -0.22066 -0.33387 C -0.22344 -0.32 -0.23854 -0.31052 -0.24757 -0.30659 C -0.30972 -0.30936 -0.28177 -0.29827 -0.31111 -0.32763 C -0.31597 -0.34081 -0.31285 -0.33133 -0.31597 -0.34451 C -0.31702 -0.34867 -0.3191 -0.35723 -0.3191 -0.35723 C -0.31823 -0.37873 -0.32118 -0.39561 -0.31267 -0.41225 C -0.31007 -0.42566 -0.30261 -0.43815 -0.29375 -0.44601 C -0.29427 -0.43468 -0.29445 -0.42358 -0.29531 -0.41225 C -0.29636 -0.39908 -0.30625 -0.38913 -0.31267 -0.38058 E">
                                      <p:cBhvr>
                                        <p:cTn id="10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20231E-006 C 0.00295 -0.01203 -0.00312 -0.0148 -0.00642 -0.02544 C -0.01111 -0.04024 -0.01823 -0.0511 -0.02552 -0.06359 C -0.03819 -0.08532 -0.04496 -0.09873 -0.0651 -0.11006 C -0.07205 -0.11399 -0.07274 -0.11631 -0.08107 -0.11839 C -0.08941 -0.12047 -0.10642 -0.12278 -0.10642 -0.12278 C -0.12552 -0.12047 -0.13784 -0.12139 -0.15399 -0.11422 C -0.15607 -0.11214 -0.15816 -0.1096 -0.16041 -0.10798 C -0.1618 -0.10683 -0.16371 -0.10706 -0.1651 -0.1059 C -0.17118 -0.10081 -0.17673 -0.09226 -0.18107 -0.08463 C -0.18472 -0.0696 -0.18229 -0.07561 -0.18732 -0.06567 C -0.18889 -0.0548 -0.19097 -0.04509 -0.19218 -0.03399 C -0.19149 -0.00856 -0.19479 0.01803 -0.18889 0.04208 C -0.1875 0.04739 -0.18437 0.05179 -0.18264 0.05687 C -0.17777 0.07098 -0.17396 0.08369 -0.16823 0.0971 C -0.16319 0.1089 -0.15607 0.12092 -0.1493 0.13086 C -0.14618 0.13525 -0.14288 0.13942 -0.13975 0.14358 C -0.13871 0.14497 -0.13663 0.14797 -0.13663 0.14797 C -0.13437 0.1563 -0.1309 0.15976 -0.12552 0.16485 C -0.1184 0.17826 -0.12639 0.16462 -0.11753 0.17525 C -0.1125 0.18127 -0.10694 0.1926 -0.1 0.19653 C -0.09687 0.19838 -0.09323 0.19838 -0.09045 0.20069 C -0.08073 0.20878 -0.08559 0.20624 -0.07621 0.20924 C -0.06354 0.2178 -0.06319 0.22173 -0.05555 0.23676 C -0.05139 0.25942 -0.05225 0.2504 -0.05712 0.29364 C -0.05764 0.29872 -0.06493 0.31028 -0.06666 0.31283 C -0.0842 0.33872 -0.10659 0.34497 -0.13177 0.34867 C -0.15017 0.34635 -0.15885 0.34774 -0.17309 0.34242 C -0.18837 0.33664 -0.20173 0.32531 -0.21753 0.32115 C -0.22708 0.31491 -0.2342 0.30566 -0.24288 0.29803 C -0.24479 0.2941 -0.24774 0.29156 -0.2493 0.28739 C -0.25087 0.28346 -0.25243 0.27468 -0.25243 0.27468 C -0.25191 0.26982 -0.25225 0.2645 -0.25087 0.25988 C -0.24791 0.25017 -0.2342 0.2504 -0.22864 0.24924 C -0.20833 0.25086 -0.2033 0.25156 -0.18732 0.25572 C -0.1776 0.26219 -0.16684 0.26612 -0.15712 0.2726 C -0.14982 0.27745 -0.146 0.28277 -0.13819 0.28531 C -0.12482 0.29664 -0.10816 0.31745 -0.1 0.33595 C -0.08767 0.36439 -0.08524 0.39699 -0.07621 0.42682 C -0.075 0.46728 -0.07291 0.51953 -0.08732 0.55791 C -0.08923 0.56809 -0.09218 0.57063 -0.09687 0.57919 C -0.09948 0.58959 -0.11597 0.60416 -0.12552 0.60439 C -0.15347 0.60508 -0.18159 0.60601 -0.20955 0.6067 C -0.21493 0.62843 -0.21267 0.61479 -0.21267 0.64878 E">
                                      <p:cBhvr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7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тофель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j0112420"/>
          <p:cNvPicPr/>
          <p:nvPr/>
        </p:nvPicPr>
        <p:blipFill>
          <a:blip r:embed="rId2"/>
          <a:stretch/>
        </p:blipFill>
        <p:spPr>
          <a:xfrm>
            <a:off x="611280" y="1125360"/>
            <a:ext cx="1512720" cy="98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j0112422"/>
          <p:cNvPicPr/>
          <p:nvPr/>
        </p:nvPicPr>
        <p:blipFill>
          <a:blip r:embed="rId3"/>
          <a:stretch/>
        </p:blipFill>
        <p:spPr>
          <a:xfrm>
            <a:off x="6084720" y="2781360"/>
            <a:ext cx="1800360" cy="1204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468000" y="5877000"/>
            <a:ext cx="258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ко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395280" y="3933720"/>
            <a:ext cx="265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5797080" y="4005360"/>
            <a:ext cx="206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р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013800" y="5877000"/>
            <a:ext cx="174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6012360" y="1989000"/>
            <a:ext cx="217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бл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3421080" y="189000"/>
            <a:ext cx="222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й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j0122761"/>
          <p:cNvPicPr/>
          <p:nvPr/>
        </p:nvPicPr>
        <p:blipFill>
          <a:blip r:embed="rId4"/>
          <a:stretch/>
        </p:blipFill>
        <p:spPr>
          <a:xfrm rot="14241600">
            <a:off x="6209280" y="467064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j0112424"/>
          <p:cNvPicPr/>
          <p:nvPr/>
        </p:nvPicPr>
        <p:blipFill>
          <a:blip r:embed="rId5"/>
          <a:stretch/>
        </p:blipFill>
        <p:spPr>
          <a:xfrm>
            <a:off x="826920" y="2852640"/>
            <a:ext cx="1238400" cy="13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j0193432"/>
          <p:cNvPicPr/>
          <p:nvPr/>
        </p:nvPicPr>
        <p:blipFill>
          <a:blip r:embed="rId6"/>
          <a:stretch/>
        </p:blipFill>
        <p:spPr>
          <a:xfrm>
            <a:off x="611280" y="4724280"/>
            <a:ext cx="2408040" cy="119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j0344872"/>
          <p:cNvPicPr/>
          <p:nvPr/>
        </p:nvPicPr>
        <p:blipFill>
          <a:blip r:embed="rId7"/>
          <a:stretch/>
        </p:blipFill>
        <p:spPr>
          <a:xfrm>
            <a:off x="6659640" y="981000"/>
            <a:ext cx="1155600" cy="120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j0223773"/>
          <p:cNvPicPr/>
          <p:nvPr/>
        </p:nvPicPr>
        <p:blipFill>
          <a:blip r:embed="rId8"/>
          <a:stretch/>
        </p:blipFill>
        <p:spPr>
          <a:xfrm>
            <a:off x="3635280" y="981000"/>
            <a:ext cx="1728720" cy="1300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9"/>
          <p:cNvSpPr/>
          <p:nvPr/>
        </p:nvSpPr>
        <p:spPr>
          <a:xfrm>
            <a:off x="250920" y="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  ртоф   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   рко   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  ро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   м  д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бл   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332000" y="1700280"/>
            <a:ext cx="714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203640" y="1700280"/>
            <a:ext cx="718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835280" y="3284640"/>
            <a:ext cx="525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277440" y="3284640"/>
            <a:ext cx="525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2125800" y="4869000"/>
            <a:ext cx="52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5652360" y="1792440"/>
            <a:ext cx="557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6517440" y="1655640"/>
            <a:ext cx="525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89800" y="3284640"/>
            <a:ext cx="52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365800" y="4869000"/>
            <a:ext cx="52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3136320" y="5877000"/>
            <a:ext cx="3121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278880" y="836640"/>
            <a:ext cx="21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   ж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3925800" y="83664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апиши сам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j0223773"/>
          <p:cNvPicPr/>
          <p:nvPr/>
        </p:nvPicPr>
        <p:blipFill>
          <a:blip r:embed="rId3"/>
          <a:stretch/>
        </p:blipFill>
        <p:spPr>
          <a:xfrm>
            <a:off x="3708360" y="3357720"/>
            <a:ext cx="1655640" cy="124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112424"/>
          <p:cNvPicPr/>
          <p:nvPr/>
        </p:nvPicPr>
        <p:blipFill>
          <a:blip r:embed="rId4"/>
          <a:stretch/>
        </p:blipFill>
        <p:spPr>
          <a:xfrm>
            <a:off x="4427640" y="3500280"/>
            <a:ext cx="1239840" cy="130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j0112420"/>
          <p:cNvPicPr/>
          <p:nvPr/>
        </p:nvPicPr>
        <p:blipFill>
          <a:blip r:embed="rId5"/>
          <a:stretch/>
        </p:blipFill>
        <p:spPr>
          <a:xfrm flipH="1" rot="21429600">
            <a:off x="3202920" y="4005000"/>
            <a:ext cx="1896840" cy="1023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j0122761"/>
          <p:cNvPicPr/>
          <p:nvPr/>
        </p:nvPicPr>
        <p:blipFill>
          <a:blip r:embed="rId6"/>
          <a:stretch/>
        </p:blipFill>
        <p:spPr>
          <a:xfrm rot="3543000">
            <a:off x="4319280" y="296064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0112422"/>
          <p:cNvPicPr/>
          <p:nvPr/>
        </p:nvPicPr>
        <p:blipFill>
          <a:blip r:embed="rId7"/>
          <a:stretch/>
        </p:blipFill>
        <p:spPr>
          <a:xfrm>
            <a:off x="4356000" y="3573360"/>
            <a:ext cx="165600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j0193432"/>
          <p:cNvPicPr/>
          <p:nvPr/>
        </p:nvPicPr>
        <p:blipFill>
          <a:blip r:embed="rId8"/>
          <a:stretch/>
        </p:blipFill>
        <p:spPr>
          <a:xfrm>
            <a:off x="3708360" y="3860640"/>
            <a:ext cx="1616040" cy="80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j0344872"/>
          <p:cNvPicPr/>
          <p:nvPr/>
        </p:nvPicPr>
        <p:blipFill>
          <a:blip r:embed="rId9"/>
          <a:stretch/>
        </p:blipFill>
        <p:spPr>
          <a:xfrm>
            <a:off x="3635280" y="2637000"/>
            <a:ext cx="1155960" cy="120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45236"/>
          <p:cNvPicPr/>
          <p:nvPr/>
        </p:nvPicPr>
        <p:blipFill>
          <a:blip r:embed="rId10"/>
          <a:stretch/>
        </p:blipFill>
        <p:spPr>
          <a:xfrm>
            <a:off x="2340000" y="278136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1503 C 0.07865 -0.03584 0.07795 -0.05758 0.08125 -0.07862 C 0.08403 -0.09596 0.08976 -0.11191 0.09236 -0.12925 C 0.09479 -0.14567 0.09688 -0.1607 0.09861 -0.17781 C 0.1 -0.20856 0.10243 -0.23515 0.11285 -0.26243 C 0.11632 -0.27122 0.11701 -0.27839 0.1224 -0.28578 C 0.12465 -0.29457 0.12691 -0.29688 0.13194 -0.30266 C 0.13941 -0.31145 0.14566 -0.31815 0.15417 -0.32578 C 0.16372 -0.33411 0.17691 -0.33758 0.1875 -0.34289 C 0.20972 -0.34035 0.21024 -0.34035 0.22882 -0.3281 C 0.24132 -0.32 0.24861 -0.29989 0.26215 -0.29411 C 0.26597 -0.28925 0.26927 -0.2837 0.27326 -0.27931 C 0.27465 -0.27769 0.27795 -0.27515 0.27795 -0.27492 E">
                                      <p:cBhvr>
                                        <p:cTn id="45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10312 C 0.00539 0.06613 0.00087 -0.00694 -0.00052 -0.03838 C -0.00121 -0.05411 -0.00416 -0.07538 -0.01336 -0.08694 C -0.01805 -0.10613 -0.02847 -0.12324 -0.03715 -0.13989 C -0.046 -0.15676 -0.05451 -0.17156 -0.06562 -0.18636 C -0.07239 -0.19538 -0.07968 -0.1963 -0.08784 -0.20116 C -0.10486 -0.21156 -0.10972 -0.21318 -0.12916 -0.21596 C -0.1401 -0.22081 -0.1526 -0.22266 -0.16406 -0.22451 C -0.19583 -0.22382 -0.2276 -0.22382 -0.25937 -0.22243 C -0.26319 -0.2222 -0.27291 -0.21249 -0.27361 -0.21179 C -0.27673 -0.20902 -0.28316 -0.20324 -0.28316 -0.20301 C -0.28645 -0.19676 -0.29097 -0.19468 -0.29427 -0.18844 C -0.30312 -0.17226 -0.29652 -0.17919 -0.30538 -0.17156 C -0.31579 -0.15075 -0.29878 -0.18335 -0.31493 -0.15885 C -0.31736 -0.15515 -0.31996 -0.15098 -0.32118 -0.14613 C -0.3217 -0.14405 -0.32187 -0.14174 -0.32274 -0.13989 C -0.3243 -0.13642 -0.32708 -0.13434 -0.32916 -0.13133 C -0.33333 -0.1089 -0.32691 -0.13711 -0.33559 -0.11653 C -0.33715 -0.1126 -0.33871 -0.10405 -0.33871 -0.10382 E">
                                      <p:cBhvr>
                                        <p:cTn id="45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31214E-006 C 0.00538 0.02151 0.00052 -2.31214000000202E-006 0.0033 0.05272 C 0.00486 0.08093 0.0092 0.13018 0.02066 0.1563 C 0.02239 0.16023 0.02517 0.16324 0.02708 0.16694 C 0.0309 0.1822 0.0434 0.19307 0.05243 0.20278 C 0.06041 0.21156 0.06875 0.22266 0.07621 0.23237 C 0.07968 0.23677 0.08472 0.23815 0.08889 0.24093 C 0.09583 0.24555 0.10243 0.25156 0.10955 0.25572 C 0.11961 0.26174 0.13055 0.26937 0.14132 0.2726 C 0.14652 0.27422 0.15711 0.27677 0.15711 0.277 C 0.2059 0.27584 0.26198 0.31376 0.29045 0.26197 C 0.29305 0.22474 0.29218 0.24509 0.29218 0.2007 E">
                                      <p:cBhvr>
                                        <p:cTn id="46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48 0.01989 C 0.07396 0.02197 0.07361 0.02405 0.07292 0.02613 C 0.07205 0.02844 0.07049 0.03029 0.06979 0.0326 C 0.06893 0.03515 0.06875 0.03815 0.06823 0.04093 C 0.06771 0.04301 0.06736 0.04532 0.06667 0.0474 C 0.06337 0.05758 0.06389 0.05341 0.06025 0.0622 C 0.05903 0.06497 0.05834 0.06798 0.05712 0.07052 C 0.05521 0.07492 0.0507 0.08324 0.0507 0.08347 C 0.04566 0.10428 0.03177 0.12301 0.02379 0.14243 C 0.01736 0.15792 0.01077 0.17318 0.00469 0.18891 C 0.00018 0.2007 -0.00798 0.21064 -0.01441 0.22081 C -0.02951 0.24486 -0.01961 0.23399 -0.03177 0.24602 C -0.03541 0.25365 -0.04288 0.26243 -0.0493 0.26521 C -0.05243 0.26659 -0.05885 0.26937 -0.05885 0.2696 C -0.07517 0.26867 -0.09166 0.26914 -0.10798 0.26729 C -0.11128 0.26682 -0.11475 0.26544 -0.11753 0.26289 C -0.12066 0.26012 -0.12708 0.25457 -0.12708 0.2548 C -0.1342 0.24023 -0.13055 0.24532 -0.13663 0.23769 C -0.14097 0.21989 -0.14305 0.19399 -0.12708 0.18682 C -0.12222 0.18752 -0.11736 0.18752 -0.11267 0.18891 C -0.10937 0.18983 -0.1033 0.1933 -0.1033 0.19353 C -0.09618 0.20208 -0.09531 0.20185 -0.08889 0.21434 C -0.08732 0.21734 -0.0842 0.22289 -0.0842 0.22312 C -0.07899 0.24347 -0.08385 0.25804 -0.09843 0.26289 C -0.1059 0.26197 -0.11441 0.26428 -0.12066 0.25873 C -0.13958 0.24232 -0.11302 0.26128 -0.13021 0.2481 C -0.13889 0.24139 -0.13455 0.24671 -0.13819 0.24185 E">
                                      <p:cBhvr>
                                        <p:cTn id="46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5249 C -0.00503 0.05318 -0.01198 0.05318 -0.01875 0.05457 C -0.02205 0.05526 -0.02517 0.05734 -0.0283 0.05873 C -0.02986 0.05942 -0.03316 0.06081 -0.03316 0.06104 C -0.0783 0.05827 -0.05764 0.06173 -0.07916 0.05249 C -0.08368 0.04624 -0.08889 0.04046 -0.09496 0.03769 C -0.09791 0.03168 -0.10208 0.02705 -0.10451 0.02058 C -0.1052 0.0185 -0.1052 0.01618 -0.10607 0.01433 C -0.11857 -0.00971 -0.10451 0.02451 -0.11406 0.00162 C -0.12066 -0.01387 -0.12951 -0.03468 -0.14097 -0.04486 C -0.15833 -0.06035 -0.17604 -0.07191 -0.19652 -0.07861 C -0.21406 -0.07792 -0.23159 -0.07838 -0.24895 -0.07653 C -0.25347 -0.07607 -0.25347 -0.07029 -0.25694 -0.06821 C -0.26093 -0.0659 -0.26545 -0.06567 -0.26961 -0.06382 C -0.27274 -0.06104 -0.27604 -0.05827 -0.27916 -0.05549 C -0.28194 -0.05295 -0.28871 -0.0511 -0.28871 -0.05087 C -0.28923 -0.04902 -0.28958 -0.04671 -0.29027 -0.04486 C -0.29114 -0.04254 -0.2927 -0.04093 -0.2934 -0.03861 C -0.296 -0.03052 -0.29757 -0.0215 -0.29982 -0.01318 C -0.29722 0.01665 -0.29861 0.04139 -0.27916 0.05873 C -0.26649 0.05803 -0.25364 0.05919 -0.24097 0.05665 C -0.23871 0.05618 -0.23645 0.05318 -0.23628 0.05017 C -0.23524 0.02936 -0.24566 -0.00555 -0.26163 -0.01526 C -0.26614 -0.01804 -0.27118 -0.01942 -0.27586 -0.0215 C -0.27899 -0.02289 -0.28541 -0.0259 -0.28541 -0.02567 C -0.30607 -0.0252 -0.32673 -0.02497 -0.34739 -0.02382 C -0.36614 -0.02266 -0.38784 -0.00717 -0.39982 0.01225 C -0.40746 0.02474 -0.41336 0.03907 -0.42205 0.05017 C -0.42552 0.06405 -0.4302 0.0763 -0.43316 0.0904 C -0.43246 0.10936 -0.42986 0.13202 -0.42986 0.15168 E">
                                      <p:cBhvr>
                                        <p:cTn id="47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5792 C -0.0099 0.14867 -0.02222 0.13295 -0.02795 0.11353 C -0.0309 0.10382 -0.0316 0.0948 -0.03594 0.08602 C -0.03785 0.07261 -0.03941 0.05943 -0.04063 0.04578 C -0.03993 0.01203 -0.0441 -0.05618 -0.02639 -0.09156 C -0.02014 -0.11722 0.00312 -0.12994 0.02118 -0.13595 C 0.03681 -0.14659 0.03681 -0.14219 0.06094 -0.14034 C 0.06597 -0.1378 0.06927 -0.1341 0.07361 -0.12971 C 0.0875 -0.1156 0.09601 -0.10543 0.10226 -0.08323 C 0.09931 -0.05502 0.09809 -0.06381 0.07361 -0.06635 C 0.06441 -0.07352 0.06319 -0.07838 0.05608 -0.08739 C 0.05451 -0.09595 0.05295 -0.10427 0.05139 -0.11283 C 0.05087 -0.1156 0.04983 -0.12115 0.04983 -0.12092 C 0.05035 -0.13179 0.05017 -0.14242 0.05139 -0.15283 C 0.05174 -0.15607 0.05365 -0.15838 0.05451 -0.16138 C 0.0559 -0.16624 0.05608 -0.17156 0.05781 -0.17618 C 0.05885 -0.17872 0.06111 -0.18011 0.0625 -0.18242 C 0.06788 -0.19167 0.07049 -0.2 0.0783 -0.20578 C 0.0875 -0.21271 0.09809 -0.21387 0.10851 -0.21641 C 0.11111 -0.21711 0.11389 -0.2178 0.11649 -0.21849 C 0.1191 -0.21919 0.12448 -0.22057 0.12448 -0.22034 C 0.13247 -0.21988 0.14045 -0.21988 0.14826 -0.21849 C 0.1526 -0.2178 0.16094 -0.21433 0.16094 -0.2141 C 0.17483 -0.20462 0.15833 -0.21502 0.17674 -0.20786 C 0.18542 -0.20439 0.19566 -0.19791 0.20382 -0.19306 C 0.21389 -0.18705 0.22413 -0.18127 0.23385 -0.1741 C 0.24115 -0.16878 0.24635 -0.16092 0.25451 -0.15722 C 0.26493 -0.14335 0.27726 -0.13248 0.28628 -0.11699 C 0.28993 -0.10219 0.28472 -0.12 0.29271 -0.10427 C 0.29358 -0.10242 0.2934 -0.09988 0.29427 -0.09803 C 0.29549 -0.09549 0.2974 -0.09364 0.29896 -0.09156 C 0.30278 -0.07653 0.29774 -0.09317 0.30382 -0.08115 C 0.3092 -0.07052 0.31476 -0.05849 0.31962 -0.04716 C 0.32205 -0.04161 0.32604 -0.03028 0.32604 -0.03005 C 0.32951 -0.01133 0.32778 -0.01896 0.33073 -0.00716 C 0.33385 0.0222 0.33229 0.00255 0.33229 0.05203 E">
                                      <p:cBhvr>
                                        <p:cTn id="47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0.01734 C 0.00816 -0.03907 0.0085 -0.09526 0.0092 -0.1519 C 0.01007 -0.2252 0.00521 -0.20254 0.01232 -0.23214 C 0.0125 -0.23422 0.01337 -0.24878 0.01545 -0.25318 C 0.01788 -0.25849 0.02309 -0.26219 0.02656 -0.26589 C 0.03437 -0.27399 0.04236 -0.28185 0.05052 -0.28925 C 0.05521 -0.29341 0.06111 -0.29526 0.06632 -0.29757 C 0.06944 -0.29896 0.07587 -0.30173 0.07587 -0.3015 C 0.0875 -0.3126 0.10225 -0.30728 0.11545 -0.30612 C 0.12691 -0.3015 0.13698 -0.29803 0.14722 -0.28925 C 0.15555 -0.28208 0.16093 -0.27352 0.16944 -0.26797 C 0.17708 -0.26289 0.1809 -0.25248 0.18854 -0.24901 C 0.19496 -0.23722 0.20746 -0.22774 0.21232 -0.21734 C 0.22152 -0.19699 0.23402 -0.17896 0.24253 -0.15815 C 0.2526 -0.13341 0.25989 -0.10659 0.26632 -0.07977 C 0.2658 -0.02774 0.28125 0.07653 0.23767 0.11885 C 0.22604 0.14197 0.19826 0.15284 0.17899 0.15908 C 0.15399 0.17526 0.11753 0.16856 0.09323 0.16948 C 0.03298 0.17665 0.06788 0.17341 -0.05591 0.16948 C -0.07136 0.16902 -0.0882 0.16 -0.10348 0.157 C -0.11459 0.14682 -0.12795 0.14474 -0.14011 0.13781 C -0.16025 0.12578 -0.14618 0.13249 -0.15747 0.1274 C -0.16302 0.12255 -0.16702 0.12093 -0.17344 0.11885 C -0.18733 0.10613 -0.20104 0.09457 -0.21459 0.08047 C -0.21545 0.07977 -0.22622 0.06544 -0.229 0.06174 C -0.23056 0.05966 -0.23368 0.05549 -0.23368 0.05573 C -0.23716 0.04625 -0.24045 0.03445 -0.24479 0.0259 C -0.2467 0.01341 -0.25122 0.00532 -0.25591 -0.00578 C -0.2599 -0.01526 -0.26337 -0.02566 -0.26702 -0.03537 C -0.27066 -0.05503 -0.27361 -0.07468 -0.27657 -0.09456 C -0.27587 -0.12 -0.27952 -0.17618 -0.26233 -0.20046 C -0.25834 -0.21919 -0.24931 -0.24046 -0.23681 -0.2511 C -0.22882 -0.27306 -0.24115 -0.24162 -0.22257 -0.27445 C -0.21945 -0.28 -0.21754 -0.28786 -0.21302 -0.29133 C -0.2033 -0.29896 -0.19375 -0.30774 -0.18455 -0.31653 C -0.1783 -0.32254 -0.17275 -0.32925 -0.16702 -0.33572 C -0.16042 -0.34312 -0.13542 -0.35977 -0.1257 -0.36323 C -0.11493 -0.37179 -0.10417 -0.37503 -0.09236 -0.38011 C -0.08403 -0.38751 -0.07361 -0.38659 -0.06389 -0.38844 C -0.05608 -0.3919 -0.04792 -0.39144 -0.04011 -0.39491 C -0.02309 -0.39422 -0.00625 -0.39422 0.01076 -0.39283 C 0.02257 -0.3919 0.02882 -0.37942 0.03767 -0.37156 C 0.04201 -0.35607 0.04236 -0.36092 0.04409 -0.33988 C 0.04357 -0.32508 0.0434 -0.31029 0.04253 -0.29549 C 0.04166 -0.28162 0.02569 -0.26959 0.01718 -0.26589 C 0.01493 -0.26636 0.0059 -0.26774 0.00277 -0.27005 C -0.00608 -0.27653 -0.01268 -0.28624 -0.02101 -0.29341 C -0.02431 -0.30011 -0.02622 -0.30682 -0.03056 -0.31237 C -0.03264 -0.3237 -0.03229 -0.33225 -0.02726 -0.34196 C -0.0099 -0.33873 -0.01181 -0.33664 0.00121 -0.32508 C 0.00225 -0.32231 0.00416 -0.31977 0.00434 -0.31653 C 0.00468 -0.30959 0.00277 -0.29549 0.00277 -0.29526 E">
                                      <p:cBhvr>
                                        <p:cTn id="47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9:43:28Z</dcterms:created>
  <dc:creator>comp1</dc:creator>
  <dc:description/>
  <dc:language>en-US</dc:language>
  <cp:lastModifiedBy>Admin</cp:lastModifiedBy>
  <dcterms:modified xsi:type="dcterms:W3CDTF">2013-04-28T10:50:20Z</dcterms:modified>
  <cp:revision>11</cp:revision>
  <dc:subject/>
  <dc:title> Словарные слова  «ОГОРОД»  3 класс</dc:title>
</cp:coreProperties>
</file>