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5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2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A98-BA45-4166-A0E5-3614A716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0BA-C6B9-43B7-80C0-F13EDA6B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A02C4-2BF6-46F7-A005-94866F91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36537-D6B1-4ACD-9393-67B94F8D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BCDC2-860D-438B-9E85-3B8BC75F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9817C-4299-4BD6-9915-4F016C4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84F0E-0A0D-419E-BF54-9CC186E3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D181D-8C0A-497E-AFE2-1EE54B46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52D74-BF25-4BB4-8802-9E942F28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86BEE-162F-43F4-8643-A296B1C8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A78C3-38EF-4132-8425-C8F9D0CA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9867C-4B8A-4F95-8B1C-71733B48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641-7733-42C4-9DCD-B701AA73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59E52-1943-4772-BE40-0BA3A05C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DFA99-3300-458B-945D-C5560B9D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C0C8A-2CAF-403A-99B5-C8BB6E9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06DF2-08C7-4CD3-A3BE-D0A0F708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8C539-AA1D-4BCB-B314-DE7725FA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7B553-4D02-455F-9388-5ACDB03C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122FB-E5D2-4D61-84A2-A55C360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1F942-4672-44CB-9800-A219A43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0187-58DF-4F8D-AAE0-09A9F064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4E39A-C8FD-4AD6-8EA5-A891BF2C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408-8661-42E8-8B58-8B2FD4A5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AD21C-8E69-4CB8-8566-FA401E93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A67D9-4CE5-405B-AA76-A2997893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BE7DA-7133-40FF-AE78-88212025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A723A-11F2-4858-9D7B-D469AB16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4CC11-286D-45D4-AD84-CE3C1C32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AB5EA-4245-4270-8DC5-7A70BC31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EB3B0-9697-4F36-8A74-FC422707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7CD9E-079F-4ECA-9F81-0DEB1301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261D6-95D3-47DF-98A2-40EF6619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53E46-F08E-42BC-A52C-A9993D5D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3E43-42A1-4137-91FC-54B626AF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9A39A-8EA3-48CA-935E-71E91AC7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979ED-CF2B-4148-975D-621E8A38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8A1E4-549C-4CB3-AD8B-D7217197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5BA94-D821-4D07-AF90-7764B167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2FA63-FD2D-49E5-A80C-2E31AE83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A8BF3-122A-459E-959B-36AF4B93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D9579-AD98-4E0D-854C-076AB857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17B21-C2D2-442B-A95F-1FC21EC6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901A6-4AD0-45AC-A0D8-5EEF4C8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146C9-EACC-476C-A7A4-BDDE89B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1245-959A-4D43-9A18-80E04D96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102C1-FE7D-44D5-9FBF-D4ABCE45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916E2-E0F6-40EC-815F-0771CE6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31510-9699-41CC-8D73-A8B47246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ED8E9-777A-43D9-BD3B-A2708583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E5BE8-5FA7-47D7-8D5C-51FA556A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EABD-16E3-499F-89FA-EFA4FD87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C0BE-CD01-44E5-8A59-54C7DEC8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99C9-0297-4C00-BE11-AE6540ED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4CBD-C252-41F1-AE03-B7ABA967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EB71-84C8-455A-863D-4CD2FC4C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F0C-6062-436A-8D1D-76931CD8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1164-A45D-4988-89EC-84BE7A9F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2717-F716-40E5-A7E6-C0442DC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C22B-5928-44C8-B803-EB434D71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AE6A-7DC8-47F8-953B-5A550DDC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CF77-C13C-48C5-81C4-703C27B2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6248-E9CF-410F-8D6B-2D5AB49E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664E-5614-4125-93CD-0CE337FC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F51C-0D07-4B01-8F79-8D310CA5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0D09-6236-462D-858C-42472B6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184E8-4260-4540-B1C4-827A34C1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8BD-0272-4892-929A-527122EE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9947A-A1BA-4C01-8AD0-0CC4E62D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13FC-5420-4454-BB2A-8D9D1673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DE1D-F0FA-4049-935F-44912E5B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4C66-4281-4C69-9A38-61987A46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1366-9240-4022-96B5-81FB0AF4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8342-E6E2-4D57-B61E-867A92F2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FCF8-2017-4C8A-B254-DEB2FFB61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6472-FE70-4577-B33E-0FB13969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53C71-9CC9-4E24-B0B7-3AF3CC32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42B6-C7F3-4247-ADC8-6688BE9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932-E98F-49F3-B74F-7123FD08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5FC4-A771-455E-9886-D9268107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CD7AD-B123-4834-9788-346063FF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391D2-AAD8-4C02-A6AF-C772DA0B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FE51E-D92C-4937-B592-D8457808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CDD5-8619-4CFA-9BCE-0414B722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C42F4-4152-45E1-8CAB-5FEE6002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C643A-1272-4259-B381-053F8AF6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55C6-1F68-4749-81E7-07D70A5D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F28C9-804C-4CCF-9747-55565E1F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BF272-7177-40F2-9F4D-C6DE0E55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743-E8DD-49D4-BE4E-9911AA1A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5D68-04F2-4C1E-B8F3-C368CD91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850D1-D114-463B-952C-B48ECE20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4DBB5-78B6-4E18-91C9-6EAB4009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0F19E-8A1F-4BD8-BF5E-EAA1360C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0469-D295-4E4D-8269-59A4CCA7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A355D-DF8A-46DB-8708-D4A90A28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32AE-0FF8-45C0-8C8F-D5A3978F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BF6C-27DA-4C8E-99E6-0D6310AC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EB69-0B2C-404A-B6E6-36E047E0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040E3-6E9E-446B-B4E3-0C7535DE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38D1-AC76-4C13-9B8F-8512728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9C387-3195-48AD-8C03-9A4D0C06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9FD5-E606-4B04-A857-60C43501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C19CE-E54D-42C4-8767-5F113935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D41F-05D1-445A-8C49-DA0438F3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7B9D9-1138-40D4-818E-8AEA5DF7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5C4F-CED2-4B57-BB8E-210F788E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5845-8AD6-4C83-ACB3-F7FB377A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77643-9ECB-44BD-BC90-775B84EB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9E9E1-5543-48E1-BA38-C1F53C00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4662F-6BE7-4922-AC31-9D159785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829-5794-4839-AB5E-81AEF346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E0EDD-6C43-4C7D-863B-0E449C73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82E2B-3D36-4AE7-A224-695E9A70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0E4A5-240F-4053-A0ED-03686745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FEAAF-7814-4453-8A06-5365604D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E7588-FF6E-4C1A-B3EC-91181FC8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AB34F-F0D8-47B6-9277-933279DE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B1AA7-51DC-4776-A046-77760127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B8D0-3221-448F-9BD2-02F899C8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10B1E-50D7-4EA9-84F2-A18A9AB4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FC5FF-EEB0-4204-B1D1-E83C6DFF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F13-E02F-479E-AC15-8E61FEF5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87411-6C23-497C-90AA-4D1E0727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1E229-33AA-4361-BCDC-65F708C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C1DA2-AC14-4ADA-89DB-7CDBA483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F9200-C679-43D2-A71A-89BE2182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BF9CD-C9D4-4AAC-879D-ADCE4CC0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A5231-B499-4D7A-9F9E-35208CC9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E1813-DEDE-4DE3-83FC-E3097686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242F3-D052-4289-B05B-B049F5D6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6CD17-DA62-4908-ABD7-B403A0D8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5E479-C2A1-4176-A434-C7077ECE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8AA-1D49-4876-B4E8-C5BD0CB5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8A65F-A88F-4B1D-AE93-1B0349DB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FC713-9807-4338-B0EC-D69892D9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4B43F-5929-4A28-AD5B-528A1985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744B3-16AC-49CF-8BF5-D8B09340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526FA-1911-4BF4-8AA7-D4739A64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13735-A13C-485F-AF8F-05A70078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BBD7B-4B96-4451-B310-0A2C5B2D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D903C-9C68-4F8E-9F9C-1CEF023F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6CE1E-958F-4FA8-BA3A-D3775DC9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D25DF-6DC1-4BA1-A2C2-5E3B2DEC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2685-43F0-440E-9318-0142158FED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BC27-E628-4362-BE7B-E7DAE41806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30C5-EA1A-47DE-8DF9-BA246EF4C6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9D6D-21A8-4C6C-8A27-82FCEACC3D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ED76-71BD-494B-B4EC-126DEC8467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3674-8713-4921-A9AC-0892F20DBF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E623-3A26-43DC-BC6E-4C638B081D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E394-42DD-4C76-9AA2-3D4F671EB1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B686-F9B9-456F-BD24-9672BB33F4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4B2F-16F8-45D4-99DD-2B383E4CD0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CA62-DB34-4AD5-BE74-3C05AF4D37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6CC1-D607-40FB-A60D-D9456AA504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7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«Сложные слова» </a:t>
            </a:r>
            <a:br>
              <a:rPr sz="4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3 класс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начальных классов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аниева Люция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01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7" descr="25232634"/>
          <p:cNvPicPr/>
          <p:nvPr/>
        </p:nvPicPr>
        <p:blipFill>
          <a:blip r:embed="rId2"/>
          <a:stretch/>
        </p:blipFill>
        <p:spPr>
          <a:xfrm>
            <a:off x="0" y="5516640"/>
            <a:ext cx="849240" cy="10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img544_1"/>
          <p:cNvPicPr/>
          <p:nvPr/>
        </p:nvPicPr>
        <p:blipFill>
          <a:blip r:embed="rId1"/>
          <a:stretch/>
        </p:blipFill>
        <p:spPr>
          <a:xfrm>
            <a:off x="468360" y="692280"/>
            <a:ext cx="8136000" cy="510372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3"/>
          <p:cNvSpPr/>
          <p:nvPr/>
        </p:nvSpPr>
        <p:spPr>
          <a:xfrm>
            <a:off x="900000" y="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трана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ЕО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ла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1476360" y="6093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 добрый пу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250920" y="530208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7885080" y="5300640"/>
            <a:ext cx="7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fa24c56c98ed"/>
          <p:cNvPicPr/>
          <p:nvPr/>
        </p:nvPicPr>
        <p:blipFill>
          <a:blip r:embed="rId2"/>
          <a:stretch/>
        </p:blipFill>
        <p:spPr>
          <a:xfrm>
            <a:off x="5867280" y="549360"/>
            <a:ext cx="2981520" cy="60958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900000" y="3500280"/>
            <a:ext cx="46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ид –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экскур</a:t>
            </a:r>
            <a:r>
              <a:rPr b="1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ван – Царевич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ловей - Разбой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6" descr="p_f"/>
          <p:cNvPicPr/>
          <p:nvPr/>
        </p:nvPicPr>
        <p:blipFill>
          <a:blip r:embed="rId3"/>
          <a:stretch/>
        </p:blipFill>
        <p:spPr>
          <a:xfrm>
            <a:off x="971640" y="260280"/>
            <a:ext cx="4752720" cy="2563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deti"/>
          <p:cNvPicPr/>
          <p:nvPr/>
        </p:nvPicPr>
        <p:blipFill>
          <a:blip r:embed="rId4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4"/>
          <p:cNvSpPr/>
          <p:nvPr/>
        </p:nvSpPr>
        <p:spPr>
          <a:xfrm>
            <a:off x="681840" y="189360"/>
            <a:ext cx="823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ру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д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юби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    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а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м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юби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р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д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оль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    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а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б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оль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и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л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ерд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      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у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б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р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уш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                       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лас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юбив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ели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к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уш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ла</a:t>
            </a:r>
            <a:r>
              <a:rPr b="0" i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од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p_f"/>
          <p:cNvPicPr/>
          <p:nvPr/>
        </p:nvPicPr>
        <p:blipFill>
          <a:blip r:embed="rId2"/>
          <a:stretch/>
        </p:blipFill>
        <p:spPr>
          <a:xfrm>
            <a:off x="4859280" y="2997360"/>
            <a:ext cx="3960720" cy="25192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fa24c56c98ed"/>
          <p:cNvPicPr/>
          <p:nvPr/>
        </p:nvPicPr>
        <p:blipFill>
          <a:blip r:embed="rId3"/>
          <a:stretch/>
        </p:blipFill>
        <p:spPr>
          <a:xfrm>
            <a:off x="2124000" y="3213000"/>
            <a:ext cx="1646280" cy="3429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25232634"/>
          <p:cNvPicPr/>
          <p:nvPr/>
        </p:nvPicPr>
        <p:blipFill>
          <a:blip r:embed="rId4"/>
          <a:stretch/>
        </p:blipFill>
        <p:spPr>
          <a:xfrm>
            <a:off x="0" y="5805360"/>
            <a:ext cx="84924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14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1258920" y="189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рофессии жителей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ЕО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а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3211560" y="1463400"/>
            <a:ext cx="301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чела             разводить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мля               пахать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с                   руб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инья             пасти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аль               ва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кала               лазать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ре                плавать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ыба                лови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2"/>
          <p:cNvPicPr/>
          <p:nvPr/>
        </p:nvPicPr>
        <p:blipFill>
          <a:blip r:embed="rId2"/>
          <a:stretch/>
        </p:blipFill>
        <p:spPr>
          <a:xfrm>
            <a:off x="250920" y="692280"/>
            <a:ext cx="2685960" cy="2016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641"/>
          <p:cNvPicPr/>
          <p:nvPr/>
        </p:nvPicPr>
        <p:blipFill>
          <a:blip r:embed="rId3"/>
          <a:stretch/>
        </p:blipFill>
        <p:spPr>
          <a:xfrm>
            <a:off x="179280" y="2997360"/>
            <a:ext cx="2843280" cy="1699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45469828_930858"/>
          <p:cNvPicPr/>
          <p:nvPr/>
        </p:nvPicPr>
        <p:blipFill>
          <a:blip r:embed="rId4"/>
          <a:stretch/>
        </p:blipFill>
        <p:spPr>
          <a:xfrm>
            <a:off x="6084720" y="4221000"/>
            <a:ext cx="1595520" cy="2376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1" descr="icon"/>
          <p:cNvPicPr/>
          <p:nvPr/>
        </p:nvPicPr>
        <p:blipFill>
          <a:blip r:embed="rId5"/>
          <a:stretch/>
        </p:blipFill>
        <p:spPr>
          <a:xfrm>
            <a:off x="179280" y="4869000"/>
            <a:ext cx="2300400" cy="17683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2" descr="1255672909_1219387432_cart12"/>
          <p:cNvPicPr/>
          <p:nvPr/>
        </p:nvPicPr>
        <p:blipFill>
          <a:blip r:embed="rId6"/>
          <a:stretch/>
        </p:blipFill>
        <p:spPr>
          <a:xfrm>
            <a:off x="7696080" y="2997360"/>
            <a:ext cx="1447920" cy="2266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6" descr="deti"/>
          <p:cNvPicPr/>
          <p:nvPr/>
        </p:nvPicPr>
        <p:blipFill>
          <a:blip r:embed="rId7"/>
          <a:stretch/>
        </p:blipFill>
        <p:spPr>
          <a:xfrm>
            <a:off x="7885080" y="0"/>
            <a:ext cx="971640" cy="698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7" descr=""/>
          <p:cNvPicPr/>
          <p:nvPr/>
        </p:nvPicPr>
        <p:blipFill>
          <a:blip r:embed="rId8"/>
          <a:stretch/>
        </p:blipFill>
        <p:spPr>
          <a:xfrm>
            <a:off x="3492360" y="620640"/>
            <a:ext cx="2229120" cy="1676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8" descr=""/>
          <p:cNvPicPr/>
          <p:nvPr/>
        </p:nvPicPr>
        <p:blipFill>
          <a:blip r:embed="rId9"/>
          <a:stretch/>
        </p:blipFill>
        <p:spPr>
          <a:xfrm>
            <a:off x="3276720" y="4653000"/>
            <a:ext cx="2342880" cy="17622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9" descr=""/>
          <p:cNvPicPr/>
          <p:nvPr/>
        </p:nvPicPr>
        <p:blipFill>
          <a:blip r:embed="rId10"/>
          <a:stretch/>
        </p:blipFill>
        <p:spPr>
          <a:xfrm>
            <a:off x="6156360" y="692280"/>
            <a:ext cx="266688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7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1119600" y="191160"/>
            <a:ext cx="6974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чела,   разводить -   пче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емля,   пахать       -   зем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ш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ес,       рубить       -   ле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инья, пасти         -   свин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ль,   варить       -   ста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ала, лазать         -   ска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ре,  плавать       -   мо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ыба,   ловить        -   рыб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disney086"/>
          <p:cNvPicPr/>
          <p:nvPr/>
        </p:nvPicPr>
        <p:blipFill>
          <a:blip r:embed="rId2"/>
          <a:stretch/>
        </p:blipFill>
        <p:spPr>
          <a:xfrm>
            <a:off x="7308720" y="2421000"/>
            <a:ext cx="1560600" cy="1871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25232634"/>
          <p:cNvPicPr/>
          <p:nvPr/>
        </p:nvPicPr>
        <p:blipFill>
          <a:blip r:embed="rId3"/>
          <a:stretch/>
        </p:blipFill>
        <p:spPr>
          <a:xfrm>
            <a:off x="0" y="476280"/>
            <a:ext cx="909720" cy="1268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deti"/>
          <p:cNvPicPr/>
          <p:nvPr/>
        </p:nvPicPr>
        <p:blipFill>
          <a:blip r:embed="rId4"/>
          <a:stretch/>
        </p:blipFill>
        <p:spPr>
          <a:xfrm>
            <a:off x="0" y="6132600"/>
            <a:ext cx="1008000" cy="72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2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gusli"/>
          <p:cNvPicPr/>
          <p:nvPr/>
        </p:nvPicPr>
        <p:blipFill>
          <a:blip r:embed="rId2"/>
          <a:stretch/>
        </p:blipFill>
        <p:spPr>
          <a:xfrm>
            <a:off x="6084720" y="3500280"/>
            <a:ext cx="2614680" cy="32133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4589640" y="2475360"/>
            <a:ext cx="18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692360" y="26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узей волшебных ве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5" descr="838175"/>
          <p:cNvPicPr/>
          <p:nvPr/>
        </p:nvPicPr>
        <p:blipFill>
          <a:blip r:embed="rId3"/>
          <a:stretch/>
        </p:blipFill>
        <p:spPr>
          <a:xfrm>
            <a:off x="1116000" y="90792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civer_std"/>
          <p:cNvPicPr/>
          <p:nvPr/>
        </p:nvPicPr>
        <p:blipFill>
          <a:blip r:embed="rId4"/>
          <a:stretch/>
        </p:blipFill>
        <p:spPr>
          <a:xfrm>
            <a:off x="4572000" y="1341360"/>
            <a:ext cx="2879640" cy="21639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7" descr="Skatert"/>
          <p:cNvPicPr/>
          <p:nvPr/>
        </p:nvPicPr>
        <p:blipFill>
          <a:blip r:embed="rId5"/>
          <a:stretch/>
        </p:blipFill>
        <p:spPr>
          <a:xfrm>
            <a:off x="1476360" y="3789360"/>
            <a:ext cx="2736720" cy="19018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8"/>
          <p:cNvSpPr/>
          <p:nvPr/>
        </p:nvSpPr>
        <p:spPr>
          <a:xfrm>
            <a:off x="755640" y="3141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п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543564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ве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39640" y="5805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ат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4067280" y="4797360"/>
            <a:ext cx="244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ус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3" descr="deti"/>
          <p:cNvPicPr/>
          <p:nvPr/>
        </p:nvPicPr>
        <p:blipFill>
          <a:blip r:embed="rId6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4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7" descr="gusli"/>
          <p:cNvPicPr/>
          <p:nvPr/>
        </p:nvPicPr>
        <p:blipFill>
          <a:blip r:embed="rId2"/>
          <a:stretch/>
        </p:blipFill>
        <p:spPr>
          <a:xfrm>
            <a:off x="6516720" y="3716280"/>
            <a:ext cx="2440080" cy="299736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2"/>
          <p:cNvSpPr/>
          <p:nvPr/>
        </p:nvSpPr>
        <p:spPr>
          <a:xfrm>
            <a:off x="4589640" y="2475360"/>
            <a:ext cx="18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692360" y="260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узей волшебных ве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838175"/>
          <p:cNvPicPr/>
          <p:nvPr/>
        </p:nvPicPr>
        <p:blipFill>
          <a:blip r:embed="rId3"/>
          <a:stretch/>
        </p:blipFill>
        <p:spPr>
          <a:xfrm>
            <a:off x="1042920" y="90792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civer_std"/>
          <p:cNvPicPr/>
          <p:nvPr/>
        </p:nvPicPr>
        <p:blipFill>
          <a:blip r:embed="rId4"/>
          <a:stretch/>
        </p:blipFill>
        <p:spPr>
          <a:xfrm>
            <a:off x="5292720" y="1413000"/>
            <a:ext cx="2879640" cy="2163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Skatert"/>
          <p:cNvPicPr/>
          <p:nvPr/>
        </p:nvPicPr>
        <p:blipFill>
          <a:blip r:embed="rId5"/>
          <a:stretch/>
        </p:blipFill>
        <p:spPr>
          <a:xfrm>
            <a:off x="1116000" y="3789360"/>
            <a:ext cx="2736720" cy="190188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8"/>
          <p:cNvSpPr/>
          <p:nvPr/>
        </p:nvSpPr>
        <p:spPr>
          <a:xfrm>
            <a:off x="971640" y="3068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апоги – ско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1"/>
          <p:cNvSpPr/>
          <p:nvPr/>
        </p:nvSpPr>
        <p:spPr>
          <a:xfrm>
            <a:off x="4859280" y="9079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вер – с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1042920" y="59500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катерть – с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р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3"/>
          <p:cNvSpPr/>
          <p:nvPr/>
        </p:nvSpPr>
        <p:spPr>
          <a:xfrm>
            <a:off x="3851280" y="4797360"/>
            <a:ext cx="33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усли – са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у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5" descr="deti"/>
          <p:cNvPicPr/>
          <p:nvPr/>
        </p:nvPicPr>
        <p:blipFill>
          <a:blip r:embed="rId6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6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" descr="Skatert"/>
          <p:cNvPicPr/>
          <p:nvPr/>
        </p:nvPicPr>
        <p:blipFill>
          <a:blip r:embed="rId2"/>
          <a:stretch/>
        </p:blipFill>
        <p:spPr>
          <a:xfrm>
            <a:off x="1547640" y="476280"/>
            <a:ext cx="5977080" cy="415296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5"/>
          <p:cNvSpPr/>
          <p:nvPr/>
        </p:nvSpPr>
        <p:spPr>
          <a:xfrm>
            <a:off x="250920" y="5084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итие       Сам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в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7" descr="25232634"/>
          <p:cNvPicPr/>
          <p:nvPr/>
        </p:nvPicPr>
        <p:blipFill>
          <a:blip r:embed="rId3"/>
          <a:stretch/>
        </p:blipFill>
        <p:spPr>
          <a:xfrm>
            <a:off x="0" y="5805360"/>
            <a:ext cx="84924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5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2" name="Приложение 1 (2).mp3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697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12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im-115big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311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24623"/>
          <p:cNvPicPr/>
          <p:nvPr/>
        </p:nvPicPr>
        <p:blipFill>
          <a:blip r:embed="rId3"/>
          <a:stretch/>
        </p:blipFill>
        <p:spPr>
          <a:xfrm>
            <a:off x="4572000" y="1413000"/>
            <a:ext cx="4248000" cy="35780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_DSC1183+"/>
          <p:cNvPicPr/>
          <p:nvPr/>
        </p:nvPicPr>
        <p:blipFill>
          <a:blip r:embed="rId4"/>
          <a:stretch/>
        </p:blipFill>
        <p:spPr>
          <a:xfrm>
            <a:off x="250920" y="3429000"/>
            <a:ext cx="3981240" cy="3186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5"/>
          <p:cNvSpPr/>
          <p:nvPr/>
        </p:nvSpPr>
        <p:spPr>
          <a:xfrm>
            <a:off x="4284720" y="333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493236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4788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8"/>
          <p:cNvSpPr/>
          <p:nvPr/>
        </p:nvSpPr>
        <p:spPr>
          <a:xfrm flipH="1">
            <a:off x="3924000" y="62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65167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0"/>
          <p:cNvSpPr/>
          <p:nvPr/>
        </p:nvSpPr>
        <p:spPr>
          <a:xfrm flipH="1">
            <a:off x="4211280" y="58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1" descr="25232634"/>
          <p:cNvPicPr/>
          <p:nvPr/>
        </p:nvPicPr>
        <p:blipFill>
          <a:blip r:embed="rId5"/>
          <a:stretch/>
        </p:blipFill>
        <p:spPr>
          <a:xfrm>
            <a:off x="7451640" y="5157720"/>
            <a:ext cx="137340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1190983137_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"/>
          <p:cNvSpPr/>
          <p:nvPr/>
        </p:nvSpPr>
        <p:spPr>
          <a:xfrm>
            <a:off x="1042920" y="765000"/>
            <a:ext cx="720108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lero script"/>
              </a:rPr>
              <a:t>Необыкновенный язык наш есть ещё тайна. В нём все тоны и оттенки, все переходы звуков – от самых твердых до самых нежных и мягких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Bolero script"/>
              </a:rPr>
              <a:t>Н.В. Гого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14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im-115big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3111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24623"/>
          <p:cNvPicPr/>
          <p:nvPr/>
        </p:nvPicPr>
        <p:blipFill>
          <a:blip r:embed="rId3"/>
          <a:stretch/>
        </p:blipFill>
        <p:spPr>
          <a:xfrm>
            <a:off x="4572000" y="1413000"/>
            <a:ext cx="4248000" cy="35780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_DSC1183+"/>
          <p:cNvPicPr/>
          <p:nvPr/>
        </p:nvPicPr>
        <p:blipFill>
          <a:blip r:embed="rId4"/>
          <a:stretch/>
        </p:blipFill>
        <p:spPr>
          <a:xfrm>
            <a:off x="250920" y="3429000"/>
            <a:ext cx="3981240" cy="31860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4284720" y="333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у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х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493236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4788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 flipH="1">
            <a:off x="3924000" y="62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>
            <a:off x="65167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 flipH="1">
            <a:off x="4211280" y="58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13" descr="25232634"/>
          <p:cNvPicPr/>
          <p:nvPr/>
        </p:nvPicPr>
        <p:blipFill>
          <a:blip r:embed="rId5"/>
          <a:stretch/>
        </p:blipFill>
        <p:spPr>
          <a:xfrm>
            <a:off x="7524720" y="5157720"/>
            <a:ext cx="1373040" cy="1700280"/>
          </a:xfrm>
          <a:prstGeom prst="rect">
            <a:avLst/>
          </a:prstGeom>
          <a:ln w="0">
            <a:noFill/>
          </a:ln>
        </p:spPr>
      </p:pic>
      <p:pic>
        <p:nvPicPr>
          <p:cNvPr id="635" name="Приложение 2 (2).mp3" descr=""/>
          <p:cNvPicPr/>
          <p:nvPr/>
        </p:nvPicPr>
        <p:blipFill>
          <a:blip r:embed="rId6"/>
          <a:stretch/>
        </p:blipFill>
        <p:spPr>
          <a:xfrm>
            <a:off x="539640" y="2924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5866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" descr="im-115big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3111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24623"/>
          <p:cNvPicPr/>
          <p:nvPr/>
        </p:nvPicPr>
        <p:blipFill>
          <a:blip r:embed="rId3"/>
          <a:stretch/>
        </p:blipFill>
        <p:spPr>
          <a:xfrm>
            <a:off x="4572000" y="1413000"/>
            <a:ext cx="4248000" cy="35780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_DSC1183+"/>
          <p:cNvPicPr/>
          <p:nvPr/>
        </p:nvPicPr>
        <p:blipFill>
          <a:blip r:embed="rId4"/>
          <a:stretch/>
        </p:blipFill>
        <p:spPr>
          <a:xfrm>
            <a:off x="250920" y="3429000"/>
            <a:ext cx="3981240" cy="3186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4284720" y="333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у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х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493236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р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4788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8"/>
          <p:cNvSpPr/>
          <p:nvPr/>
        </p:nvSpPr>
        <p:spPr>
          <a:xfrm flipH="1">
            <a:off x="3924000" y="62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9"/>
          <p:cNvSpPr/>
          <p:nvPr/>
        </p:nvSpPr>
        <p:spPr>
          <a:xfrm>
            <a:off x="65167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0"/>
          <p:cNvSpPr/>
          <p:nvPr/>
        </p:nvSpPr>
        <p:spPr>
          <a:xfrm flipH="1">
            <a:off x="4211280" y="58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2" descr="25232634"/>
          <p:cNvPicPr/>
          <p:nvPr/>
        </p:nvPicPr>
        <p:blipFill>
          <a:blip r:embed="rId5"/>
          <a:stretch/>
        </p:blipFill>
        <p:spPr>
          <a:xfrm>
            <a:off x="7524720" y="5157720"/>
            <a:ext cx="1373040" cy="1700280"/>
          </a:xfrm>
          <a:prstGeom prst="rect">
            <a:avLst/>
          </a:prstGeom>
          <a:ln w="0">
            <a:noFill/>
          </a:ln>
        </p:spPr>
      </p:pic>
      <p:pic>
        <p:nvPicPr>
          <p:cNvPr id="647" name="Приложение 3.wav" descr=""/>
          <p:cNvPicPr/>
          <p:nvPr/>
        </p:nvPicPr>
        <p:blipFill>
          <a:blip r:embed="rId6"/>
          <a:stretch/>
        </p:blipFill>
        <p:spPr>
          <a:xfrm>
            <a:off x="8317080" y="458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213" fill="hold"/>
                                        <p:tgtEl>
                                          <p:spTgt spid="6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" descr="im-115big"/>
          <p:cNvPicPr/>
          <p:nvPr/>
        </p:nvPicPr>
        <p:blipFill>
          <a:blip r:embed="rId2"/>
          <a:stretch/>
        </p:blipFill>
        <p:spPr>
          <a:xfrm>
            <a:off x="468360" y="189000"/>
            <a:ext cx="3456000" cy="3111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24623"/>
          <p:cNvPicPr/>
          <p:nvPr/>
        </p:nvPicPr>
        <p:blipFill>
          <a:blip r:embed="rId3"/>
          <a:stretch/>
        </p:blipFill>
        <p:spPr>
          <a:xfrm>
            <a:off x="4572000" y="1413000"/>
            <a:ext cx="4248000" cy="35780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_DSC1183+"/>
          <p:cNvPicPr/>
          <p:nvPr/>
        </p:nvPicPr>
        <p:blipFill>
          <a:blip r:embed="rId4"/>
          <a:stretch/>
        </p:blipFill>
        <p:spPr>
          <a:xfrm>
            <a:off x="250920" y="3429000"/>
            <a:ext cx="3981240" cy="318600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"/>
          <p:cNvSpPr/>
          <p:nvPr/>
        </p:nvSpPr>
        <p:spPr>
          <a:xfrm>
            <a:off x="4284720" y="333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у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х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4932360" y="76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р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4788000" y="551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и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м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о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8"/>
          <p:cNvSpPr/>
          <p:nvPr/>
        </p:nvSpPr>
        <p:spPr>
          <a:xfrm flipH="1">
            <a:off x="3924000" y="62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9"/>
          <p:cNvSpPr/>
          <p:nvPr/>
        </p:nvSpPr>
        <p:spPr>
          <a:xfrm>
            <a:off x="6516720" y="119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10"/>
          <p:cNvSpPr/>
          <p:nvPr/>
        </p:nvSpPr>
        <p:spPr>
          <a:xfrm flipH="1">
            <a:off x="4211280" y="58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12" descr="25232634"/>
          <p:cNvPicPr/>
          <p:nvPr/>
        </p:nvPicPr>
        <p:blipFill>
          <a:blip r:embed="rId5"/>
          <a:stretch/>
        </p:blipFill>
        <p:spPr>
          <a:xfrm>
            <a:off x="7770960" y="5157720"/>
            <a:ext cx="1373040" cy="170028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4" descr=""/>
          <p:cNvPicPr/>
          <p:nvPr/>
        </p:nvPicPr>
        <p:blipFill>
          <a:blip r:embed="rId6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705" fill="hold"/>
                                        <p:tgtEl>
                                          <p:spTgt spid="6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9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1188311660_g"/>
          <p:cNvPicPr/>
          <p:nvPr/>
        </p:nvPicPr>
        <p:blipFill>
          <a:blip r:embed="rId2"/>
          <a:stretch/>
        </p:blipFill>
        <p:spPr>
          <a:xfrm>
            <a:off x="250920" y="189000"/>
            <a:ext cx="5033880" cy="3456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5" descr="Koroed_new_last"/>
          <p:cNvPicPr/>
          <p:nvPr/>
        </p:nvPicPr>
        <p:blipFill>
          <a:blip r:embed="rId3"/>
          <a:stretch/>
        </p:blipFill>
        <p:spPr>
          <a:xfrm>
            <a:off x="5364000" y="189000"/>
            <a:ext cx="3618000" cy="4232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" descr="005-5"/>
          <p:cNvPicPr/>
          <p:nvPr/>
        </p:nvPicPr>
        <p:blipFill>
          <a:blip r:embed="rId4"/>
          <a:stretch/>
        </p:blipFill>
        <p:spPr>
          <a:xfrm>
            <a:off x="250920" y="3789360"/>
            <a:ext cx="4968720" cy="28987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disney086"/>
          <p:cNvPicPr/>
          <p:nvPr/>
        </p:nvPicPr>
        <p:blipFill>
          <a:blip r:embed="rId5"/>
          <a:stretch/>
        </p:blipFill>
        <p:spPr>
          <a:xfrm>
            <a:off x="6012000" y="4122720"/>
            <a:ext cx="22795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9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fa24c56c98ed"/>
          <p:cNvPicPr/>
          <p:nvPr/>
        </p:nvPicPr>
        <p:blipFill>
          <a:blip r:embed="rId2"/>
          <a:stretch/>
        </p:blipFill>
        <p:spPr>
          <a:xfrm>
            <a:off x="5867280" y="260280"/>
            <a:ext cx="2981520" cy="609624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5"/>
          <p:cNvSpPr/>
          <p:nvPr/>
        </p:nvSpPr>
        <p:spPr>
          <a:xfrm>
            <a:off x="971640" y="189000"/>
            <a:ext cx="5256000" cy="32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вор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ставить небольшой рассказ                                 по ключевым слов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1116000" y="1732320"/>
            <a:ext cx="460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ый      бе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         любит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      класс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уд           любить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ый        год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сти         приним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1694160" y="5875920"/>
            <a:ext cx="2513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ю за работ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лод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1" descr="deti"/>
          <p:cNvPicPr/>
          <p:nvPr/>
        </p:nvPicPr>
        <p:blipFill>
          <a:blip r:embed="rId3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img544_1"/>
          <p:cNvPicPr/>
          <p:nvPr/>
        </p:nvPicPr>
        <p:blipFill>
          <a:blip r:embed="rId1"/>
          <a:stretch/>
        </p:blipFill>
        <p:spPr>
          <a:xfrm>
            <a:off x="1403280" y="692280"/>
            <a:ext cx="6264360" cy="39290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3"/>
          <p:cNvSpPr/>
          <p:nvPr/>
        </p:nvSpPr>
        <p:spPr>
          <a:xfrm>
            <a:off x="900000" y="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трана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ЕО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ланд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250920" y="148428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7812000" y="1341360"/>
            <a:ext cx="7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468360" y="479736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а, у которых ____________________ , называются слож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ые буквы ______ и ___, которые соединяют корни в сложных словах, называются ______________________________ глас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с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шется после _______, а глас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ле ____ и 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2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Oval 6"/>
          <p:cNvSpPr/>
          <p:nvPr/>
        </p:nvSpPr>
        <p:spPr>
          <a:xfrm>
            <a:off x="4067280" y="5516640"/>
            <a:ext cx="2017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2411280" y="1341360"/>
            <a:ext cx="15130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8"/>
          <p:cNvSpPr/>
          <p:nvPr/>
        </p:nvSpPr>
        <p:spPr>
          <a:xfrm>
            <a:off x="2411280" y="5516640"/>
            <a:ext cx="1224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7"/>
          <p:cNvSpPr/>
          <p:nvPr/>
        </p:nvSpPr>
        <p:spPr>
          <a:xfrm>
            <a:off x="4284720" y="1413000"/>
            <a:ext cx="10792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9" descr="puteshestvennik2"/>
          <p:cNvPicPr/>
          <p:nvPr/>
        </p:nvPicPr>
        <p:blipFill>
          <a:blip r:embed="rId2"/>
          <a:stretch/>
        </p:blipFill>
        <p:spPr>
          <a:xfrm>
            <a:off x="7093080" y="1484280"/>
            <a:ext cx="1087200" cy="28083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mm321_10_07_01"/>
          <p:cNvPicPr/>
          <p:nvPr/>
        </p:nvPicPr>
        <p:blipFill>
          <a:blip r:embed="rId3"/>
          <a:stretch/>
        </p:blipFill>
        <p:spPr>
          <a:xfrm rot="20700000">
            <a:off x="539280" y="1557360"/>
            <a:ext cx="2194200" cy="28083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4"/>
          <p:cNvSpPr/>
          <p:nvPr/>
        </p:nvSpPr>
        <p:spPr>
          <a:xfrm>
            <a:off x="539640" y="-498600"/>
            <a:ext cx="8280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Чистый      пис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Чист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ис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уть       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ше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Пут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шеств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3" descr="25232634"/>
          <p:cNvPicPr/>
          <p:nvPr/>
        </p:nvPicPr>
        <p:blipFill>
          <a:blip r:embed="rId4"/>
          <a:stretch/>
        </p:blipFill>
        <p:spPr>
          <a:xfrm>
            <a:off x="0" y="5516640"/>
            <a:ext cx="849240" cy="10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34" descr="pleiades_gendl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13"/>
          <p:cNvSpPr/>
          <p:nvPr/>
        </p:nvSpPr>
        <p:spPr>
          <a:xfrm>
            <a:off x="250920" y="981000"/>
            <a:ext cx="1800000" cy="144000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468360" y="1339200"/>
            <a:ext cx="827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Тема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Сложные слова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Arial"/>
              </a:rPr>
              <a:t>Путешествие по стране ____________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20"/>
          <p:cNvGrpSpPr/>
          <p:nvPr/>
        </p:nvGrpSpPr>
        <p:grpSpPr>
          <a:xfrm>
            <a:off x="2686680" y="-331920"/>
            <a:ext cx="2259360" cy="2104200"/>
            <a:chOff x="2686680" y="-331920"/>
            <a:chExt cx="2259360" cy="2104200"/>
          </a:xfrm>
        </p:grpSpPr>
        <p:sp>
          <p:nvSpPr>
            <p:cNvPr id="510" name="AutoShape 15"/>
            <p:cNvSpPr/>
            <p:nvPr/>
          </p:nvSpPr>
          <p:spPr>
            <a:xfrm rot="1634400">
              <a:off x="2916360" y="0"/>
              <a:ext cx="1800000" cy="14400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5"/>
            <p:cNvSpPr/>
            <p:nvPr/>
          </p:nvSpPr>
          <p:spPr>
            <a:xfrm rot="1693200">
              <a:off x="2699640" y="476280"/>
              <a:ext cx="22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арово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30"/>
          <p:cNvGrpSpPr/>
          <p:nvPr/>
        </p:nvGrpSpPr>
        <p:grpSpPr>
          <a:xfrm>
            <a:off x="5062320" y="-312120"/>
            <a:ext cx="2548800" cy="2063880"/>
            <a:chOff x="5062320" y="-312120"/>
            <a:chExt cx="2548800" cy="2063880"/>
          </a:xfrm>
        </p:grpSpPr>
        <p:sp>
          <p:nvSpPr>
            <p:cNvPr id="513" name="AutoShape 16"/>
            <p:cNvSpPr/>
            <p:nvPr/>
          </p:nvSpPr>
          <p:spPr>
            <a:xfrm rot="20107200">
              <a:off x="5508720" y="0"/>
              <a:ext cx="1800000" cy="144000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 rot="19647600">
              <a:off x="4932360" y="549000"/>
              <a:ext cx="28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Листопа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9"/>
          <p:cNvGrpSpPr/>
          <p:nvPr/>
        </p:nvGrpSpPr>
        <p:grpSpPr>
          <a:xfrm>
            <a:off x="-176400" y="3444840"/>
            <a:ext cx="2514600" cy="2128320"/>
            <a:chOff x="-176400" y="3444840"/>
            <a:chExt cx="2514600" cy="2128320"/>
          </a:xfrm>
        </p:grpSpPr>
        <p:sp>
          <p:nvSpPr>
            <p:cNvPr id="516" name="AutoShape 18"/>
            <p:cNvSpPr/>
            <p:nvPr/>
          </p:nvSpPr>
          <p:spPr>
            <a:xfrm rot="19873800">
              <a:off x="178920" y="3789000"/>
              <a:ext cx="1800360" cy="14396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7"/>
            <p:cNvSpPr/>
            <p:nvPr/>
          </p:nvSpPr>
          <p:spPr>
            <a:xfrm rot="19877400">
              <a:off x="-251640" y="4293720"/>
              <a:ext cx="26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едоко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Group 29"/>
          <p:cNvGrpSpPr/>
          <p:nvPr/>
        </p:nvGrpSpPr>
        <p:grpSpPr>
          <a:xfrm>
            <a:off x="7019640" y="3398760"/>
            <a:ext cx="2302200" cy="2220840"/>
            <a:chOff x="7019640" y="3398760"/>
            <a:chExt cx="2302200" cy="2220840"/>
          </a:xfrm>
        </p:grpSpPr>
        <p:sp>
          <p:nvSpPr>
            <p:cNvPr id="519" name="AutoShape 27"/>
            <p:cNvSpPr/>
            <p:nvPr/>
          </p:nvSpPr>
          <p:spPr>
            <a:xfrm rot="19452600">
              <a:off x="7270560" y="3789000"/>
              <a:ext cx="1800000" cy="144000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8"/>
            <p:cNvSpPr/>
            <p:nvPr/>
          </p:nvSpPr>
          <p:spPr>
            <a:xfrm rot="18991800">
              <a:off x="7200000" y="4292280"/>
              <a:ext cx="19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ылес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33"/>
          <p:cNvGrpSpPr/>
          <p:nvPr/>
        </p:nvGrpSpPr>
        <p:grpSpPr>
          <a:xfrm>
            <a:off x="5911560" y="4861080"/>
            <a:ext cx="2289960" cy="2175840"/>
            <a:chOff x="5911560" y="4861080"/>
            <a:chExt cx="2289960" cy="2175840"/>
          </a:xfrm>
        </p:grpSpPr>
        <p:sp>
          <p:nvSpPr>
            <p:cNvPr id="522" name="AutoShape 26"/>
            <p:cNvSpPr/>
            <p:nvPr/>
          </p:nvSpPr>
          <p:spPr>
            <a:xfrm rot="19675200">
              <a:off x="6156360" y="5229000"/>
              <a:ext cx="1800360" cy="14396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9"/>
            <p:cNvSpPr/>
            <p:nvPr/>
          </p:nvSpPr>
          <p:spPr>
            <a:xfrm rot="19380000">
              <a:off x="6301080" y="5731920"/>
              <a:ext cx="1513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Звездопа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31"/>
          <p:cNvGrpSpPr/>
          <p:nvPr/>
        </p:nvGrpSpPr>
        <p:grpSpPr>
          <a:xfrm>
            <a:off x="7111800" y="825480"/>
            <a:ext cx="2251080" cy="2087280"/>
            <a:chOff x="7111800" y="825480"/>
            <a:chExt cx="2251080" cy="2087280"/>
          </a:xfrm>
        </p:grpSpPr>
        <p:sp>
          <p:nvSpPr>
            <p:cNvPr id="525" name="AutoShape 17"/>
            <p:cNvSpPr/>
            <p:nvPr/>
          </p:nvSpPr>
          <p:spPr>
            <a:xfrm rot="1575000">
              <a:off x="7337160" y="1149120"/>
              <a:ext cx="1800000" cy="143964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 rot="1575000">
              <a:off x="7249320" y="16315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одоп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11"/>
          <p:cNvSpPr/>
          <p:nvPr/>
        </p:nvSpPr>
        <p:spPr>
          <a:xfrm>
            <a:off x="324000" y="148428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Лежеб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28"/>
          <p:cNvGrpSpPr/>
          <p:nvPr/>
        </p:nvGrpSpPr>
        <p:grpSpPr>
          <a:xfrm>
            <a:off x="1465920" y="4897080"/>
            <a:ext cx="2259000" cy="2103840"/>
            <a:chOff x="1465920" y="4897080"/>
            <a:chExt cx="2259000" cy="2103840"/>
          </a:xfrm>
        </p:grpSpPr>
        <p:sp>
          <p:nvSpPr>
            <p:cNvPr id="529" name="AutoShape 24"/>
            <p:cNvSpPr/>
            <p:nvPr/>
          </p:nvSpPr>
          <p:spPr>
            <a:xfrm rot="1634400">
              <a:off x="1695240" y="5229000"/>
              <a:ext cx="1800000" cy="143964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12"/>
            <p:cNvSpPr/>
            <p:nvPr/>
          </p:nvSpPr>
          <p:spPr>
            <a:xfrm rot="1729200">
              <a:off x="1402560" y="5731920"/>
              <a:ext cx="2303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дкоеж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1" name="Picture 32" descr="25232634"/>
          <p:cNvPicPr/>
          <p:nvPr/>
        </p:nvPicPr>
        <p:blipFill>
          <a:blip r:embed="rId2"/>
          <a:stretch/>
        </p:blipFill>
        <p:spPr>
          <a:xfrm>
            <a:off x="3924360" y="4913280"/>
            <a:ext cx="15699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6" descr="1190983137_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"/>
          <p:cNvSpPr/>
          <p:nvPr/>
        </p:nvSpPr>
        <p:spPr>
          <a:xfrm>
            <a:off x="1626120" y="334800"/>
            <a:ext cx="58363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Жизнь – Рад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Цель – Устремля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бро – Жела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уд – Люби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7" descr="25232634"/>
          <p:cNvPicPr/>
          <p:nvPr/>
        </p:nvPicPr>
        <p:blipFill>
          <a:blip r:embed="rId2"/>
          <a:stretch/>
        </p:blipFill>
        <p:spPr>
          <a:xfrm>
            <a:off x="250920" y="5589720"/>
            <a:ext cx="849240" cy="10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6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4"/>
          <p:cNvSpPr/>
          <p:nvPr/>
        </p:nvSpPr>
        <p:spPr>
          <a:xfrm>
            <a:off x="971640" y="191520"/>
            <a:ext cx="8172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Жизнь – Радость       </a:t>
            </a: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Жиз</a:t>
            </a:r>
            <a:r>
              <a:rPr b="0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н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дост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ель – Устремлять   </a:t>
            </a: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Це</a:t>
            </a:r>
            <a:r>
              <a:rPr b="0" lang="ru-RU" sz="3600" spc="-1" strike="noStrike" u="sng">
                <a:solidFill>
                  <a:srgbClr val="99cc00"/>
                </a:solidFill>
                <a:uFillTx/>
                <a:latin typeface="Arial"/>
              </a:rPr>
              <a:t>л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устремл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бро – Желать        </a:t>
            </a: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Добр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жела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уд – Любить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3399"/>
                </a:solidFill>
                <a:uFillTx/>
                <a:latin typeface="Arial"/>
              </a:rPr>
              <a:t>Труд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люби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5" descr="deti"/>
          <p:cNvPicPr/>
          <p:nvPr/>
        </p:nvPicPr>
        <p:blipFill>
          <a:blip r:embed="rId2"/>
          <a:stretch/>
        </p:blipFill>
        <p:spPr>
          <a:xfrm>
            <a:off x="6732720" y="404640"/>
            <a:ext cx="2016000" cy="1451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25232634"/>
          <p:cNvPicPr/>
          <p:nvPr/>
        </p:nvPicPr>
        <p:blipFill>
          <a:blip r:embed="rId3"/>
          <a:stretch/>
        </p:blipFill>
        <p:spPr>
          <a:xfrm>
            <a:off x="0" y="5516640"/>
            <a:ext cx="849240" cy="10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4"/>
          <p:cNvSpPr/>
          <p:nvPr/>
        </p:nvSpPr>
        <p:spPr>
          <a:xfrm>
            <a:off x="971640" y="2093400"/>
            <a:ext cx="79182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ж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ц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333399"/>
                </a:solidFill>
                <a:latin typeface="Arial"/>
              </a:rPr>
              <a:t>ш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44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изн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достный  цел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стремленный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обр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елательный  труд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юбивый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25232634"/>
          <p:cNvPicPr/>
          <p:nvPr/>
        </p:nvPicPr>
        <p:blipFill>
          <a:blip r:embed="rId2"/>
          <a:stretch/>
        </p:blipFill>
        <p:spPr>
          <a:xfrm>
            <a:off x="6896160" y="4653000"/>
            <a:ext cx="1628640" cy="2016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7" descr="deti"/>
          <p:cNvPicPr/>
          <p:nvPr/>
        </p:nvPicPr>
        <p:blipFill>
          <a:blip r:embed="rId3"/>
          <a:stretch/>
        </p:blipFill>
        <p:spPr>
          <a:xfrm>
            <a:off x="0" y="6159600"/>
            <a:ext cx="971640" cy="6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4"/>
          <p:cNvSpPr/>
          <p:nvPr/>
        </p:nvSpPr>
        <p:spPr>
          <a:xfrm>
            <a:off x="0" y="-101520"/>
            <a:ext cx="914400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лгоритм написания соединительных гласных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,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в сложных сло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снова оканчивается                                                                             на твердый согласный звук – пиш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,  ско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основа оканчивается                                                                              на мягкий согласный звук –  пиш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л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,   си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з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сле [ж] [ш] [ц]  - всегда пиш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ш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д,  серд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25232634"/>
          <p:cNvPicPr/>
          <p:nvPr/>
        </p:nvPicPr>
        <p:blipFill>
          <a:blip r:embed="rId2"/>
          <a:stretch/>
        </p:blipFill>
        <p:spPr>
          <a:xfrm>
            <a:off x="0" y="5805360"/>
            <a:ext cx="84924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Изображение 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4"/>
          <p:cNvSpPr/>
          <p:nvPr/>
        </p:nvSpPr>
        <p:spPr>
          <a:xfrm>
            <a:off x="-403560" y="2255760"/>
            <a:ext cx="9760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Сегодня я искал, твори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Знание новое откры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Научился применя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     </a:t>
            </a:r>
            <a:r>
              <a:rPr b="1" i="1" lang="ru-RU" sz="4400" spc="-1" strike="noStrike">
                <a:solidFill>
                  <a:srgbClr val="333399"/>
                </a:solidFill>
                <a:latin typeface="Magneto"/>
              </a:rPr>
              <a:t>Задание легко мне выполнять</a:t>
            </a:r>
            <a:r>
              <a:rPr b="1" lang="ru-RU" sz="4400" spc="-1" strike="noStrike">
                <a:solidFill>
                  <a:srgbClr val="333399"/>
                </a:solidFill>
                <a:latin typeface="Magneto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0" y="260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25232634"/>
          <p:cNvPicPr/>
          <p:nvPr/>
        </p:nvPicPr>
        <p:blipFill>
          <a:blip r:embed="rId2"/>
          <a:stretch/>
        </p:blipFill>
        <p:spPr>
          <a:xfrm>
            <a:off x="2700360" y="0"/>
            <a:ext cx="1897200" cy="2349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7" descr="deti"/>
          <p:cNvPicPr/>
          <p:nvPr/>
        </p:nvPicPr>
        <p:blipFill>
          <a:blip r:embed="rId3"/>
          <a:stretch/>
        </p:blipFill>
        <p:spPr>
          <a:xfrm>
            <a:off x="4932360" y="4940280"/>
            <a:ext cx="2664000" cy="191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6:04Z</dcterms:created>
  <dc:creator>Customer</dc:creator>
  <dc:description/>
  <dc:language>en-US</dc:language>
  <cp:lastModifiedBy>Admin</cp:lastModifiedBy>
  <dcterms:modified xsi:type="dcterms:W3CDTF">2013-04-28T10:57:34Z</dcterms:modified>
  <cp:revision>15</cp:revision>
  <dc:subject/>
  <dc:title>Слайд 1</dc:title>
</cp:coreProperties>
</file>