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5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E4A-D1C2-47DE-A28B-1D068E2D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F27-D23F-46A0-A720-89E1A91F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65BFF-350C-4C54-A580-9B5BDC4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8631B-5744-4340-8428-C550ADEA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87D4E-5185-436B-8C0A-C22B8682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AF73E-EDFB-4F7F-B486-655EF29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E3BF0-70B3-4AFE-9749-7479814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B1CD3-5F5A-47BA-A646-5A596C57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DC713-0DE1-49F2-9DB0-7D96D9FC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BFFF9-D6F9-4B56-B210-75B4D16F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C34BE-BB94-4397-9E82-E2A5DC1B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BBE96-A5DC-482C-AD83-EDFC636F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6A1-1017-4A3F-BB43-50B16AE1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604A4-72E5-4C20-807C-756188C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B59DF-4333-4B0D-9CDE-C48F9F51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4FF8A-9EEE-469C-A8D9-4024D756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037DB-6AAA-4F87-975D-3F47656E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C5C10-4A11-463C-8BD0-E0E96EFA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1F9D2-E8F5-4F07-B7E5-2EE1A1C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1C367-39C7-427A-A6F9-6089E935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DBDA6-0DDB-4661-BCE1-10E2CA6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EB56F-302E-4900-A638-93D6CBC5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FABB9-15B9-4AEB-A8C6-BF890B1F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70F-1D28-41BF-8BEE-F6B9F786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5CE33-88AB-4E55-A4B4-B043BF7A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39C0E-90E9-41A2-AF09-9726DE9C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77846-BFC3-40AC-8E68-3EF9CAA6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A3422-03BA-427C-9A61-D91CBF9D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45C5C-B066-495F-8460-2E57069E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8079C-E62D-467D-87EA-8539CFD6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704C1-3BDC-43A3-9E1A-9910D37B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5A054-037D-4223-89F2-CCBBF71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33697-7E7C-4110-8C08-CDE8A13E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72A1-705D-4490-882F-DA2F86D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E6B2-D730-4128-A6ED-5BE98E70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D62EC-4F68-480A-B802-0EE8A1A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2F59E-5F7A-46BA-AB24-3899A479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10F24-ABD6-4654-9BFE-EB6E602B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0E270-E068-4E97-98E6-3D025A35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4948F-E9CA-4B99-AF7F-EECC5E0A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BE379-ED6B-472F-9ABA-58F6DCFB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FE498-AF60-4155-AA74-ABC50DEE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EAE25-A0F9-4C07-AC98-7B8F5EF0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57A41-8837-4E39-A6C3-03E910FF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D0DD1-7503-4080-98D3-F85AAF1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32CA-3EC8-4F85-8CBA-F408AEC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16223-8F2E-4E64-8C48-EB5620F0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BDA12-BF91-486B-8450-7FE8935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BD583-E66A-49C4-A96A-C292C6D8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71884-F212-4BD1-9827-3BC6333D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7C94C-56BE-4AD8-B5C0-8CB35E29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2F29-37EB-49EF-B2B1-5282EC0E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71F0-D774-491D-B2D2-A4098D0D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B543-F616-4229-AB2F-01000544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2F6C-5566-42F4-9A5B-FC2551F4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F765-9C65-4115-9802-4C92B19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264-ED75-4B22-B73B-2B0A546F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FCA-8270-44C5-AA35-052ACC5A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A2E2-3C76-4811-88EA-4FCB53F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7D93-ED08-41B7-B31D-16C7BF9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C657-4B7B-4522-8CD3-9D4E34C9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24FE-3808-45BC-994C-C27B0AE7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5568-725D-48CF-8838-ABCE1E3E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644E-BF3C-4CD0-B9FA-FB6A563D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C0A3-4DF0-47B0-BE03-D431AB6F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EA5F-9822-4985-855F-76D14B17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C904-2EF3-4D10-A6AC-55C1402C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6CC-85BC-4C31-BAF6-983D13BD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2EE8-8D9C-4A7B-81C1-01597FAC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F856-1511-4241-A032-A9ACF3D1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E7BC-9DEB-444E-9981-BCBD0B16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3D65-5F1F-4059-BC5B-6154B2FF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20C1-E04D-4033-AFC1-6A69D3E8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A379-A14E-4662-8D9B-CE26ECAD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30E6-6186-449C-A129-BDC99673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8147-B134-43CF-9445-1096D032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20F0-172E-4705-8934-F56AE57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D95A-5404-4BE3-AB35-5DC8B3A1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C38-9E9E-4F6B-9C47-CFA25492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3567-A884-4965-BB3B-1EE3AB0C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9DAA-ACCA-4162-9C89-84796CE6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EC795-54F3-4E22-9C81-A9BC7DD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069F2-C5A6-4230-8B76-9C86B598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770ED-3955-45A9-8F34-7ADE443A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F34D-2F3C-4B18-8E6D-80FA780B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AFE2-7826-4BD8-B081-32AC1999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F704-1B15-461B-8C51-1399902D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A07F-12A3-49DB-ACE9-2532B701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36CE-47CB-4AE1-90DF-013F25D0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12A-EDC4-4357-BE6E-56888CB3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D8A4E-35E6-4B79-8644-B3A8AF3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75EB-DE68-41ED-BCF6-0FB77E0D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E4631-CE06-45AD-A5EE-C9A576CD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9F23-31F4-49CB-B569-33804A30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05B2-1269-4244-AC31-4A3391E7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E4F3-17D4-4703-A4E4-EA7C6B9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0643-12F8-454C-A31B-D3BF5A8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842A7-DF87-43C3-B9E0-07D2D95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AD35-269E-4849-9D32-DDBACAA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ACE4-F942-4693-BCF6-BCC52C37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BCD-A53B-4CDB-B311-8C089FDA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EFB5-D2F5-4EA6-BD2B-C9B209B1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6B642-7B1C-4150-83AB-0A8BA57E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FC21-4D54-477C-A53B-8BD33BE6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381DD-33D6-449F-BC36-9DDA0A88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EF066-545C-49D5-8A76-8941D76E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75E6A-F028-4085-AF43-18A07518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335E-EED8-43BF-96C7-9E1488C0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337DD-6E3A-496C-86DC-1BBE6368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D79E3-1784-441F-A8AF-CD718B1C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DBAE0-F16F-4227-AA94-D5FA900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6DB-75CF-42F7-885F-27A54242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04AF5-B50C-4BEE-AE6B-F10EB8F2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EC41-97FC-4B0F-8A58-43EC58AE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9C19C-448E-4959-AB10-C2CA9CBC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3D91E-AC69-4AA2-AAFE-346D888F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EA831-82D2-4620-8DA2-2A3BB73A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743F-D568-471E-AA8D-09B0EDA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2127-89C2-4223-95FF-05F7BEAA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2D2C6-67D0-40E2-BE56-8693B74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9F0F7-2929-4D50-8770-00817251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29B27-8A7A-4F58-BFF2-70E166E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5A5-7671-4821-A3FE-E4E1D34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12E38-DBC7-4E5D-8875-C998BFA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91C7-E011-4CA0-9D90-3E457AD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724FD-DCE3-4571-A83C-D47412CD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FF10E-2BE3-4BC3-909E-21A5FC9E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E4C1C-E0AB-4478-8F74-31FC1507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B72B1-D202-407B-8A14-5A452032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857DD-B5C6-40ED-9B62-75249CF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7D07A-FB2A-4FDF-B1FC-D52D1EA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539D2-FEF9-483E-B47E-82BAF57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D3FFA-B8CB-4F48-B59B-9B8FC14F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C54-06FD-4DF6-8430-7B03D44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A05A-12DF-48CA-808D-453F2084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5551A-0A0F-4513-BDD1-A6C68A5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665FE-3155-40A7-92F5-3CA10002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161A2-D597-4AA6-9ECE-70A36DB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0D51-0BE8-4745-840E-DD964DA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7646F-4AAE-48CC-B191-41165FA0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376CC-7728-4C99-A2D7-B4793074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046DF-9A15-4B6A-B9ED-59766C9B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86CF3-DF17-44E4-9560-DE688C02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18D5D-DB1C-448B-9927-D6175A38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E548-84D6-4928-8B24-B3FC2D0E6B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A4BC-648F-417D-BD83-BCCFE1E4C9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58C4-0C4E-43F9-BDA1-7C28709008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7CF5-0971-4C93-A530-02C86E05D8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E5A5-6D01-422D-9A9F-1E2E43C902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3277-F288-410A-8B55-2FDA5ECF84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7F3E-25C5-48E9-8DC7-BF1BB6CC4B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F704-C53E-4475-B689-FC789A49D6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9CB1-F1AF-41C6-86EF-978DE44545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E4EC-688E-4378-8C79-7E909BE37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1C63-C5DC-4468-8EB5-91F9D98FA3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6C64-D876-4A16-87E6-B44178AD64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7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Сложные слова» </a:t>
            </a:r>
            <a:br>
              <a:rPr sz="4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3 класс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аниева Люция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01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7" descr="25232634"/>
          <p:cNvPicPr/>
          <p:nvPr/>
        </p:nvPicPr>
        <p:blipFill>
          <a:blip r:embed="rId2"/>
          <a:stretch/>
        </p:blipFill>
        <p:spPr>
          <a:xfrm>
            <a:off x="0" y="5516640"/>
            <a:ext cx="849240" cy="10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img544_1"/>
          <p:cNvPicPr/>
          <p:nvPr/>
        </p:nvPicPr>
        <p:blipFill>
          <a:blip r:embed="rId1"/>
          <a:stretch/>
        </p:blipFill>
        <p:spPr>
          <a:xfrm>
            <a:off x="468360" y="692280"/>
            <a:ext cx="8136000" cy="51037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900000" y="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трана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ЕО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ла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1476360" y="6093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 добрый пу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250920" y="530208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7885080" y="5300640"/>
            <a:ext cx="7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fa24c56c98ed"/>
          <p:cNvPicPr/>
          <p:nvPr/>
        </p:nvPicPr>
        <p:blipFill>
          <a:blip r:embed="rId2"/>
          <a:stretch/>
        </p:blipFill>
        <p:spPr>
          <a:xfrm>
            <a:off x="5867280" y="549360"/>
            <a:ext cx="2981520" cy="60958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900000" y="3500280"/>
            <a:ext cx="46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ид –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кскур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ван – Царевич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ловей - Разбой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p_f"/>
          <p:cNvPicPr/>
          <p:nvPr/>
        </p:nvPicPr>
        <p:blipFill>
          <a:blip r:embed="rId3"/>
          <a:stretch/>
        </p:blipFill>
        <p:spPr>
          <a:xfrm>
            <a:off x="971640" y="260280"/>
            <a:ext cx="4752720" cy="2563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deti"/>
          <p:cNvPicPr/>
          <p:nvPr/>
        </p:nvPicPr>
        <p:blipFill>
          <a:blip r:embed="rId4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681840" y="189360"/>
            <a:ext cx="823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ру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д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юби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   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а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юби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р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д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оль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   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а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оль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и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л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рд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     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у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б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р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уш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     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лас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юби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ели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уш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ла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од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p_f"/>
          <p:cNvPicPr/>
          <p:nvPr/>
        </p:nvPicPr>
        <p:blipFill>
          <a:blip r:embed="rId2"/>
          <a:stretch/>
        </p:blipFill>
        <p:spPr>
          <a:xfrm>
            <a:off x="4859280" y="2997360"/>
            <a:ext cx="3960720" cy="25192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fa24c56c98ed"/>
          <p:cNvPicPr/>
          <p:nvPr/>
        </p:nvPicPr>
        <p:blipFill>
          <a:blip r:embed="rId3"/>
          <a:stretch/>
        </p:blipFill>
        <p:spPr>
          <a:xfrm>
            <a:off x="2124000" y="3213000"/>
            <a:ext cx="1646280" cy="3429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25232634"/>
          <p:cNvPicPr/>
          <p:nvPr/>
        </p:nvPicPr>
        <p:blipFill>
          <a:blip r:embed="rId4"/>
          <a:stretch/>
        </p:blipFill>
        <p:spPr>
          <a:xfrm>
            <a:off x="0" y="5805360"/>
            <a:ext cx="84924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14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1258920" y="189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фессии жителей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О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а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3211560" y="1463400"/>
            <a:ext cx="301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чела             разводить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мля               пахать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с                   руб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инья             пасти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ль               ва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ала               лазать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е                плавать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ыба                лов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2"/>
          <p:cNvPicPr/>
          <p:nvPr/>
        </p:nvPicPr>
        <p:blipFill>
          <a:blip r:embed="rId2"/>
          <a:stretch/>
        </p:blipFill>
        <p:spPr>
          <a:xfrm>
            <a:off x="250920" y="692280"/>
            <a:ext cx="2685960" cy="2016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641"/>
          <p:cNvPicPr/>
          <p:nvPr/>
        </p:nvPicPr>
        <p:blipFill>
          <a:blip r:embed="rId3"/>
          <a:stretch/>
        </p:blipFill>
        <p:spPr>
          <a:xfrm>
            <a:off x="179280" y="2997360"/>
            <a:ext cx="2843280" cy="1699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45469828_930858"/>
          <p:cNvPicPr/>
          <p:nvPr/>
        </p:nvPicPr>
        <p:blipFill>
          <a:blip r:embed="rId4"/>
          <a:stretch/>
        </p:blipFill>
        <p:spPr>
          <a:xfrm>
            <a:off x="6084720" y="4221000"/>
            <a:ext cx="1595520" cy="2376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1" descr="icon"/>
          <p:cNvPicPr/>
          <p:nvPr/>
        </p:nvPicPr>
        <p:blipFill>
          <a:blip r:embed="rId5"/>
          <a:stretch/>
        </p:blipFill>
        <p:spPr>
          <a:xfrm>
            <a:off x="179280" y="4869000"/>
            <a:ext cx="2300400" cy="1768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1255672909_1219387432_cart12"/>
          <p:cNvPicPr/>
          <p:nvPr/>
        </p:nvPicPr>
        <p:blipFill>
          <a:blip r:embed="rId6"/>
          <a:stretch/>
        </p:blipFill>
        <p:spPr>
          <a:xfrm>
            <a:off x="7696080" y="2997360"/>
            <a:ext cx="1447920" cy="226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deti"/>
          <p:cNvPicPr/>
          <p:nvPr/>
        </p:nvPicPr>
        <p:blipFill>
          <a:blip r:embed="rId7"/>
          <a:stretch/>
        </p:blipFill>
        <p:spPr>
          <a:xfrm>
            <a:off x="7885080" y="0"/>
            <a:ext cx="971640" cy="698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7" descr=""/>
          <p:cNvPicPr/>
          <p:nvPr/>
        </p:nvPicPr>
        <p:blipFill>
          <a:blip r:embed="rId8"/>
          <a:stretch/>
        </p:blipFill>
        <p:spPr>
          <a:xfrm>
            <a:off x="3492360" y="620640"/>
            <a:ext cx="2229120" cy="1676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"/>
          <p:cNvPicPr/>
          <p:nvPr/>
        </p:nvPicPr>
        <p:blipFill>
          <a:blip r:embed="rId9"/>
          <a:stretch/>
        </p:blipFill>
        <p:spPr>
          <a:xfrm>
            <a:off x="3276720" y="4653000"/>
            <a:ext cx="2342880" cy="17622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10"/>
          <a:stretch/>
        </p:blipFill>
        <p:spPr>
          <a:xfrm>
            <a:off x="6156360" y="692280"/>
            <a:ext cx="266688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1119600" y="191160"/>
            <a:ext cx="6974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чела,   разводить -   пче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емля,   пахать       -   зем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ш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с,       рубить       -   ле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инья, пасти         -   свин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ль,   варить       -   ста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ала, лазать         -   ска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ре,  плавать       -   мо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ыба,   ловить        -   рыб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disney086"/>
          <p:cNvPicPr/>
          <p:nvPr/>
        </p:nvPicPr>
        <p:blipFill>
          <a:blip r:embed="rId2"/>
          <a:stretch/>
        </p:blipFill>
        <p:spPr>
          <a:xfrm>
            <a:off x="7308720" y="2421000"/>
            <a:ext cx="1560600" cy="1871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25232634"/>
          <p:cNvPicPr/>
          <p:nvPr/>
        </p:nvPicPr>
        <p:blipFill>
          <a:blip r:embed="rId3"/>
          <a:stretch/>
        </p:blipFill>
        <p:spPr>
          <a:xfrm>
            <a:off x="0" y="476280"/>
            <a:ext cx="909720" cy="1268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deti"/>
          <p:cNvPicPr/>
          <p:nvPr/>
        </p:nvPicPr>
        <p:blipFill>
          <a:blip r:embed="rId4"/>
          <a:stretch/>
        </p:blipFill>
        <p:spPr>
          <a:xfrm>
            <a:off x="0" y="6132600"/>
            <a:ext cx="100800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2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gusli"/>
          <p:cNvPicPr/>
          <p:nvPr/>
        </p:nvPicPr>
        <p:blipFill>
          <a:blip r:embed="rId2"/>
          <a:stretch/>
        </p:blipFill>
        <p:spPr>
          <a:xfrm>
            <a:off x="6084720" y="3500280"/>
            <a:ext cx="2614680" cy="32133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4589640" y="2475360"/>
            <a:ext cx="18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69236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узей волшебных ве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838175"/>
          <p:cNvPicPr/>
          <p:nvPr/>
        </p:nvPicPr>
        <p:blipFill>
          <a:blip r:embed="rId3"/>
          <a:stretch/>
        </p:blipFill>
        <p:spPr>
          <a:xfrm>
            <a:off x="1116000" y="90792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civer_std"/>
          <p:cNvPicPr/>
          <p:nvPr/>
        </p:nvPicPr>
        <p:blipFill>
          <a:blip r:embed="rId4"/>
          <a:stretch/>
        </p:blipFill>
        <p:spPr>
          <a:xfrm>
            <a:off x="4572000" y="1341360"/>
            <a:ext cx="2879640" cy="2163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Skatert"/>
          <p:cNvPicPr/>
          <p:nvPr/>
        </p:nvPicPr>
        <p:blipFill>
          <a:blip r:embed="rId5"/>
          <a:stretch/>
        </p:blipFill>
        <p:spPr>
          <a:xfrm>
            <a:off x="1476360" y="3789360"/>
            <a:ext cx="2736720" cy="19018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8"/>
          <p:cNvSpPr/>
          <p:nvPr/>
        </p:nvSpPr>
        <p:spPr>
          <a:xfrm>
            <a:off x="755640" y="3141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п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43564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ве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39640" y="5805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ат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4067280" y="4797360"/>
            <a:ext cx="244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ус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3" descr="deti"/>
          <p:cNvPicPr/>
          <p:nvPr/>
        </p:nvPicPr>
        <p:blipFill>
          <a:blip r:embed="rId6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4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gusli"/>
          <p:cNvPicPr/>
          <p:nvPr/>
        </p:nvPicPr>
        <p:blipFill>
          <a:blip r:embed="rId2"/>
          <a:stretch/>
        </p:blipFill>
        <p:spPr>
          <a:xfrm>
            <a:off x="6516720" y="3716280"/>
            <a:ext cx="2440080" cy="299736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2"/>
          <p:cNvSpPr/>
          <p:nvPr/>
        </p:nvSpPr>
        <p:spPr>
          <a:xfrm>
            <a:off x="4589640" y="2475360"/>
            <a:ext cx="18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69236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узей волшебных ве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838175"/>
          <p:cNvPicPr/>
          <p:nvPr/>
        </p:nvPicPr>
        <p:blipFill>
          <a:blip r:embed="rId3"/>
          <a:stretch/>
        </p:blipFill>
        <p:spPr>
          <a:xfrm>
            <a:off x="1042920" y="90792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civer_std"/>
          <p:cNvPicPr/>
          <p:nvPr/>
        </p:nvPicPr>
        <p:blipFill>
          <a:blip r:embed="rId4"/>
          <a:stretch/>
        </p:blipFill>
        <p:spPr>
          <a:xfrm>
            <a:off x="5292720" y="1413000"/>
            <a:ext cx="2879640" cy="2163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Skatert"/>
          <p:cNvPicPr/>
          <p:nvPr/>
        </p:nvPicPr>
        <p:blipFill>
          <a:blip r:embed="rId5"/>
          <a:stretch/>
        </p:blipFill>
        <p:spPr>
          <a:xfrm>
            <a:off x="1116000" y="3789360"/>
            <a:ext cx="2736720" cy="19018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8"/>
          <p:cNvSpPr/>
          <p:nvPr/>
        </p:nvSpPr>
        <p:spPr>
          <a:xfrm>
            <a:off x="971640" y="306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поги – ско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4859280" y="9079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вер – с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1042920" y="59500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атерть – с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3851280" y="4797360"/>
            <a:ext cx="33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усли – с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5" descr="deti"/>
          <p:cNvPicPr/>
          <p:nvPr/>
        </p:nvPicPr>
        <p:blipFill>
          <a:blip r:embed="rId6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6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Skatert"/>
          <p:cNvPicPr/>
          <p:nvPr/>
        </p:nvPicPr>
        <p:blipFill>
          <a:blip r:embed="rId2"/>
          <a:stretch/>
        </p:blipFill>
        <p:spPr>
          <a:xfrm>
            <a:off x="1547640" y="476280"/>
            <a:ext cx="5977080" cy="41529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5"/>
          <p:cNvSpPr/>
          <p:nvPr/>
        </p:nvSpPr>
        <p:spPr>
          <a:xfrm>
            <a:off x="250920" y="5084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итие       Сам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в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7" descr="25232634"/>
          <p:cNvPicPr/>
          <p:nvPr/>
        </p:nvPicPr>
        <p:blipFill>
          <a:blip r:embed="rId3"/>
          <a:stretch/>
        </p:blipFill>
        <p:spPr>
          <a:xfrm>
            <a:off x="0" y="5805360"/>
            <a:ext cx="84924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5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2" name="Приложение 1 (2)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697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2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im-115big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311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24623"/>
          <p:cNvPicPr/>
          <p:nvPr/>
        </p:nvPicPr>
        <p:blipFill>
          <a:blip r:embed="rId3"/>
          <a:stretch/>
        </p:blipFill>
        <p:spPr>
          <a:xfrm>
            <a:off x="4572000" y="1413000"/>
            <a:ext cx="4248000" cy="35780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_DSC1183+"/>
          <p:cNvPicPr/>
          <p:nvPr/>
        </p:nvPicPr>
        <p:blipFill>
          <a:blip r:embed="rId4"/>
          <a:stretch/>
        </p:blipFill>
        <p:spPr>
          <a:xfrm>
            <a:off x="250920" y="3429000"/>
            <a:ext cx="3981240" cy="3186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5"/>
          <p:cNvSpPr/>
          <p:nvPr/>
        </p:nvSpPr>
        <p:spPr>
          <a:xfrm>
            <a:off x="4284720" y="333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493236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4788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"/>
          <p:cNvSpPr/>
          <p:nvPr/>
        </p:nvSpPr>
        <p:spPr>
          <a:xfrm flipH="1">
            <a:off x="3924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65167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0"/>
          <p:cNvSpPr/>
          <p:nvPr/>
        </p:nvSpPr>
        <p:spPr>
          <a:xfrm flipH="1">
            <a:off x="421128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1" descr="25232634"/>
          <p:cNvPicPr/>
          <p:nvPr/>
        </p:nvPicPr>
        <p:blipFill>
          <a:blip r:embed="rId5"/>
          <a:stretch/>
        </p:blipFill>
        <p:spPr>
          <a:xfrm>
            <a:off x="7451640" y="5157720"/>
            <a:ext cx="137340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1190983137_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1042920" y="765000"/>
            <a:ext cx="720108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lero script"/>
              </a:rPr>
              <a:t>Необыкновенный язык наш есть ещё тайна. В нём все тоны и оттенки, все переходы звуков – от самых твердых до самых нежных и мягки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lero script"/>
              </a:rPr>
              <a:t>Н.В. Гого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4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im-115big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3111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24623"/>
          <p:cNvPicPr/>
          <p:nvPr/>
        </p:nvPicPr>
        <p:blipFill>
          <a:blip r:embed="rId3"/>
          <a:stretch/>
        </p:blipFill>
        <p:spPr>
          <a:xfrm>
            <a:off x="4572000" y="1413000"/>
            <a:ext cx="4248000" cy="35780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_DSC1183+"/>
          <p:cNvPicPr/>
          <p:nvPr/>
        </p:nvPicPr>
        <p:blipFill>
          <a:blip r:embed="rId4"/>
          <a:stretch/>
        </p:blipFill>
        <p:spPr>
          <a:xfrm>
            <a:off x="250920" y="3429000"/>
            <a:ext cx="3981240" cy="31860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4284720" y="333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у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х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493236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788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 flipH="1">
            <a:off x="3924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>
            <a:off x="65167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 flipH="1">
            <a:off x="421128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3" descr="25232634"/>
          <p:cNvPicPr/>
          <p:nvPr/>
        </p:nvPicPr>
        <p:blipFill>
          <a:blip r:embed="rId5"/>
          <a:stretch/>
        </p:blipFill>
        <p:spPr>
          <a:xfrm>
            <a:off x="7524720" y="5157720"/>
            <a:ext cx="1373040" cy="1700280"/>
          </a:xfrm>
          <a:prstGeom prst="rect">
            <a:avLst/>
          </a:prstGeom>
          <a:ln w="0">
            <a:noFill/>
          </a:ln>
        </p:spPr>
      </p:pic>
      <p:pic>
        <p:nvPicPr>
          <p:cNvPr id="635" name="Приложение 2 (2).mp3" descr=""/>
          <p:cNvPicPr/>
          <p:nvPr/>
        </p:nvPicPr>
        <p:blipFill>
          <a:blip r:embed="rId6"/>
          <a:stretch/>
        </p:blipFill>
        <p:spPr>
          <a:xfrm>
            <a:off x="539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5866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im-115big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3111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24623"/>
          <p:cNvPicPr/>
          <p:nvPr/>
        </p:nvPicPr>
        <p:blipFill>
          <a:blip r:embed="rId3"/>
          <a:stretch/>
        </p:blipFill>
        <p:spPr>
          <a:xfrm>
            <a:off x="4572000" y="1413000"/>
            <a:ext cx="4248000" cy="35780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_DSC1183+"/>
          <p:cNvPicPr/>
          <p:nvPr/>
        </p:nvPicPr>
        <p:blipFill>
          <a:blip r:embed="rId4"/>
          <a:stretch/>
        </p:blipFill>
        <p:spPr>
          <a:xfrm>
            <a:off x="250920" y="3429000"/>
            <a:ext cx="3981240" cy="3186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4284720" y="333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у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х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493236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р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4788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3924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9"/>
          <p:cNvSpPr/>
          <p:nvPr/>
        </p:nvSpPr>
        <p:spPr>
          <a:xfrm>
            <a:off x="65167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0"/>
          <p:cNvSpPr/>
          <p:nvPr/>
        </p:nvSpPr>
        <p:spPr>
          <a:xfrm flipH="1">
            <a:off x="421128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2" descr="25232634"/>
          <p:cNvPicPr/>
          <p:nvPr/>
        </p:nvPicPr>
        <p:blipFill>
          <a:blip r:embed="rId5"/>
          <a:stretch/>
        </p:blipFill>
        <p:spPr>
          <a:xfrm>
            <a:off x="7524720" y="5157720"/>
            <a:ext cx="1373040" cy="1700280"/>
          </a:xfrm>
          <a:prstGeom prst="rect">
            <a:avLst/>
          </a:prstGeom>
          <a:ln w="0">
            <a:noFill/>
          </a:ln>
        </p:spPr>
      </p:pic>
      <p:pic>
        <p:nvPicPr>
          <p:cNvPr id="647" name="Приложение 3.wav" descr=""/>
          <p:cNvPicPr/>
          <p:nvPr/>
        </p:nvPicPr>
        <p:blipFill>
          <a:blip r:embed="rId6"/>
          <a:stretch/>
        </p:blipFill>
        <p:spPr>
          <a:xfrm>
            <a:off x="831708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213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im-115big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3111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24623"/>
          <p:cNvPicPr/>
          <p:nvPr/>
        </p:nvPicPr>
        <p:blipFill>
          <a:blip r:embed="rId3"/>
          <a:stretch/>
        </p:blipFill>
        <p:spPr>
          <a:xfrm>
            <a:off x="4572000" y="1413000"/>
            <a:ext cx="4248000" cy="35780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_DSC1183+"/>
          <p:cNvPicPr/>
          <p:nvPr/>
        </p:nvPicPr>
        <p:blipFill>
          <a:blip r:embed="rId4"/>
          <a:stretch/>
        </p:blipFill>
        <p:spPr>
          <a:xfrm>
            <a:off x="250920" y="3429000"/>
            <a:ext cx="3981240" cy="318600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4284720" y="333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у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х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493236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р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4788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и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м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8"/>
          <p:cNvSpPr/>
          <p:nvPr/>
        </p:nvSpPr>
        <p:spPr>
          <a:xfrm flipH="1">
            <a:off x="3924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9"/>
          <p:cNvSpPr/>
          <p:nvPr/>
        </p:nvSpPr>
        <p:spPr>
          <a:xfrm>
            <a:off x="65167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0"/>
          <p:cNvSpPr/>
          <p:nvPr/>
        </p:nvSpPr>
        <p:spPr>
          <a:xfrm flipH="1">
            <a:off x="421128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2" descr="25232634"/>
          <p:cNvPicPr/>
          <p:nvPr/>
        </p:nvPicPr>
        <p:blipFill>
          <a:blip r:embed="rId5"/>
          <a:stretch/>
        </p:blipFill>
        <p:spPr>
          <a:xfrm>
            <a:off x="7770960" y="5157720"/>
            <a:ext cx="1373040" cy="1700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4" descr=""/>
          <p:cNvPicPr/>
          <p:nvPr/>
        </p:nvPicPr>
        <p:blipFill>
          <a:blip r:embed="rId6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705" fill="hold"/>
                                        <p:tgtEl>
                                          <p:spTgt spid="6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9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1188311660_g"/>
          <p:cNvPicPr/>
          <p:nvPr/>
        </p:nvPicPr>
        <p:blipFill>
          <a:blip r:embed="rId2"/>
          <a:stretch/>
        </p:blipFill>
        <p:spPr>
          <a:xfrm>
            <a:off x="250920" y="189000"/>
            <a:ext cx="5033880" cy="3456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5" descr="Koroed_new_last"/>
          <p:cNvPicPr/>
          <p:nvPr/>
        </p:nvPicPr>
        <p:blipFill>
          <a:blip r:embed="rId3"/>
          <a:stretch/>
        </p:blipFill>
        <p:spPr>
          <a:xfrm>
            <a:off x="5364000" y="189000"/>
            <a:ext cx="3618000" cy="4232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" descr="005-5"/>
          <p:cNvPicPr/>
          <p:nvPr/>
        </p:nvPicPr>
        <p:blipFill>
          <a:blip r:embed="rId4"/>
          <a:stretch/>
        </p:blipFill>
        <p:spPr>
          <a:xfrm>
            <a:off x="250920" y="3789360"/>
            <a:ext cx="4968720" cy="28987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disney086"/>
          <p:cNvPicPr/>
          <p:nvPr/>
        </p:nvPicPr>
        <p:blipFill>
          <a:blip r:embed="rId5"/>
          <a:stretch/>
        </p:blipFill>
        <p:spPr>
          <a:xfrm>
            <a:off x="6012000" y="4122720"/>
            <a:ext cx="22795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9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fa24c56c98ed"/>
          <p:cNvPicPr/>
          <p:nvPr/>
        </p:nvPicPr>
        <p:blipFill>
          <a:blip r:embed="rId2"/>
          <a:stretch/>
        </p:blipFill>
        <p:spPr>
          <a:xfrm>
            <a:off x="5867280" y="260280"/>
            <a:ext cx="2981520" cy="60962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971640" y="189000"/>
            <a:ext cx="5256000" cy="32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ить небольшой рассказ                                 по ключевым слов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1116000" y="173232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ый      бе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         любит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      класс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           любит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й        год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ти        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1694160" y="5875920"/>
            <a:ext cx="251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ю за рабо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лод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1" descr="deti"/>
          <p:cNvPicPr/>
          <p:nvPr/>
        </p:nvPicPr>
        <p:blipFill>
          <a:blip r:embed="rId3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img544_1"/>
          <p:cNvPicPr/>
          <p:nvPr/>
        </p:nvPicPr>
        <p:blipFill>
          <a:blip r:embed="rId1"/>
          <a:stretch/>
        </p:blipFill>
        <p:spPr>
          <a:xfrm>
            <a:off x="1403280" y="692280"/>
            <a:ext cx="6264360" cy="39290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900000" y="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трана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ЕО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ла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250920" y="148428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812000" y="1341360"/>
            <a:ext cx="7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468360" y="479736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, у которых ____________________ , называются слож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ые буквы ______ и ___, которые соединяют корни в сложных словах, называются ______________________________ глас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шется после _______, а глас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____ и 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2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Oval 6"/>
          <p:cNvSpPr/>
          <p:nvPr/>
        </p:nvSpPr>
        <p:spPr>
          <a:xfrm>
            <a:off x="4067280" y="5516640"/>
            <a:ext cx="2017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2411280" y="1341360"/>
            <a:ext cx="1513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8"/>
          <p:cNvSpPr/>
          <p:nvPr/>
        </p:nvSpPr>
        <p:spPr>
          <a:xfrm>
            <a:off x="2411280" y="5516640"/>
            <a:ext cx="1224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7"/>
          <p:cNvSpPr/>
          <p:nvPr/>
        </p:nvSpPr>
        <p:spPr>
          <a:xfrm>
            <a:off x="4284720" y="1413000"/>
            <a:ext cx="107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puteshestvennik2"/>
          <p:cNvPicPr/>
          <p:nvPr/>
        </p:nvPicPr>
        <p:blipFill>
          <a:blip r:embed="rId2"/>
          <a:stretch/>
        </p:blipFill>
        <p:spPr>
          <a:xfrm>
            <a:off x="7093080" y="1484280"/>
            <a:ext cx="1087200" cy="28083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mm321_10_07_01"/>
          <p:cNvPicPr/>
          <p:nvPr/>
        </p:nvPicPr>
        <p:blipFill>
          <a:blip r:embed="rId3"/>
          <a:stretch/>
        </p:blipFill>
        <p:spPr>
          <a:xfrm rot="20700000">
            <a:off x="539280" y="1557360"/>
            <a:ext cx="2194200" cy="2808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4"/>
          <p:cNvSpPr/>
          <p:nvPr/>
        </p:nvSpPr>
        <p:spPr>
          <a:xfrm>
            <a:off x="539640" y="-49860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Чистый      пис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Чист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ис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уть       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ше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ут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шеств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3" descr="25232634"/>
          <p:cNvPicPr/>
          <p:nvPr/>
        </p:nvPicPr>
        <p:blipFill>
          <a:blip r:embed="rId4"/>
          <a:stretch/>
        </p:blipFill>
        <p:spPr>
          <a:xfrm>
            <a:off x="0" y="5516640"/>
            <a:ext cx="849240" cy="10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4" descr="pleiades_gendl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13"/>
          <p:cNvSpPr/>
          <p:nvPr/>
        </p:nvSpPr>
        <p:spPr>
          <a:xfrm>
            <a:off x="250920" y="981000"/>
            <a:ext cx="1800000" cy="1440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468360" y="1339200"/>
            <a:ext cx="827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Тема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Сложные слова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Путешествие по стране ____________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20"/>
          <p:cNvGrpSpPr/>
          <p:nvPr/>
        </p:nvGrpSpPr>
        <p:grpSpPr>
          <a:xfrm>
            <a:off x="2686680" y="-331920"/>
            <a:ext cx="2259360" cy="2104200"/>
            <a:chOff x="2686680" y="-331920"/>
            <a:chExt cx="2259360" cy="2104200"/>
          </a:xfrm>
        </p:grpSpPr>
        <p:sp>
          <p:nvSpPr>
            <p:cNvPr id="510" name="AutoShape 15"/>
            <p:cNvSpPr/>
            <p:nvPr/>
          </p:nvSpPr>
          <p:spPr>
            <a:xfrm rot="1634400">
              <a:off x="2916360" y="0"/>
              <a:ext cx="1800000" cy="1440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5"/>
            <p:cNvSpPr/>
            <p:nvPr/>
          </p:nvSpPr>
          <p:spPr>
            <a:xfrm rot="1693200">
              <a:off x="2699640" y="47628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арово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30"/>
          <p:cNvGrpSpPr/>
          <p:nvPr/>
        </p:nvGrpSpPr>
        <p:grpSpPr>
          <a:xfrm>
            <a:off x="5062320" y="-312120"/>
            <a:ext cx="2548800" cy="2063880"/>
            <a:chOff x="5062320" y="-312120"/>
            <a:chExt cx="2548800" cy="2063880"/>
          </a:xfrm>
        </p:grpSpPr>
        <p:sp>
          <p:nvSpPr>
            <p:cNvPr id="513" name="AutoShape 16"/>
            <p:cNvSpPr/>
            <p:nvPr/>
          </p:nvSpPr>
          <p:spPr>
            <a:xfrm rot="20107200">
              <a:off x="5508720" y="0"/>
              <a:ext cx="1800000" cy="144000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 rot="19647600">
              <a:off x="4932360" y="549000"/>
              <a:ext cx="28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Листопа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9"/>
          <p:cNvGrpSpPr/>
          <p:nvPr/>
        </p:nvGrpSpPr>
        <p:grpSpPr>
          <a:xfrm>
            <a:off x="-176400" y="3444840"/>
            <a:ext cx="2514600" cy="2128320"/>
            <a:chOff x="-176400" y="3444840"/>
            <a:chExt cx="2514600" cy="2128320"/>
          </a:xfrm>
        </p:grpSpPr>
        <p:sp>
          <p:nvSpPr>
            <p:cNvPr id="516" name="AutoShape 18"/>
            <p:cNvSpPr/>
            <p:nvPr/>
          </p:nvSpPr>
          <p:spPr>
            <a:xfrm rot="19873800">
              <a:off x="178920" y="3789000"/>
              <a:ext cx="1800360" cy="14396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7"/>
            <p:cNvSpPr/>
            <p:nvPr/>
          </p:nvSpPr>
          <p:spPr>
            <a:xfrm rot="19877400">
              <a:off x="-251640" y="429372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едок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7019640" y="3398760"/>
            <a:ext cx="2302200" cy="2220840"/>
            <a:chOff x="7019640" y="3398760"/>
            <a:chExt cx="2302200" cy="2220840"/>
          </a:xfrm>
        </p:grpSpPr>
        <p:sp>
          <p:nvSpPr>
            <p:cNvPr id="519" name="AutoShape 27"/>
            <p:cNvSpPr/>
            <p:nvPr/>
          </p:nvSpPr>
          <p:spPr>
            <a:xfrm rot="19452600">
              <a:off x="7270560" y="3789000"/>
              <a:ext cx="1800000" cy="144000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8"/>
            <p:cNvSpPr/>
            <p:nvPr/>
          </p:nvSpPr>
          <p:spPr>
            <a:xfrm rot="18991800">
              <a:off x="7200000" y="42922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ылес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3"/>
          <p:cNvGrpSpPr/>
          <p:nvPr/>
        </p:nvGrpSpPr>
        <p:grpSpPr>
          <a:xfrm>
            <a:off x="5911560" y="4861080"/>
            <a:ext cx="2289960" cy="2175840"/>
            <a:chOff x="5911560" y="4861080"/>
            <a:chExt cx="2289960" cy="2175840"/>
          </a:xfrm>
        </p:grpSpPr>
        <p:sp>
          <p:nvSpPr>
            <p:cNvPr id="522" name="AutoShape 26"/>
            <p:cNvSpPr/>
            <p:nvPr/>
          </p:nvSpPr>
          <p:spPr>
            <a:xfrm rot="19675200">
              <a:off x="6156360" y="5229000"/>
              <a:ext cx="1800360" cy="14396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9"/>
            <p:cNvSpPr/>
            <p:nvPr/>
          </p:nvSpPr>
          <p:spPr>
            <a:xfrm rot="19380000">
              <a:off x="6301080" y="5731920"/>
              <a:ext cx="1513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Звездопа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31"/>
          <p:cNvGrpSpPr/>
          <p:nvPr/>
        </p:nvGrpSpPr>
        <p:grpSpPr>
          <a:xfrm>
            <a:off x="7111800" y="825480"/>
            <a:ext cx="2251080" cy="2087280"/>
            <a:chOff x="7111800" y="825480"/>
            <a:chExt cx="2251080" cy="2087280"/>
          </a:xfrm>
        </p:grpSpPr>
        <p:sp>
          <p:nvSpPr>
            <p:cNvPr id="525" name="AutoShape 17"/>
            <p:cNvSpPr/>
            <p:nvPr/>
          </p:nvSpPr>
          <p:spPr>
            <a:xfrm rot="1575000">
              <a:off x="7337160" y="1149120"/>
              <a:ext cx="1800000" cy="14396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 rot="1575000">
              <a:off x="7249320" y="16315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доп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11"/>
          <p:cNvSpPr/>
          <p:nvPr/>
        </p:nvSpPr>
        <p:spPr>
          <a:xfrm>
            <a:off x="324000" y="148428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Лежеб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28"/>
          <p:cNvGrpSpPr/>
          <p:nvPr/>
        </p:nvGrpSpPr>
        <p:grpSpPr>
          <a:xfrm>
            <a:off x="1465920" y="4897080"/>
            <a:ext cx="2259000" cy="2103840"/>
            <a:chOff x="1465920" y="4897080"/>
            <a:chExt cx="2259000" cy="2103840"/>
          </a:xfrm>
        </p:grpSpPr>
        <p:sp>
          <p:nvSpPr>
            <p:cNvPr id="529" name="AutoShape 24"/>
            <p:cNvSpPr/>
            <p:nvPr/>
          </p:nvSpPr>
          <p:spPr>
            <a:xfrm rot="1634400">
              <a:off x="1695240" y="5229000"/>
              <a:ext cx="1800000" cy="143964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2"/>
            <p:cNvSpPr/>
            <p:nvPr/>
          </p:nvSpPr>
          <p:spPr>
            <a:xfrm rot="1729200">
              <a:off x="1402560" y="5731920"/>
              <a:ext cx="2303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дкоеж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Picture 32" descr="25232634"/>
          <p:cNvPicPr/>
          <p:nvPr/>
        </p:nvPicPr>
        <p:blipFill>
          <a:blip r:embed="rId2"/>
          <a:stretch/>
        </p:blipFill>
        <p:spPr>
          <a:xfrm>
            <a:off x="3924360" y="4913280"/>
            <a:ext cx="15699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6" descr="1190983137_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1626120" y="334800"/>
            <a:ext cx="5836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знь – Рад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ель – Устремля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бро – Жела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уд – Люби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7" descr="25232634"/>
          <p:cNvPicPr/>
          <p:nvPr/>
        </p:nvPicPr>
        <p:blipFill>
          <a:blip r:embed="rId2"/>
          <a:stretch/>
        </p:blipFill>
        <p:spPr>
          <a:xfrm>
            <a:off x="250920" y="5589720"/>
            <a:ext cx="849240" cy="10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6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4"/>
          <p:cNvSpPr/>
          <p:nvPr/>
        </p:nvSpPr>
        <p:spPr>
          <a:xfrm>
            <a:off x="971640" y="191520"/>
            <a:ext cx="81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Жизнь – Радость       </a:t>
            </a: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Жиз</a:t>
            </a:r>
            <a:r>
              <a:rPr b="0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до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ель – Устремлять   </a:t>
            </a: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Це</a:t>
            </a:r>
            <a:r>
              <a:rPr b="0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устремл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бро – Желать        </a:t>
            </a: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Доб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жела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уд – Любить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Тру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юб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deti"/>
          <p:cNvPicPr/>
          <p:nvPr/>
        </p:nvPicPr>
        <p:blipFill>
          <a:blip r:embed="rId2"/>
          <a:stretch/>
        </p:blipFill>
        <p:spPr>
          <a:xfrm>
            <a:off x="6732720" y="404640"/>
            <a:ext cx="2016000" cy="1451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25232634"/>
          <p:cNvPicPr/>
          <p:nvPr/>
        </p:nvPicPr>
        <p:blipFill>
          <a:blip r:embed="rId3"/>
          <a:stretch/>
        </p:blipFill>
        <p:spPr>
          <a:xfrm>
            <a:off x="0" y="5516640"/>
            <a:ext cx="849240" cy="10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4"/>
          <p:cNvSpPr/>
          <p:nvPr/>
        </p:nvSpPr>
        <p:spPr>
          <a:xfrm>
            <a:off x="971640" y="2093400"/>
            <a:ext cx="79182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ж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ц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изн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достный  цел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стремленный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бр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ательный  труд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юбивый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25232634"/>
          <p:cNvPicPr/>
          <p:nvPr/>
        </p:nvPicPr>
        <p:blipFill>
          <a:blip r:embed="rId2"/>
          <a:stretch/>
        </p:blipFill>
        <p:spPr>
          <a:xfrm>
            <a:off x="6896160" y="4653000"/>
            <a:ext cx="1628640" cy="2016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deti"/>
          <p:cNvPicPr/>
          <p:nvPr/>
        </p:nvPicPr>
        <p:blipFill>
          <a:blip r:embed="rId3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0" y="-101520"/>
            <a:ext cx="914400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лгоритм написания соединительных гласных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,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 сложных сло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снова оканчивается                                                                             на твердый согласный звук – пиш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,  ско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основа оканчивается                                                                              на мягкий согласный звук –  пиш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,   си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сле [ж] [ш] [ц]  - всегда пиш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,  серд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25232634"/>
          <p:cNvPicPr/>
          <p:nvPr/>
        </p:nvPicPr>
        <p:blipFill>
          <a:blip r:embed="rId2"/>
          <a:stretch/>
        </p:blipFill>
        <p:spPr>
          <a:xfrm>
            <a:off x="0" y="5805360"/>
            <a:ext cx="84924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4"/>
          <p:cNvSpPr/>
          <p:nvPr/>
        </p:nvSpPr>
        <p:spPr>
          <a:xfrm>
            <a:off x="-403560" y="2255760"/>
            <a:ext cx="9760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Сегодня я искал, твори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Знание новое откры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Научился применя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     </a:t>
            </a: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Задание легко мне выполнять</a:t>
            </a:r>
            <a:r>
              <a:rPr b="1" lang="ru-RU" sz="4400" spc="-1" strike="noStrike">
                <a:solidFill>
                  <a:srgbClr val="333399"/>
                </a:solidFill>
                <a:latin typeface="Magneto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0" y="260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25232634"/>
          <p:cNvPicPr/>
          <p:nvPr/>
        </p:nvPicPr>
        <p:blipFill>
          <a:blip r:embed="rId2"/>
          <a:stretch/>
        </p:blipFill>
        <p:spPr>
          <a:xfrm>
            <a:off x="2700360" y="0"/>
            <a:ext cx="1897200" cy="2349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deti"/>
          <p:cNvPicPr/>
          <p:nvPr/>
        </p:nvPicPr>
        <p:blipFill>
          <a:blip r:embed="rId3"/>
          <a:stretch/>
        </p:blipFill>
        <p:spPr>
          <a:xfrm>
            <a:off x="4932360" y="4940280"/>
            <a:ext cx="2664000" cy="191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6:04Z</dcterms:created>
  <dc:creator>Customer</dc:creator>
  <dc:description/>
  <dc:language>en-US</dc:language>
  <cp:lastModifiedBy>Admin</cp:lastModifiedBy>
  <dcterms:modified xsi:type="dcterms:W3CDTF">2013-04-28T10:57:34Z</dcterms:modified>
  <cp:revision>15</cp:revision>
  <dc:subject/>
  <dc:title>Слайд 1</dc:title>
</cp:coreProperties>
</file>