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171-916E-4A03-8BE6-55F8C3AE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C3B-3752-4F3F-9282-DD7C002D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4F9-B8E7-4542-B7EE-93EB62F6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5C3-F4BD-45D0-8431-DC13D411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505-883F-4F94-8B60-A16D298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8B5-5D43-4A52-AF9D-A482793B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5D7-5752-4D6A-8AC2-0643B94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48D-8F6A-47E5-BE69-DF1B8045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031-D1CE-40EF-B4D0-C703DED5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850-F64A-41A3-99D1-341A216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5DC-B3F1-4C74-9D1E-EA5BACF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0F9-8D39-4086-B2A4-3DB07EC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3A6E-C2A4-41DA-860B-8E0332A07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8120" y="396216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мова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04920" y="152280"/>
            <a:ext cx="8534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Бюджет, экономика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эк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2860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9.Выбери на что идут расх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ого бюдже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3520" y="135252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на выплату пенс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постройку д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выплату бил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 на поездку за гран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2280" y="304920"/>
            <a:ext cx="871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. Что предсказывает эк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лучше вест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строить в посе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делать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изучать эконом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28600" y="0"/>
            <a:ext cx="76960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28600" y="304920"/>
            <a:ext cx="89154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.Что такое бюдж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план расходов и до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плата за ра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 установленные плате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1276200"/>
            <a:ext cx="914400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 чего складываются дох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 из 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 из зарп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 из вз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  из поступлений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57200" y="1219320"/>
            <a:ext cx="85345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 чего складывается семей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 из денег, предоставленных государ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 из доходов членов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 из отложенных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 из пенсий и пособ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228600" y="457200"/>
            <a:ext cx="894384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.В чем состоит нега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орона эконом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 в производстве полезной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в нанесении вреда окруж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в поддержани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во влиянии на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6600" y="838080"/>
            <a:ext cx="8925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Что такое эк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гноз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предсказания по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роведение опы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предсказание экол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влияние на прир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04920" y="533520"/>
            <a:ext cx="8764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. Выберите предмет, который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убокой древности слу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ьг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 ка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мо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кого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сушеная ры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88596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048120" y="53341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52280" y="846000"/>
            <a:ext cx="87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7. Для выработки энер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возможно использо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2209680"/>
            <a:ext cx="9115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 обл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 вод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 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 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2209680" y="30492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52280" y="723960"/>
            <a:ext cx="9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8.Что можно отнести к капитал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33520" y="143208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учеб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дор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</dc:creator>
  <dc:description/>
  <dc:language>en-US</dc:language>
  <cp:lastModifiedBy>11</cp:lastModifiedBy>
  <dcterms:modified xsi:type="dcterms:W3CDTF">2013-04-27T22:26:15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