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1FA-C4A4-4F0A-8899-47928C70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961-2D85-4484-9557-8A173080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BCC-DE5A-41B3-B776-A11ADCC5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6A83-87A1-4B64-B1B9-886605C3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931-A831-47DE-87A8-CC3E285B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275-56B1-4ED6-BF20-1FD9A834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F9A-284C-4155-946A-8DDA2986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48B-6231-4796-8864-68407CA4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4CC-EE94-4C99-84F3-4AA2B4B3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47F-2E26-4B41-B5AC-72AD92AB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BB8-73E8-48B2-A514-85AF829D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27C-19A8-454C-9E72-A5EB2D7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AA49-6D23-446D-BCC9-98BD9A77E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8120" y="3962160"/>
            <a:ext cx="5486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ешаков А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мова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04920" y="152280"/>
            <a:ext cx="8534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Те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Бюджет, экономика 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эк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228600" y="152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9.Выбери на что идут расход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ого бюджет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33520" y="135252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на выплату пенс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постройку д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выплату бил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 на поездку за границ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52280" y="304920"/>
            <a:ext cx="871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. Что предсказывает эколог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лучше вест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строить в посе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сделать м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изучать эконом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228600" y="0"/>
            <a:ext cx="769608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28600" y="304920"/>
            <a:ext cx="89154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.Что такое бюдж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ере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 план расходов и дох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 плата за рабо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  установленные плате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0" y="1276200"/>
            <a:ext cx="9144000" cy="67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 чего складываются дох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 из на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 из зарпл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 из вз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  из поступлений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57200" y="1219320"/>
            <a:ext cx="853452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з чего складывается семей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юдж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 из денег, предоставленных государ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 из доходов членов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 из отложенных де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 из пенсий и пособ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"/>
          <p:cNvSpPr/>
          <p:nvPr/>
        </p:nvSpPr>
        <p:spPr>
          <a:xfrm>
            <a:off x="228600" y="457200"/>
            <a:ext cx="894384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4.В чем состоит нега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орона экономи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 в производстве полезной про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в нанесении вреда окруж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в поддержани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во влиянии на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6600" y="838080"/>
            <a:ext cx="8925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. Что такое эко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гноз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предсказания по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роведение опы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предсказание экол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влияние на прир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04920" y="533520"/>
            <a:ext cx="8764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6. Выберите предмет, который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убокой древности служ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ньг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 кам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 мо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 кого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 сушеная ры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88596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latin typeface="Times New Roman"/>
              </a:rPr>
              <a:t> </a:t>
            </a:r>
            <a:endParaRPr b="0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WordArt 13"/>
          <p:cNvSpPr txBox="1"/>
          <p:nvPr/>
        </p:nvSpPr>
        <p:spPr>
          <a:xfrm>
            <a:off x="3048120" y="533412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52280" y="846000"/>
            <a:ext cx="87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7. Для выработки энер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возможно использов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0" y="2209680"/>
            <a:ext cx="9115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 обл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  вод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 ве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 сол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>
            <a:off x="2209680" y="304920"/>
            <a:ext cx="5334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3240">
                <a:solidFill>
                  <a:srgbClr val="800000"/>
                </a:solidFill>
                <a:miter/>
              </a:ln>
              <a:solidFill>
                <a:srgbClr val="cc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152280" y="723960"/>
            <a:ext cx="94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8.Что можно отнести к капитал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533520" y="143208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) д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 игр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)  учеб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)  доро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</dc:creator>
  <dc:description/>
  <dc:language>en-US</dc:language>
  <cp:lastModifiedBy>11</cp:lastModifiedBy>
  <dcterms:modified xsi:type="dcterms:W3CDTF">2013-04-27T22:26:15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