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8.png" ContentType="image/pn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D6AC-10AC-4AD0-9824-012BB7C66F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елки на условных изображениях БТ указывают направление прямого тока эмиттерного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3B33-5716-4467-9D76-70F2762B29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F45-1CC6-4E22-B21D-270C44CDE9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65A-E4B3-4AE4-9653-0D2D5457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AF1-4D5F-4A4C-844A-02DA0A61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648-7FC8-424C-A136-1373E40E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94F-534C-4E0D-B321-A02C2CB8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DBA4-F148-48F6-9AE7-24D6DF9D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4FDE-424C-4087-BBA9-3DAB4E6F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DD22-B9FD-4E4B-B679-2AD4F277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5332-4A13-40FF-9C7C-D2254883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3862-A0B5-40EE-A5B6-54BBA7B8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B691-B986-4E9B-BB7B-0ADCAFA4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CD2D-3FD8-4F85-9A9C-8FC40E2A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2BA-D6CD-4BC6-98D0-08B11E93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6C64-4873-4136-9A2C-7652E3BA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A20B-59F0-436A-B491-403EEAA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0DD6-B766-4C0A-B72F-0FC58C41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0638-B651-43F7-9A4F-8CD796BD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8716-7C69-4267-B7AF-3C115433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170-42C8-4A26-B066-89A33A8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35D4-8102-40BE-8D72-6E6D3FCF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6B95-4819-4180-993D-5D56FE4F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84B-87E3-4FBD-A8C5-19899676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2A6-4453-4DA8-B74D-EA9730F4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5AD-F18C-4F45-BECC-75777AB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473-BE5E-472D-A6F6-F703FB9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D7E6-A7D3-483B-9E5F-654CACFF320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2880" y="248040"/>
                <a:ext cx="916488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AE42-C97E-4A43-BF47-BBDDD462DE4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B3B2-6B0B-4667-8417-A55ADE3443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7" descr="Транзисторы отечественные"/>
          <p:cNvPicPr/>
          <p:nvPr/>
        </p:nvPicPr>
        <p:blipFill>
          <a:blip r:embed="rId1"/>
          <a:stretch/>
        </p:blipFill>
        <p:spPr>
          <a:xfrm>
            <a:off x="642960" y="5705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Транзисторы импортные"/>
          <p:cNvPicPr/>
          <p:nvPr/>
        </p:nvPicPr>
        <p:blipFill>
          <a:blip r:embed="rId2"/>
          <a:stretch/>
        </p:blipFill>
        <p:spPr>
          <a:xfrm>
            <a:off x="2214720" y="563400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Тиристоры и симисторы"/>
          <p:cNvPicPr/>
          <p:nvPr/>
        </p:nvPicPr>
        <p:blipFill>
          <a:blip r:embed="rId3"/>
          <a:stretch/>
        </p:blipFill>
        <p:spPr>
          <a:xfrm>
            <a:off x="3643200" y="5572080"/>
            <a:ext cx="1081080" cy="12859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9"/>
          <p:cNvSpPr/>
          <p:nvPr/>
        </p:nvSpPr>
        <p:spPr>
          <a:xfrm>
            <a:off x="785880" y="344520"/>
            <a:ext cx="728640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араметры биполярных транзис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ыполнила: В.А.Коро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Биполярные транзисторы 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n</a:t>
            </a:r>
            <a:r>
              <a:rPr b="1" i="1" lang="ru-RU" sz="3200" spc="-1" strike="noStrike">
                <a:solidFill>
                  <a:srgbClr val="da1102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типа</a:t>
            </a:r>
            <a:r>
              <a:rPr b="1" lang="ru-RU" sz="2800" spc="-1" strike="noStrike">
                <a:solidFill>
                  <a:srgbClr val="da110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ктурная схема и графическое обозначение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5196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21002"/>
                </a:solidFill>
                <a:latin typeface="Times New Roman"/>
              </a:rPr>
              <a:t>Схемы</a:t>
            </a:r>
            <a:r>
              <a:rPr b="0" lang="ru-RU" sz="3600" spc="-1" strike="noStrike">
                <a:solidFill>
                  <a:srgbClr val="c21002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21002"/>
                </a:solidFill>
                <a:latin typeface="Times New Roman"/>
              </a:rPr>
              <a:t>включения БТ: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 общей базой (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Б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щим эмиттером (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Э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бщим коллектором (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К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) .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2789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0" y="522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Б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      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Э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         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Включение  биполярного транзистора  по схеме  с общим эмиттером</a:t>
            </a:r>
            <a:br>
              <a:rPr sz="2900"/>
            </a:br>
            <a:endParaRPr b="0" lang="en-US" sz="29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B68B-D538-4A96-A3DD-F187E2D9550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06E8-8441-4896-8500-22C0D3BEA5EF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11" descr="Snap52"/>
          <p:cNvPicPr/>
          <p:nvPr/>
        </p:nvPicPr>
        <p:blipFill>
          <a:blip r:embed="rId1"/>
          <a:stretch/>
        </p:blipFill>
        <p:spPr>
          <a:xfrm>
            <a:off x="2187720" y="1873080"/>
            <a:ext cx="45082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Включение биполярного транзистора </a:t>
            </a:r>
            <a:r>
              <a:rPr b="0" lang="en-US" sz="2900" spc="-1" strike="noStrike">
                <a:solidFill>
                  <a:srgbClr val="dbf5f9"/>
                </a:solidFill>
                <a:latin typeface="Times New Roman"/>
              </a:rPr>
              <a:t>n-p-n</a:t>
            </a: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- типа по схеме с общим коллектором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3652-D68C-4CE8-B3D8-94BD1417026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AD63-A5FE-4520-B627-8532F1FE5C84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6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1" descr="Snap57"/>
          <p:cNvPicPr/>
          <p:nvPr/>
        </p:nvPicPr>
        <p:blipFill>
          <a:blip r:embed="rId1"/>
          <a:stretch/>
        </p:blipFill>
        <p:spPr>
          <a:xfrm>
            <a:off x="2500200" y="2000160"/>
            <a:ext cx="38196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Включение  биполярного транзистора </a:t>
            </a:r>
            <a:r>
              <a:rPr b="0" lang="en-US" sz="2900" spc="-1" strike="noStrike">
                <a:solidFill>
                  <a:srgbClr val="dbf5f9"/>
                </a:solidFill>
                <a:latin typeface="Times New Roman"/>
              </a:rPr>
              <a:t>n-p-n</a:t>
            </a:r>
            <a:r>
              <a:rPr b="0" lang="ru-RU" sz="2900" spc="-1" strike="noStrike">
                <a:solidFill>
                  <a:srgbClr val="dbf5f9"/>
                </a:solidFill>
                <a:latin typeface="Times New Roman"/>
              </a:rPr>
              <a:t>- типа по схеме с общей базой.</a:t>
            </a:r>
            <a:r>
              <a:rPr b="0" lang="ru-RU" sz="2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EA42-34AD-4291-891F-B6DDA8855AE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505F-1FCD-44B9-AF1E-31AAC1917DB4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7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2" descr="Snap54"/>
          <p:cNvPicPr/>
          <p:nvPr/>
        </p:nvPicPr>
        <p:blipFill>
          <a:blip r:embed="rId1"/>
          <a:stretch/>
        </p:blipFill>
        <p:spPr>
          <a:xfrm>
            <a:off x="2782800" y="2004840"/>
            <a:ext cx="3286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429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хема с общим эмиттер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971640" y="692280"/>
            <a:ext cx="77040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Эквивалентные схемы и параметры  биполярного транзис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(Объяснение нового материал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0088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214280" y="6429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метры  биполярного транзис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571680" y="2571840"/>
            <a:ext cx="30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ли первич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4714920" y="250020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ич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857160" y="4786200"/>
            <a:ext cx="264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зуют свойства самого транзист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214960" y="478620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ны, для различных схем вклю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8"/>
          <p:cNvCxnSpPr/>
          <p:nvPr/>
        </p:nvCxnSpPr>
        <p:spPr>
          <a:xfrm flipH="1">
            <a:off x="1928520" y="1141920"/>
            <a:ext cx="2823120" cy="1500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65" name="Прямая со стрелкой 10"/>
          <p:cNvCxnSpPr/>
          <p:nvPr/>
        </p:nvCxnSpPr>
        <p:spPr>
          <a:xfrm>
            <a:off x="4786200" y="1142640"/>
            <a:ext cx="1680480" cy="142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66" name="Стрелка вниз 11"/>
          <p:cNvSpPr/>
          <p:nvPr/>
        </p:nvSpPr>
        <p:spPr>
          <a:xfrm>
            <a:off x="2071800" y="3500280"/>
            <a:ext cx="285480" cy="1214640"/>
          </a:xfrm>
          <a:prstGeom prst="downArrow">
            <a:avLst>
              <a:gd name="adj1" fmla="val 50000"/>
              <a:gd name="adj2" fmla="val 5005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Стрелка вниз 12"/>
          <p:cNvSpPr/>
          <p:nvPr/>
        </p:nvSpPr>
        <p:spPr>
          <a:xfrm flipH="1">
            <a:off x="6643080" y="3357720"/>
            <a:ext cx="285480" cy="142848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5D1A-7D3B-410B-9159-A8C46481D65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54680"/>
            <a:ext cx="919656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Статические характеристики биполярных транзисто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ический режим работы транзистора – режим работы при отсутствии нагрузки в выходной цеп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ические характеристики связывают постоянные токи электродов с постоянными напряжениями на них- э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фически выраженные зависимости напряжения и тока входной цепи и выходной цепи (вольтамперные характеристики ВА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х вид зависит от способа включения транзист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6813-1776-4035-911B-6277C60D2A1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1170000" y="620640"/>
                <a:ext cx="23414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4799160" y="692280"/>
                <a:ext cx="32907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68200" y="2924280"/>
                <a:ext cx="875052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Э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Б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3348000" y="5157720"/>
                <a:ext cx="241956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9"/>
          <p:cNvSpPr/>
          <p:nvPr/>
        </p:nvSpPr>
        <p:spPr>
          <a:xfrm>
            <a:off x="0" y="207108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тический коэффициент передач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2a25"/>
                </a:solidFill>
                <a:latin typeface="Times New Roman"/>
              </a:rPr>
              <a:t>I</a:t>
            </a:r>
            <a:r>
              <a:rPr b="1" lang="ru-RU" sz="3200" spc="-1" strike="noStrike" baseline="-25000">
                <a:solidFill>
                  <a:srgbClr val="ff2a25"/>
                </a:solidFill>
                <a:latin typeface="Times New Roman"/>
              </a:rPr>
              <a:t>Э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ли : статический  коэффициент усиления по то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81000" y="198360"/>
            <a:ext cx="90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ический коэффициент передачи тока базы :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30164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28760" y="464328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вивалентная  Т- образная  схема транзистора  с генератором  ЭД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49291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вивалентная Т- образная схема транзистора  с генератором  т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142920" y="285840"/>
            <a:ext cx="90010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Constantia"/>
              </a:rPr>
              <a:t> </a:t>
            </a:r>
            <a:r>
              <a:rPr b="1" i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Цели заня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обучающие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показать учащимся процесс составления заданий на основе принципа последовательности: «от простой к усложняющейся дидактической величине», путем изменения числовых и введения буквенных коэффици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продолжить формирование умений и навыков при решении заданий по теме: «Эквивалентные схемы и параметры  биполярных  транзисторов»; в)формирование  профессионализма  технических знан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) сформировать умение делать оценки некоторых величин  характеризующих и влияющих на работу биполярных транзис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развивающие: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чить анализировать, выделять главное, обобщать, доказывать и опровергать логические выводы в предложенной дидактической величине. формировать на репродуктивном уровне проектные умения анализа, обоб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воспитательные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) обосновать значимость психологического аспекта изучаемой темы в курсе электронной техник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) вырабатывать умение действовать в ситуации, отличной от заданного алгорит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7120" y="857160"/>
            <a:ext cx="878688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Эквивалентная Т – образная  схема транзистора  включенного по схеме  ОЭ- эквивалентная схема  с генератором тока</a:t>
            </a:r>
            <a:endParaRPr b="0" lang="en-US" sz="2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68360" y="130320"/>
            <a:ext cx="8134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10800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14" descr="Snap68"/>
          <p:cNvPicPr/>
          <p:nvPr/>
        </p:nvPicPr>
        <p:blipFill>
          <a:blip r:embed="rId1"/>
          <a:stretch/>
        </p:blipFill>
        <p:spPr>
          <a:xfrm>
            <a:off x="2214720" y="2428920"/>
            <a:ext cx="3835080" cy="3243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5"/>
          <p:cNvSpPr/>
          <p:nvPr/>
        </p:nvSpPr>
        <p:spPr>
          <a:xfrm>
            <a:off x="2052720" y="5063040"/>
            <a:ext cx="44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10429920" y="571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95A-1F39-4824-9D2A-87F0339648D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-14508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 параметры схемы с общим эмитт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11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ходное сопротивление транзистора переменному току при отсутствии выходного переменного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12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эффициент обратной связи по напряжению – доля выходного переменного напряжения передаваем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ход транзистора вследствие обратной связи в н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21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эффициент усилия по току – усиление переме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ка транзистором при работе без нагруз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22Э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/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U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КЭ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при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I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Б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= cons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ходная проводимость переме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ка между коллектором и эмиттер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ходное сопротивление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R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ВЫХ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1/h</a:t>
            </a:r>
            <a:r>
              <a:rPr b="1" lang="ru-RU" sz="2800" spc="-1" strike="noStrike" baseline="-25000">
                <a:solidFill>
                  <a:srgbClr val="ffc000"/>
                </a:solidFill>
                <a:latin typeface="Times New Roman"/>
              </a:rPr>
              <a:t>22Э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05EF-886E-41CA-978C-4EA7ED1B9BE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1040760"/>
            <a:ext cx="9144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БЭ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11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4000" spc="-1" strike="noStrike">
                <a:solidFill>
                  <a:srgbClr val="ff2a25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12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К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К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21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22Э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К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квивалентная схема Б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параметр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00884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ECF4-E747-4FB6-91B7-186E8A3928F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1916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хема с общим эмиттером применяется для усиления напряжения, тока, мощности</a:t>
            </a:r>
            <a:r>
              <a:rPr b="1" lang="ru-RU" sz="2800" spc="-1" strike="noStrike">
                <a:solidFill>
                  <a:srgbClr val="da110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102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Times New Roman"/>
              </a:rPr>
              <a:t>Практическая ч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Times New Roman"/>
              </a:rPr>
              <a:t>Расчет схемы с общим эмиттер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CA1C-2B61-4AC4-8915-BB5CF80129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0" y="105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Times New Roman"/>
              </a:rPr>
              <a:t>Коэффициент усиления по току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395280" y="831960"/>
                <a:ext cx="223200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Rectangle 16"/>
          <p:cNvSpPr/>
          <p:nvPr/>
        </p:nvSpPr>
        <p:spPr>
          <a:xfrm>
            <a:off x="3061080" y="522828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3922560" y="1004760"/>
                <a:ext cx="137016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Rectangle 17"/>
          <p:cNvSpPr/>
          <p:nvPr/>
        </p:nvSpPr>
        <p:spPr>
          <a:xfrm>
            <a:off x="2112480" y="2275560"/>
            <a:ext cx="529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Times New Roman"/>
              </a:rPr>
              <a:t>Входное сопротивл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50920" y="2781360"/>
                <a:ext cx="244944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8"/>
          <p:cNvSpPr/>
          <p:nvPr/>
        </p:nvSpPr>
        <p:spPr>
          <a:xfrm>
            <a:off x="2743200" y="126756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924360" y="2997360"/>
                <a:ext cx="12240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Э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250920" y="5013360"/>
                <a:ext cx="25923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20"/>
          <p:cNvSpPr/>
          <p:nvPr/>
        </p:nvSpPr>
        <p:spPr>
          <a:xfrm>
            <a:off x="2887920" y="328356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4067280" y="4653000"/>
                <a:ext cx="121428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8"/>
              <p:cNvSpPr txBox="1"/>
              <p:nvPr/>
            </p:nvSpPr>
            <p:spPr>
              <a:xfrm>
                <a:off x="0" y="7162920"/>
                <a:ext cx="257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Rectangle 25"/>
          <p:cNvSpPr/>
          <p:nvPr/>
        </p:nvSpPr>
        <p:spPr>
          <a:xfrm>
            <a:off x="-249120" y="7421040"/>
            <a:ext cx="54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мощность рассеиваемая на транзисторе (тепловой пробой Т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0" y="7970760"/>
                <a:ext cx="1104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2" name="Rectangle 26"/>
          <p:cNvSpPr/>
          <p:nvPr/>
        </p:nvSpPr>
        <p:spPr>
          <a:xfrm>
            <a:off x="0" y="819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27"/>
          <p:cNvSpPr/>
          <p:nvPr/>
        </p:nvSpPr>
        <p:spPr>
          <a:xfrm>
            <a:off x="5365080" y="112536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десятки-сотн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8"/>
          <p:cNvSpPr/>
          <p:nvPr/>
        </p:nvSpPr>
        <p:spPr>
          <a:xfrm>
            <a:off x="5246640" y="5157720"/>
            <a:ext cx="38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десятки-сотни О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9"/>
          <p:cNvSpPr/>
          <p:nvPr/>
        </p:nvSpPr>
        <p:spPr>
          <a:xfrm>
            <a:off x="1924560" y="4149720"/>
            <a:ext cx="56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Выходное сопроти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0"/>
          <p:cNvSpPr/>
          <p:nvPr/>
        </p:nvSpPr>
        <p:spPr>
          <a:xfrm>
            <a:off x="5388840" y="3213000"/>
            <a:ext cx="37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(сотни Ом – кОм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7C7C-0947-4284-94C7-09088D970C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1498680" y="476280"/>
                <a:ext cx="607536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6"/>
          <p:cNvSpPr/>
          <p:nvPr/>
        </p:nvSpPr>
        <p:spPr>
          <a:xfrm>
            <a:off x="0" y="291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Коэффициент усиления по напряжению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98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Коэффициент усиления по мощнос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379520" y="2565360"/>
                <a:ext cx="59533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Э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Э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Rectangle 10"/>
          <p:cNvSpPr/>
          <p:nvPr/>
        </p:nvSpPr>
        <p:spPr>
          <a:xfrm>
            <a:off x="0" y="393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Коэффициент полезного 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884160" y="4653000"/>
                <a:ext cx="226368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4427640" y="5300640"/>
                <a:ext cx="41050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КЭ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15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0" y="6091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ная потребляемая мощность схе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6"/>
              <p:cNvSpPr txBox="1"/>
              <p:nvPr/>
            </p:nvSpPr>
            <p:spPr>
              <a:xfrm>
                <a:off x="4427640" y="4464000"/>
                <a:ext cx="41050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ВЫХ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3E27-2C9F-49AD-92CE-88B02EC386C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0" y="24912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2a25"/>
                </a:solidFill>
                <a:latin typeface="Times New Roman"/>
              </a:rPr>
              <a:t>КОНЕ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857160" y="571680"/>
            <a:ext cx="77868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ронтальны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ь определение биполярного транзис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 типы биполярных транзисторов знае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особенности биполярного транзис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то является  основным носителем заряда в эмиттере и коллекто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является основным носителем заряда в баз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ть принцип работы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p-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ранзис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428840" y="857160"/>
            <a:ext cx="685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Перечислить режим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ы биполярного транзистора  и дать краткую характеристику каждому режи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казать структурную схему и условное графическое изображение  биполярных транзисто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Перечислить схемы включения биполярных транзис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Показать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ы включение биполярного транзис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584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Биполярные транзистор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Биполярные транзисто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1F46-22F4-459E-9728-B87964200ADE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63520" y="1607040"/>
            <a:ext cx="86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лупроводниковый прибор, имеющий три электрода и два взаимодействующих между собой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ехода, называется </a:t>
            </a:r>
            <a:r>
              <a:rPr b="0" lang="ru-RU" sz="2000" spc="-1" strike="noStrike">
                <a:solidFill>
                  <a:srgbClr val="ffc979"/>
                </a:solidFill>
                <a:latin typeface="Constantia"/>
              </a:rPr>
              <a:t>биполярным транзист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Snap49"/>
          <p:cNvPicPr/>
          <p:nvPr/>
        </p:nvPicPr>
        <p:blipFill>
          <a:blip r:embed="rId1"/>
          <a:stretch/>
        </p:blipFill>
        <p:spPr>
          <a:xfrm>
            <a:off x="2556000" y="2808360"/>
            <a:ext cx="38066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36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Биполярные транзисторы</a:t>
            </a:r>
            <a:r>
              <a:rPr b="0" lang="ru-RU" sz="3200" spc="-1" strike="noStrike">
                <a:solidFill>
                  <a:srgbClr val="da1102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da1102"/>
                </a:solidFill>
                <a:latin typeface="Times New Roman"/>
              </a:rPr>
              <a:t>(Б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ип транзистора с тремя слоями полупроводника, различаю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n-p-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p-n-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ранзисторы, где 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– электронный тип примесной проводимости, </a:t>
            </a:r>
            <a:r>
              <a:rPr b="1" i="1" lang="ru-RU" sz="2800" spc="-1" strike="noStrike">
                <a:solidFill>
                  <a:srgbClr val="da1102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 – дырочный. Основные носители заряда: электроны и дырки («би» – два); электроды эмиттер, база, коллекто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3068640"/>
            <a:ext cx="9144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Особенности транзистор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лощад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p-n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хода коллектора больше, чем эмитт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в базе мало носителей заряда, ее толщина невел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полярный транзистор основной элемент усилите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интегральных микросхем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ерационные усилители,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анзисторно-транзисторная, диодно-транзисторная логика и т.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531720" y="4653000"/>
            <a:ext cx="828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450864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миттер (Э), Коллектор (К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сновные заряды электроны, не основные дыр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аза (Б)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сновные заряды дырки, не основные электроны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ход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1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бразова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онами полупровод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812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44370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за вызывает электроны из эмиттера, но переход эмиттер – коллектор для них открыт (здесь они не основные заряды) и большая часть уходит в коллектор, совсем немного доходит до базы. За счет этого происходит усиление базового тока (ток коллектор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n-p-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566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fcc8"/>
                </a:solidFill>
                <a:latin typeface="Times New Roman"/>
              </a:rPr>
              <a:t>Режимы работы биполярного транзистора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CA9D-38A5-4566-A8A6-11AC28B66E8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8018640" y="6534000"/>
            <a:ext cx="1017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8254-FA3A-49D6-B31C-BE0490C755D2}" type="slidenum">
              <a:rPr b="0" lang="ru-RU" sz="1400" spc="-1" strike="noStrike">
                <a:solidFill>
                  <a:srgbClr val="ffd08b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>
            <a:hlinkClick r:id="" action="ppaction://hlinkshowjump?jump=firstslide"/>
          </p:cNvPr>
          <p:cNvSpPr/>
          <p:nvPr/>
        </p:nvSpPr>
        <p:spPr>
          <a:xfrm>
            <a:off x="8209080" y="5877000"/>
            <a:ext cx="576000" cy="28872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66" h="21600">
                <a:moveTo>
                  <a:pt x="0" y="0"/>
                </a:moveTo>
                <a:lnTo>
                  <a:pt x="43066" y="0"/>
                </a:lnTo>
                <a:lnTo>
                  <a:pt x="43066" y="21600"/>
                </a:lnTo>
                <a:lnTo>
                  <a:pt x="0" y="21600"/>
                </a:lnTo>
                <a:close/>
              </a:path>
              <a:path fill="lightenLess" w="43066" h="21600">
                <a:moveTo>
                  <a:pt x="0" y="0"/>
                </a:moveTo>
                <a:lnTo>
                  <a:pt x="43066" y="0"/>
                </a:lnTo>
                <a:lnTo>
                  <a:pt x="41666" y="1400"/>
                </a:lnTo>
                <a:lnTo>
                  <a:pt x="1400" y="1400"/>
                </a:lnTo>
                <a:close/>
              </a:path>
              <a:path fill="darken" w="43066" h="21600">
                <a:moveTo>
                  <a:pt x="43066" y="0"/>
                </a:moveTo>
                <a:lnTo>
                  <a:pt x="43066" y="21600"/>
                </a:lnTo>
                <a:lnTo>
                  <a:pt x="41666" y="20200"/>
                </a:lnTo>
                <a:lnTo>
                  <a:pt x="41666" y="1400"/>
                </a:lnTo>
                <a:close/>
              </a:path>
              <a:path fill="darkenLess" w="43066" h="21600">
                <a:moveTo>
                  <a:pt x="43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66" y="20200"/>
                </a:lnTo>
                <a:close/>
              </a:path>
              <a:path fill="lighten" w="43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66" h="21600">
                <a:moveTo>
                  <a:pt x="18034" y="10800"/>
                </a:moveTo>
                <a:lnTo>
                  <a:pt x="28539" y="3794"/>
                </a:lnTo>
                <a:lnTo>
                  <a:pt x="28539" y="17806"/>
                </a:lnTo>
                <a:close/>
              </a:path>
              <a:path fill="darken" w="43066" h="21600">
                <a:moveTo>
                  <a:pt x="14526" y="3794"/>
                </a:moveTo>
                <a:lnTo>
                  <a:pt x="16189" y="3794"/>
                </a:lnTo>
                <a:lnTo>
                  <a:pt x="16189" y="17806"/>
                </a:lnTo>
                <a:lnTo>
                  <a:pt x="14526" y="17806"/>
                </a:lnTo>
                <a:close/>
              </a:path>
            </a:pathLst>
          </a:custGeom>
          <a:solidFill>
            <a:srgbClr val="ffc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27160" y="1978200"/>
            <a:ext cx="871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того, какие напряжения действуют на переходах, различают  3 режима работы транзистор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ктивный реж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боты или режим усиления, когда эмиттерный переход смещен в прямом направлении , а коллекторный в обратн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жим насыщ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оба перехода смещены в прямом направле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182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жим отсеч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оба перехода смещены в обратном направл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51:41Z</dcterms:created>
  <dc:creator>Admin</dc:creator>
  <dc:description/>
  <dc:language>en-US</dc:language>
  <cp:lastModifiedBy>Валя</cp:lastModifiedBy>
  <dcterms:modified xsi:type="dcterms:W3CDTF">2013-04-28T06:38:14Z</dcterms:modified>
  <cp:revision>54</cp:revision>
  <dc:subject/>
  <dc:title>Слайд 1</dc:title>
</cp:coreProperties>
</file>