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D61A-71BE-46AC-8D5D-A4D2EEFAAB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елки на условных изображениях БТ указывают направление прямого тока эмиттерного пер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675-6D8A-402E-AE2D-144A54E2F8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9073-9621-4CD5-B20C-C63136CC5D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3D4-47A3-439B-BDA5-3604BBE9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D79-8B4F-4985-9434-BE3E4690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9B9-53B1-4D20-A6A7-86B31BC6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689-FB2D-4A67-BE04-61F79F4C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6289-5661-4A5E-A0D9-E9417B46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AFA0-BB15-42D6-82AD-D05C33B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9928-D3CB-48AF-A5A7-7013730B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F449-F156-4E03-8C55-BC9DED0B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A56F-8CFE-4FDD-AACF-54932F95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EA54-930C-4720-A040-15344A5E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8513-1C6E-42BD-A594-E81F53E8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DC5-2DE8-4C09-8999-37E0BE52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28D6-FA88-483D-B96D-97BC01C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82A7-65CA-4BE4-8545-E09884C0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9655-557A-4B68-9DC3-12040921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AB58-08B1-473C-B68E-5228FAC5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1CF5-8A4F-4156-AEF5-71EE6F57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274-F8C6-4A76-9DC1-C5AD1872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F5C-6A84-450C-A06E-E5BC8DFF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878-9683-4929-8976-ADAA1B2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BA5-61F4-445C-AE8D-0CAE3618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3FC-41A7-4A3A-91A8-5E0972A2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A61-4248-470C-ADC5-7664F15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A4A-87F5-4410-A06B-DD04CF61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C100-1826-4A55-926E-273D2AD5B5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0F55-9E5D-4ABC-8C90-292C97D760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E8E8-CC34-496D-A2DC-8A68409A583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Транзисторы отечественные"/>
          <p:cNvPicPr/>
          <p:nvPr/>
        </p:nvPicPr>
        <p:blipFill>
          <a:blip r:embed="rId1"/>
          <a:stretch/>
        </p:blipFill>
        <p:spPr>
          <a:xfrm>
            <a:off x="642960" y="5705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Транзисторы импортные"/>
          <p:cNvPicPr/>
          <p:nvPr/>
        </p:nvPicPr>
        <p:blipFill>
          <a:blip r:embed="rId2"/>
          <a:stretch/>
        </p:blipFill>
        <p:spPr>
          <a:xfrm>
            <a:off x="2214720" y="563400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Тиристоры и симисторы"/>
          <p:cNvPicPr/>
          <p:nvPr/>
        </p:nvPicPr>
        <p:blipFill>
          <a:blip r:embed="rId3"/>
          <a:stretch/>
        </p:blipFill>
        <p:spPr>
          <a:xfrm>
            <a:off x="3643200" y="5572080"/>
            <a:ext cx="1081080" cy="12859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9"/>
          <p:cNvSpPr/>
          <p:nvPr/>
        </p:nvSpPr>
        <p:spPr>
          <a:xfrm>
            <a:off x="785880" y="344520"/>
            <a:ext cx="72864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араметры биполярных транзис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ыполнила: В.А.Коро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Биполярные транзисторы 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da1102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p</a:t>
            </a:r>
            <a:r>
              <a:rPr b="1" i="1" lang="ru-RU" sz="3200" spc="-1" strike="noStrike">
                <a:solidFill>
                  <a:srgbClr val="da1102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p</a:t>
            </a:r>
            <a:r>
              <a:rPr b="1" i="1" lang="ru-RU" sz="3200" spc="-1" strike="noStrike">
                <a:solidFill>
                  <a:srgbClr val="da1102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da1102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типа</a:t>
            </a:r>
            <a:r>
              <a:rPr b="1" lang="ru-RU" sz="2800" spc="-1" strike="noStrike">
                <a:solidFill>
                  <a:srgbClr val="da110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ктурная схема и графическое обозначение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5196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21002"/>
                </a:solidFill>
                <a:latin typeface="Times New Roman"/>
              </a:rPr>
              <a:t>Схемы</a:t>
            </a:r>
            <a:r>
              <a:rPr b="0" lang="ru-RU" sz="3600" spc="-1" strike="noStrike">
                <a:solidFill>
                  <a:srgbClr val="c21002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21002"/>
                </a:solidFill>
                <a:latin typeface="Times New Roman"/>
              </a:rPr>
              <a:t>включения БТ: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 общей базой (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щим эмиттером (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Э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щим коллектором (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) .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789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0" y="522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Б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Э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Включение  биполярного транзистора  по схеме  с общим эмиттером</a:t>
            </a:r>
            <a:br>
              <a:rPr sz="2900"/>
            </a:br>
            <a:endParaRPr b="0" lang="en-US" sz="29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4B77-9919-42CA-9875-228392A6B23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602F-8E5D-420A-BF7A-AF391C195660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firstslide"/>
          </p:cNvPr>
          <p:cNvSpPr/>
          <p:nvPr/>
        </p:nvSpPr>
        <p:spPr>
          <a:xfrm>
            <a:off x="8209080" y="5877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8034" y="10800"/>
                </a:moveTo>
                <a:lnTo>
                  <a:pt x="28539" y="3794"/>
                </a:lnTo>
                <a:lnTo>
                  <a:pt x="28539" y="17806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16189" y="3794"/>
                </a:lnTo>
                <a:lnTo>
                  <a:pt x="16189" y="17806"/>
                </a:lnTo>
                <a:lnTo>
                  <a:pt x="14526" y="17806"/>
                </a:lnTo>
                <a:close/>
              </a:path>
            </a:pathLst>
          </a:custGeom>
          <a:solidFill>
            <a:srgbClr val="ffc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1" descr="Snap52"/>
          <p:cNvPicPr/>
          <p:nvPr/>
        </p:nvPicPr>
        <p:blipFill>
          <a:blip r:embed="rId1"/>
          <a:stretch/>
        </p:blipFill>
        <p:spPr>
          <a:xfrm>
            <a:off x="2187720" y="1873080"/>
            <a:ext cx="45082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Включение биполярного транзистора </a:t>
            </a:r>
            <a:r>
              <a:rPr b="0" lang="en-US" sz="2900" spc="-1" strike="noStrike">
                <a:solidFill>
                  <a:srgbClr val="dbf5f9"/>
                </a:solidFill>
                <a:latin typeface="Times New Roman"/>
              </a:rPr>
              <a:t>n-p-n</a:t>
            </a: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- типа по схеме с общим коллектором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5950-146C-4533-B56D-B31BBBB8939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7CB1-55F6-422A-925E-96CE24816A2A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>
            <a:hlinkClick r:id="" action="ppaction://hlinkshowjump?jump=firstslide"/>
          </p:cNvPr>
          <p:cNvSpPr/>
          <p:nvPr/>
        </p:nvSpPr>
        <p:spPr>
          <a:xfrm>
            <a:off x="8209080" y="5877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8034" y="10800"/>
                </a:moveTo>
                <a:lnTo>
                  <a:pt x="28539" y="3794"/>
                </a:lnTo>
                <a:lnTo>
                  <a:pt x="28539" y="17806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16189" y="3794"/>
                </a:lnTo>
                <a:lnTo>
                  <a:pt x="16189" y="17806"/>
                </a:lnTo>
                <a:lnTo>
                  <a:pt x="14526" y="17806"/>
                </a:lnTo>
                <a:close/>
              </a:path>
            </a:pathLst>
          </a:custGeom>
          <a:solidFill>
            <a:srgbClr val="ffc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1" descr="Snap57"/>
          <p:cNvPicPr/>
          <p:nvPr/>
        </p:nvPicPr>
        <p:blipFill>
          <a:blip r:embed="rId1"/>
          <a:stretch/>
        </p:blipFill>
        <p:spPr>
          <a:xfrm>
            <a:off x="2500200" y="2000160"/>
            <a:ext cx="38196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Включение  биполярного транзистора </a:t>
            </a:r>
            <a:r>
              <a:rPr b="0" lang="en-US" sz="2900" spc="-1" strike="noStrike">
                <a:solidFill>
                  <a:srgbClr val="dbf5f9"/>
                </a:solidFill>
                <a:latin typeface="Times New Roman"/>
              </a:rPr>
              <a:t>n-p-n</a:t>
            </a: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- типа по схеме с общей базой.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12B7-2110-4630-92D1-1B97D71A93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4E19-5A8F-482D-B4FB-7755A180C895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7">
            <a:hlinkClick r:id="" action="ppaction://hlinkshowjump?jump=firstslide"/>
          </p:cNvPr>
          <p:cNvSpPr/>
          <p:nvPr/>
        </p:nvSpPr>
        <p:spPr>
          <a:xfrm>
            <a:off x="8209080" y="5877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8034" y="10800"/>
                </a:moveTo>
                <a:lnTo>
                  <a:pt x="28539" y="3794"/>
                </a:lnTo>
                <a:lnTo>
                  <a:pt x="28539" y="17806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16189" y="3794"/>
                </a:lnTo>
                <a:lnTo>
                  <a:pt x="16189" y="17806"/>
                </a:lnTo>
                <a:lnTo>
                  <a:pt x="14526" y="17806"/>
                </a:lnTo>
                <a:close/>
              </a:path>
            </a:pathLst>
          </a:custGeom>
          <a:solidFill>
            <a:srgbClr val="ffc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2" descr="Snap54"/>
          <p:cNvPicPr/>
          <p:nvPr/>
        </p:nvPicPr>
        <p:blipFill>
          <a:blip r:embed="rId1"/>
          <a:stretch/>
        </p:blipFill>
        <p:spPr>
          <a:xfrm>
            <a:off x="2782800" y="2004840"/>
            <a:ext cx="3286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429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хема с общим эмиттер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971640" y="692280"/>
            <a:ext cx="77040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Эквивалентные схемы и параметры  биполярного транзис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(Объяснение нового материал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0088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214280" y="6429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метры  биполярного транзис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571680" y="2571840"/>
            <a:ext cx="307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ли первич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4714920" y="250020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и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857160" y="4786200"/>
            <a:ext cx="264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зуют свойства самого транзист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214960" y="478620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ны, для различных схем вклю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8"/>
          <p:cNvCxnSpPr/>
          <p:nvPr/>
        </p:nvCxnSpPr>
        <p:spPr>
          <a:xfrm flipH="1">
            <a:off x="1928520" y="1141920"/>
            <a:ext cx="2823120" cy="1500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5" name="Прямая со стрелкой 10"/>
          <p:cNvCxnSpPr/>
          <p:nvPr/>
        </p:nvCxnSpPr>
        <p:spPr>
          <a:xfrm>
            <a:off x="4786200" y="1142640"/>
            <a:ext cx="168048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66" name="Стрелка вниз 11"/>
          <p:cNvSpPr/>
          <p:nvPr/>
        </p:nvSpPr>
        <p:spPr>
          <a:xfrm>
            <a:off x="2071800" y="3500280"/>
            <a:ext cx="285480" cy="1214640"/>
          </a:xfrm>
          <a:prstGeom prst="downArrow">
            <a:avLst>
              <a:gd name="adj1" fmla="val 50000"/>
              <a:gd name="adj2" fmla="val 5005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Стрелка вниз 12"/>
          <p:cNvSpPr/>
          <p:nvPr/>
        </p:nvSpPr>
        <p:spPr>
          <a:xfrm flipH="1">
            <a:off x="6643080" y="3357720"/>
            <a:ext cx="285480" cy="142848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2079-FEC3-48B8-B502-52182578F4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454680"/>
            <a:ext cx="919656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Статические характеристики биполярных транзисто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тический режим работы транзистора – режим работы при отсутствии нагрузки в выходной цеп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тические характеристики связывают постоянные токи электродов с постоянными напряжениями на них- э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фически выраженные зависимости напряжения и тока входной цепи и выходной цепи (вольтамперные характеристики ВА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х вид зависит от способа включения транзист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9450-D150-4163-87AE-39D784D2B8B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1170000" y="620640"/>
                <a:ext cx="23414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4799160" y="692280"/>
                <a:ext cx="32907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8200" y="2924280"/>
                <a:ext cx="875052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3348000" y="5157720"/>
                <a:ext cx="24195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9"/>
          <p:cNvSpPr/>
          <p:nvPr/>
        </p:nvSpPr>
        <p:spPr>
          <a:xfrm>
            <a:off x="0" y="207108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тический коэффициент передач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2a25"/>
                </a:solidFill>
                <a:latin typeface="Times New Roman"/>
              </a:rPr>
              <a:t>I</a:t>
            </a:r>
            <a:r>
              <a:rPr b="1" lang="ru-RU" sz="3200" spc="-1" strike="noStrike" baseline="-25000">
                <a:solidFill>
                  <a:srgbClr val="ff2a25"/>
                </a:solidFill>
                <a:latin typeface="Times New Roman"/>
              </a:rPr>
              <a:t>Э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ли : статический  коэффициент усиления по то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1000" y="198360"/>
            <a:ext cx="90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тический коэффициент передачи тока базы :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572320" cy="30164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28760" y="464328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вивалентная  Т- образная  схема транзистора  с генератором 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492912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вивалентная Т- образная схема транзистора  с генератором 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142920" y="285840"/>
            <a:ext cx="90010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Constantia"/>
              </a:rPr>
              <a:t> </a:t>
            </a:r>
            <a:r>
              <a:rPr b="1" i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и заня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обучающие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показать учащимся процесс составления заданий на основе принципа последовательности: «от простой к усложняющейся дидактической величине», путем изменения числовых и введения буквенных коэффици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продолжить формирование умений и навыков при решении заданий по теме: «Эквивалентные схемы и параметры  биполярных  транзисторов»; в)формирование  профессионализма  технических знан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сформировать умение делать оценки некоторых величин  характеризующих и влияющих на работу биполярных транзис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развивающие: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ь анализировать, выделять главное, обобщать, доказывать и опровергать логические выводы в предложенной дидактической величине. формировать на репродуктивном уровне проектные умения анализа, обоб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воспитательные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обосновать значимость психологического аспекта изучаемой темы в курсе электронной техни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вырабатывать умение действовать в ситуации, отличной от заданного алгорит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78688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Эквивалентная Т – образная  схема транзистора  включенного по схеме  ОЭ- эквивалентная схема  с генератором тока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68360" y="130320"/>
            <a:ext cx="8134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10800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4" descr="Snap68"/>
          <p:cNvPicPr/>
          <p:nvPr/>
        </p:nvPicPr>
        <p:blipFill>
          <a:blip r:embed="rId1"/>
          <a:stretch/>
        </p:blipFill>
        <p:spPr>
          <a:xfrm>
            <a:off x="2214720" y="2428920"/>
            <a:ext cx="3835080" cy="3243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5"/>
          <p:cNvSpPr/>
          <p:nvPr/>
        </p:nvSpPr>
        <p:spPr>
          <a:xfrm>
            <a:off x="2052720" y="5063040"/>
            <a:ext cx="44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10429920" y="571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A655-56E7-4CEA-A7F1-613B43296D2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-14508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 параметры схемы с общим эмит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11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/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и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cons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ходное сопротивление транзистора переменному току при отсутствии выходного переменного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12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/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Э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и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cons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эффициент обратной связи по напряжению – доля выходного переменного напряжения передаваем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ход транзистора вследствие обратной связи в 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21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/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и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cons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эффициент усилия по току – усиление перемен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ка транзистором при работе без нагруз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22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/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Э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и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cons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ходная проводимость перемен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ка между коллектором и эмиттер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ходное сопротивление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R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ВЫХ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1/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22Э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3DFA-A3C2-4EBD-95C6-43C35A12EC5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1040760"/>
            <a:ext cx="91440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БЭ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11Э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4000" spc="-1" strike="noStrike">
                <a:solidFill>
                  <a:srgbClr val="ff2a25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12Э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К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К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21Э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22Э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К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квивалентная схема Б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параметр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0088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2E3B-72E3-4401-8A22-0E26EAE0EEC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1916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хема с общим эмиттером применяется для усиления напряжения, тока, мощности</a:t>
            </a:r>
            <a:r>
              <a:rPr b="1" lang="ru-RU" sz="2800" spc="-1" strike="noStrike">
                <a:solidFill>
                  <a:srgbClr val="da110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102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Практическая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</a:rPr>
              <a:t>Расчет схемы с общим эмиттер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BC26-F405-4CEC-BC7B-7FCC2919B0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0" y="10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  <a:ea typeface="Times New Roman"/>
              </a:rPr>
              <a:t>Коэффициент усиления по ток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395280" y="831960"/>
                <a:ext cx="223200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Rectangle 16"/>
          <p:cNvSpPr/>
          <p:nvPr/>
        </p:nvSpPr>
        <p:spPr>
          <a:xfrm>
            <a:off x="3061080" y="522828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3922560" y="1004760"/>
                <a:ext cx="137016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Э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Rectangle 17"/>
          <p:cNvSpPr/>
          <p:nvPr/>
        </p:nvSpPr>
        <p:spPr>
          <a:xfrm>
            <a:off x="2112480" y="2275560"/>
            <a:ext cx="529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  <a:ea typeface="Times New Roman"/>
              </a:rPr>
              <a:t>Входное сопротивле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50920" y="2781360"/>
                <a:ext cx="24494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Х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8"/>
          <p:cNvSpPr/>
          <p:nvPr/>
        </p:nvSpPr>
        <p:spPr>
          <a:xfrm>
            <a:off x="2743200" y="126756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3924360" y="2997360"/>
                <a:ext cx="12240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Э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250920" y="5013360"/>
                <a:ext cx="25923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Rectangle 20"/>
          <p:cNvSpPr/>
          <p:nvPr/>
        </p:nvSpPr>
        <p:spPr>
          <a:xfrm>
            <a:off x="2887920" y="328356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4067280" y="4653000"/>
                <a:ext cx="121428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8"/>
              <p:cNvSpPr txBox="1"/>
              <p:nvPr/>
            </p:nvSpPr>
            <p:spPr>
              <a:xfrm>
                <a:off x="0" y="7162920"/>
                <a:ext cx="257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Rectangle 25"/>
          <p:cNvSpPr/>
          <p:nvPr/>
        </p:nvSpPr>
        <p:spPr>
          <a:xfrm>
            <a:off x="-249120" y="7421040"/>
            <a:ext cx="54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мощность рассеиваемая на транзисторе (тепловой пробой Т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0" y="797076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Rectangle 26"/>
          <p:cNvSpPr/>
          <p:nvPr/>
        </p:nvSpPr>
        <p:spPr>
          <a:xfrm>
            <a:off x="0" y="81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5365080" y="112536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десятки-сотн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5246640" y="515772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десятки-сотни О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1924560" y="4149720"/>
            <a:ext cx="56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Выходное сопротивле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5388840" y="321300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сотни Ом – кО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9613-4561-4143-B513-F31BD1D5AB1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1498680" y="476280"/>
                <a:ext cx="607536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Э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6"/>
          <p:cNvSpPr/>
          <p:nvPr/>
        </p:nvSpPr>
        <p:spPr>
          <a:xfrm>
            <a:off x="0" y="29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Коэффициент усиления по напряжению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98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Коэффициент усиления по мощ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379520" y="2565360"/>
                <a:ext cx="59533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Э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Э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10"/>
          <p:cNvSpPr/>
          <p:nvPr/>
        </p:nvSpPr>
        <p:spPr>
          <a:xfrm>
            <a:off x="0" y="393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Коэффициент полезного дей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884160" y="4653000"/>
                <a:ext cx="22636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4427640" y="5300640"/>
                <a:ext cx="4105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Э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15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609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ная потребляемая мощность схе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6"/>
              <p:cNvSpPr txBox="1"/>
              <p:nvPr/>
            </p:nvSpPr>
            <p:spPr>
              <a:xfrm>
                <a:off x="4427640" y="4464000"/>
                <a:ext cx="41050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69B8-2567-4E2A-912F-193D1337BB7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2491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2a25"/>
                </a:solidFill>
                <a:latin typeface="Times New Roman"/>
              </a:rPr>
              <a:t>КОНЕ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857160" y="571680"/>
            <a:ext cx="77868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ронтальны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ь определение биполярного транзис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 типы биполярных транзисторов зна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особенности биполярного транзис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то является  основным носителем заряда в эмиттере и коллектор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является основным носителем заряда в баз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ать принцип работы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p-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анзис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1428840" y="857160"/>
            <a:ext cx="685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еречислить режим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ы биполярного транзистора  и дать краткую характеристику каждому режи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Показать структурную схему и условное графическое изображение  биполярных транзисто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Перечислить схемы включения биполярных транзис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Показать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ы включение биполярного транзис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584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Биполярные транзистор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B019-6726-41F4-8DDF-A669FEC3E4A1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63520" y="1607040"/>
            <a:ext cx="86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лупроводниковый прибор, имеющий три электрода и два взаимодействующих между собой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ехода, называется </a:t>
            </a:r>
            <a:r>
              <a:rPr b="0" lang="ru-RU" sz="2000" spc="-1" strike="noStrike">
                <a:solidFill>
                  <a:srgbClr val="ffc979"/>
                </a:solidFill>
                <a:latin typeface="Constantia"/>
              </a:rPr>
              <a:t>биполярным транзисто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Snap49"/>
          <p:cNvPicPr/>
          <p:nvPr/>
        </p:nvPicPr>
        <p:blipFill>
          <a:blip r:embed="rId1"/>
          <a:stretch/>
        </p:blipFill>
        <p:spPr>
          <a:xfrm>
            <a:off x="2556000" y="2808360"/>
            <a:ext cx="3806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36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Биполярные транзисторы</a:t>
            </a:r>
            <a:r>
              <a:rPr b="0" lang="ru-RU" sz="3200" spc="-1" strike="noStrike">
                <a:solidFill>
                  <a:srgbClr val="da1102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(Б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п транзистора с тремя слоями полупроводника, различаю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n-p-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p-n-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транзисторы, где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– электронный тип примесной проводимости, </a:t>
            </a:r>
            <a:r>
              <a:rPr b="1" i="1" lang="ru-RU" sz="2800" spc="-1" strike="noStrike">
                <a:solidFill>
                  <a:srgbClr val="da1102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– дырочный. Основные носители заряда: электроны и дырки («би» – два); электроды эмиттер, база, коллекто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3068640"/>
            <a:ext cx="914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собенности транзисто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лощад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p-n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хода коллектора больше, чем эмитте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в базе мало носителей заряда, ее толщина невел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полярный транзистор основной элемент усилите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интегральных микросхем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ерационные усилители,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анзисторно-транзисторная, диодно-транзисторная логика и т.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531720" y="4653000"/>
            <a:ext cx="828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45086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миттер (Э), Коллектор (К)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сновные заряды электроны, не основные дыр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аза (Б)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сновные заряды дырки, не основные электроны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ход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разова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онами полупровод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12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4437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за вызывает электроны из эмиттера, но переход эмиттер – коллектор для них открыт (здесь они не основные заряды) и большая часть уходит в коллектор, совсем немного доходит до базы. За счет этого происходит усиление базового тока (ток коллектор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-p-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56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fcc8"/>
                </a:solidFill>
                <a:latin typeface="Times New Roman"/>
              </a:rPr>
              <a:t>Режимы работы биполярного транзистора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F538-A36C-464C-8D2F-A04C8DBE9E6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DEFD-4B4D-4408-9470-833DC06CD271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firstslide"/>
          </p:cNvPr>
          <p:cNvSpPr/>
          <p:nvPr/>
        </p:nvSpPr>
        <p:spPr>
          <a:xfrm>
            <a:off x="8209080" y="5877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8034" y="10800"/>
                </a:moveTo>
                <a:lnTo>
                  <a:pt x="28539" y="3794"/>
                </a:lnTo>
                <a:lnTo>
                  <a:pt x="28539" y="17806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16189" y="3794"/>
                </a:lnTo>
                <a:lnTo>
                  <a:pt x="16189" y="17806"/>
                </a:lnTo>
                <a:lnTo>
                  <a:pt x="14526" y="17806"/>
                </a:lnTo>
                <a:close/>
              </a:path>
            </a:pathLst>
          </a:custGeom>
          <a:solidFill>
            <a:srgbClr val="ffc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27160" y="19782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того, какие напряжения действуют на переходах, различают  3 режима работы транзистор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ктивный реж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ы или режим усиления, когда эмиттерный переход смещен в прямом направлении , а коллекторный в обратн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жим насыщ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оба перехода смещены в прямом направле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жим отсеч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оба перехода смещены в обратном направл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1:51:41Z</dcterms:created>
  <dc:creator>Admin</dc:creator>
  <dc:description/>
  <dc:language>en-US</dc:language>
  <cp:lastModifiedBy>Валя</cp:lastModifiedBy>
  <dcterms:modified xsi:type="dcterms:W3CDTF">2013-04-28T06:38:14Z</dcterms:modified>
  <cp:revision>54</cp:revision>
  <dc:subject/>
  <dc:title>Слайд 1</dc:title>
</cp:coreProperties>
</file>