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2FD-061B-4D4B-BEF0-EEE8E595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65-7A63-412D-BF7D-932EF47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A4B-A8DC-4278-BB79-308D3451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C85-E9A0-43B5-A113-81DE233D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5DB-7B23-4FE4-BC2C-7B41FAB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1FF-0103-4A6E-BADD-1CB30ED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9BF-54B1-447B-9FEE-00EFC6D6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AF9-37B4-4F0F-9E1B-B16D496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42B-87CA-4FC3-9D01-5F216B3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09F-6134-49E5-8623-29A337E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C2B-17F2-4F77-B06F-2B82A3E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4AF-F8B3-460E-A308-D093E2D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EA97-A109-4F0E-B911-E9ED63156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Всегда ли дружба важнее всего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181080" y="2071800"/>
            <a:ext cx="4228920" cy="300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659480" y="2357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77920" y="1928880"/>
            <a:ext cx="4095720" cy="335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564080" y="228600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ак давайте, давайте друж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усть не раз нам стихи эти вспомня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Если дружбой всегда дорож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о любое желанье исполни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Ребята, </a:t>
            </a:r>
            <a:br>
              <a:rPr sz="6600"/>
            </a:b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давайте жить дружн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643120" y="3446640"/>
            <a:ext cx="38577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Monotype Corsiva"/>
              </a:rPr>
              <a:t>Друж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еп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лг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80000" y="253044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083120" cy="422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56000" y="2781360"/>
            <a:ext cx="44118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185760"/>
            <a:ext cx="856944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в дружбу верит горяч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рядом чувствует плеч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от никогда не упадё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 любой беде не пропадё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если и споткнётся вдруг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о встать ему поможет дру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гда в беде надёжный др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Ему протянет ру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177840" y="2000160"/>
            <a:ext cx="432288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829040" y="2071800"/>
            <a:ext cx="40100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93760" y="1714680"/>
            <a:ext cx="3984480" cy="35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572000" y="500040"/>
            <a:ext cx="3583080" cy="271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11111\Рабочий стол\i.jpeg"/>
          <p:cNvPicPr/>
          <p:nvPr/>
        </p:nvPicPr>
        <p:blipFill>
          <a:blip r:embed="rId4"/>
          <a:stretch/>
        </p:blipFill>
        <p:spPr>
          <a:xfrm>
            <a:off x="4738680" y="3500280"/>
            <a:ext cx="383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85840" y="1928880"/>
            <a:ext cx="41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714920" y="1928880"/>
            <a:ext cx="4214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311040" y="1857240"/>
            <a:ext cx="382608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659480" y="23572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5:10:39Z</dcterms:created>
  <dc:creator>Comp</dc:creator>
  <dc:description/>
  <dc:language>en-US</dc:language>
  <cp:lastModifiedBy>UserAlex</cp:lastModifiedBy>
  <dcterms:modified xsi:type="dcterms:W3CDTF">2013-01-31T16:19:33Z</dcterms:modified>
  <cp:revision>7</cp:revision>
  <dc:subject/>
  <dc:title>Слайд 1</dc:title>
</cp:coreProperties>
</file>