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B69-C518-46DB-8617-CC0A22B5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3B1-F59E-4A91-98B6-3BA86276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8EB-5CE4-42C5-851A-0215F800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D59-6E62-4F96-AF7C-B12489CC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C1F-1E04-4DD7-B167-4EF1C6E4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1D9-FFD6-4281-9832-C5D96A87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DDC-11E6-486E-865D-819245D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3BD-29A0-406C-8714-43603A2E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93E-6364-4ECB-9665-9C55F86F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394-8348-4174-AF76-47B340F8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D6E-1B3B-4D55-BE35-6F391F94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5EC-0641-4B09-9B49-CA9750D0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7105-F942-4DDE-AD47-4ED616B166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Всегда ли дружба важнее всего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181080" y="2071800"/>
            <a:ext cx="4228920" cy="3000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659480" y="2357280"/>
            <a:ext cx="41907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77920" y="1928880"/>
            <a:ext cx="4095720" cy="335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564080" y="2286000"/>
            <a:ext cx="4286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Так давайте, давайте дружи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усть не раз нам стихи эти вспомня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Если дружбой всегда дорожить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То любое желанье исполни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Ребята, </a:t>
            </a:r>
            <a:br>
              <a:rPr sz="6600"/>
            </a:br>
            <a:r>
              <a:rPr b="1" i="1" lang="en-US" sz="6600" spc="-1" strike="noStrike">
                <a:solidFill>
                  <a:srgbClr val="ff0000"/>
                </a:solidFill>
                <a:latin typeface="Calibri"/>
              </a:rPr>
              <a:t>давайте жить дружно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643120" y="3446640"/>
            <a:ext cx="385776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Monotype Corsiva"/>
              </a:rPr>
              <a:t>Дружб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еп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рн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лг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80000" y="2530440"/>
            <a:ext cx="430992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083120" cy="422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356000" y="2781360"/>
            <a:ext cx="441180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185760"/>
            <a:ext cx="8569440" cy="66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то в дружбу верит горяч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Кто рядом чувствует плечо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от никогда не упадё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 любой беде не пропадё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 если и споткнётся вдруг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То встать ему поможет друг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сегда в беде надёжный дру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Ему протянет ру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177840" y="2000160"/>
            <a:ext cx="4322880" cy="300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829040" y="2071800"/>
            <a:ext cx="40100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93760" y="1714680"/>
            <a:ext cx="3984480" cy="3571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572000" y="500040"/>
            <a:ext cx="3583080" cy="271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11111\Рабочий стол\i.jpeg"/>
          <p:cNvPicPr/>
          <p:nvPr/>
        </p:nvPicPr>
        <p:blipFill>
          <a:blip r:embed="rId4"/>
          <a:stretch/>
        </p:blipFill>
        <p:spPr>
          <a:xfrm>
            <a:off x="4738680" y="3500280"/>
            <a:ext cx="38340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285840" y="1928880"/>
            <a:ext cx="4114800" cy="3214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714920" y="1928880"/>
            <a:ext cx="42148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Documents and Settings\11111\Рабочий стол\i.jpeg"/>
          <p:cNvPicPr/>
          <p:nvPr/>
        </p:nvPicPr>
        <p:blipFill>
          <a:blip r:embed="rId2"/>
          <a:stretch/>
        </p:blipFill>
        <p:spPr>
          <a:xfrm>
            <a:off x="311040" y="1857240"/>
            <a:ext cx="3826080" cy="3214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11111\Рабочий стол\i.jpeg"/>
          <p:cNvPicPr/>
          <p:nvPr/>
        </p:nvPicPr>
        <p:blipFill>
          <a:blip r:embed="rId3"/>
          <a:stretch/>
        </p:blipFill>
        <p:spPr>
          <a:xfrm>
            <a:off x="4659480" y="2357280"/>
            <a:ext cx="4000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5:10:39Z</dcterms:created>
  <dc:creator>Comp</dc:creator>
  <dc:description/>
  <dc:language>en-US</dc:language>
  <cp:lastModifiedBy>UserAlex</cp:lastModifiedBy>
  <dcterms:modified xsi:type="dcterms:W3CDTF">2013-01-31T16:19:33Z</dcterms:modified>
  <cp:revision>7</cp:revision>
  <dc:subject/>
  <dc:title>Слайд 1</dc:title>
</cp:coreProperties>
</file>