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651-EF2A-4A12-8959-659A0A1C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6C0-9463-4AAF-8FDB-D34CA32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675-1AE3-44C5-8882-0A29FA76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348-0C43-4B3F-8DCC-3AC345EC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E38-29B9-4995-9B67-86FA207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58F-E90C-4C0E-BBA7-74BDEC1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F46-3BE4-43BE-93E4-F1FE8F0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BD5-2ED6-46EA-AF62-741362F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F7F-A067-49F6-A7C0-999B2F1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8B5-9775-492F-A661-9688ED6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E21-5DFC-415A-B769-72091142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F4-5A87-4D27-A4B6-9D164A2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5DDE-B771-4C90-8663-732F5E1D8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vgenyfedorenko.com/wp-content/uploads/2010/07/nitrati.gif"/>
          <p:cNvPicPr/>
          <p:nvPr/>
        </p:nvPicPr>
        <p:blipFill>
          <a:blip r:embed="rId1"/>
          <a:stretch/>
        </p:blipFill>
        <p:spPr>
          <a:xfrm>
            <a:off x="785880" y="571680"/>
            <a:ext cx="7429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7680" y="1643040"/>
          <a:ext cx="5715000" cy="4572000"/>
        </p:xfrm>
        <a:graphic>
          <a:graphicData uri="http://schemas.openxmlformats.org/drawingml/2006/table">
            <a:tbl>
              <a:tblPr/>
              <a:tblGrid>
                <a:gridCol w="1882440"/>
                <a:gridCol w="38325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 наибольшего накоп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сердцевина клуб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к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ушка и кончик корнепло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уре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часть плода около плодонож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часть и кончик корнеплод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нитратов в разных частях ово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7" descr="картошка"/>
          <p:cNvPicPr/>
          <p:nvPr/>
        </p:nvPicPr>
        <p:blipFill>
          <a:blip r:embed="rId1"/>
          <a:stretch/>
        </p:blipFill>
        <p:spPr>
          <a:xfrm>
            <a:off x="0" y="2000160"/>
            <a:ext cx="1800360" cy="141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свекла"/>
          <p:cNvPicPr/>
          <p:nvPr/>
        </p:nvPicPr>
        <p:blipFill>
          <a:blip r:embed="rId2"/>
          <a:stretch/>
        </p:blipFill>
        <p:spPr>
          <a:xfrm>
            <a:off x="642960" y="2857680"/>
            <a:ext cx="1727280" cy="156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0" descr="огурец1"/>
          <p:cNvPicPr/>
          <p:nvPr/>
        </p:nvPicPr>
        <p:blipFill>
          <a:blip r:embed="rId3"/>
          <a:stretch/>
        </p:blipFill>
        <p:spPr>
          <a:xfrm>
            <a:off x="0" y="3929040"/>
            <a:ext cx="2268360" cy="137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морковка"/>
          <p:cNvPicPr/>
          <p:nvPr/>
        </p:nvPicPr>
        <p:blipFill>
          <a:blip r:embed="rId4"/>
          <a:stretch/>
        </p:blipFill>
        <p:spPr>
          <a:xfrm>
            <a:off x="357120" y="5214960"/>
            <a:ext cx="206712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500200" y="1714680"/>
          <a:ext cx="6215040" cy="4643280"/>
        </p:xfrm>
        <a:graphic>
          <a:graphicData uri="http://schemas.openxmlformats.org/drawingml/2006/table">
            <a:tbl>
              <a:tblPr/>
              <a:tblGrid>
                <a:gridCol w="2048040"/>
                <a:gridCol w="416700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 наибольшего накоп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сердцевина клуб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к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ушка и кончик корнепло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уре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часть плода около плодонож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часть и кончик корнеплод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0" y="571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накопления нитратов в раст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t2.gstatic.com/images?q=tbn:ANd9GcSCtu0BsTNF0V9mna0cwII6rZwv5I-s1SZhEwyDS-WeefRzqWaHgQ"/>
          <p:cNvPicPr/>
          <p:nvPr/>
        </p:nvPicPr>
        <p:blipFill>
          <a:blip r:embed="rId1"/>
          <a:stretch/>
        </p:blipFill>
        <p:spPr>
          <a:xfrm>
            <a:off x="6286680" y="4643280"/>
            <a:ext cx="2566800" cy="1928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500040" y="221472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ологическая особенность самих расте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жим минерального пит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кторы окружающей ср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760" y="1357200"/>
            <a:ext cx="471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одукты питания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стительного происхождения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животного происхожд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итьевую воду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екарственные препарат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t3.gstatic.com/images?q=tbn:ANd9GcSOaPduEOsfmV4SbFCpCDZEy6qFdUNgsXvFnsAVA393qrZLQHjX"/>
          <p:cNvPicPr/>
          <p:nvPr/>
        </p:nvPicPr>
        <p:blipFill>
          <a:blip r:embed="rId1"/>
          <a:stretch/>
        </p:blipFill>
        <p:spPr>
          <a:xfrm>
            <a:off x="7000920" y="392904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3.gstatic.com/images?q=tbn:ANd9GcT7MADaIMeRdims4wwtn_X6oUUo-mcPeUjMI8XKuHycv6XEGEnQ"/>
          <p:cNvPicPr/>
          <p:nvPr/>
        </p:nvPicPr>
        <p:blipFill>
          <a:blip r:embed="rId2"/>
          <a:stretch/>
        </p:blipFill>
        <p:spPr>
          <a:xfrm>
            <a:off x="4214880" y="4572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2.gstatic.com/images?q=tbn:ANd9GcSthLyL86Fj9SaUBkY84nxvPbPV7pTg_TSwPDxvTtNi8H-oWKkKPQ"/>
          <p:cNvPicPr/>
          <p:nvPr/>
        </p:nvPicPr>
        <p:blipFill>
          <a:blip r:embed="rId3"/>
          <a:stretch/>
        </p:blipFill>
        <p:spPr>
          <a:xfrm>
            <a:off x="5572080" y="1643040"/>
            <a:ext cx="2824200" cy="2116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0" y="285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попадания нитратов в организм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00040" y="1428840"/>
            <a:ext cx="3571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нение кожи и слизистых обол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ре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лаб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со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затыл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сердцеби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мнение в глаз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ш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85840" y="35712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нитрат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figurefarm.com/wp-content/uploads/2012/07/mini-843.jpg"/>
          <p:cNvPicPr/>
          <p:nvPr/>
        </p:nvPicPr>
        <p:blipFill>
          <a:blip r:embed="rId1"/>
          <a:stretch/>
        </p:blipFill>
        <p:spPr>
          <a:xfrm>
            <a:off x="4929120" y="1214280"/>
            <a:ext cx="3672000" cy="521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0.gstatic.com/images?q=tbn:ANd9GcTj5v3hdZg6qriitjGrbO8w9TYkORhqJYUb4swo63XpA8zkCuIv"/>
          <p:cNvPicPr/>
          <p:nvPr/>
        </p:nvPicPr>
        <p:blipFill>
          <a:blip r:embed="rId2"/>
          <a:stretch/>
        </p:blipFill>
        <p:spPr>
          <a:xfrm>
            <a:off x="3857760" y="3429000"/>
            <a:ext cx="242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28760" y="6429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ь при отравл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71680" y="178596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ть 2 стакана бледно-розового раствора марганц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оловые ложки древесного уг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вызвать скорую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alexnews.info/wp-content/uploads/2012/03/scoraya.jpg"/>
          <p:cNvPicPr/>
          <p:nvPr/>
        </p:nvPicPr>
        <p:blipFill>
          <a:blip r:embed="rId1"/>
          <a:stretch/>
        </p:blipFill>
        <p:spPr>
          <a:xfrm>
            <a:off x="285840" y="4071960"/>
            <a:ext cx="5286240" cy="25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240719"/>
          <p:cNvPicPr/>
          <p:nvPr/>
        </p:nvPicPr>
        <p:blipFill>
          <a:blip r:embed="rId2"/>
          <a:stretch/>
        </p:blipFill>
        <p:spPr>
          <a:xfrm>
            <a:off x="6858000" y="3857760"/>
            <a:ext cx="1735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уберечь себя от отравления нитратам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4200" y="1285920"/>
            <a:ext cx="892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е овощи и любые плоды в холодильнике, так как при низкой температуре нитраты не смогут превратится в нитрит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йте в пищу только те части растений, в которых даже логически меньше нитра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мойте овощи и очищайте их от кожуры - это снизит нитраты на 15%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мочить зелень на 2 часа в воде, то из них вымоется 20% нитратов. То же самое касается моркови, свеклы, картофеля и капусты - час в воде и минус 25-30% нитра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щи следует варить. Картофель - минус 80% нитратов, капуста и морковь - 70%, свекла - 40%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вежевыжатые соки из овощей и салаты употребляйте сразу, так как их хранение обеспечит рождение нитритов из нитрат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4200" y="2071800"/>
            <a:ext cx="864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2960" y="121428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85840" y="116568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нитр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аких частях растения основное накопление нитрат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чего зависит накопление нитратов в раст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опадания нитратов в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признаки отравления нитратов у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ая помощь при отравление нитра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меры необходимо принимать, чтобы уберечь себя от отравления нитра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357880" y="642960"/>
            <a:ext cx="3000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известно, что самое дорогое у человека - это его здоровье, которое невозможно купить и которое во многом зависит от правильного питания его. Недаром существует пословица: “Скажи мне что ты ешь, и я скажу тебе чем ты болеешь”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1.gstatic.com/images?q=tbn:ANd9GcQAIuIXE3t7o9j4ZkXyeu-SlzxMPjG8ov56bAM0LhB_1R64YT22bQ"/>
          <p:cNvPicPr/>
          <p:nvPr/>
        </p:nvPicPr>
        <p:blipFill>
          <a:blip r:embed="rId1"/>
          <a:stretch/>
        </p:blipFill>
        <p:spPr>
          <a:xfrm>
            <a:off x="357120" y="157176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840" y="85716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ы 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, в состав которых входит остаток азотной кисл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chemeddl.org/resources/models360/files/943/no3.png"/>
          <p:cNvPicPr/>
          <p:nvPr/>
        </p:nvPicPr>
        <p:blipFill>
          <a:blip r:embed="rId1"/>
          <a:stretch/>
        </p:blipFill>
        <p:spPr>
          <a:xfrm>
            <a:off x="3214800" y="3214800"/>
            <a:ext cx="2943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4287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нитр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5840" y="2143080"/>
            <a:ext cx="8643960" cy="39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)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u = 2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a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57120" y="38577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ение нитра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00080" y="4786200"/>
            <a:ext cx="7072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↔ M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nanolife.info/uploads/posts/2010-02/1265586199_88294-0.jpg"/>
          <p:cNvPicPr/>
          <p:nvPr/>
        </p:nvPicPr>
        <p:blipFill>
          <a:blip r:embed="rId1"/>
          <a:stretch/>
        </p:blipFill>
        <p:spPr>
          <a:xfrm>
            <a:off x="5286240" y="2428920"/>
            <a:ext cx="3570480" cy="4000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28760" y="500040"/>
            <a:ext cx="8001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один из самых важнейших химических элементов в жизни растений, т.к. он необходим для синтеза аминокислот, из которых образуются белки. Азот получает растение из почвы в виде минеральных азотных солей (нитратных и аммиачных)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40" y="2500200"/>
            <a:ext cx="492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ениях азот подвергается сложным превращениям. Метаболизм азота в растениях - это сложный процесс, и нитраты занимают в нём промежуточное положение: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3 – HNO2 – (HNO)2 – NH2OH + NH3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трат)-(нитрит)-(гипонитрит)-(гидроксиламин)+(аммиак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428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круговорота азота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nitrogen_cycle_520"/>
          <p:cNvPicPr/>
          <p:nvPr/>
        </p:nvPicPr>
        <p:blipFill>
          <a:blip r:embed="rId1"/>
          <a:stretch/>
        </p:blipFill>
        <p:spPr>
          <a:xfrm>
            <a:off x="611280" y="1190520"/>
            <a:ext cx="79214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ogorodsadovod.com/sites/default/files/u46/2012/04/9.jpg"/>
          <p:cNvPicPr/>
          <p:nvPr/>
        </p:nvPicPr>
        <p:blipFill>
          <a:blip r:embed="rId1"/>
          <a:stretch/>
        </p:blipFill>
        <p:spPr>
          <a:xfrm>
            <a:off x="6000840" y="442908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t1.gstatic.com/images?q=tbn:ANd9GcShfGZ-MH5KVREVdj0KR5coMLLgWjvmQ99lkwaCLeEKRAAW9vlL"/>
          <p:cNvPicPr/>
          <p:nvPr/>
        </p:nvPicPr>
        <p:blipFill>
          <a:blip r:embed="rId2"/>
          <a:stretch/>
        </p:blipFill>
        <p:spPr>
          <a:xfrm>
            <a:off x="6429240" y="1143000"/>
            <a:ext cx="2333880" cy="1952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0" y="285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накопление нитратов в раст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t1.gstatic.com/images?q=tbn:ANd9GcSH4N-6HSiSTtrRj4an2LY7JL2LrQPD2_7j9IsJ3fYv_WyHlr-F"/>
          <p:cNvPicPr/>
          <p:nvPr/>
        </p:nvPicPr>
        <p:blipFill>
          <a:blip r:embed="rId3"/>
          <a:stretch/>
        </p:blipFill>
        <p:spPr>
          <a:xfrm>
            <a:off x="6715080" y="2786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357120" y="171468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ы в основном скапливаются в корнях, корнеплодах, стеблях, черешках и крупных жилках листьев, значительно меньше их в плодах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ов также больше в зеленых плодах, чем в спелых. Из разных сельско-хозяйственных растений больше всего нитратов содержится в салате (особенно в тепличном), в редьке, петрушке, редисе, столовой свёкле, капусте, моркови, ук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2163600"/>
          <a:ext cx="6096240" cy="3399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440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зуальные признак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аски с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83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но-голубоват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быстро наступает обугл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0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яя, постепенно исчезаю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26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но-синяя или темно-фиолетов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наступающая, устойч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нитратов в овощ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8584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метное стекло положить несколько срезов той или иной части растения. Затем на каждый срез нанести по одной капли 1%-го раствора дифениламина и следить за появлением синей окраски. Интенсивность этой окраски сравнить с таб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259840" y="4143240"/>
          <a:ext cx="241200" cy="1478160"/>
        </p:xfrm>
        <a:graphic>
          <a:graphicData uri="http://schemas.openxmlformats.org/drawingml/2006/table">
            <a:tbl>
              <a:tblPr/>
              <a:tblGrid>
                <a:gridCol w="131040"/>
                <a:gridCol w="131040"/>
              </a:tblGrid>
              <a:tr h="36972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7120" y="3143160"/>
          <a:ext cx="8501040" cy="3521160"/>
        </p:xfrm>
        <a:graphic>
          <a:graphicData uri="http://schemas.openxmlformats.org/drawingml/2006/table">
            <a:tbl>
              <a:tblPr/>
              <a:tblGrid>
                <a:gridCol w="6410520"/>
                <a:gridCol w="2090520"/>
              </a:tblGrid>
              <a:tr h="98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зуальные признаки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аски с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тра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едно-голубоватая,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быстро наступает обугл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яя, постепенно исчезаю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но-синяя или темно-фиолетовая,быстро наступающая, 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ности накапливать нитраты овощи, плоды и фрукты делятся на 3 группы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14200" y="15001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высоким содержанием (до 5000мг/кг сырой массы): салат, шпинат, свекла, укроп, листовая капуста, редис, зелёный лук, дыни, арбу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редним содержанием (300-600мг): цветная капуста, кабачки, тыквы, репа, редька, белокачанная капуста, хрен, морковь, огурц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низким содержанием (10-80мг): брюссельская капуста, горох, щавель, фасоль, картофель, томаты, репчатый лук, фрукты и я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39:27Z</dcterms:created>
  <dc:creator>Екатерина</dc:creator>
  <dc:description/>
  <dc:language>en-US</dc:language>
  <cp:lastModifiedBy>Екатерина</cp:lastModifiedBy>
  <dcterms:modified xsi:type="dcterms:W3CDTF">2013-02-25T16:41:10Z</dcterms:modified>
  <cp:revision>225</cp:revision>
  <dc:subject/>
  <dc:title>Слайд 1</dc:title>
</cp:coreProperties>
</file>