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38.jpeg" ContentType="image/jpeg"/>
  <Override PartName="/ppt/media/image23.png" ContentType="image/png"/>
  <Override PartName="/ppt/media/image21.jpeg" ContentType="image/jpeg"/>
  <Override PartName="/ppt/media/image29.png" ContentType="image/png"/>
  <Override PartName="/ppt/media/image19.jpeg" ContentType="image/jpeg"/>
  <Override PartName="/ppt/media/image25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2.wmf" ContentType="image/x-wmf"/>
  <Override PartName="/ppt/media/image4.png" ContentType="image/png"/>
  <Override PartName="/ppt/media/image27.png" ContentType="image/png"/>
  <Override PartName="/ppt/media/image13.png" ContentType="image/png"/>
  <Override PartName="/ppt/media/image8.wmf" ContentType="image/x-wmf"/>
  <Override PartName="/ppt/media/image40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31.png" ContentType="image/png"/>
  <Override PartName="/ppt/media/image34.jpeg" ContentType="image/jpeg"/>
  <Override PartName="/ppt/media/image39.jpeg" ContentType="image/jpeg"/>
  <Override PartName="/ppt/media/image14.jpeg" ContentType="image/jpeg"/>
  <Override PartName="/ppt/media/image41.jpeg" ContentType="image/jpeg"/>
  <Override PartName="/ppt/media/image37.jpeg" ContentType="image/jpeg"/>
  <Override PartName="/ppt/media/image30.png" ContentType="image/png"/>
  <Override PartName="/ppt/media/image42.png" ContentType="image/png"/>
  <Override PartName="/ppt/media/image7.wmf" ContentType="image/x-wmf"/>
  <Override PartName="/ppt/media/image20.jpeg" ContentType="image/jpeg"/>
  <Override PartName="/ppt/media/image10.wmf" ContentType="image/x-wmf"/>
  <Override PartName="/ppt/media/image2.png" ContentType="image/pn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6.png" ContentType="image/png"/>
  <Override PartName="/ppt/media/image36.png" ContentType="image/png"/>
  <Override PartName="/ppt/media/image9.wmf" ContentType="image/x-wmf"/>
  <Override PartName="/ppt/media/image11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5381-6D33-4F27-B968-0214A40A57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D85B-CF85-4CC8-91C3-44573CFA33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7963-2B20-4E09-B1AB-6674B392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B853-7010-4EA4-9173-B5CA256E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6076-C6D8-4791-B16A-DF3E81709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9E27-39B9-4325-ABA9-7A98A4F3D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148D-FB8E-4C0F-9E47-49A4FC95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0F58-2B1A-4FCA-98B4-766E59A5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C3AD-5ED6-41FA-BB20-DFC956D3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300D-C421-4F13-B5FD-BE223CC3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5683-B14F-4AF4-B22C-1426FD72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7616-9889-41BB-BAED-84A58187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C852-8F8E-469C-95F4-967819BE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9D10-ED7D-4496-81DC-F14DF071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D966-E176-4FD0-B42D-F8D9C2497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file:///tmp/home/.config/libreoffice/4/user/gallery/MS900074721%5B1%5D.wav" TargetMode="External"/><Relationship Id="rId4" Type="http://schemas.microsoft.com/office/2007/relationships/media" Target="file:///tmp/home/.config/libreoffice/4/user/gallery/MS900074721%5B1%5D.wav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hyperlink" Target="file:///tmp/home/.config/libreoffice/4/user/gallery/&#1085;&#1077;&#1090;.wav" TargetMode="External"/><Relationship Id="rId9" Type="http://schemas.openxmlformats.org/officeDocument/2006/relationships/image" Target="../media/image13.png"/><Relationship Id="rId10" Type="http://schemas.openxmlformats.org/officeDocument/2006/relationships/image" Target="../media/image14.jpe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7.wmf"/><Relationship Id="rId4" Type="http://schemas.openxmlformats.org/officeDocument/2006/relationships/image" Target="../media/image16.png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8.png"/><Relationship Id="rId8" Type="http://schemas.openxmlformats.org/officeDocument/2006/relationships/image" Target="../media/image11.wmf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3" descr="http://www.photos-public-domain.com/wp-content/uploads/2011/03/yellow-parchment-paper-textu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828800" y="990720"/>
            <a:ext cx="5486400" cy="3736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352680" y="5562360"/>
            <a:ext cx="5486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езентация на тему «Автоматизация звуков «Р», «РЬ»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ыполнила учитель-логопед ГБДОУ детский сад № 2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. Ломон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АЗАРЯН Татьяна Александровна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http://www.3dnews.ru/_imgdata/img/2011/11/23/620303/tv.png"/>
          <p:cNvPicPr/>
          <p:nvPr/>
        </p:nvPicPr>
        <p:blipFill>
          <a:blip r:embed="rId3"/>
          <a:stretch/>
        </p:blipFill>
        <p:spPr>
          <a:xfrm>
            <a:off x="2286000" y="609480"/>
            <a:ext cx="4648320" cy="4800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4"/>
          <a:stretch/>
        </p:blipFill>
        <p:spPr>
          <a:xfrm>
            <a:off x="2819520" y="2133720"/>
            <a:ext cx="3595680" cy="22096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4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В гости в ПРОСТОКВАШИ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3" descr="http://www.photos-public-domain.com/wp-content/uploads/2011/03/yellow-parchment-paper-textu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62120" y="533160"/>
            <a:ext cx="32004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чкин любит сочинять стихотворения, послушайте, какое стихотворение придумал Печкин про дядю Федора, в нем много слов со звуками Р и Р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Есть у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Федора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ог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 нем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морковка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рас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горох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и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омид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Рядом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огород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Федоры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 основном там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омидоры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итаю еще раз, на каждое слово со звуками Р и РЬ, вы берете счетную палоч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считайте, сколько у вас палочек, сколько слов со звуками Р и РЬ было в стихотворен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4343400" y="304920"/>
            <a:ext cx="416088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3" descr="http://www.photos-public-domain.com/wp-content/uploads/2011/03/yellow-parchment-paper-textu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месте с жителями Простоквашино мы вспомнили звуки Р и РЬ. Какой буквой обозначаются эти звуки?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укву Р писать не сложно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права к палке осторожно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дрисуем мы кружок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 получится флажок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2922480" cy="4449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3"/>
          <a:stretch/>
        </p:blipFill>
        <p:spPr>
          <a:xfrm>
            <a:off x="5638680" y="1981080"/>
            <a:ext cx="3224160" cy="4496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4"/>
          <a:stretch/>
        </p:blipFill>
        <p:spPr>
          <a:xfrm>
            <a:off x="3657600" y="2057400"/>
            <a:ext cx="1195560" cy="13208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7"/>
          <p:cNvSpPr/>
          <p:nvPr/>
        </p:nvSpPr>
        <p:spPr>
          <a:xfrm>
            <a:off x="3581280" y="3429000"/>
            <a:ext cx="17528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2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Microsoft Sans Serif"/>
              </a:rPr>
              <a:t>АР-ОР-УР-ЫР ЫР-УР-ОР-АР ЕР-ИР-ЮР-ЯР АР-ЯР-ОР-ЕР ЫР-ИР-ЯР-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3" descr="http://www.photos-public-domain.com/wp-content/uploads/2011/03/yellow-parchment-paper-textu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ра уезжать из Простоквашино, не грустите, мы еще вернемс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2438280" y="685800"/>
            <a:ext cx="6248520" cy="4683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http://www.doktorpapa.ru/blog/wp-content/uploads/2010/05/212.jpg"/>
          <p:cNvPicPr/>
          <p:nvPr/>
        </p:nvPicPr>
        <p:blipFill>
          <a:blip r:embed="rId3"/>
          <a:stretch/>
        </p:blipFill>
        <p:spPr>
          <a:xfrm>
            <a:off x="0" y="4191120"/>
            <a:ext cx="2629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3" descr="http://www.photos-public-domain.com/wp-content/uploads/2011/03/yellow-parchment-paper-textu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ГЛА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Звонит телефон,кликните на колокольчик) «Алло! Здравствуй, Матроскин! Привет, Шарик! Вы приглашаете нас в гости? Спасибо за приглашение. До свидания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бята, кот Матроскин и пес Шарик приглашают нас в гости в деревню Простоквашино. Вы хотите поехать Простоквашино? У Матроскина и Шарика есть любимые звуки. Отгадайте, какие это звуки, я их выделю голосом: Матррроскин, Шарррик. (Р и РЬ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егодня по приглашению кота Матроскина и пса Шарика мы поедем в Простоквашино и вспомним звуки Р и Р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2"/>
          <a:stretch/>
        </p:blipFill>
        <p:spPr>
          <a:xfrm>
            <a:off x="4730760" y="1600200"/>
            <a:ext cx="38718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762120" y="1295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3992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8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3" descr="http://www.photos-public-domain.com/wp-content/uploads/2011/03/yellow-parchment-paper-textu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 мы собираемся в гости, нам надо купить подарки жителям деревни Простоквашино. Покупать подарки нужно только со звуком Р или РЬ. Что купили?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38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карандаши"/>
          <p:cNvPicPr/>
          <p:nvPr/>
        </p:nvPicPr>
        <p:blipFill>
          <a:blip r:embed="rId2"/>
          <a:stretch/>
        </p:blipFill>
        <p:spPr>
          <a:xfrm>
            <a:off x="838080" y="1523880"/>
            <a:ext cx="1524240" cy="1233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мороженое 3"/>
          <p:cNvPicPr/>
          <p:nvPr/>
        </p:nvPicPr>
        <p:blipFill>
          <a:blip r:embed="rId3"/>
          <a:stretch/>
        </p:blipFill>
        <p:spPr>
          <a:xfrm>
            <a:off x="3276720" y="1676520"/>
            <a:ext cx="530280" cy="1233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шары"/>
          <p:cNvPicPr/>
          <p:nvPr/>
        </p:nvPicPr>
        <p:blipFill>
          <a:blip r:embed="rId4"/>
          <a:stretch/>
        </p:blipFill>
        <p:spPr>
          <a:xfrm>
            <a:off x="5638680" y="3276720"/>
            <a:ext cx="989280" cy="134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фотоаппарат"/>
          <p:cNvPicPr/>
          <p:nvPr/>
        </p:nvPicPr>
        <p:blipFill>
          <a:blip r:embed="rId5"/>
          <a:stretch/>
        </p:blipFill>
        <p:spPr>
          <a:xfrm>
            <a:off x="5257800" y="5334120"/>
            <a:ext cx="1224000" cy="814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ведро"/>
          <p:cNvPicPr/>
          <p:nvPr/>
        </p:nvPicPr>
        <p:blipFill>
          <a:blip r:embed="rId6"/>
          <a:stretch/>
        </p:blipFill>
        <p:spPr>
          <a:xfrm>
            <a:off x="1295280" y="5181480"/>
            <a:ext cx="924120" cy="943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книга"/>
          <p:cNvPicPr/>
          <p:nvPr/>
        </p:nvPicPr>
        <p:blipFill>
          <a:blip r:embed="rId7"/>
          <a:stretch/>
        </p:blipFill>
        <p:spPr>
          <a:xfrm>
            <a:off x="3048120" y="5257800"/>
            <a:ext cx="1390680" cy="895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C:\Documents and Settings\Кирилл\Рабочий стол\МАМА\детские презентации\Почемучка\b1c12472bde8.p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648320" y="1600200"/>
            <a:ext cx="1295280" cy="12924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" descr="D:\Ксюша\инет\ПРЕЗЕНТАЦИИ\БУКВЫ ЧТЕНИЕ\АЛФАВИТ буква - рисунок\Развивающие карточки АЗБУКА\Фрукты и ягоды\[а] апельсин.JPG"/>
          <p:cNvPicPr/>
          <p:nvPr/>
        </p:nvPicPr>
        <p:blipFill>
          <a:blip r:embed="rId10"/>
          <a:stretch/>
        </p:blipFill>
        <p:spPr>
          <a:xfrm>
            <a:off x="3505320" y="3505320"/>
            <a:ext cx="1441440" cy="9144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"/>
          <p:cNvPicPr/>
          <p:nvPr/>
        </p:nvPicPr>
        <p:blipFill>
          <a:blip r:embed="rId11">
            <a:lum contrast="10000"/>
          </a:blip>
          <a:stretch/>
        </p:blipFill>
        <p:spPr>
          <a:xfrm>
            <a:off x="7238880" y="4724280"/>
            <a:ext cx="1287720" cy="12099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96" descr="PINTA П"/>
          <p:cNvPicPr/>
          <p:nvPr/>
        </p:nvPicPr>
        <p:blipFill>
          <a:blip r:embed="rId12"/>
          <a:srcRect l="0" t="18040" r="0" b="10771"/>
          <a:stretch/>
        </p:blipFill>
        <p:spPr>
          <a:xfrm>
            <a:off x="914400" y="3124080"/>
            <a:ext cx="2209680" cy="17845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5" descr="М copy"/>
          <p:cNvPicPr/>
          <p:nvPr/>
        </p:nvPicPr>
        <p:blipFill>
          <a:blip r:embed="rId13"/>
          <a:stretch/>
        </p:blipFill>
        <p:spPr>
          <a:xfrm>
            <a:off x="6629400" y="1600200"/>
            <a:ext cx="1498680" cy="11764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5" descr="D:\Каталог картинок\Р\Рыба\Разное\FISH495 п.gif"/>
          <p:cNvPicPr/>
          <p:nvPr/>
        </p:nvPicPr>
        <p:blipFill>
          <a:blip r:embed="rId14"/>
          <a:srcRect l="0" t="16390" r="0" b="22134"/>
          <a:stretch/>
        </p:blipFill>
        <p:spPr>
          <a:xfrm>
            <a:off x="7162920" y="3124080"/>
            <a:ext cx="177624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6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2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3" descr="http://www.photos-public-domain.com/wp-content/uploads/2011/03/yellow-parchment-paper-textu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арки приготовили, садимся в поезд, поехали. А вот и деревня Простоквашино. Кто нас ждет встречает? (дядя Фёдор, корова Мурка, пес Шарик, кот Матроскин, теленок Гаврюша, почтальон Печкин). В каких именах слышится звук Р (Федор, Матроскин, Мурка), а в каких звук РЬ (Гаврюша, Шарик)?  С кем мы поздороваемся? (С дядей Федором, псом Шариком,котом Матроскиным, коровой Муркой, теленком Гаврюшей, почтальоном Печкиным.) Кому и что мы привезли в подаро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5715000" cy="3929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карандаши"/>
          <p:cNvPicPr/>
          <p:nvPr/>
        </p:nvPicPr>
        <p:blipFill>
          <a:blip r:embed="rId3"/>
          <a:stretch/>
        </p:blipFill>
        <p:spPr>
          <a:xfrm>
            <a:off x="6172200" y="2666880"/>
            <a:ext cx="1143000" cy="9255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96" descr="PINTA П"/>
          <p:cNvPicPr/>
          <p:nvPr/>
        </p:nvPicPr>
        <p:blipFill>
          <a:blip r:embed="rId4"/>
          <a:srcRect l="0" t="18040" r="0" b="10771"/>
          <a:stretch/>
        </p:blipFill>
        <p:spPr>
          <a:xfrm>
            <a:off x="7467480" y="2666880"/>
            <a:ext cx="1143000" cy="922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мороженое 3"/>
          <p:cNvPicPr/>
          <p:nvPr/>
        </p:nvPicPr>
        <p:blipFill>
          <a:blip r:embed="rId5"/>
          <a:stretch/>
        </p:blipFill>
        <p:spPr>
          <a:xfrm>
            <a:off x="6477120" y="3809880"/>
            <a:ext cx="431640" cy="1005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шары"/>
          <p:cNvPicPr/>
          <p:nvPr/>
        </p:nvPicPr>
        <p:blipFill>
          <a:blip r:embed="rId6"/>
          <a:stretch/>
        </p:blipFill>
        <p:spPr>
          <a:xfrm>
            <a:off x="7848720" y="4876920"/>
            <a:ext cx="707760" cy="9619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5" descr="D:\Каталог картинок\Р\Рыба\Разное\FISH495 п.gif"/>
          <p:cNvPicPr/>
          <p:nvPr/>
        </p:nvPicPr>
        <p:blipFill>
          <a:blip r:embed="rId7"/>
          <a:srcRect l="0" t="16390" r="0" b="22134"/>
          <a:stretch/>
        </p:blipFill>
        <p:spPr>
          <a:xfrm>
            <a:off x="7315200" y="3733920"/>
            <a:ext cx="1219320" cy="887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ведро"/>
          <p:cNvPicPr/>
          <p:nvPr/>
        </p:nvPicPr>
        <p:blipFill>
          <a:blip r:embed="rId8"/>
          <a:stretch/>
        </p:blipFill>
        <p:spPr>
          <a:xfrm>
            <a:off x="6248520" y="5105520"/>
            <a:ext cx="625320" cy="637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фотоаппарат"/>
          <p:cNvPicPr/>
          <p:nvPr/>
        </p:nvPicPr>
        <p:blipFill>
          <a:blip r:embed="rId9"/>
          <a:stretch/>
        </p:blipFill>
        <p:spPr>
          <a:xfrm>
            <a:off x="6781680" y="5791320"/>
            <a:ext cx="106704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7.58732E-007 C -0.00035 -0.00208 -0.00017 -0.00462 -0.00121 -0.00647 C -0.00208 -0.00786 -0.00365 -0.0074 -0.00486 -0.00809 C -0.01302 -0.01364 -0.02118 -0.01827 -0.03003 -0.02243 C -0.03142 -0.02313 -0.03229 -0.02498 -0.03368 -0.02567 C -0.04062 -0.0296 -0.04809 -0.03146 -0.05538 -0.03377 C -0.06962 -0.0384 -0.08333 -0.0451 -0.09757 -0.04973 C -0.09931 -0.05042 -0.10069 -0.05204 -0.10243 -0.05297 C -0.10365 -0.05366 -0.10486 -0.05413 -0.10608 -0.05459 C -0.11198 -0.05644 -0.11806 -0.05806 -0.12413 -0.05945 C -0.13246 -0.06338 -0.14097 -0.06685 -0.14931 -0.07055 C -0.15295 -0.07217 -0.1566 -0.07379 -0.16024 -0.07541 C -0.16146 -0.07587 -0.16389 -0.07703 -0.16389 -0.07703 C -0.16806 -0.08096 -0.17361 -0.08397 -0.1783 -0.08674 C -0.18056 -0.08813 -0.18559 -0.08998 -0.18559 -0.08998 C -0.19323 -0.09715 -0.20347 -0.10039 -0.21198 -0.10594 C -0.21771 -0.10987 -0.22309 -0.11496 -0.22882 -0.11889 C -0.23351 -0.12213 -0.23958 -0.12329 -0.24462 -0.12514 C -0.25052 -0.12745 -0.25677 -0.13139 -0.26267 -0.13324 C -0.27135 -0.13601 -0.28142 -0.13671 -0.29028 -0.13809 C -0.30069 -0.14272 -0.31111 -0.14156 -0.3217 -0.13971 C -0.32535 -0.13809 -0.33316 -0.13995 -0.33246 -0.13486 C -0.33142 -0.12676 -0.32934 -0.12167 -0.3276 -0.11404 C -0.32743 -0.11357 -0.32569 -0.10455 -0.32535 -0.10432 C -0.32431 -0.1034 -0.32292 -0.10432 -0.3217 -0.10432 E">
                                      <p:cBhvr>
                                        <p:cTn id="119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4.73976E-006 C -0.00955 -0.00786 -0.01216 -0.02058 -0.01806 -0.03192 C -0.02136 -0.04487 -0.02882 -0.05505 -0.0349 -0.06569 C -0.03542 -0.06662 -0.04063 -0.07726 -0.04219 -0.08027 C -0.04306 -0.08188 -0.04462 -0.08489 -0.04462 -0.08489 C -0.04601 -0.09021 -0.04931 -0.09415 -0.0507 -0.09947 C -0.05313 -0.10941 -0.05903 -0.12028 -0.06389 -0.12838 C -0.0724 -0.14295 -0.06424 -0.13393 -0.07587 -0.14434 C -0.07709 -0.1455 -0.07952 -0.14758 -0.07952 -0.14758 C -0.08369 -0.15591 -0.09914 -0.16331 -0.1073 -0.16354 C -0.14063 -0.16447 -0.17396 -0.1647 -0.2073 -0.16516 C -0.2158 -0.16886 -0.22483 -0.17025 -0.23369 -0.17164 C -0.23976 -0.17719 -0.2481 -0.17881 -0.25539 -0.18135 C -0.26632 -0.19593 -0.25764 -0.21628 -0.2507 -0.23109 C -0.24931 -0.23895 -0.24653 -0.24589 -0.24462 -0.25353 C -0.24393 -0.26532 -0.23959 -0.28869 -0.24705 -0.2984 C -0.25209 -0.30488 -0.2698 -0.31043 -0.27709 -0.31459 C -0.28837 -0.32107 -0.27431 -0.31459 -0.28924 -0.32107 C -0.29046 -0.32153 -0.29271 -0.32246 -0.29271 -0.32246 C -0.30382 -0.33217 -0.31754 -0.33125 -0.33021 -0.33217 C -0.35591 -0.33032 -0.3816 -0.32847 -0.4073 -0.32732 C -0.42952 -0.3294 -0.41841 -0.32801 -0.43143 -0.33379 C -0.44636 -0.35484 -0.47917 -0.34929 -0.49757 -0.35137 C -0.51198 -0.35623 -0.50122 -0.37543 -0.50122 -0.39 E">
                                      <p:cBhvr>
                                        <p:cTn id="128" dur="3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8.1078E-006 C -0.00798 0.00232 -0.01354 0.00787 -0.0217 0.00972 C -0.02899 0.01643 -0.03923 0.01897 -0.04809 0.02106 C -0.08941 0.0199 -0.08715 0.02337 -0.11076 0.0162 C -0.11597 0.01458 -0.12361 0.01319 -0.12882 0.00972 C -0.13246 0.00741 -0.13976 0.00324 -0.13976 0.00324 C -0.14792 -0.00439 -0.16979 -0.01272 -0.17951 -0.01435 C -0.18819 -0.0185 -0.1967 -0.02081 -0.2059 -0.02243 C -0.21875 -0.02197 -0.2316 -0.02174 -0.24444 -0.02081 C -0.24809 -0.02058 -0.25173 -0.01896 -0.25538 -0.01758 C -0.25781 -0.01665 -0.26267 -0.01435 -0.26267 -0.01435 C -0.27587 -0.00208 -0.30712 -0.00393 -0.32048 -0.00323 C -0.32292 -0.00115 -0.32604 8.10780000000009E-006 -0.3276 0.00324 C -0.33333 0.01458 -0.33663 0.02753 -0.34219 0.03864 C -0.34253 0.04026 -0.34271 0.04187 -0.34323 0.04349 C -0.34392 0.04534 -0.34531 0.0465 -0.34566 0.04835 C -0.34705 0.05413 -0.34705 0.06015 -0.34809 0.06593 C -0.35017 0.09508 -0.35017 0.13926 -0.36736 0.16216 C -0.37031 0.17419 -0.3776 0.18367 -0.38073 0.19593 C -0.38212 0.20819 -0.38194 0.20357 -0.38194 0.21028 E">
                                      <p:cBhvr>
                                        <p:cTn id="137" dur="3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31159E-006 C -0.01528 -0.00578 0.00225 0.00046 -0.03855 -0.00301 C -0.04792 -0.0037 -0.05764 -0.00925 -0.06754 -0.00948 C -0.13212 -0.01041 -0.19688 -0.01064 -0.26146 -0.0111 C -0.27118 -0.01365 -0.27969 -0.01758 -0.28924 -0.02082 C -0.29445 -0.02544 -0.29948 -0.02961 -0.30487 -0.03354 C -0.30799 -0.03585 -0.31459 -0.04002 -0.31459 -0.04002 C -0.3158 -0.04164 -0.31684 -0.04349 -0.31806 -0.04487 C -0.3191 -0.04603 -0.32066 -0.04673 -0.32171 -0.04811 C -0.32275 -0.0495 -0.32327 -0.05158 -0.32414 -0.05297 C -0.32518 -0.05459 -0.32657 -0.05598 -0.32778 -0.0576 C -0.32917 -0.06477 -0.33056 -0.07125 -0.33143 -0.07865 C -0.33108 -0.08883 -0.33091 -0.09877 -0.33021 -0.10895 C -0.32934 -0.12214 -0.32379 -0.14272 -0.32049 -0.15568 C -0.31858 -0.17719 -0.31059 -0.20472 -0.33021 -0.21351 C -0.33785 -0.21304 -0.34566 -0.21397 -0.35313 -0.21189 C -0.35434 -0.21166 -0.35365 -0.20842 -0.35434 -0.20703 C -0.35608 -0.20356 -0.36025 -0.19732 -0.36025 -0.19732 E">
                                      <p:cBhvr>
                                        <p:cTn id="146" dur="3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8 -0.02568 C -0.00329 -0.02869 -0.00486 -0.02452 -0.01093 -0.02082 C -0.01857 -0.0162 -0.02691 -0.01249 -0.03524 -0.01134 C -0.04131 -0.00717 -0.04878 -0.00232 -0.05555 2.59311E-006 C -0.06215 0.00578 -0.07031 0.00786 -0.07725 0.01295 C -0.08298 0.01688 -0.08923 0.02614 -0.09531 0.02891 C -0.10173 0.03169 -0.09791 0.02961 -0.10625 0.03701 C -0.10763 0.03817 -0.11354 0.03978 -0.11458 0.04025 C -0.12152 0.04349 -0.12795 0.04742 -0.13506 0.04973 C -0.14027 0.05436 -0.14652 0.0539 -0.15191 0.05783 C -0.16076 0.0643 -0.16961 0.07032 -0.17847 0.07703 C -0.1993 0.09276 -0.21579 0.11728 -0.2375 0.13162 C -0.23941 0.13532 -0.24947 0.1529 -0.25312 0.15568 C -0.25451 0.15683 -0.25642 0.15683 -0.25798 0.1573 C -0.26614 0.1647 -0.27361 0.17372 -0.28333 0.17811 C -0.29843 0.19176 -0.30937 0.20078 -0.32656 0.20865 C -0.33229 0.21119 -0.33645 0.21582 -0.34236 0.21836 C -0.34965 0.2216 -0.34479 0.22091 -0.35069 0.22646 C -0.35364 0.22924 -0.35937 0.23224 -0.36284 0.23433 C -0.37274 0.24034 -0.38368 0.24427 -0.39409 0.2489 C -0.40138 0.25214 -0.40937 0.25006 -0.41701 0.25052 C -0.43038 0.24982 -0.44895 0.25514 -0.46163 0.24404 C -0.46527 0.22924 -0.46423 0.23571 -0.46163 0.20541 C -0.46128 0.20217 -0.4592 0.19916 -0.4592 0.19593 C -0.4592 0.19546 -0.4592 0.19477 -0.4592 0.19431 E">
                                      <p:cBhvr>
                                        <p:cTn id="155" dur="3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5.27874E-006 C -0.00209 0.00809 -1.38889000000052E-006 0.00531 -0.00851 0.00161 C -0.01719 -0.00232 -0.02691 0.00046 -0.03611 -5.27874E-006 C -0.04948 -0.00602 -0.06459 -0.00625 -0.0783 -0.01111 C -0.10399 -0.01042 -0.1309 -0.01157 -0.1566 -0.00648 C -0.17934 -0.00186 -0.2007 0.00878 -0.22292 0.01619 C -0.2316 0.02336 -0.24115 0.02636 -0.2507 0.03053 C -0.25538 0.03539 -0.25816 0.03839 -0.26389 0.04024 C -0.27031 0.04556 -0.27639 0.05112 -0.28195 0.05782 C -0.2875 0.06453 -0.29271 0.07471 -0.29879 0.08026 C -0.30695 0.09669 -0.33611 0.10363 -0.34948 0.10594 C -0.35677 0.10918 -0.36476 0.10918 -0.3724 0.1108 C -0.38889 0.11033 -0.40521 0.1101 -0.4217 0.10918 C -0.43125 0.10871 -0.44375 0.099 -0.45313 0.09484 C -0.46146 0.0835 -0.46667 0.07818 -0.4783 0.0754 C -0.49045 0.06731 -0.50608 0.06708 -0.51927 0.06268 C -0.53854 0.0562 -0.55747 0.04556 -0.57709 0.04024 C -0.59097 0.03099 -0.60556 0.01503 -0.61927 0.00809 C -0.63229 0.00138 -0.66354 -0.00903 -0.67709 -0.00949 C -0.71042 -0.01042 -0.74375 -0.01065 -0.77709 -0.01111 C -0.79097 -0.00648 -0.7941 0.00323 -0.7941 0.02081 E">
                                      <p:cBhvr>
                                        <p:cTn id="164" dur="3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44969E-006 C -0.00625 -0.00278 -0.0151 0.00185 -0.0217 0.00301 C -0.03507 0.00902 -0.02326 0.00416 -0.05556 0.00625 C -0.08125 0.00786 -0.10608 0.01342 -0.13142 0.01758 C -0.13976 0.02128 -0.12969 0.01712 -0.14462 0.02082 C -0.15191 0.02267 -0.15885 0.02591 -0.16632 0.0273 C -0.17326 0.0303 -0.17934 0.031 -0.18681 0.03192 C -0.19201 0.03424 -0.19705 0.03655 -0.20243 0.0384 C -0.20365 0.03956 -0.20469 0.04094 -0.20608 0.04164 C -0.20833 0.04303 -0.21337 0.04488 -0.21337 0.04488 C -0.21788 0.04904 -0.22396 0.0532 -0.22899 0.05598 C -0.23351 0.05852 -0.23333 0.05644 -0.23733 0.05922 C -0.24306 0.06315 -0.24948 0.06778 -0.25556 0.07055 C -0.27292 0.08674 -0.30625 0.07819 -0.32049 0.07865 C -0.32535 0.08073 -0.33021 0.08281 -0.33507 0.08489 C -0.34062 0.09021 -0.34774 0.0923 -0.35434 0.09461 C -0.3599 0.09646 -0.3559 0.09577 -0.36146 0.09947 C -0.36736 0.1034 -0.37396 0.10456 -0.37951 0.10895 C -0.38351 0.11219 -0.39757 0.12352 -0.4 0.12838 C -0.40347 0.13555 -0.40121 0.13208 -0.40729 0.13787 C -0.4099 0.14319 -0.4158 0.15175 -0.42049 0.15406 C -0.43333 0.16054 -0.41979 0.15013 -0.43264 0.15892 C -0.44062 0.16424 -0.43108 0.16077 -0.44097 0.16354 C -0.45035 0.17095 -0.4592 0.1765 -0.46875 0.18297 C -0.47413 0.18644 -0.47847 0.19061 -0.48437 0.19246 C -0.48837 0.19778 -0.49167 0.19986 -0.49635 0.20379 C -0.50503 0.2112 -0.5099 0.21952 -0.52049 0.22299 C -0.53559 0.23641 -0.54774 0.23641 -0.56632 0.23757 C -0.57483 0.24127 -0.58264 0.24774 -0.59045 0.25353 C -0.59358 0.25584 -0.5974 0.25653 -0.6 0.26 C -0.60121 0.26162 -0.60226 0.26371 -0.60365 0.26486 C -0.60816 0.26856 -0.61354 0.27041 -0.61806 0.27435 C -0.61979 0.27573 -0.62118 0.27805 -0.62292 0.2792 C -0.62448 0.28013 -0.62621 0.28013 -0.62778 0.28082 C -0.63472 0.28429 -0.64115 0.28892 -0.64826 0.29216 C -0.65312 0.29424 -0.65816 0.29863 -0.66267 0.30164 C -0.67396 0.30904 -0.68576 0.31552 -0.69757 0.32107 C -0.7217 0.32038 -0.7566 0.32686 -0.77951 0.3065 C -0.78212 0.30118 -0.78299 0.29632 -0.78437 0.29054 C -0.78403 0.28614 -0.7842 0.28175 -0.78316 0.27758 C -0.78212 0.27388 -0.77587 0.27111 -0.77587 0.27111 E">
                                      <p:cBhvr>
                                        <p:cTn id="173" dur="3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3" descr="http://www.photos-public-domain.com/wp-content/uploads/2011/03/yellow-parchment-paper-textu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Шарик предлагает выполнить артикуляционную гимнастику по картинкам.(если сделаете её правильно, Шарик залает по щелчку на колокольч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проба 020"/>
          <p:cNvPicPr/>
          <p:nvPr/>
        </p:nvPicPr>
        <p:blipFill>
          <a:blip r:embed="rId2"/>
          <a:stretch/>
        </p:blipFill>
        <p:spPr>
          <a:xfrm>
            <a:off x="228600" y="1371600"/>
            <a:ext cx="3978360" cy="408780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"/>
          <p:cNvGrpSpPr/>
          <p:nvPr/>
        </p:nvGrpSpPr>
        <p:grpSpPr>
          <a:xfrm>
            <a:off x="4267080" y="2133720"/>
            <a:ext cx="2286000" cy="3282840"/>
            <a:chOff x="4267080" y="2133720"/>
            <a:chExt cx="2286000" cy="3282840"/>
          </a:xfrm>
        </p:grpSpPr>
        <p:pic>
          <p:nvPicPr>
            <p:cNvPr id="89" name="Picture 5" descr=""/>
            <p:cNvPicPr/>
            <p:nvPr/>
          </p:nvPicPr>
          <p:blipFill>
            <a:blip r:embed="rId3"/>
            <a:stretch/>
          </p:blipFill>
          <p:spPr>
            <a:xfrm>
              <a:off x="4267080" y="2328480"/>
              <a:ext cx="2286000" cy="30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6"/>
            <p:cNvSpPr/>
            <p:nvPr/>
          </p:nvSpPr>
          <p:spPr>
            <a:xfrm>
              <a:off x="4344120" y="2133720"/>
              <a:ext cx="2164320" cy="1476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7" descr=""/>
          <p:cNvPicPr/>
          <p:nvPr/>
        </p:nvPicPr>
        <p:blipFill>
          <a:blip r:embed="rId4"/>
          <a:stretch/>
        </p:blipFill>
        <p:spPr>
          <a:xfrm>
            <a:off x="6629400" y="2209680"/>
            <a:ext cx="2286000" cy="3203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"/>
          <p:cNvPicPr/>
          <p:nvPr/>
        </p:nvPicPr>
        <p:blipFill>
          <a:blip r:embed="rId5"/>
          <a:stretch/>
        </p:blipFill>
        <p:spPr>
          <a:xfrm>
            <a:off x="5181480" y="1219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3448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3" descr="http://www.photos-public-domain.com/wp-content/uploads/2011/03/yellow-parchment-paper-textu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роскин хочет поиграть с вами в игру «Чего ни стало». Посмотрите на картинки, запомните их, закройте глаза, сейчас Матроскин, какую-то картинку уберет. Чего ни стало?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артинки исчезают по щелчк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1819440" cy="18288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" descr=""/>
          <p:cNvPicPr/>
          <p:nvPr/>
        </p:nvPicPr>
        <p:blipFill>
          <a:blip r:embed="rId3"/>
          <a:stretch/>
        </p:blipFill>
        <p:spPr>
          <a:xfrm>
            <a:off x="0" y="2895480"/>
            <a:ext cx="2057400" cy="140652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26" descr=""/>
          <p:cNvPicPr/>
          <p:nvPr/>
        </p:nvPicPr>
        <p:blipFill>
          <a:blip r:embed="rId4"/>
          <a:stretch/>
        </p:blipFill>
        <p:spPr>
          <a:xfrm>
            <a:off x="4572000" y="2895480"/>
            <a:ext cx="2209680" cy="12286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9" descr="D:\Ксюша\инет\Развивающие книги\НАГЛЯДНО - ДИДАКТИЧЕСКИЕ ПОСОБИЯ\Наглядно-Дидактическое пособие МИР В КАРТИНКАХ\Цветы\Незабудка Ромашка.jpg"/>
          <p:cNvPicPr/>
          <p:nvPr/>
        </p:nvPicPr>
        <p:blipFill>
          <a:blip r:embed="rId5">
            <a:lum contrast="10000"/>
          </a:blip>
          <a:srcRect l="51828" t="5445" r="0" b="12911"/>
          <a:stretch/>
        </p:blipFill>
        <p:spPr>
          <a:xfrm>
            <a:off x="2590920" y="2057400"/>
            <a:ext cx="1979640" cy="23684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3" descr=""/>
          <p:cNvPicPr/>
          <p:nvPr/>
        </p:nvPicPr>
        <p:blipFill>
          <a:blip r:embed="rId6">
            <a:lum contrast="10000"/>
          </a:blip>
          <a:srcRect l="6954" t="4670" r="10190" b="6745"/>
          <a:stretch/>
        </p:blipFill>
        <p:spPr>
          <a:xfrm>
            <a:off x="7010280" y="4952880"/>
            <a:ext cx="1676520" cy="14144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58" descr="рак"/>
          <p:cNvPicPr/>
          <p:nvPr/>
        </p:nvPicPr>
        <p:blipFill>
          <a:blip r:embed="rId7">
            <a:lum contrast="30000"/>
          </a:blip>
          <a:srcRect l="0" t="7695" r="0" b="2953"/>
          <a:stretch/>
        </p:blipFill>
        <p:spPr>
          <a:xfrm>
            <a:off x="6981840" y="2590920"/>
            <a:ext cx="2162160" cy="20444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2" descr="D:\Ксюша\инет\ПРЕЗЕНТАЦИИ\БУКВЫ ЧТЕНИЕ\АЛФАВИТ буква - рисунок\Развивающие карточки АЗБУКА\овощи и продукты\[с] сыр.JPG"/>
          <p:cNvPicPr/>
          <p:nvPr/>
        </p:nvPicPr>
        <p:blipFill>
          <a:blip r:embed="rId8"/>
          <a:srcRect l="5124" t="21128" r="6061" b="19737"/>
          <a:stretch/>
        </p:blipFill>
        <p:spPr>
          <a:xfrm>
            <a:off x="5181480" y="4724280"/>
            <a:ext cx="1671840" cy="16830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7" descr="D:\Ксюша\инет\ПРЕЗЕНТАЦИИ\ЧЕЛОВЕК И ЕГО ДЕЯТЕЛЬНОСТЬ\ПРЕДМЕТЫ ДОМАШНЕГО БЫТА\ПРЕДМЕТЫ ОБИХОДА\ТОПОР.JPG"/>
          <p:cNvPicPr/>
          <p:nvPr/>
        </p:nvPicPr>
        <p:blipFill>
          <a:blip r:embed="rId9"/>
          <a:srcRect l="13402" t="7567" r="0" b="41445"/>
          <a:stretch/>
        </p:blipFill>
        <p:spPr>
          <a:xfrm>
            <a:off x="2971800" y="4876920"/>
            <a:ext cx="1438200" cy="14284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20" descr="D:\Ксюша\инет\Развивающие книги\НАГЛЯДНО - ДИДАКТИЧЕСКИЕ ПОСОБИЯ\Информационно-деловое оснащение ДОУ\Картотека предметных картинок Транспорт Н.В. Нищева\12.jpg"/>
          <p:cNvPicPr/>
          <p:nvPr/>
        </p:nvPicPr>
        <p:blipFill>
          <a:blip r:embed="rId10">
            <a:lum contrast="10000"/>
          </a:blip>
          <a:srcRect l="14565" t="0" r="12625" b="51382"/>
          <a:stretch/>
        </p:blipFill>
        <p:spPr>
          <a:xfrm>
            <a:off x="380880" y="4572000"/>
            <a:ext cx="189252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3" descr="http://www.photos-public-domain.com/wp-content/uploads/2011/03/yellow-parchment-paper-textu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рова Мурка будет с вами играть: замените в словах первый звук на звук Р, чтобы получилось новое слово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т удовольствия Мурка замычит. (по щелчку на колокольч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7086600" y="1295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3"/>
          <a:stretch/>
        </p:blipFill>
        <p:spPr>
          <a:xfrm>
            <a:off x="5181480" y="1905120"/>
            <a:ext cx="3081600" cy="3611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4"/>
          <a:stretch/>
        </p:blipFill>
        <p:spPr>
          <a:xfrm>
            <a:off x="609480" y="1219320"/>
            <a:ext cx="37972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" dur="3312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3" descr="http://www.photos-public-domain.com/wp-content/uploads/2011/03/yellow-parchment-paper-textu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 Матроскина большой огород, поможем ему вскопать гряд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Мы лопатки взя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Грядки раскоп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Грабли в руки взя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Грядки разровня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Семена ряд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Дружно мы сажа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А потом вод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Теплой полив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4800600" y="1371600"/>
            <a:ext cx="36399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3" descr="http://www.photos-public-domain.com/wp-content/uploads/2011/03/yellow-parchment-paper-textu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ядя Федор предлагает поиграть в игру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 Придумай слово по первому слогу»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-ра-ра, начинается игра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прошу со слога Ра мне сейчас назвать сло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086240" y="1600200"/>
            <a:ext cx="2057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ДИ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ОВ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2"/>
          <a:stretch/>
        </p:blipFill>
        <p:spPr>
          <a:xfrm>
            <a:off x="228600" y="1467000"/>
            <a:ext cx="6477120" cy="48416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8061480" y="1447920"/>
            <a:ext cx="207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итель</dc:creator>
  <dc:description/>
  <dc:language>en-US</dc:language>
  <cp:lastModifiedBy>Kyzmin</cp:lastModifiedBy>
  <dcterms:modified xsi:type="dcterms:W3CDTF">2013-04-15T16:27:27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