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DE37-090F-4D3D-A6C9-67C193D0A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30B-4AC6-4170-AC22-899C719E0B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85B-C956-4105-9999-8AC7EF09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BF5-3468-4CD8-8B25-1626C44B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236-08EB-478B-B69D-E6A748A2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7E1-07F0-429E-BCBD-D48D9373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A02-F9DA-4C79-B200-963A3ED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A5D-EC73-46C5-AC47-2F9BAC08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043-FB1D-45FC-ACE0-7D2BF0D9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194-4D5F-4AA6-B81A-3581515C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2C7-EB3C-4FA8-9699-81129A39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AD33-7B4B-4EE1-8DCC-C8FB1BD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7F9-2681-44F8-8CED-1135CD3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7E0-A9E5-45D7-9456-E07ADBC9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2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E7E4-217B-442B-92AA-6F3F49A869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ru.wikipedia.org/wiki/&#1040;.&#1040;._&#1058;&#1091;&#1095;&#1082;&#1086;&#1074;" TargetMode="External"/><Relationship Id="rId3" Type="http://schemas.openxmlformats.org/officeDocument/2006/relationships/hyperlink" Target="http://ru.wikipedia.org/wiki/&#1055;&#1072;&#1074;&#1083;&#1086;&#1074;&#1089;&#1082;&#1080;&#1081;_&#1083;&#1077;&#1081;&#1073;-&#1075;&#1074;&#1072;&#1088;&#1076;&#1080;&#1080;_&#1087;&#1086;&#1083;&#1082;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7;&#1086;&#1083;&#1077;&#1086;&#1085;_I_&#1041;&#1086;&#1085;&#1072;&#1087;&#1072;&#1088;&#1090;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ru.wikipedia.org/wiki/&#1040;&#1083;&#1077;&#1082;&#1089;&#1072;&#1085;&#1076;&#1088;_I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ru.wikipedia.org/wiki/7_&#1089;&#1077;&#1085;&#1090;&#1103;&#1073;&#1088;&#1103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ru.wikipedia.org/wiki/181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0;&#1091;&#1090;&#1091;&#1079;&#1086;&#1074;,_&#1052;&#1080;&#1093;&#1072;&#1080;&#1083;_&#1048;&#1083;&#1083;&#1072;&#1088;&#1080;&#1086;&#1085;&#1086;&#1074;&#1080;&#1095;" TargetMode="External"/><Relationship Id="rId4" Type="http://schemas.openxmlformats.org/officeDocument/2006/relationships/hyperlink" Target="http://ru.wikipedia.org/wiki/&#1053;&#1072;&#1087;&#1086;&#1083;&#1077;&#1086;&#1085;_I_&#1041;&#1086;&#1085;&#1072;&#1087;&#1072;&#1088;&#1090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"/>
              </a:rPr>
              <a:t>Бородинское сражение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ла ученица 9 класса Беля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Белякова Светла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214200" y="228240"/>
            <a:ext cx="62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сле захвата флешей (укрепления) основная борьба развернулась за центр русской позиции — батарею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Раевского,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торая в 9 и 11 часов утра подверглась двум сильным атакам проти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Файл:Rajevskij N N.jpg"/>
          <p:cNvPicPr/>
          <p:nvPr/>
        </p:nvPicPr>
        <p:blipFill>
          <a:blip r:embed="rId1"/>
          <a:stretch/>
        </p:blipFill>
        <p:spPr>
          <a:xfrm>
            <a:off x="6176880" y="214200"/>
            <a:ext cx="2735280" cy="314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Файл:Lejb Guard Litov attack at Borodino.jpg"/>
          <p:cNvPicPr/>
          <p:nvPr/>
        </p:nvPicPr>
        <p:blipFill>
          <a:blip r:embed="rId2"/>
          <a:stretch/>
        </p:blipFill>
        <p:spPr>
          <a:xfrm>
            <a:off x="214200" y="3286080"/>
            <a:ext cx="5059440" cy="3357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Файл:Borodino5.jpg"/>
          <p:cNvPicPr/>
          <p:nvPr/>
        </p:nvPicPr>
        <p:blipFill>
          <a:blip r:embed="rId1"/>
          <a:stretch/>
        </p:blipFill>
        <p:spPr>
          <a:xfrm>
            <a:off x="4000680" y="214200"/>
            <a:ext cx="4940280" cy="3714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42920" y="219240"/>
            <a:ext cx="4000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Главный мону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усским воинам, Героям Бородинского  сражения, на батарее Рае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40006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Батарея Раевского, которая после падения флешей стала открыта уже не только для фронтального, но и для флангового удара. Наполеон сосредоточил против нее огонь около 300 орудий (половина всей действовавшей в битве французской артиллер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Файл:Открытка Бородино 1900-е.jpg"/>
          <p:cNvPicPr/>
          <p:nvPr/>
        </p:nvPicPr>
        <p:blipFill>
          <a:blip r:embed="rId1"/>
          <a:stretch/>
        </p:blipFill>
        <p:spPr>
          <a:xfrm>
            <a:off x="5214960" y="4286160"/>
            <a:ext cx="3714840" cy="2386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14200" y="5715000"/>
            <a:ext cx="52866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есто гибели генерал-майора </a:t>
            </a:r>
            <a:r>
              <a:rPr b="0" lang="ru-RU" sz="20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А.А. Туч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214200" y="1357200"/>
            <a:ext cx="89298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учков, стремясь ликвид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пасность, принял реш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меры к возвращению кург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н лично организов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онтратаку во главе полка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Павловских гренадер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. Курган был возвращен, но сам генерал-лейтен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лучил смертельн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Файл:Tuchkov 1 N A.jpg"/>
          <p:cNvPicPr/>
          <p:nvPr/>
        </p:nvPicPr>
        <p:blipFill>
          <a:blip r:embed="rId4"/>
          <a:stretch/>
        </p:blipFill>
        <p:spPr>
          <a:xfrm>
            <a:off x="214200" y="214200"/>
            <a:ext cx="2714760" cy="3073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2765880" y="214200"/>
            <a:ext cx="633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Тучков Николай Алекс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генерал - лейтен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214200" y="245160"/>
            <a:ext cx="8715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ЛИХАЧЕВ Петр Гаврилович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енерал-май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Бородинском сражении пехотная дивизия Лихачева обороняла батарею Раевского (центр русской позиции). Когда противник ворвался на батарею, Лихачев (тяжелобольной) бросился навстречу со шпагой в руке, был исколот штыками и захвачен в плен; умер от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Файл:Lihachyov Pyotr Gavrilovich.jpg"/>
          <p:cNvPicPr/>
          <p:nvPr/>
        </p:nvPicPr>
        <p:blipFill>
          <a:blip r:embed="rId1"/>
          <a:stretch/>
        </p:blipFill>
        <p:spPr>
          <a:xfrm>
            <a:off x="214200" y="214200"/>
            <a:ext cx="2778120" cy="3214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йл:Battle of Borodino.jpg"/>
          <p:cNvPicPr/>
          <p:nvPr/>
        </p:nvPicPr>
        <p:blipFill>
          <a:blip r:embed="rId1"/>
          <a:stretch/>
        </p:blipFill>
        <p:spPr>
          <a:xfrm>
            <a:off x="928800" y="214200"/>
            <a:ext cx="7286400" cy="390708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214200" y="4214880"/>
            <a:ext cx="87156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2-часовое сражение, в ходе которого французам удалось захватить позиции русской армии в центре и на левом крыле, завершилось отходом французской армии после прекращения боевых действий на исходные позиции. На следующий день русская армия возобновила от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142920" y="214200"/>
            <a:ext cx="878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ие войска под командованием генерала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М. И. Кутузова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порной героической обороной и искусными действиями сорвали наполеоновский  план разгрома русской армии в генеральном  сражен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Файл:Kutuzov1.jpg"/>
          <p:cNvPicPr/>
          <p:nvPr/>
        </p:nvPicPr>
        <p:blipFill>
          <a:blip r:embed="rId1"/>
          <a:stretch/>
        </p:blipFill>
        <p:spPr>
          <a:xfrm>
            <a:off x="5827680" y="2786040"/>
            <a:ext cx="2986200" cy="3857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214200" y="292896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Это сражение недаром получило названи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«битвы генералов»: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 русских было убито 6 и ранено 23 генерала, у французов еще больше — 12 убито и 38 ра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214200" y="3571920"/>
            <a:ext cx="86439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воспоминаниям французского генерала Пеле, участника Бородинской битвы,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1"/>
              </a:rPr>
              <a:t>Наполеон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часто повторял подобную фразу: «Бородинское сражение было самое прекрасное и самое грозное, французы показали себя достойными победы, a русские заслужили быть непобедимы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Файл:Ermolov-borodino.jpg"/>
          <p:cNvPicPr/>
          <p:nvPr/>
        </p:nvPicPr>
        <p:blipFill>
          <a:blip r:embed="rId2"/>
          <a:stretch/>
        </p:blipFill>
        <p:spPr>
          <a:xfrm>
            <a:off x="2000160" y="214200"/>
            <a:ext cx="507204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1000336719[1]"/>
          <p:cNvPicPr/>
          <p:nvPr/>
        </p:nvPicPr>
        <p:blipFill>
          <a:blip r:embed="rId1"/>
          <a:stretch/>
        </p:blipFill>
        <p:spPr>
          <a:xfrm>
            <a:off x="324000" y="260280"/>
            <a:ext cx="8391240" cy="4977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82400" y="357120"/>
            <a:ext cx="682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Конец Бородинского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14240" y="5000760"/>
          <a:ext cx="7715520" cy="1646280"/>
        </p:xfrm>
        <a:graphic>
          <a:graphicData uri="http://schemas.openxmlformats.org/drawingml/2006/table">
            <a:tbl>
              <a:tblPr/>
              <a:tblGrid>
                <a:gridCol w="3857760"/>
                <a:gridCol w="3857760"/>
              </a:tblGrid>
              <a:tr h="4572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те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−60 тыс. че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−45 тыс. чел.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Picture 2" descr="Файл:Flag of France.svg"/>
          <p:cNvPicPr/>
          <p:nvPr/>
        </p:nvPicPr>
        <p:blipFill>
          <a:blip r:embed="rId2"/>
          <a:stretch/>
        </p:blipFill>
        <p:spPr>
          <a:xfrm>
            <a:off x="785880" y="500076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Файл:Flag of Russia.svg"/>
          <p:cNvPicPr/>
          <p:nvPr/>
        </p:nvPicPr>
        <p:blipFill>
          <a:blip r:embed="rId3"/>
          <a:stretch/>
        </p:blipFill>
        <p:spPr>
          <a:xfrm>
            <a:off x="7643880" y="5000760"/>
            <a:ext cx="714240" cy="4762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1" descr="Файл:Kutuzov fili.jpg"/>
          <p:cNvPicPr/>
          <p:nvPr/>
        </p:nvPicPr>
        <p:blipFill>
          <a:blip r:embed="rId1"/>
          <a:stretch/>
        </p:blipFill>
        <p:spPr>
          <a:xfrm>
            <a:off x="2705040" y="214200"/>
            <a:ext cx="6237360" cy="3500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9"/>
          <p:cNvSpPr/>
          <p:nvPr/>
        </p:nvSpPr>
        <p:spPr>
          <a:xfrm>
            <a:off x="2714760" y="4000680"/>
            <a:ext cx="621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утузов вынужден был продолжать отступательную стратегию. Но, уступая требованиям армии и общества, дал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Бородинское сражение и на военном совете в Филях принял нелегкое решение об оставлении Моск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214200" y="1357200"/>
            <a:ext cx="22860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Александр I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ъяв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 Бородинс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ражении,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 поб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Файл:Alkruger.jpg"/>
          <p:cNvPicPr/>
          <p:nvPr/>
        </p:nvPicPr>
        <p:blipFill>
          <a:blip r:embed="rId3"/>
          <a:stretch/>
        </p:blipFill>
        <p:spPr>
          <a:xfrm>
            <a:off x="0" y="3214800"/>
            <a:ext cx="2357280" cy="3314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428760" y="78588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ая армия отступила, но сохранила боеспособность и вскоре изгнала Наполеона из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Файл:Borodino lubok.jpg"/>
          <p:cNvPicPr/>
          <p:nvPr/>
        </p:nvPicPr>
        <p:blipFill>
          <a:blip r:embed="rId1"/>
          <a:stretch/>
        </p:blipFill>
        <p:spPr>
          <a:xfrm>
            <a:off x="500040" y="2786040"/>
            <a:ext cx="8143920" cy="35528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Файл:Battle of Borodino panorama fragment 1.jpg"/>
          <p:cNvPicPr/>
          <p:nvPr/>
        </p:nvPicPr>
        <p:blipFill>
          <a:blip r:embed="rId1"/>
          <a:stretch/>
        </p:blipFill>
        <p:spPr>
          <a:xfrm>
            <a:off x="357120" y="3143160"/>
            <a:ext cx="8400960" cy="1984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2"/>
          <a:stretch/>
        </p:blipFill>
        <p:spPr>
          <a:xfrm>
            <a:off x="-23760" y="324000"/>
            <a:ext cx="9405720" cy="14256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7"/>
          <p:cNvSpPr/>
          <p:nvPr/>
        </p:nvSpPr>
        <p:spPr>
          <a:xfrm>
            <a:off x="428760" y="2143080"/>
            <a:ext cx="8215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7 сентября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26 августа по старому стилю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Файл:Fire of Moscow 1812.jpg"/>
          <p:cNvPicPr/>
          <p:nvPr/>
        </p:nvPicPr>
        <p:blipFill>
          <a:blip r:embed="rId1"/>
          <a:stretch/>
        </p:blipFill>
        <p:spPr>
          <a:xfrm>
            <a:off x="1000080" y="214200"/>
            <a:ext cx="7143840" cy="44164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285840" y="4549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14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полеон занял Москву без боя, а уже ночью того же дня город был охвачен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жаром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который к ночи 15 сентября усилился настолько, что Наполеон был вынужден покинуть Кремль. Пожар бушевал до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8 сен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 уничтожил большую часть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Файл:Odwrot spod Moskwy.jpg"/>
          <p:cNvPicPr/>
          <p:nvPr/>
        </p:nvPicPr>
        <p:blipFill>
          <a:blip r:embed="rId1"/>
          <a:stretch/>
        </p:blipFill>
        <p:spPr>
          <a:xfrm>
            <a:off x="428760" y="285840"/>
            <a:ext cx="8072280" cy="47149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285840" y="51436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9 октябр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ская армия (110 тысяч) с огромным обозом стала покидать Москву по старой Калужской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1000336740[1]"/>
          <p:cNvPicPr/>
          <p:nvPr/>
        </p:nvPicPr>
        <p:blipFill>
          <a:blip r:embed="rId1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0004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Отступление французской ар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Файл:French retreat in 1812 by Pryanishikov.jpg"/>
          <p:cNvPicPr/>
          <p:nvPr/>
        </p:nvPicPr>
        <p:blipFill>
          <a:blip r:embed="rId1"/>
          <a:stretch/>
        </p:blipFill>
        <p:spPr>
          <a:xfrm>
            <a:off x="214200" y="214200"/>
            <a:ext cx="4929480" cy="327348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214960" y="50004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ская ар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зобновила от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моленску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орогой, по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тупала на Мос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285840" y="3929040"/>
            <a:ext cx="8643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ранцузская армия перестала существовать, а вся кампания завершилась полным успехом русских за исключением того, что им не удалось взять в плен самого Наполеона и его ближайших сотруд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5"/>
          <p:cNvSpPr/>
          <p:nvPr/>
        </p:nvSpPr>
        <p:spPr>
          <a:xfrm>
            <a:off x="142920" y="198000"/>
            <a:ext cx="87868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КУТУЗОВ Михаил  Илларион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745-1813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ветлейший князь Смоленский (181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усский полководе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енерал-фельдмаршал (18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214200" y="529164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утузова назначили  главнокомандующим  всеми армиями,  действовавшими  про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поле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Файл:Kutuzov by Volkov.jpg"/>
          <p:cNvPicPr/>
          <p:nvPr/>
        </p:nvPicPr>
        <p:blipFill>
          <a:blip r:embed="rId1"/>
          <a:stretch/>
        </p:blipFill>
        <p:spPr>
          <a:xfrm>
            <a:off x="5929200" y="1714680"/>
            <a:ext cx="2919600" cy="3643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Файл:Suvorov Alex V.jpg"/>
          <p:cNvPicPr/>
          <p:nvPr/>
        </p:nvPicPr>
        <p:blipFill>
          <a:blip r:embed="rId2"/>
          <a:stretch/>
        </p:blipFill>
        <p:spPr>
          <a:xfrm>
            <a:off x="214200" y="2928960"/>
            <a:ext cx="171612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2340000" y="2857680"/>
            <a:ext cx="231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Учени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лександ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ув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3214800" y="214200"/>
            <a:ext cx="564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полеон  Бонопарт – император Фра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Наполеон I"/>
          <p:cNvPicPr/>
          <p:nvPr/>
        </p:nvPicPr>
        <p:blipFill>
          <a:blip r:embed="rId1"/>
          <a:stretch/>
        </p:blipFill>
        <p:spPr>
          <a:xfrm>
            <a:off x="214200" y="214200"/>
            <a:ext cx="2890800" cy="35719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214200" y="1357200"/>
            <a:ext cx="87156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часов утра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24 июн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2 ию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 старому стилю) </a:t>
            </a: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2"/>
              </a:rPr>
              <a:t>1812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ранцузские войска вошли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оссийский город Ко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совр. Каун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Литве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орсиров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реку Нем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Файл:Pw1.jpg"/>
          <p:cNvPicPr/>
          <p:nvPr/>
        </p:nvPicPr>
        <p:blipFill>
          <a:blip r:embed="rId3"/>
          <a:stretch/>
        </p:blipFill>
        <p:spPr>
          <a:xfrm>
            <a:off x="3714840" y="3214800"/>
            <a:ext cx="52149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428760" y="230400"/>
            <a:ext cx="84294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Генеральная би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(БОРОДИНСКОЕ С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ампании 1812 между русскими и наполеоновскими войсками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26 августа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7 сентября) в районе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. Бородина,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124 км к западу от Мос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85880" y="4786200"/>
          <a:ext cx="7715160" cy="1463760"/>
        </p:xfrm>
        <a:graphic>
          <a:graphicData uri="http://schemas.openxmlformats.org/drawingml/2006/table">
            <a:tbl>
              <a:tblPr/>
              <a:tblGrid>
                <a:gridCol w="3857400"/>
                <a:gridCol w="3857760"/>
              </a:tblGrid>
              <a:tr h="5191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ы стор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a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−135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7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43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−120 тыс. чел.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0−640 оруд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2" descr="Файл:Flag of France.svg"/>
          <p:cNvPicPr/>
          <p:nvPr/>
        </p:nvPicPr>
        <p:blipFill>
          <a:blip r:embed="rId1"/>
          <a:stretch/>
        </p:blipFill>
        <p:spPr>
          <a:xfrm>
            <a:off x="1857240" y="3214800"/>
            <a:ext cx="157176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Файл:Flag of Russia.svg"/>
          <p:cNvPicPr/>
          <p:nvPr/>
        </p:nvPicPr>
        <p:blipFill>
          <a:blip r:embed="rId2"/>
          <a:stretch/>
        </p:blipFill>
        <p:spPr>
          <a:xfrm>
            <a:off x="5786280" y="314316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Файл:Vereshagin.Napoleon near Borodino.jpg"/>
          <p:cNvPicPr/>
          <p:nvPr/>
        </p:nvPicPr>
        <p:blipFill>
          <a:blip r:embed="rId1"/>
          <a:stretch/>
        </p:blipFill>
        <p:spPr>
          <a:xfrm>
            <a:off x="214200" y="214200"/>
            <a:ext cx="5224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Файл:Kutuzovborodino.jpg"/>
          <p:cNvPicPr/>
          <p:nvPr/>
        </p:nvPicPr>
        <p:blipFill>
          <a:blip r:embed="rId2"/>
          <a:stretch/>
        </p:blipFill>
        <p:spPr>
          <a:xfrm>
            <a:off x="4000680" y="3286080"/>
            <a:ext cx="492912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-214200" y="4071960"/>
            <a:ext cx="42148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3"/>
              </a:rPr>
              <a:t>М. И. Кутузов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 командном пун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день Бородинского с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5710680" y="785880"/>
            <a:ext cx="3091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42b00"/>
                </a:solidFill>
                <a:uFillTx/>
                <a:latin typeface="Century Gothic"/>
                <a:hlinkClick r:id="rId4"/>
              </a:rPr>
              <a:t>Наполеон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 Бородинск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ысо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14200" y="142920"/>
            <a:ext cx="871560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Начало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ражение началось в 5 час. утра атакой частей корпуса вице-короля Италии Э. Богарне на позицию лейб-гвардии Егерского полка у с. Бородина. Французы овладели этим пунктом, но это был их отвлекающий манев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5 час. 3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Наполе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брушил с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вный уд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тив 2-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ар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Баграт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Файл:Peter von Hess 002.jpg"/>
          <p:cNvPicPr/>
          <p:nvPr/>
        </p:nvPicPr>
        <p:blipFill>
          <a:blip r:embed="rId1"/>
          <a:stretch/>
        </p:blipFill>
        <p:spPr>
          <a:xfrm>
            <a:off x="3168720" y="3000240"/>
            <a:ext cx="5783040" cy="364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214200" y="28800"/>
            <a:ext cx="871560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БАГРАТИОН Петр Иванови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1765-1812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князь, российский генер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 Бородинском сра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его войска защищали левый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фланг русской позици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няли на себя в начале б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главный удар превосходящих сил Наполе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Стойко обороняя занятые рубежи, Багратион лично водил свои части в контратаки, в одной из которых получил тяжелую рану осколком грана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Файл:Bagration P I.jpg"/>
          <p:cNvPicPr/>
          <p:nvPr/>
        </p:nvPicPr>
        <p:blipFill>
          <a:blip r:embed="rId1"/>
          <a:stretch/>
        </p:blipFill>
        <p:spPr>
          <a:xfrm>
            <a:off x="214200" y="214200"/>
            <a:ext cx="286380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0920" y="135000"/>
            <a:ext cx="8713800" cy="6580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0:49:01Z</dcterms:created>
  <dc:creator>WINDOWS XP</dc:creator>
  <dc:description/>
  <dc:language>en-US</dc:language>
  <cp:lastModifiedBy>1</cp:lastModifiedBy>
  <dcterms:modified xsi:type="dcterms:W3CDTF">2013-04-29T13:39:19Z</dcterms:modified>
  <cp:revision>49</cp:revision>
  <dc:subject/>
  <dc:title>Слайд 1</dc:title>
</cp:coreProperties>
</file>