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6C7D-180B-4477-81AB-B7A5431B3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E844-2FBB-4317-8AF9-828A3C9F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0BB0-5708-4CC3-8B0D-7DB751878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50A3-BFA3-4F6F-A5BE-797441269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564A-6DEB-477D-806D-89FC7626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982B-62D6-4EB9-8D39-72D53B3C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58BE-151F-4040-AF84-21D43859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C1C9-6CFD-4B36-950B-115A538C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67F2-F728-416A-8C00-A29FEE6D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9B27-9D7A-4380-96EF-C3E86A4F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E10E-FA0D-4669-8631-6E32714B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27CA-317F-4B4D-BDDF-CF8B899C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A480-80F6-4FCF-BCCF-1FC140E97EA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Impact"/>
              </a:rPr>
              <a:t>Дымковская игрушка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Содержимое 3" descr="http://www.3ezhika.ru/mamaladushka/wp-content/uploads/dymkovo_toys_8.jpg"/>
          <p:cNvPicPr/>
          <p:nvPr/>
        </p:nvPicPr>
        <p:blipFill>
          <a:blip r:embed="rId1"/>
          <a:stretch/>
        </p:blipFill>
        <p:spPr>
          <a:xfrm>
            <a:off x="1116000" y="1600200"/>
            <a:ext cx="6120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Содержимое 4" descr="http://www.3ezhika.ru/mamaladushka/wp-content/uploads/images-1-150x150.jpg"/>
          <p:cNvPicPr/>
          <p:nvPr/>
        </p:nvPicPr>
        <p:blipFill>
          <a:blip r:embed="rId1"/>
          <a:stretch/>
        </p:blipFill>
        <p:spPr>
          <a:xfrm>
            <a:off x="971640" y="1700280"/>
            <a:ext cx="3384360" cy="4392720"/>
          </a:xfrm>
          <a:prstGeom prst="rect">
            <a:avLst/>
          </a:prstGeom>
          <a:ln w="0">
            <a:noFill/>
          </a:ln>
        </p:spPr>
      </p:pic>
      <p:pic>
        <p:nvPicPr>
          <p:cNvPr id="47" name="Содержимое 5" descr="http://www.3ezhika.ru/mamaladushka/wp-content/uploads/images1-150x150.jpg"/>
          <p:cNvPicPr/>
          <p:nvPr/>
        </p:nvPicPr>
        <p:blipFill>
          <a:blip r:embed="rId2"/>
          <a:stretch/>
        </p:blipFill>
        <p:spPr>
          <a:xfrm>
            <a:off x="4932360" y="1700280"/>
            <a:ext cx="37432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Содержимое 3" descr="http://www.3ezhika.ru/mamaladushka/wp-content/uploads/dymkovo_toys_16.jpg"/>
          <p:cNvPicPr/>
          <p:nvPr/>
        </p:nvPicPr>
        <p:blipFill>
          <a:blip r:embed="rId1"/>
          <a:stretch/>
        </p:blipFill>
        <p:spPr>
          <a:xfrm>
            <a:off x="1979640" y="1919160"/>
            <a:ext cx="554508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Содержимое 3" descr="http://viki.rdf.ru/media/upload/preview/2_.png"/>
          <p:cNvPicPr/>
          <p:nvPr/>
        </p:nvPicPr>
        <p:blipFill>
          <a:blip r:embed="rId1"/>
          <a:stretch/>
        </p:blipFill>
        <p:spPr>
          <a:xfrm>
            <a:off x="1692360" y="1052640"/>
            <a:ext cx="619272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Рисунок 3" descr="http://savepic.ru/2568525.jpg"/>
          <p:cNvPicPr/>
          <p:nvPr/>
        </p:nvPicPr>
        <p:blipFill>
          <a:blip r:embed="rId1"/>
          <a:stretch/>
        </p:blipFill>
        <p:spPr>
          <a:xfrm>
            <a:off x="755640" y="836640"/>
            <a:ext cx="6912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Содержимое 4" descr="http://img0.liveinternet.ru/images/attach/c/6/90/318/90318876_0003003CHemznamenitoDymkovo.jpg"/>
          <p:cNvPicPr/>
          <p:nvPr/>
        </p:nvPicPr>
        <p:blipFill>
          <a:blip r:embed="rId1"/>
          <a:stretch/>
        </p:blipFill>
        <p:spPr>
          <a:xfrm>
            <a:off x="395280" y="1125360"/>
            <a:ext cx="3889440" cy="5040360"/>
          </a:xfrm>
          <a:prstGeom prst="rect">
            <a:avLst/>
          </a:prstGeom>
          <a:ln w="0">
            <a:noFill/>
          </a:ln>
        </p:spPr>
      </p:pic>
      <p:pic>
        <p:nvPicPr>
          <p:cNvPr id="57" name="Содержимое 5" descr="http://www.giport.ru/img/forum/2009/02/2356_18221123_1.jpg"/>
          <p:cNvPicPr/>
          <p:nvPr/>
        </p:nvPicPr>
        <p:blipFill>
          <a:blip r:embed="rId2"/>
          <a:stretch/>
        </p:blipFill>
        <p:spPr>
          <a:xfrm>
            <a:off x="3924360" y="1197000"/>
            <a:ext cx="47480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Содержимое 3" descr="http://www.3ezhika.ru/mamaladushka/wp-content/uploads/%D0%91%D0%B5%D0%B7%D1%8B%D0%BC%D1%8F%D0%BD%D0%BD%D1%8B%D0%B91.jpg"/>
          <p:cNvPicPr/>
          <p:nvPr/>
        </p:nvPicPr>
        <p:blipFill>
          <a:blip r:embed="rId1"/>
          <a:stretch/>
        </p:blipFill>
        <p:spPr>
          <a:xfrm>
            <a:off x="1042920" y="1957320"/>
            <a:ext cx="727416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5:56:58Z</dcterms:created>
  <dc:creator>Фирдус</dc:creator>
  <dc:description/>
  <dc:language>en-US</dc:language>
  <cp:lastModifiedBy>Фирдус</cp:lastModifiedBy>
  <dcterms:modified xsi:type="dcterms:W3CDTF">2013-04-10T16:47:22Z</dcterms:modified>
  <cp:revision>5</cp:revision>
  <dc:subject/>
  <dc:title>Дымковская игрушка</dc:title>
</cp:coreProperties>
</file>