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44FF-D924-46B9-87BF-E2871EA5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EB4D-07EE-4D9B-B624-DE2D13C0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84FF-25DC-4153-9A95-BD99B9DA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4794-1554-4615-8056-3890B1EA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F38A-E773-491C-9411-9C8E9AD0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F8DF-FA93-412A-978C-1121BEAD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898-CA27-447F-865D-7AECA5AE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C5A5-907B-489F-B187-FDC887BC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90C-B138-4D4C-93A5-067DBD4F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9738-994A-47B6-BCE2-5C1B7094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06A2-6483-4EBD-B501-379C143D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40AB-848F-4E6B-9474-4B87DB5E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3961-D52C-4B56-8900-B64373FA7C0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Impact"/>
              </a:rPr>
              <a:t>Дымковская игрушка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Содержимое 3" descr="http://www.3ezhika.ru/mamaladushka/wp-content/uploads/dymkovo_toys_8.jpg"/>
          <p:cNvPicPr/>
          <p:nvPr/>
        </p:nvPicPr>
        <p:blipFill>
          <a:blip r:embed="rId1"/>
          <a:stretch/>
        </p:blipFill>
        <p:spPr>
          <a:xfrm>
            <a:off x="1116000" y="1600200"/>
            <a:ext cx="6120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Содержимое 4" descr="http://www.3ezhika.ru/mamaladushka/wp-content/uploads/images-1-150x150.jpg"/>
          <p:cNvPicPr/>
          <p:nvPr/>
        </p:nvPicPr>
        <p:blipFill>
          <a:blip r:embed="rId1"/>
          <a:stretch/>
        </p:blipFill>
        <p:spPr>
          <a:xfrm>
            <a:off x="971640" y="1700280"/>
            <a:ext cx="3384360" cy="439272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5" descr="http://www.3ezhika.ru/mamaladushka/wp-content/uploads/images1-150x150.jpg"/>
          <p:cNvPicPr/>
          <p:nvPr/>
        </p:nvPicPr>
        <p:blipFill>
          <a:blip r:embed="rId2"/>
          <a:stretch/>
        </p:blipFill>
        <p:spPr>
          <a:xfrm>
            <a:off x="4932360" y="1700280"/>
            <a:ext cx="37432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Содержимое 3" descr="http://www.3ezhika.ru/mamaladushka/wp-content/uploads/dymkovo_toys_16.jpg"/>
          <p:cNvPicPr/>
          <p:nvPr/>
        </p:nvPicPr>
        <p:blipFill>
          <a:blip r:embed="rId1"/>
          <a:stretch/>
        </p:blipFill>
        <p:spPr>
          <a:xfrm>
            <a:off x="1979640" y="1919160"/>
            <a:ext cx="554508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Содержимое 3" descr="http://viki.rdf.ru/media/upload/preview/2_.png"/>
          <p:cNvPicPr/>
          <p:nvPr/>
        </p:nvPicPr>
        <p:blipFill>
          <a:blip r:embed="rId1"/>
          <a:stretch/>
        </p:blipFill>
        <p:spPr>
          <a:xfrm>
            <a:off x="1692360" y="1052640"/>
            <a:ext cx="619272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Рисунок 3" descr="http://savepic.ru/2568525.jpg"/>
          <p:cNvPicPr/>
          <p:nvPr/>
        </p:nvPicPr>
        <p:blipFill>
          <a:blip r:embed="rId1"/>
          <a:stretch/>
        </p:blipFill>
        <p:spPr>
          <a:xfrm>
            <a:off x="755640" y="836640"/>
            <a:ext cx="6912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Содержимое 4" descr="http://img0.liveinternet.ru/images/attach/c/6/90/318/90318876_0003003CHemznamenitoDymkovo.jpg"/>
          <p:cNvPicPr/>
          <p:nvPr/>
        </p:nvPicPr>
        <p:blipFill>
          <a:blip r:embed="rId1"/>
          <a:stretch/>
        </p:blipFill>
        <p:spPr>
          <a:xfrm>
            <a:off x="395280" y="1125360"/>
            <a:ext cx="3889440" cy="504036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5" descr="http://www.giport.ru/img/forum/2009/02/2356_18221123_1.jpg"/>
          <p:cNvPicPr/>
          <p:nvPr/>
        </p:nvPicPr>
        <p:blipFill>
          <a:blip r:embed="rId2"/>
          <a:stretch/>
        </p:blipFill>
        <p:spPr>
          <a:xfrm>
            <a:off x="3924360" y="1197000"/>
            <a:ext cx="47480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Содержимое 3" descr="http://www.3ezhika.ru/mamaladushka/wp-content/uploads/%D0%91%D0%B5%D0%B7%D1%8B%D0%BC%D1%8F%D0%BD%D0%BD%D1%8B%D0%B91.jpg"/>
          <p:cNvPicPr/>
          <p:nvPr/>
        </p:nvPicPr>
        <p:blipFill>
          <a:blip r:embed="rId1"/>
          <a:stretch/>
        </p:blipFill>
        <p:spPr>
          <a:xfrm>
            <a:off x="1042920" y="1957320"/>
            <a:ext cx="727416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5:56:58Z</dcterms:created>
  <dc:creator>Фирдус</dc:creator>
  <dc:description/>
  <dc:language>en-US</dc:language>
  <cp:lastModifiedBy>Фирдус</cp:lastModifiedBy>
  <dcterms:modified xsi:type="dcterms:W3CDTF">2013-04-10T16:47:22Z</dcterms:modified>
  <cp:revision>5</cp:revision>
  <dc:subject/>
  <dc:title>Дымковская игрушка</dc:title>
</cp:coreProperties>
</file>