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DC8-6AAB-469D-9DDB-2AEBBCB0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D5F-4627-4754-A072-A60971E2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69E-EAB1-492F-9AFF-90A931BC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B34-2EEE-4146-896D-B46656EA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EB0-5A3B-4F9F-A277-2093386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84A-8DBF-4DE1-B20F-5F620F0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B4D-F1CB-4891-838A-F07C055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09F-AF68-4C79-AC13-6F77DC98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738-1148-4E88-8B67-A562DE34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D4B-2030-4FCD-8945-52CFFAC0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2F8-FC49-4111-8B40-7B690BB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F76-4ECB-4123-903E-6BD9F4B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27B2-3C69-45FE-BE30-288C53C34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cdf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говно"/>
          <p:cNvPicPr/>
          <p:nvPr/>
        </p:nvPicPr>
        <p:blipFill>
          <a:blip r:embed="rId1"/>
          <a:stretch/>
        </p:blipFill>
        <p:spPr>
          <a:xfrm>
            <a:off x="5364000" y="4167360"/>
            <a:ext cx="3780000" cy="26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говно 5"/>
          <p:cNvPicPr/>
          <p:nvPr/>
        </p:nvPicPr>
        <p:blipFill>
          <a:blip r:embed="rId2"/>
          <a:stretch/>
        </p:blipFill>
        <p:spPr>
          <a:xfrm>
            <a:off x="0" y="0"/>
            <a:ext cx="450072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10"/>
          <p:cNvGraphicFramePr/>
          <p:nvPr/>
        </p:nvGraphicFramePr>
        <p:xfrm>
          <a:off x="-1189080" y="7966080"/>
          <a:ext cx="165744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189080" y="7966080"/>
                    <a:ext cx="165744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ши дни очень серьезно стоит вопрос о защите окружающей среды. Бездумная деятельность человека на протяжении веков разрушила среду обитания, но двадцатый век явился временем экологических катастро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042920" y="0"/>
            <a:ext cx="6985080" cy="452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ловая энергетика и загрязнение окружающей среды. Ограниченность ресурсов атмосферы и пределы её естественного само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7628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другие способы для добывания энергии например : ветрогенераторы и солнечные панели. Они не загрязняют природу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говно 3"/>
          <p:cNvPicPr/>
          <p:nvPr/>
        </p:nvPicPr>
        <p:blipFill>
          <a:blip r:embed="rId1"/>
          <a:stretch/>
        </p:blipFill>
        <p:spPr>
          <a:xfrm>
            <a:off x="0" y="0"/>
            <a:ext cx="4211640" cy="376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говно 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http://www.sunhome.ru/UsersGallery/Cards/prazdnik_den_ekolo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170c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просмотр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170cf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делали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и 7 класса «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аманов Крист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бин Миха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2:51:16Z</dcterms:created>
  <dc:creator>Michael Bebin</dc:creator>
  <dc:description/>
  <dc:language>en-US</dc:language>
  <cp:lastModifiedBy>Admin</cp:lastModifiedBy>
  <dcterms:modified xsi:type="dcterms:W3CDTF">2013-02-27T15:23:46Z</dcterms:modified>
  <cp:revision>5</cp:revision>
  <dc:subject/>
  <dc:title>Slide 1</dc:title>
</cp:coreProperties>
</file>