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EC8-FAE7-4D29-A4ED-E2A21FF9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72B-8E2D-4C6C-B326-A279A88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A6C-6747-4CCB-B64A-072954B3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7B4-14A3-487A-A76A-49105C63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116-4F48-44B2-98C9-EFEBA605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68E-BA6B-4B8E-9757-6F8347C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8E6-C0CE-4EBF-96A4-5ECCBC4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B01-A1B8-40A1-ABED-FFA47870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88B-7B11-4B7D-8F55-8573921E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272-F05D-46BF-84C5-43C08B6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834-D8A1-4920-A159-CA71FF9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FC3-667A-4615-B486-EA9162F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14B9-6C6C-49C1-A4A2-6C612D578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cdf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говно"/>
          <p:cNvPicPr/>
          <p:nvPr/>
        </p:nvPicPr>
        <p:blipFill>
          <a:blip r:embed="rId1"/>
          <a:stretch/>
        </p:blipFill>
        <p:spPr>
          <a:xfrm>
            <a:off x="5364000" y="4167360"/>
            <a:ext cx="3780000" cy="26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говно 5"/>
          <p:cNvPicPr/>
          <p:nvPr/>
        </p:nvPicPr>
        <p:blipFill>
          <a:blip r:embed="rId2"/>
          <a:stretch/>
        </p:blipFill>
        <p:spPr>
          <a:xfrm>
            <a:off x="0" y="0"/>
            <a:ext cx="450072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10"/>
          <p:cNvGraphicFramePr/>
          <p:nvPr/>
        </p:nvGraphicFramePr>
        <p:xfrm>
          <a:off x="-1189080" y="7966080"/>
          <a:ext cx="165744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189080" y="7966080"/>
                    <a:ext cx="16574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и дни очень серьезно стоит вопрос о защите окружающей среды. Бездумная деятельность человека на протяжении веков разрушила среду обитания, но двадцатый век явился временем экологических катастро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452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ловая энергетика и загрязнение окружающей среды. Ограниченность ресурсов атмосферы и пределы её естественного само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другие способы для добывания энергии например : ветрогенераторы и солнечные панели. Они не загрязняют природу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говно 3"/>
          <p:cNvPicPr/>
          <p:nvPr/>
        </p:nvPicPr>
        <p:blipFill>
          <a:blip r:embed="rId1"/>
          <a:stretch/>
        </p:blipFill>
        <p:spPr>
          <a:xfrm>
            <a:off x="0" y="0"/>
            <a:ext cx="4211640" cy="376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говно 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sunhome.ru/UsersGallery/Cards/prazdnik_den_ekolo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170c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170cf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делали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и 7 класса «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аманов К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бин Миха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51:16Z</dcterms:created>
  <dc:creator>Michael Bebin</dc:creator>
  <dc:description/>
  <dc:language>en-US</dc:language>
  <cp:lastModifiedBy>Admin</cp:lastModifiedBy>
  <dcterms:modified xsi:type="dcterms:W3CDTF">2013-02-27T15:23:46Z</dcterms:modified>
  <cp:revision>5</cp:revision>
  <dc:subject/>
  <dc:title>Slide 1</dc:title>
</cp:coreProperties>
</file>