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A32C-20EE-4C32-B8DD-A9F95483F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92D0-1B8D-43C4-8848-8F78F3CD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37E3-60DD-4ACE-B6B2-2663DDC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755B-6FC4-4E23-80E8-A30704C0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08EC4-04E5-408F-9B05-D781F0AA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8421-95AE-4B88-AAB4-6C4E989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55A9-CFC7-443A-A46A-5B28FDD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117F-A725-4622-B031-51135A1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149C-C0D7-47C0-8623-F56D719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D682-0C75-4235-84D8-306BFC4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7B09-B160-4688-A688-EE1A24AC8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89FF-301D-4684-A118-5276540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9518-7661-4A51-AA07-E3FC799D7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C3243-B993-42E0-938E-81B158BCA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4BED-1ED3-4D46-8F43-081D3ED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C81A5-9A05-464B-BCDA-391BFAA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20A13-B703-4F3D-8552-26C478C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64D3-A228-4551-906B-8D1B077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8AC9A-742B-4EF7-977E-C63023AF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EDB4-6201-4D52-B708-6650185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168C-3354-4446-A915-9CABE4A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2E4E-11D5-4564-B386-8FED57EC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39D5A-97D5-448A-B065-3B6BA8C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37CDB-04C7-4591-A63E-C313CBFD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B30D6-5602-4828-9951-95F566C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CBCB2-9052-4B0E-A179-51124CC9A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440-06B6-49D9-9F27-7BDE65BB1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E647-1D51-4B37-90EF-D6D0DAD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AB0-8594-458B-A09D-09709036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E8A-E2E7-4CAE-8907-8A8E299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7593-F9EC-4ABD-852F-90719A23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8DBA-3ED0-4F3F-A48C-E25C3C9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7F0-AD53-4B9A-85B4-2EA0A0A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90A4-885A-4491-AAA5-910F72D8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2296-4494-4BF5-9C97-9F8C164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3FE0-EF48-4A73-A857-CC4029F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6A0B-081D-4547-81B2-29B8E533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EF2-C454-4856-8C91-F74749C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426E-078C-4582-A39E-9A908956A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568D4-180C-4573-90A2-CE6C5FB9A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C39A8-034A-4D9F-8425-93A0274D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ABB8D-6774-4961-97AE-4CC2152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AE04-C949-45E3-BE72-4E0D199B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287A4-FE27-4814-A56B-539EF12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46C6-2604-47F2-A94E-2EB98040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FA208-3F82-4F01-82BC-20B8DD2C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E6963-EA3C-429D-B55B-73792F0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2395E-D69E-4B25-9EE3-5C245E6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84376-67D3-4858-A66A-DF4F4484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819AB-F5BA-4272-BFFA-A75CEE4D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29EC1-1576-440A-85F1-84968F92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B51A5-10AF-4D30-834E-FFE4DC121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4C0F6-FFA1-465B-BE6F-68AFAAB12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D88D-8BE6-4624-942A-34E6DB60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55AEC-AC67-4A37-94EC-9F541217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E32A7-4306-4E92-8DAE-DA6F096D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7A567-C1C2-48D6-97DF-D713CB7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C7D3A-F45B-469B-99D8-77641549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861DA-5F1A-4F1E-84AA-DBCC40FF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5BCD8-AF87-44B3-A19F-4FC496A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35BEC-FB44-47FD-A28C-506653F3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EF9B4-EE25-4E03-A892-DB96E2D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018F5-A9EC-40E7-BCA2-A56F599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92F0B-F8A6-40AB-85F2-58FEB28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12CA-83F5-47E5-A487-0688E085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5E531-6A99-4510-9CBF-D1700B161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8979-50B0-49BD-8B1D-6428FF1C9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1741-B6FA-4596-8D22-65CBEAB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63D4-C07C-4DA6-9A96-5ACCE97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970E-4C7D-4F90-8A33-1A6C28C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C09A-DA98-45CF-9A8C-41D81EB5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6B4F-B1EF-45B3-8234-1DAE2A99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3CC2-022B-47C6-89C1-729C2C2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5871-F2F5-4E44-96FA-A600F7A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073B-1649-4B95-91F4-DE5F723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E1E1-E854-4726-8442-A3E819D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CC68-AACC-4DEB-80A5-422824A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ED81-64F6-4E79-AB22-C0772B9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8C7E-C71D-42EA-A2D4-698E067D3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7EA6E-7E78-4CAB-BEBA-52745ED42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63F2F-9A4E-4755-97E7-E675AE0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D5A35-1D11-453F-AD29-58BCAF5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895F1-0F03-4FD5-BB8B-0AC9B92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EE254-EAD2-4D70-BD00-835EF84C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18069-6927-4F69-ACC3-9268C730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D82F2-21FB-415A-9F5E-7941C3B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1B2C-67AD-402A-B702-8F8D21E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B7E96-25D8-420C-8D3B-CDD098F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62E35-03BA-487F-8F44-91211ED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6A877-CF46-43BF-BCA4-04FB0E6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84012-18C2-4626-B59A-C60F4DA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4E93B-79B0-41EA-999D-BCD33386E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5BFF7-9AB6-4176-8C4B-E792EF61E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7C464-8598-41B1-9B5E-F597202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D5C3B-25F6-400D-BE95-FC9B5618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41CE1-8CED-411A-9F3F-1357E3E1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11E88-1B69-4A76-ABA2-6338BA80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0C38-2FA7-4243-B2A2-7233AB8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B2EF1-CD35-49D6-BF71-D1CC6E42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494414-F8F8-434B-8A4B-4FEED0F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D6A4E6-8EA8-447F-8D97-B5B8167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A5B9D-D93B-43B8-81FD-7928076E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45C763-71E1-47B9-807B-300CE140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69FC5-1A28-4E81-9955-C60374E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1996E-4020-4442-AD4F-2FF6F0334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4F91-330A-42D9-ACBA-D5FD5A4F5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5A38-E1FD-43FF-BD8B-61EE880A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F574-7563-4CA5-84FB-8E3BB3B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CC105D-1BF1-486A-85D2-4978EDBDE56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9FC666-4AC0-45BD-9363-EBC6B7520268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E6E143-5602-4ECA-B86B-02E1CD1900EA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624D79-0B41-40AA-84EF-332140833E58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84C615-2ADC-479D-9089-4AADCB3FF3A2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D928A4-187C-4023-9FAF-21E595F5A5E1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95BEF7-4C5E-4879-A33A-C26CB580ABC2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D64B4B-D141-404C-B4FA-B9CDEBA0BC78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EC65EB-C396-4C8C-8BDA-EB49EC440562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304920" y="981000"/>
            <a:ext cx="8686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 создания газеты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— обеспечение единства общественного и семейного воспитания на дошкольной ступени образовани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способствующие реализации данной цели: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оказание родителям квалифицированной психолого-педагогической, методической помощи по вопросам воспитания, обучения, оздоровления детей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 информирование об изменениях в нормативно-правовой базе дошкольного образовани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обеспечение своевременной информацией об особенностях работы образовательного учреждения, о событиях, происходящих в детском саду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ктуальность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многие родители считают наиболее приемлемой для себя формой взаимодействия с ДОУ короткие беседы с воспитателем во время утреннего приема воспитанников и вечером, когда забирают малыша из детского сада. Опыт показывает, что это категорически не достаточно. Одним из путей решения данной проблемы может стать создание информационного издания для родителей ДОУ в виде газеты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ctr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ександрова Анна Александровна,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ctr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арший воспитатель МБДОУ «Детский сад №136» города Чебоксары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685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АЗЕТА ДЛЯ РОДИТЛЕЙ – ЭФФЕКТИВНАЯ ФОРМА СОТРУДНИЧЕСТВА С СЕМЬЕЙ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1" name="Picture 8" descr="C:\Documents and Settings\Администратор\Рабочий стол\136\Для работы\66473653_image001_333.jpg"/>
          <p:cNvPicPr/>
          <p:nvPr/>
        </p:nvPicPr>
        <p:blipFill>
          <a:blip r:embed="rId1"/>
          <a:stretch/>
        </p:blipFill>
        <p:spPr>
          <a:xfrm>
            <a:off x="214200" y="142920"/>
            <a:ext cx="989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ИНФО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формация об изменениях в нормативно-правовой баз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 для родител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 самих родите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ЗУЛЬТАТЫ СОТРУДНИЧЕСТВА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лаженная взаимосвязь между семьей и педагогическим коллективо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вышение уровня активности родительской обществен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фессиональное самосовершенствование педагогов, рост профессионального мастер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еимущества данной формы сотрудничества с родителя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сновные рубрики газет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зультаты сотруднич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C:\Documents and Settings\Администратор\Рабочий стол\i.jpeg"/>
          <p:cNvPicPr/>
          <p:nvPr/>
        </p:nvPicPr>
        <p:blipFill>
          <a:blip r:embed="rId1"/>
          <a:stretch/>
        </p:blipFill>
        <p:spPr>
          <a:xfrm>
            <a:off x="4973760" y="3780000"/>
            <a:ext cx="292104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ЕИМУЩЕСТВА ДАННОЙ ФОРМЫ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ЗАИМОДЕЙСТВИЯ С РОДИТЕЛЯМИ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68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не навязываем свое мнение. Специалисты предоставляют родителям объективную информацию, и они решают, что с ней дела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не ограничиваем родителей во времени. Они могут взять издание домой и изучить его в удобное врем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формация, представленная в издании, напрямую или косвенно касается детей, посещающих ДО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одители всегда в курсе событий, происходящих в детском саду, который посещает их ребен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предоставляем родителям возможность реализовать их право на участие в жизни ДО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СНОВНЫЕ РУБРИКИ ГАЗЕТЫ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лонка редактора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учение и воспитание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доровый ребенок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накомьтесь! Наши педагоги!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и маленькие творцы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овости детского сада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нкурс!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ИНФО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ЛОНКА РЕДАКТОРА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тупительное слово редактора, посвященное тематике номер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ращение к родителя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4" descr="46"/>
          <p:cNvPicPr/>
          <p:nvPr/>
        </p:nvPicPr>
        <p:blipFill>
          <a:blip r:embed="rId1"/>
          <a:stretch/>
        </p:blipFill>
        <p:spPr>
          <a:xfrm>
            <a:off x="4187880" y="3279600"/>
            <a:ext cx="37926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УЧЕНИЕ И ВОСПИТАНИЕ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татьи специалистов по актуальным вопросам воспитания и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овые программы и технологии работы ДО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новационная деятельность в детском саду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ДОРОВЫЙ РЕБЕНОК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физкультурно-оздоровительная работа с деть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бота по обеспечению безопасности жизнедеяте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4" descr="C:\Documents and Settings\Администратор\Рабочий стол\136\Лето\20766.jpeg"/>
          <p:cNvPicPr/>
          <p:nvPr/>
        </p:nvPicPr>
        <p:blipFill>
          <a:blip r:embed="rId1"/>
          <a:stretch/>
        </p:blipFill>
        <p:spPr>
          <a:xfrm>
            <a:off x="2676600" y="3127320"/>
            <a:ext cx="29322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НАКОМЬТЕСЬ! НАШИ ПЕДАГОГИ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аткие рассказы о педагогах, специалиста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остижения, награды педагог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И МАЛЕНЬКИЕ ТВОРЦЫ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ворческие работы дет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фотографии по изобразительной и театрализованн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ворческие игр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имеры словотворч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а</cp:lastModifiedBy>
  <dcterms:modified xsi:type="dcterms:W3CDTF">2013-04-29T12:39:45Z</dcterms:modified>
  <cp:revision>23</cp:revision>
  <dc:subject/>
  <dc:title>Слайд 1</dc:title>
</cp:coreProperties>
</file>