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7E46E-8B72-421D-84B3-F610D23834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E2234-04B8-4B1B-810C-1CE8FAA2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23983-2E25-4AA7-AF6B-1E74FEBD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F8718-7996-4960-AB28-4DC842986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C91D2-3088-4FF0-AFA3-2CD4346B8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D49A5-74CF-4BCD-883B-DB6B6642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B5A77-CED6-4359-AB8A-DD190F84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58435-ED94-4607-B5D0-36EE4F48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A7B90-BC14-45E8-A493-B57DA2BE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F48DE-31DF-49B1-AB88-651CB8CE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57B28-4F2B-4DBA-9405-BA09D33C9F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3CBC4-59FE-4E3E-9FD1-60AF0E53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D61FA-195F-4A6D-97CE-0E1DBE774C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123506-4991-4DC4-959E-4DFBCB9F3A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93A42-0957-4B19-BC27-AB0D35B5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7778F-4696-4EAB-B374-CEF0777E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1FA3E-1070-4212-858E-5C8E8A19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CDC639-6312-42E1-BF93-1D003CBFE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3CBBC-8B12-427A-A25F-666A98298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C0498-E04D-4C34-BC47-D79A54CF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AD559-55A1-4B5F-B7D1-93F5D418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6FA9A-237C-4461-BE1B-853E096B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8AA9F-6269-4618-8C3B-806C3064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7B5D6-C547-4FE3-9BBC-0ECAD102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9E135-94C7-4A5D-93B4-1FF6871A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FCAF1-F795-43FD-B102-A6F73C570F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ABDF-47F2-4BCE-9871-07B0EB4D68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19D8-81F5-4D9B-A263-9B53F6E0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5FA1-A216-4F68-BB2C-5B378BB8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F732-79F5-4201-B346-4328D32B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FE95-2578-4FF9-9463-0F67FF4AB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D70DA-64B4-4865-BE9C-03F22D49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96AB-D2C4-406B-ACD5-24A065F9F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2398-F237-45D8-9D19-4067F1BE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7C08-D79E-438B-8A80-2B0D2D43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6CC7-0AD0-4786-A55A-FCF8E9EF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A814-0403-44F0-A227-3094000F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B565-BCDB-4781-A64F-BC7B52BF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2778-9923-4C1C-854D-B092EBEE3F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1046EA-51C0-4E41-A624-AF5E681D6E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C56F53-44E5-42F1-BC5A-017FADA2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87DE38-0598-464F-A153-FCA095A6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F9DFD-97B8-4B39-9435-7CE996A2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B371C3-1A8E-488B-99ED-D854437D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F515CD-0586-4828-9947-DE0961FD6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D30535-11E1-410D-A366-BE23655DB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5E816B-BA86-4C0C-9AA2-0FD3DA9E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7C391D-D4A0-4066-8918-69B1ECC1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A4D6C8-2A9A-4D11-AD74-6A1BED1E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5A2D80-CCCC-4DB6-B057-A0018F0A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C52C17-5FC0-4600-AD37-C947627B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EB738A-68CC-4274-93F4-413D445968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9FEB88-1AD1-495F-BCEE-086874789A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92481-FD14-4490-80A7-1CD7A7808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62E10A-39A7-4486-BBC7-9658514B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C6A293-3EDF-47F7-904F-B6BB35DF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72ADCA-9028-4CBD-9401-50EA8B01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9CA5CC-5858-46DB-B1E3-25243BC5C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86BA75-31F9-403C-AD14-6E474351A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BA6C73-ECF1-44CA-B09C-47E91D47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E1C751-D0BF-4B2F-B598-06259AE6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64A2EA-30E3-48E0-B031-EB1AB45A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3F0ECA-438A-486E-B00E-A8A961CE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157CB4-3199-404E-838D-822AB64E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052C8-C0EB-4BDA-BCD7-B7995BCAB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2DC9AE-FE1D-4A87-8E4E-DF6F509528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5F2D6-AC87-4B9E-B677-335F71ACB8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06374-597C-43B2-A28F-153BAB24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F3D6B-0CA6-46F4-AF3C-617FC578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56D03-3543-4DF2-A503-9AAF57A0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944D6-CFCA-412D-8633-E4A3BBEF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A5711-9877-4BD2-9E37-C0A402B9B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B10A8-2D16-4AB9-9440-B580803F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6E6BE-3F17-4F80-A5F5-2C1115A3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FEBAF-3AB1-4B73-B2E5-8D66A07E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48FAD-8A4A-4249-B1DA-FB784F83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56083-6887-4A10-A039-B28C18FB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C0A06-5C7C-4A73-BB41-1B2C3F14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7E1E2-8472-4C80-AFA8-626764DEDD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9E4CC4-37DC-4993-AB0A-92310236C1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15E556-25BF-4D47-B829-EF232884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295B7B-924D-425D-93CC-911602FF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3D4B70-225D-4972-806B-14EFC353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1574F3-2F6D-42BE-9F98-BC39351FB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173A9A-EBE8-4BD2-9E49-8C87705EC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1EEF63-40F6-4BDB-A2B9-5D9F0679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31B4E-820C-43E9-8A7A-A7C460E5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B2BDA4-4DEA-4A4E-8007-46622A77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87CC93-80B3-4871-A3A1-747A78BB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12EACA-4668-47D3-B9A5-BD72E893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7101A9-05FE-427E-8ABF-851F93DB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8695C1-F699-4715-B22A-9AA3E61821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99E873-4875-4F36-B37C-536B5CB513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5DB6D7-F010-4596-93C1-309563A8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552AF6-AD30-486E-95C7-03A1C36F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37A14B-0954-41C5-8E8F-EBA5BCC0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8475A7-B284-483C-BD69-4F0D7F4A0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0F89D-0482-4805-A2E0-9443B919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F82CDC-691D-4C4A-BF01-E7FE24952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B1F198-9163-4667-95FE-A21BE612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4B69B2-3277-4682-AF9B-9AB77B51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64C3FC-F50E-4AED-82E8-CA9FE97F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3A1379-8C40-45C8-BC5C-53E3F9C5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55ED64-37F8-425B-9648-141DFAB5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67A0E9-15C7-4AB7-B46D-E81990D526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79F05-0BA4-4A1D-A140-CE60B0B094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15B5B-6794-45A0-A1B4-D4173971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F8942-1E08-453C-9D14-990CE59E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1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28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3124080" y="7632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8229600" y="6477120"/>
            <a:ext cx="7603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76EA718-F376-4A4A-BD71-199D79FE24ED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9" name="Picture 10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Text Box 11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" name="Group 12"/>
          <p:cNvGrpSpPr/>
          <p:nvPr/>
        </p:nvGrpSpPr>
        <p:grpSpPr>
          <a:xfrm>
            <a:off x="506520" y="1047600"/>
            <a:ext cx="8642160" cy="24120"/>
            <a:chOff x="506520" y="1047600"/>
            <a:chExt cx="8642160" cy="24120"/>
          </a:xfrm>
        </p:grpSpPr>
        <p:pic>
          <p:nvPicPr>
            <p:cNvPr id="12" name="Picture 13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21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Text Box 14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506520" y="5340240"/>
            <a:ext cx="8642160" cy="22320"/>
            <a:chOff x="506520" y="5340240"/>
            <a:chExt cx="8642160" cy="22320"/>
          </a:xfrm>
        </p:grpSpPr>
        <p:pic>
          <p:nvPicPr>
            <p:cNvPr id="51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3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3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8229240" y="6473520"/>
            <a:ext cx="757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033F1D1-4271-4B26-8336-ABEB30EC793D}" type="slidenum">
              <a:rPr b="0" lang="en-US" sz="1200" spc="-1" strike="noStrike">
                <a:solidFill>
                  <a:srgbClr val="d38e27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1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95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" name="Group 4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98" name="Picture 5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6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506520" y="1047600"/>
            <a:ext cx="8642160" cy="24120"/>
            <a:chOff x="506520" y="1047600"/>
            <a:chExt cx="8642160" cy="24120"/>
          </a:xfrm>
        </p:grpSpPr>
        <p:pic>
          <p:nvPicPr>
            <p:cNvPr id="101" name="Picture 8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21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9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5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8229240" y="6473520"/>
            <a:ext cx="757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0AA22A-D9C4-4CF6-A6C3-041C33DB7B77}" type="slidenum">
              <a:rPr b="0" lang="en-US" sz="1200" spc="-1" strike="noStrike">
                <a:solidFill>
                  <a:srgbClr val="d38e27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"/>
          <p:cNvGrpSpPr/>
          <p:nvPr/>
        </p:nvGrpSpPr>
        <p:grpSpPr>
          <a:xfrm>
            <a:off x="506520" y="3432240"/>
            <a:ext cx="8642160" cy="22320"/>
            <a:chOff x="506520" y="3432240"/>
            <a:chExt cx="8642160" cy="22320"/>
          </a:xfrm>
        </p:grpSpPr>
        <p:pic>
          <p:nvPicPr>
            <p:cNvPr id="145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3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0D6738B-9A92-47E0-BC41-FFCD05764B9B}" type="slidenum">
              <a:rPr b="0" lang="en-US" sz="1200" spc="-1" strike="noStrike">
                <a:solidFill>
                  <a:srgbClr val="d38e27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1"/>
          <p:cNvGrpSpPr/>
          <p:nvPr/>
        </p:nvGrpSpPr>
        <p:grpSpPr>
          <a:xfrm>
            <a:off x="506520" y="6010200"/>
            <a:ext cx="8642160" cy="23760"/>
            <a:chOff x="506520" y="6010200"/>
            <a:chExt cx="8642160" cy="23760"/>
          </a:xfrm>
        </p:grpSpPr>
        <p:pic>
          <p:nvPicPr>
            <p:cNvPr id="189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21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3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9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0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6099223-5537-406D-80F9-91126A6EADCB}" type="slidenum">
              <a:rPr b="0" lang="en-US" sz="1200" spc="-1" strike="noStrike">
                <a:solidFill>
                  <a:srgbClr val="d38e27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1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2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40BBEC3-95DF-4C3D-A0C0-FE587687D835}" type="slidenum">
              <a:rPr b="0" lang="en-US" sz="1200" spc="-1" strike="noStrike">
                <a:solidFill>
                  <a:srgbClr val="d38e27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1"/>
          <p:cNvGrpSpPr/>
          <p:nvPr/>
        </p:nvGrpSpPr>
        <p:grpSpPr>
          <a:xfrm>
            <a:off x="506520" y="5840280"/>
            <a:ext cx="8642160" cy="22320"/>
            <a:chOff x="506520" y="5840280"/>
            <a:chExt cx="8642160" cy="22320"/>
          </a:xfrm>
        </p:grpSpPr>
        <p:pic>
          <p:nvPicPr>
            <p:cNvPr id="274" name="Picture 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 Box 3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14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064D469-59D4-4C38-A721-58BDC5BB206A}" type="slidenum">
              <a:rPr b="0" lang="en-US" sz="1200" spc="-1" strike="noStrike">
                <a:solidFill>
                  <a:srgbClr val="d38e27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5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16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EB74213-AE0E-436B-A51B-633CB120A7B5}" type="slidenum">
              <a:rPr b="0" lang="en-US" sz="1200" spc="-1" strike="noStrike">
                <a:solidFill>
                  <a:srgbClr val="d38e27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7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sldNum" idx="18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D032B99-23C4-4E8E-AD42-F62E6A4A4084}" type="slidenum">
              <a:rPr b="0" lang="en-US" sz="1200" spc="-1" strike="noStrike">
                <a:solidFill>
                  <a:srgbClr val="d38e27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4"/>
          <p:cNvSpPr/>
          <p:nvPr/>
        </p:nvSpPr>
        <p:spPr>
          <a:xfrm>
            <a:off x="304920" y="981000"/>
            <a:ext cx="86868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Цель создания газеты</a:t>
            </a: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— обеспечение единства общественного и семейного воспитания на дошкольной ступени образования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ru-RU" sz="18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Задачи</a:t>
            </a: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способствующие реализации данной цели: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оказание родителям квалифицированной психолого-педагогической, методической помощи по вопросам воспитания, обучения, оздоровления детей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 информирование об изменениях в нормативно-правовой базе дошкольного образования;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обеспечение своевременной информацией об особенностях работы образовательного учреждения, о событиях, происходящих в детском саду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Актуальность</a:t>
            </a: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 многие родители считают наиболее приемлемой для себя формой взаимодействия с ДОУ короткие беседы с воспитателем во время утреннего приема воспитанников и вечером, когда забирают малыша из детского сада. Опыт показывает, что это категорически не достаточно. Одним из путей решения данной проблемы может стать создание информационного издания для родителей ДОУ в виде газеты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 algn="ctr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Александрова Анна Александровна,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1640" algn="ctr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тарший воспитатель МБДОУ «Детский сад №136» города Чебоксары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6853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ГАЗЕТА ДЛЯ РОДИТЛЕЙ – ЭФФЕКТИВНАЯ ФОРМА СОТРУДНИЧЕСТВА С СЕМЬЕЙ</a:t>
            </a:r>
            <a:endParaRPr b="0" lang="en-US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1" name="Picture 8" descr="C:\Documents and Settings\Администратор\Рабочий стол\136\Для работы\66473653_image001_333.jpg"/>
          <p:cNvPicPr/>
          <p:nvPr/>
        </p:nvPicPr>
        <p:blipFill>
          <a:blip r:embed="rId1"/>
          <a:stretch/>
        </p:blipFill>
        <p:spPr>
          <a:xfrm>
            <a:off x="214200" y="142920"/>
            <a:ext cx="989280" cy="8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«ИНФО»</a:t>
            </a:r>
            <a:endParaRPr b="0" lang="en-US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информация об изменениях в нормативно-правовой базе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объявления для родителей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объявления самих родителей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РЕЗУЛЬТАТЫ СОТРУДНИЧЕСТВА</a:t>
            </a:r>
            <a:endParaRPr b="0" lang="en-US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налаженная взаимосвязь между семьей и педагогическим коллективом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овышение уровня активности родительской общественност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рофессиональное самосовершенствование педагогов, рост профессионального мастерств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ПАСИБО ЗА ВНИМАНИЕ!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СОДЕРЖАНИЕ</a:t>
            </a:r>
            <a:endParaRPr b="0" lang="en-US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реимущества данной формы сотрудничества с родителям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основные рубрики газеты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результаты сотрудничеств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4" name="Picture 4" descr="C:\Documents and Settings\Администратор\Рабочий стол\i.jpeg"/>
          <p:cNvPicPr/>
          <p:nvPr/>
        </p:nvPicPr>
        <p:blipFill>
          <a:blip r:embed="rId1"/>
          <a:stretch/>
        </p:blipFill>
        <p:spPr>
          <a:xfrm>
            <a:off x="4973760" y="3780000"/>
            <a:ext cx="2921040" cy="43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РЕИМУЩЕСТВА ДАННОЙ ФОРМЫ </a:t>
            </a:r>
            <a:br>
              <a:rPr sz="2000"/>
            </a:b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ВЗАИМОДЕЙСТВИЯ С РОДИТЕЛЯМИ</a:t>
            </a:r>
            <a:endParaRPr b="0" lang="en-US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8685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Мы не навязываем свое мнение. Специалисты предоставляют родителям объективную информацию, и они решают, что с ней делать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Мы не ограничиваем родителей во времени. Они могут взять издание домой и изучить его в удобное врем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Информация, представленная в издании, напрямую или косвенно касается детей, посещающих ДОУ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Родители всегда в курсе событий, происходящих в детском саду, который посещает их ребенок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Мы предоставляем родителям возможность реализовать их право на участие в жизни ДОУ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ОСНОВНЫЕ РУБРИКИ ГАЗЕТЫ</a:t>
            </a:r>
            <a:endParaRPr b="0" lang="en-US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«Колонка редактора»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«Обучение и воспитание»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«Здоровый ребенок»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«Знакомьтесь! Наши педагоги!»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«Наши маленькие творцы»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«Новости детского сада»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«Конкурс!»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«ИНФО»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«КОЛОНКА РЕДАКТОРА»</a:t>
            </a:r>
            <a:endParaRPr b="0" lang="en-US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вступительное слово редактора, посвященное тематике номер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обращение к родителям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4" descr="46"/>
          <p:cNvPicPr/>
          <p:nvPr/>
        </p:nvPicPr>
        <p:blipFill>
          <a:blip r:embed="rId1"/>
          <a:stretch/>
        </p:blipFill>
        <p:spPr>
          <a:xfrm>
            <a:off x="4187880" y="3279600"/>
            <a:ext cx="379260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«ОБУЧЕНИЕ И ВОСПИТАНИЕ»</a:t>
            </a:r>
            <a:endParaRPr b="0" lang="en-US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статьи специалистов по актуальным вопросам воспитания и обучения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новые программы и технологии работы ДОУ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инновационная деятельность в детском саду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«ЗДОРОВЫЙ РЕБЕНОК»</a:t>
            </a:r>
            <a:endParaRPr b="0" lang="en-US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физкультурно-оздоровительная работа с детьм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работа по обеспечению безопасности жизнедеятельност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6" name="Picture 4" descr="C:\Documents and Settings\Администратор\Рабочий стол\136\Лето\20766.jpeg"/>
          <p:cNvPicPr/>
          <p:nvPr/>
        </p:nvPicPr>
        <p:blipFill>
          <a:blip r:embed="rId1"/>
          <a:stretch/>
        </p:blipFill>
        <p:spPr>
          <a:xfrm>
            <a:off x="2676600" y="3127320"/>
            <a:ext cx="293220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«ЗНАКОМЬТЕСЬ! НАШИ ПЕДАГОГИ»</a:t>
            </a:r>
            <a:endParaRPr b="0" lang="en-US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краткие рассказы о педагогах, специалистах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достижения, награды педагогов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«НАШИ МАЛЕНЬКИЕ ТВОРЦЫ»</a:t>
            </a:r>
            <a:endParaRPr b="0" lang="en-US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творческие работы детей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фотографии по изобразительной и театрализованной деятельност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творческие игры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римеры словотворчеств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ша</cp:lastModifiedBy>
  <dcterms:modified xsi:type="dcterms:W3CDTF">2013-04-29T12:39:45Z</dcterms:modified>
  <cp:revision>23</cp:revision>
  <dc:subject/>
  <dc:title>Слайд 1</dc:title>
</cp:coreProperties>
</file>