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F19-0C0C-4247-BE31-A872F6E6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E45-5513-4011-B86D-BB8FB3C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98D6D-8AEF-4C06-ADBA-723FBACB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2ECEE-1681-49C6-A5BF-0004D278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F5B8-893B-4478-B63A-075E8B7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38A43-2DA5-46FF-A6A3-AA7D101C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49B1B-B614-467F-AC8F-736E0139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14FD-F33A-4848-AA1B-BA2865C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2607F-76CD-4B40-9A80-033BA78D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4383C-0C54-45EE-97B2-84619C58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96196-16B2-445E-A099-2C279A00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AAA3E-94BD-4CF1-A9C1-627996F0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80A-A398-41F0-832F-A8D181A9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6B4E3-0E19-4705-A7D1-FE2BFAC6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2D477-4CDE-4493-BFBC-3B92641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1256F-3D4D-4F03-8133-0BE5E695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1888F-8FAF-460C-AEE5-F69426C6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D9B8F-99B9-473E-A43E-7870C68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090FA-9913-4C0E-8BC3-321F2DF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0475F-97A2-4BAD-8122-615C6E0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0FA1D-4DEC-4EE6-BD5D-72824E72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6FBD5-B349-471B-8D40-62905A3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3162B-EF82-45A5-B81D-1A9A5EE6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AA1-443B-4B96-A2AA-F48B2F3F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855D2-AD8C-4C25-BD7D-95EAE7B7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4B26-2F5C-41EB-A459-1393F396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F8239-5320-4580-860E-25A58BCB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755BA-7086-4DA3-BD3E-78D7F95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C9CBA-9041-4A14-9BC9-568DB30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40864-142A-47DC-9045-BAC11991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F0C1C-3CA2-49F4-BDD5-4E15930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4EB5-E5AE-40FC-A46D-028BC9D4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15B2F-7A3D-4BEB-A0DF-0996B035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9037E-F8B3-435F-93C9-72D8144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6E12-E252-4A03-9ACA-5CFF82A6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8128C-D293-4B72-A94F-9C84405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ECFEF-7A29-4BAC-8634-39BC9FB5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01E55-8795-41FD-A48C-8C8DC9A3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4A1DE-117E-49D5-A1BB-F18C8965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B2154-D7C7-4762-AA51-F1A590AC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9EDC9-14FB-4A34-9A2F-295D5DB2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50081-C258-4DF0-B9FD-D501E3B6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25622-3AA6-47AE-BA5D-9E8FFC6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1B44D-96E6-42F0-A29A-3DDEA38F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7454D-1ACA-4179-84DD-355D0A9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99BC-1660-4BCC-9946-45DC7E01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1CE5B-BA94-4AEC-B6E2-19BC58D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9228D-6FE2-4C1F-B363-C90447A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D31E1-F612-4EA1-B733-15808A5D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50495-3CB9-487B-8A51-5E0EBF0B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704FD-3637-41E2-B2C1-9B80D22A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7EB-ADF2-48E4-9A94-73F9900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97E6-8901-4474-BA41-97FAB260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3A20-CFB5-4490-8CC3-014D972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99AE-0B7A-402A-9B3B-3E1239C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E63-6D27-48A0-8FCE-0255699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36D-4354-4CFE-A804-B1FB0B0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6B0C-7D87-4971-9218-756707B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C806-0BD2-4C11-B9CA-C9FA1A4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C694-A31F-4124-BEB4-FB3BA2DB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0B03-87EF-472C-A620-D5F672BE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0F2B-E45D-4AB3-9193-599F8073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9D80-603D-45CA-81D6-91AAED9B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4159-B281-4F44-A30D-0894373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46AA-28BB-4D6F-B6DF-9331ACDF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E17E-4505-44E4-B81F-4EC062AD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00AA-0245-4173-8E55-D42E6C6B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F28-F503-4AE6-9E27-0E40D24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AFD1-E21D-46D4-AECC-C9F68851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EE0B-2850-4E0D-93D0-A550B2A9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4438-0FCF-4BF7-B8B0-D024757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EA6C-60E7-4A5E-B9D0-A63710F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8527-0BD7-4742-B03A-74394DD0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307A-BF14-48C4-80C1-0B907EB9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BFAA-9429-40D1-BEDB-13C49E7E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AEFD-32C4-4B33-ADF1-4F76C187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2A19-D6E0-4256-98ED-03288BA5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D2D3-C5A5-4F24-BFF7-DB60C61B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417-4D03-4BF9-B393-494A718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948B-2FE9-4E7D-9923-3ACAB8EE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CACD-556F-40F9-9B01-0B6E8240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2DF8-4E50-439F-8313-AD0B942F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1775-A779-4659-A545-24D20B05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9A22-A0A8-4261-97A8-0C2A4C9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0C4A-1E9E-4BB1-A877-E77CE00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D3815-3FD4-45A3-9E37-D15BB7E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18FC-6773-4B16-89F4-42202410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4986-F533-47DC-8E99-72BEED12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0D44-BFE0-4661-B842-CF6C3790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12C-8099-4317-9363-7DF9DB9C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70F45-92CF-4E7E-87FB-0169362A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82CC-D624-4D6D-8BB8-5E1D20CD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3695-B8A8-4A97-BFAC-728229F3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D3C34-DD61-48FA-BF05-D17B0E97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013B1-2488-43C2-9D08-FF5B271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B157-E0FA-491D-8D55-7D63446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9A7F-A0E5-408B-B2F8-F6133C5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15AC-3A57-43EE-859F-98E940F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92D4-B975-47E6-941B-13E21106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B268-EB23-4D08-B293-80F3C197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6D8-F27C-46A9-8BEE-3F5F63F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5E60-F5D2-46AA-9E21-E08E22F6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EEA55-FEEA-4B77-907D-07BDBBE4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A3C4-8D96-4117-B244-458DE0C6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9022-57E0-4B36-BA09-4B5D045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EE62-0CB5-4029-B00F-3173886D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87301-AA32-4831-94A0-F6AFE624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133E-44C1-4B16-8E9B-B499A728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B4843-B3AF-4192-BF3F-D9099B5B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43B97-3CDE-4BC2-985A-90AFE5A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FC778-2D22-422E-964C-7B6E2412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FF6-670F-4574-AB24-2A74FCB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E1962-BD1A-441E-BDBB-6C23A158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551E6-7284-4782-8C39-2CAAC3C4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48C25-7B91-4A2B-AF10-94F1512A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0BD3F-1DB3-4A88-8DE9-F4AC1A27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EB20-16C0-4158-B2EB-3CE5DDA1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5B5F-8411-495D-AC58-2BEDD7FC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465F6-B456-4035-89F9-FBBE7441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240A-14C0-4D2A-ADA5-71097C62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62A5-1310-4F0B-809D-11B63FC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3EA4-0822-4A4F-9218-C0F42442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02D-E4CC-4B74-A472-2280880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F1763-2F01-4E78-9CBF-3515FB5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4E7DF-F2EA-4885-AA8C-D03ABD5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7B299-C630-4BCF-AAD2-1039734C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28D9-E884-420C-8DB8-09B5FC45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7377-11AB-4853-A066-A64B3A65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17C97-5555-43A1-A457-0901D55A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9BFC-628D-4C73-8413-34B48849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B695-A9BD-4445-80AA-86E2A965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F6700-E425-4AB9-9469-D98F977F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FBAB-5119-4D44-82A4-E4E5368B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E44-01FB-4D11-9F27-00C89C7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02E55-69CE-493F-979E-9BAF9A9C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3880D-855C-4855-8B04-C89C24B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29FA-5690-45A8-90A1-72A82AF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F76A5-1789-4CDF-8D72-4B19BF52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B3D96-9510-47F5-A950-2A8059F9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0756-61B5-45EF-878C-F2D13198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16850-5801-4EED-911C-E443BA23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EF0B3-5127-426B-99D2-6D3171B5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FE5E8-B139-48C6-8550-CE6D9E00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D6EEC-D4BD-454C-A131-1E608732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7C4-E93B-4DFE-A2E0-07BA415D996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089-569E-4DA4-AFF5-729EE57078F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D3BA-DB10-40E0-A89C-D627D897865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056A-4391-4CC3-9F21-51F9BA45D28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6.10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F98A-0FB8-43B2-922C-86686CC85D0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AE85-DB16-449A-BEA1-C2543EE860F1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B564-4B6B-4804-8FAE-D9CD2AC18660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209-FB4F-4230-9FFB-E37F2C250E2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670E-8D18-4B32-BAAA-39F50645C78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FBCC-7659-4C1E-9CC0-3700AE4A8D6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412-2CFA-44AF-8038-78A786D00CC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714240" y="2142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лаголы, </a:t>
            </a: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не имеющие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формы </a:t>
            </a: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228240" y="1214280"/>
            <a:ext cx="3618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глаш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app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з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belie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ри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belo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адлеж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depe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висе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disagre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соглаш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dislik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нравит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h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навиде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h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ышать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2"/>
          <p:cNvSpPr/>
          <p:nvPr/>
        </p:nvSpPr>
        <p:spPr>
          <a:xfrm>
            <a:off x="5857920" y="1214280"/>
            <a:ext cx="335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imag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ображ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kn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равит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ужд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pref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почит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se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з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underst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ним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wa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от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3929040" y="285768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чув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3929040" y="171468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5"/>
          <p:cNvSpPr/>
          <p:nvPr/>
        </p:nvSpPr>
        <p:spPr>
          <a:xfrm>
            <a:off x="297000" y="4071960"/>
            <a:ext cx="45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want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a glass of water now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Я хочу стакан воды сей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6"/>
          <p:cNvSpPr/>
          <p:nvPr/>
        </p:nvSpPr>
        <p:spPr>
          <a:xfrm>
            <a:off x="3672720" y="5000760"/>
            <a:ext cx="55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understand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it very clearly now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Я понимаю это сейчас очень чёт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714240" y="428760"/>
            <a:ext cx="7772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о некоторые глаголы мнения и чувств также </a:t>
            </a: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могут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употребляться в форме </a:t>
            </a: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2857680" y="2071800"/>
            <a:ext cx="3500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Процес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285840" y="2786040"/>
            <a:ext cx="4714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think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she is r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2786040" y="3500280"/>
            <a:ext cx="6072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’m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thinking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about your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71280" y="4643280"/>
            <a:ext cx="4714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Your hair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looks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500040" y="5357880"/>
            <a:ext cx="8929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’m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looking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through these old magaz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34:29Z</dcterms:created>
  <dc:creator>Loner-XP</dc:creator>
  <dc:description/>
  <dc:language>en-US</dc:language>
  <cp:lastModifiedBy>Admin</cp:lastModifiedBy>
  <dcterms:modified xsi:type="dcterms:W3CDTF">2012-11-08T09:34:26Z</dcterms:modified>
  <cp:revision>43</cp:revision>
  <dc:subject/>
  <dc:title>Present Continuous</dc:title>
</cp:coreProperties>
</file>