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EC6-C6DA-4BD0-AC30-5C2AFAD4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6C3-9FDC-4C12-BDB1-E9855177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5F35B-1A2C-409B-AC49-AC60AA8C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E9958-18F8-4018-A0DC-DB830100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D372D-4191-482B-BDD9-614E2375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9D703-A673-4562-861E-05869331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25422-FEDF-40C5-94E6-AA59B9F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8CFB2-CEC8-44D3-8098-CB69F7AD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03D91-3107-487F-B863-2DF00AE9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16AF9-1D2C-4B1C-84A1-F0221114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A2BA0-DEF1-4578-B154-15B4B9D8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C2F5C-936F-4D32-9931-F17DA9A6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43D-4F01-49B5-8CCC-7FC461F1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BD3C9-E02B-4460-9D43-6A833D46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95329-85CC-4973-A3BA-F184F623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3E6BA-043B-443B-951C-9F3327A4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E4135-B8D5-4A27-968B-019480F2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6AC9F-F435-4523-B1F9-3E90C8B2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AFFBE-4805-4FEE-A6D1-633C5617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0C128-151B-441A-9A1E-8D54A35C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C5E00-B568-4273-B8B5-DAAEB15E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BFDAC-7C4C-4C71-B101-74B31C8B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19E87-FE0F-433B-A8E0-35522A4E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506-0C60-4272-8200-E487AC07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CD71B-2282-46CB-A368-BD6823EA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1BF41-0783-4179-A8E8-CA619CE8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91491-52DB-4724-9F2C-1BCB95C8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0C8AB-DF15-4F39-9157-19D5DF55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3AA9-872A-4225-A9E8-CA9D1AD0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F0C98-9261-43A9-B7FC-315D676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B7A9F-85DB-4454-8DED-F82480E8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7484B-8E54-475F-83FC-57B6C34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F9A94-2E5A-4006-A4FE-A7221EF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CE6B1-A4EF-4FC3-B42F-F9A59135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E64D-6D76-436B-AB07-D6860F23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57A0-DC2F-4FE9-9DC5-AB7732F5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974E6-A041-4466-9C9B-0F0C381C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B5C32-4A15-42A0-A4DD-6843B378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02A5B-A106-433F-81F3-BC695C46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11C32-8811-40A7-9BF6-D38C0A5A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7FFBD-7C46-41EE-A122-0D23D517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2C368-7A7B-43FB-8F2E-F5F7729A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E1687-413D-4CC0-952B-6998B9FF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0827E-F23F-40A3-B5B4-5BDAF835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E581B-0DD5-4AA4-8D8A-63234399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3B09-13FA-4F4B-95C3-65958577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A9DD4-92DE-4DF0-BD35-8CA239FA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72ED6-C2F5-4CC6-867D-9AA196AB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ED228-3371-4BCA-A0E0-8A258726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06014-B91A-42BA-B6D7-95CBB21F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12194-BDC1-4DAE-92E3-A3871E0B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2E45-5C5B-45AC-B440-6B5324EF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1C4-8440-41D7-A073-7E93947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52A8-B8E2-429D-98BB-9CAD990E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C996-9F13-42C1-BE65-0A4C4DD1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B251-7845-4814-9BDE-73ECB7FF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5EA-5505-40E3-91EF-09EC4039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E2E9-C88B-4BA3-AECE-93D8ABC0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476E-0A1F-4F43-8D0E-3F9508E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82F4-8858-4573-A062-8F53A8AB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EE5D-3014-4B46-A45B-33E65326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86AC-96AE-4045-BB48-565BF3F2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E202-4B5D-4311-AAB3-4C3D78A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EC239-C507-4E7B-BCD9-FA2DF648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7376E-AC37-4FFC-8309-06D26CD2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8B92-D98B-4861-891D-CF23C33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7294-86EA-4C8F-B0AC-731A18D3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5BE-3E4C-4B61-B693-6FA56ED3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098C-A53F-4474-AA6D-8FF46372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0EA8-A8F5-4654-99FF-F748E239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81BF-0512-4902-8EA9-A4305E0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A363-8199-457F-85AE-87441EF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2361-C7A9-47C9-A9AB-14F6475D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2FFF-4D97-4C30-92B6-8047B4C6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58E5-5F74-4D2A-A11B-C163BFC1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8BCA3-777F-4FC9-BE6A-BF8B2D7B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00FF-BCD2-4955-B851-BF37A428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2731-C614-4A4D-B4AB-56C4BCBE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35E-8D2B-4D78-88DC-0F005DE0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8F708-9C40-49DB-891A-6B8697A7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3BC8-9BF2-45EB-9007-61F98D0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B270E-8B93-4477-8DCD-85FE4146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A7AD-A696-4C9F-99CE-8DE7615D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27B94-7875-4F66-A629-5DB441FC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8C6B-ACF3-4998-BE3C-7DC1360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858A9-0754-4507-B2E5-016D1D44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E5D6-A6DC-47C3-90CB-4AE6D528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A4CC-D496-4C56-BD3E-EB7327B2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8086A-4015-46BC-BAD0-CBAEE936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1D4-8471-462F-9A80-9801863D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3F8B2-035D-431B-A4A4-86F96881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0E60D-FA15-49D3-8966-3BD5AAA6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E0247-DC22-47EC-9188-FAEA0944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FF5A5-9A6B-46A7-8D77-91AED5D7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F7118-E7F1-494D-9960-493A2919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5BDD-7463-4D56-9672-A6470CA0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A9573-311C-4E00-BCC0-DDA3B86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ACA0-BA07-49EF-978D-D406CC2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BD80D-299F-4E5E-8F65-EB9CE5B8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857AE-1DC0-4EAD-A183-4AC315B1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C38-1CAF-43E3-8586-6FBCB33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59F9D-AF6D-4A9B-88A7-9C8ADF1E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7FE79-0405-4C2A-99C6-279D95B6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A85EC-61BF-49B7-886A-36CBDE6B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85831-2EE1-4A0D-BACD-8A37189A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7CBD5-9CAF-4F56-99DA-47ECA513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25D52-7AF1-4238-B713-7B656F5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1E87B-4A77-4649-A453-4B510206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27E3D-86A6-4351-B871-48912D2A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B2679-D0A0-4FD5-9E58-28FB2AA2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4C55-3D08-4FB4-9C82-303EB3AD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4CE-6E9C-44F8-9B43-7BF5E188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74B7C-83D9-44C6-9E7F-287F4F91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2E90E-349C-43BB-9A2F-813FD32F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9A27E-008C-4C8D-91B0-0DCF7994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E2324-95E0-4829-9A94-91228689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2F213-E25B-4938-86FC-82D83E62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A2E72-3EE7-4623-81DF-A034B339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10C2A-AE8A-42AB-B09B-B7470AE8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A897-2A5B-4320-9FED-71007A6F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23197-C476-4CDD-BB7A-C5E2520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7814-61DC-4973-86F6-EA93491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79A-FD6C-4253-A7C3-49628FCE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B4B81-F0C4-4FB2-A68B-1740FA2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FD96-B6EA-402C-BFE7-9DFD33EB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0B146-6018-4591-A2EC-8A812330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B8150-FF4B-4E57-B5A5-B28BBA62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456EA-B698-4F62-B2F4-F7021B30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FAD6E-7183-45E9-B292-D26ADD05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5A4A6-7891-4BEA-AD2C-862BC1FA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4E85F-0FF3-4A83-AB10-2508618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082AB-B1C6-4C96-9EDB-1561B684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74949-5BF0-435E-A3B2-DD8B8659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1C2-DD86-47D6-AB97-7EC86336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DCE0-636C-45D8-98F9-46D7C901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7D769-0FD3-438A-9221-C625E45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42067-77D6-48CF-8867-B729FFC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EED27-4389-428B-BD60-87CBBAC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B35E8-BB76-4247-80C8-3605D312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FEA6C-3ADF-4B79-AF15-7AC2EA36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3B670-B057-4A31-8DA7-35AA63FA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80515-CCB7-4613-8F2A-2E5BAD1F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90B9E-6FCA-40D9-BB4A-4A94E6CA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C1F50-3350-49BA-A70D-4229547E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8229-3DE7-44A3-94C0-7D940B13F1A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42C6-D4FE-4E98-A781-30028DF4504B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62C9-2FE6-40E1-AE53-0DF350BB3B66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9E66-C10E-44D0-AC04-FC7EBEF79DF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6.10.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FBAC-C350-471D-B63B-45B1ABAC0A24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853-B3EE-43DC-9E43-5AD2B97F19A6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B44A-47D7-4987-947C-3AB62939926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3AC4-0094-446B-A4DB-61E8A7ADC397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5A9E-7B6E-47A3-966E-708945D60453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86FD-B733-4632-9ED5-EFA21418197C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6AC3-F0B9-455F-82B2-0F63A6FA988F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714240" y="21420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Глаголы, </a:t>
            </a: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не имеющие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формы </a:t>
            </a: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228240" y="1214280"/>
            <a:ext cx="36187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глаш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app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з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belie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ери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belo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адлеж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depe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висе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disagre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соглаш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dislik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нравит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h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навиде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hea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ышать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2"/>
          <p:cNvSpPr/>
          <p:nvPr/>
        </p:nvSpPr>
        <p:spPr>
          <a:xfrm>
            <a:off x="5857920" y="1214280"/>
            <a:ext cx="3357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imagin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ображ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kn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равит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ужд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pref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почит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se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заться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understa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нимать</a:t>
            </a:r>
            <a:br>
              <a:rPr sz="2000"/>
            </a:br>
            <a:r>
              <a:rPr b="1" lang="en-US" sz="2000" spc="-1" strike="noStrike">
                <a:solidFill>
                  <a:srgbClr val="ffc000"/>
                </a:solidFill>
                <a:latin typeface="Comic Sans MS"/>
              </a:rPr>
              <a:t>wa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от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3929040" y="285768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чув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3929040" y="171468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м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5"/>
          <p:cNvSpPr/>
          <p:nvPr/>
        </p:nvSpPr>
        <p:spPr>
          <a:xfrm>
            <a:off x="297000" y="4071960"/>
            <a:ext cx="45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want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a glass of water now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Я хочу стакан воды сей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16"/>
          <p:cNvSpPr/>
          <p:nvPr/>
        </p:nvSpPr>
        <p:spPr>
          <a:xfrm>
            <a:off x="3672720" y="5000760"/>
            <a:ext cx="55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understand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it very clearly now</a:t>
            </a:r>
            <a:r>
              <a:rPr b="1" lang="ru-RU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omic Sans MS"/>
              </a:rPr>
              <a:t>Я понимаю это сейчас очень чёт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714240" y="428760"/>
            <a:ext cx="77724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Но некоторые глаголы мнения и чувств также </a:t>
            </a: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могут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употребляться в форме </a:t>
            </a: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2857680" y="2071800"/>
            <a:ext cx="3500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Процес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285840" y="2786040"/>
            <a:ext cx="4714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think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she is r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2786040" y="3500280"/>
            <a:ext cx="60721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’m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thinking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about your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71280" y="4643280"/>
            <a:ext cx="4714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Your hair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looks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500040" y="5357880"/>
            <a:ext cx="8929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’m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looking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through these old magaz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34:29Z</dcterms:created>
  <dc:creator>Loner-XP</dc:creator>
  <dc:description/>
  <dc:language>en-US</dc:language>
  <cp:lastModifiedBy>Admin</cp:lastModifiedBy>
  <dcterms:modified xsi:type="dcterms:W3CDTF">2012-11-08T09:34:26Z</dcterms:modified>
  <cp:revision>43</cp:revision>
  <dc:subject/>
  <dc:title>Present Continuous</dc:title>
</cp:coreProperties>
</file>