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8AF-2BF0-452B-8EAB-60E847CC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95C-0F50-4DBA-B831-4603D1BA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7DE-0E74-4F73-B7A3-B850CA87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CCD-4B1D-40D4-85E6-93FF8D2D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0967-D54D-4E2C-A5F7-57FA0263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54E3-F8F9-46B2-A299-18FC6821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74C9-C124-4B13-BD14-EFC0179E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482-4DEA-4CC2-A320-6D971892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84F2-CEC6-496A-BF8F-CA3BD0A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C329-94BB-46AE-974F-DE8A8CA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6F9-0D6C-449F-9A98-4DFFD23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5A8-E910-4437-BA16-CC7A2C3C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1D7-8ADB-4CDC-83B5-803F0F0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EAF-7E3F-400F-BFB9-C8B0345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2455-D4D3-4F46-B5A6-2FC5037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003B-C584-45C7-BF90-25D9CD49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1F66-A858-4265-86EA-E78F2569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9A32-9E11-499B-8920-6307A7E9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5CCD-15BC-4896-AD78-603F2B1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FAD4-B225-479F-85B0-9584413D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7F74-9253-4CE7-BF8A-605EE53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924E-643C-4E12-9B76-6A7AB634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2C9-ECA5-4323-A2D3-76A0204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35DA-B387-4D8F-AEFD-8B1F894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B69D-5CD4-485C-B6A9-91D2474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B011-56C5-4CD8-8849-90213EE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5B6D-1E02-4D5F-BDE4-2DFFDBA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18E2-A996-4854-84CA-20D7795E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75B6-8133-485F-AD42-F48D7969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6BF7-C304-40A2-ABC7-2EE5B83A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7BB4-01E8-46BE-991F-81E1E484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548C-7183-48DA-B599-B3F63D8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4E47-3480-4F35-966A-74125E68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A6B-37EE-4874-881C-124347E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A42B-E213-463F-8669-9DF31A8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9FF6-0B36-4AA9-9AD1-9BBE5C4C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B9FE-6FAC-49F3-874A-2B403AA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7A84-98DF-4430-829F-F32C505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01ED-BF48-4717-A81B-7FC00B66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86DA-38AC-4A35-86F7-CE42717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4AD1-19AF-4A78-83DC-2256E0E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F0FE-AB04-406C-838F-013DF45C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FC34-D97C-4A60-BA19-9E88BBAA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015A-1C07-4B07-B0A1-90C46F6D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407-09C2-451E-AD3E-27461339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F0DB-3302-4277-B66B-A64D2E3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1442-686C-49ED-8DC2-7946CAF3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D09F-0157-4203-9E5B-C5B8BD7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B1076-B091-4FBF-BF84-369B932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A426-E526-4858-BA44-942C4F7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8D09-3ABF-4C73-8BFF-8F7E5566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59F1-8EA3-42AF-9B32-3D30F3D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A91B-CCA1-4A46-8A6D-E05B2EAD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AA46-E977-4EC6-9DD6-1211743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51036-EF85-49B0-BE89-266B49B1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967-D2F2-4B4A-9316-8B90EB8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1E69-863A-4D6F-A89B-AB03114D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B3B4-24D8-4D02-B075-7E1001D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CC3D-538A-4DA8-ACB2-14F71B9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2124-D2B3-4B4E-83AD-8142581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D7BA-ADDC-4F30-838A-BA172A5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2810-7241-4E7B-B00E-5FA7386B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F1A5-29F9-48A7-8CAD-261868C1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80CA-706D-4130-A760-0410F2E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653C-5379-4C77-9A9B-703EA17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E973-E92E-4262-AC6E-471B587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9F5-E4F8-4790-93F6-EECD59D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C956-4189-4668-8790-78511FB4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C4CB-7930-4920-ACE7-6825E7BD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6604-0DD7-43D6-A5C2-B411B427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96EA-62BD-46AB-8088-3A65E9E0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A0D35-4985-499A-ABC1-023DA03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1D16-6912-4DB4-A208-C8A348FF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9360-EF9D-44FE-9012-F0862F73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42D8-B9D4-4706-97A1-921B5A4A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F77E-7A9A-4179-AB8D-0AD6EE7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6443A-8873-4AD0-955F-7681247A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C75-0752-461B-B31F-0FDCE01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FDEC-F05F-43F3-96C0-3DC20BE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7091-2530-4F47-8AFA-095FB610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BDDD-2E70-48F4-BC3E-4FF7E49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0AE6-D6EB-4B39-8AB2-D69CC4FF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6D08F-A203-4BD0-9C3E-790ACEC6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D9D-6596-4B0F-ADCE-0BA85EA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03A-2E7B-4BD7-89C4-4205516B88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F08C-753E-41E9-AC7C-D42A4B12E9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9EE-B969-4600-8B45-A9F15F0DD5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1E46-DE8F-4162-B88B-A9CC1E7668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DAA-DC94-4297-A813-B6D8A9A814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AA5-084A-45D9-BFE7-175B4DD49EF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039-9FEE-4146-A0B3-F1D4BDC89B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inf5-7.gym5cheb.ru/images/spek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89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ndara"/>
              </a:rPr>
              <a:t>Кодирование графической информа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Хачкиева Л.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ь информатики МБОУ СОШ №6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8" name="Рисунок 3" descr=""/>
          <p:cNvPicPr/>
          <p:nvPr/>
        </p:nvPicPr>
        <p:blipFill>
          <a:blip r:embed="rId2"/>
          <a:stretch/>
        </p:blipFill>
        <p:spPr>
          <a:xfrm>
            <a:off x="3560760" y="2708280"/>
            <a:ext cx="2022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Количество бит, необходимое для кодирования цвета точки называется </a:t>
            </a:r>
            <a:r>
              <a:rPr b="1" i="1" lang="ru-RU" sz="4000" spc="-1" strike="noStrike">
                <a:solidFill>
                  <a:srgbClr val="000000"/>
                </a:solidFill>
                <a:latin typeface="Candara"/>
              </a:rPr>
              <a:t>глубиной цвета</a:t>
            </a: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372960" y="213372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распространенными значениями глубины цвета являются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4, 8, 16, и 24 бита на точку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692360" y="3273480"/>
          <a:ext cx="6767280" cy="2995560"/>
        </p:xfrm>
        <a:graphic>
          <a:graphicData uri="http://schemas.openxmlformats.org/drawingml/2006/table">
            <a:tbl>
              <a:tblPr/>
              <a:tblGrid>
                <a:gridCol w="2111400"/>
                <a:gridCol w="4655880"/>
              </a:tblGrid>
              <a:tr h="1097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Глубина цвет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(бит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личество цветов в палитре,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65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16777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ъём требуемой видеопамяти можно рассчитать по формул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V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=I * X * Y, 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де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V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информационный объём видеопамяти в битах;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X * Y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количество точек изображения;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 I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глубина цвета в битах на точк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бъем видеопамя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В чём суть растровой формы представления графической информаци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Сколько бит информации необходимо для кодирования 1 точки чёрно-белого экрана монитор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По какой формуле определяется объём видеопамяти диспле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 чём суть векторной формы представления графической информаци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крепление материа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55640" y="1773360"/>
            <a:ext cx="7408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колько цветов будет содержать палитра, если каждый базовый цвет кодировать в 2 битах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шение зада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0920" y="2852640"/>
          <a:ext cx="6096240" cy="3078360"/>
        </p:xfrm>
        <a:graphic>
          <a:graphicData uri="http://schemas.openxmlformats.org/drawingml/2006/table">
            <a:tbl>
              <a:tblPr/>
              <a:tblGrid>
                <a:gridCol w="2664000"/>
                <a:gridCol w="3432240"/>
              </a:tblGrid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=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й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еше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2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дставляем значени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2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4 цвета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ая соединительная линия 5"/>
          <p:cNvSpPr/>
          <p:nvPr/>
        </p:nvSpPr>
        <p:spPr>
          <a:xfrm>
            <a:off x="3276720" y="2809800"/>
            <a:ext cx="0" cy="220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Прямая соединительная линия 9"/>
          <p:cNvSpPr/>
          <p:nvPr/>
        </p:nvSpPr>
        <p:spPr>
          <a:xfrm>
            <a:off x="2411280" y="3933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Пусть видеопамять ПК имеет объем 512 Кбайт. Размер графической сетки 640*200. Сколько страниц экрана одновременно разместится в видеопамяти при палитре из 16 цветов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Рисунок 3" descr=""/>
          <p:cNvPicPr/>
          <p:nvPr/>
        </p:nvPicPr>
        <p:blipFill>
          <a:blip r:embed="rId1"/>
          <a:srcRect l="8334" t="37343" r="23560" b="23893"/>
          <a:stretch/>
        </p:blipFill>
        <p:spPr>
          <a:xfrm>
            <a:off x="395280" y="1916280"/>
            <a:ext cx="8497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ставляется в виде растрового изображения,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торое формируется из определенного количества строк, которые, в свою очередь, содержат определенное количество точек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Графическая информация на экране монито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http://school.ciit.zp.ua/inform-htm/kodir.files/image006.jpg"/>
          <p:cNvPicPr/>
          <p:nvPr/>
        </p:nvPicPr>
        <p:blipFill>
          <a:blip r:embed="rId1"/>
          <a:stretch/>
        </p:blipFill>
        <p:spPr>
          <a:xfrm>
            <a:off x="277920" y="1271520"/>
            <a:ext cx="1284120" cy="777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http://school.ciit.zp.ua/inform-htm/kodir.files/image005.jpg"/>
          <p:cNvPicPr/>
          <p:nvPr/>
        </p:nvPicPr>
        <p:blipFill>
          <a:blip r:embed="rId2"/>
          <a:stretch/>
        </p:blipFill>
        <p:spPr>
          <a:xfrm>
            <a:off x="312840" y="2190600"/>
            <a:ext cx="3085920" cy="1886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school.ciit.zp.ua/inform-htm/kodir.files/pixel.PNG"/>
          <p:cNvPicPr/>
          <p:nvPr/>
        </p:nvPicPr>
        <p:blipFill>
          <a:blip r:embed="rId3"/>
          <a:stretch/>
        </p:blipFill>
        <p:spPr>
          <a:xfrm>
            <a:off x="2556000" y="4076640"/>
            <a:ext cx="22953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1960" y="4292280"/>
            <a:ext cx="88707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ставим себе, что на изображение ромба наложена сетка, которая разбивает его на квадратики. Такая сетка называется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астр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учился так называемый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астровый рисунок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состоящий из квадратиков-пикс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Рисунок 3" descr="http://urok-ikt.narod.ru/images/cl-10_1.gif"/>
          <p:cNvPicPr/>
          <p:nvPr/>
        </p:nvPicPr>
        <p:blipFill>
          <a:blip r:embed="rId1"/>
          <a:stretch/>
        </p:blipFill>
        <p:spPr>
          <a:xfrm>
            <a:off x="250920" y="1623960"/>
            <a:ext cx="2381040" cy="2092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http://urok-ikt.narod.ru/images/cl-10_2.gif"/>
          <p:cNvPicPr/>
          <p:nvPr/>
        </p:nvPicPr>
        <p:blipFill>
          <a:blip r:embed="rId2"/>
          <a:stretch/>
        </p:blipFill>
        <p:spPr>
          <a:xfrm>
            <a:off x="2911320" y="1623960"/>
            <a:ext cx="2293920" cy="2092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http://urok-ikt.narod.ru/images/cl-10_3.gif"/>
          <p:cNvPicPr/>
          <p:nvPr/>
        </p:nvPicPr>
        <p:blipFill>
          <a:blip r:embed="rId3"/>
          <a:stretch/>
        </p:blipFill>
        <p:spPr>
          <a:xfrm>
            <a:off x="6084720" y="1623960"/>
            <a:ext cx="2232360" cy="20923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84360" y="395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Кодирование черно-белого рисунк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328428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цесс разбиения изображения на отдельные маленькие фрагменты (точки) называе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странственной дискретизаци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Пиксель 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(англ. </a:t>
            </a: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pixel = picture element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, элемент рисунка) </a:t>
            </a: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это наименьший элемент рисунка, для которого можно задать свой цвет</a:t>
            </a:r>
            <a:r>
              <a:rPr b="0" lang="ru-RU" sz="4000" spc="-1" strike="noStrike">
                <a:solidFill>
                  <a:srgbClr val="2862aa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640" y="3933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кодирования   черно-белого изображения, используется два состояния пикселя: светится-не светится(белый – черный (1-0)). 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Picture 2" descr=" "/>
          <p:cNvPicPr/>
          <p:nvPr/>
        </p:nvPicPr>
        <p:blipFill>
          <a:blip r:embed="rId1"/>
          <a:srcRect l="0" t="0" r="50014" b="50014"/>
          <a:stretch/>
        </p:blipFill>
        <p:spPr>
          <a:xfrm>
            <a:off x="900000" y="765000"/>
            <a:ext cx="2630520" cy="25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427640" y="833400"/>
          <a:ext cx="4032000" cy="25653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00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дирование цветного рисун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539640" y="155736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ля кодирования цвета пикселя уже не обойтись одним битом. Например,  на рисунке изображения российского флага 4 цвета: черный, синий, красный и белый. Для кодирования одного из четырех вариантов нужно 2 бита, поэтому код каждого цвета (и код каждого пикселя) будет состоять из двух б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Рисунок 3" descr="http://urok-ikt.narod.ru/images/cl-10_6.gif"/>
          <p:cNvPicPr/>
          <p:nvPr/>
        </p:nvPicPr>
        <p:blipFill>
          <a:blip r:embed="rId1"/>
          <a:stretch/>
        </p:blipFill>
        <p:spPr>
          <a:xfrm>
            <a:off x="826920" y="2997360"/>
            <a:ext cx="3097440" cy="1917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urok-ikt.narod.ru/images/cl-10_7.gif"/>
          <p:cNvPicPr/>
          <p:nvPr/>
        </p:nvPicPr>
        <p:blipFill>
          <a:blip r:embed="rId2"/>
          <a:stretch/>
        </p:blipFill>
        <p:spPr>
          <a:xfrm>
            <a:off x="4859280" y="2997360"/>
            <a:ext cx="2808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юбой цвет (в том числе и «белый») приближенно раскладывается на три составляющих – красную, зеленую и синю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5" descr=""/>
          <p:cNvPicPr/>
          <p:nvPr/>
        </p:nvPicPr>
        <p:blipFill>
          <a:blip r:embed="rId1"/>
          <a:stretch/>
        </p:blipFill>
        <p:spPr>
          <a:xfrm>
            <a:off x="4622760" y="1844640"/>
            <a:ext cx="4334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000" y="4581360"/>
            <a:ext cx="828036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 трех базовых цветов — зеленого, красного, синего — можно получить восемь комбинаций трехбитового кода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Picture 2" descr="cod1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700200" y="620640"/>
            <a:ext cx="7478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Количество цветов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 в палитре и количество информации 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, необходимое для кодирования цвета каждой точки, связаны между собой  формулой: 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03640" y="422100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N=2</a:t>
            </a:r>
            <a:r>
              <a:rPr b="1" lang="ru-RU" sz="5400" spc="-1" strike="noStrike" baseline="30000">
                <a:solidFill>
                  <a:srgbClr val="ff0000"/>
                </a:solidFill>
                <a:latin typeface="Candara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6:31Z</dcterms:created>
  <dc:creator>user</dc:creator>
  <dc:description/>
  <dc:language>en-US</dc:language>
  <cp:lastModifiedBy>user</cp:lastModifiedBy>
  <dcterms:modified xsi:type="dcterms:W3CDTF">2013-04-29T04:55:24Z</dcterms:modified>
  <cp:revision>13</cp:revision>
  <dc:subject/>
  <dc:title>Кодирование графической информации</dc:title>
</cp:coreProperties>
</file>