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DB6-7A6C-47FD-BF63-6CC51FC0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3C80-6C8F-44A2-9226-D41D0745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175-A5BE-435A-B4B3-21BC43B9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6BD-A66B-47DF-B637-D29CCF07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1BB0-0BA2-47B5-A565-0821717BC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26E2-9D25-4EE3-8DE8-48414C8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7C06-23C2-4729-A529-6F89DEE4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E8AC-16CD-4A18-996A-28E05ED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A7AC-D5AA-47EE-9576-DD965AE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3A20-BC33-4B73-9A73-9B30847A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231-C47E-47A5-B12F-65088422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626-F0C0-4DC3-A06D-C8F2437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3B34-FE25-4A19-91B6-F753AB2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6E53-1C28-4747-AEA1-D4481500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FD07-9828-45B6-B6EC-11218FA9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A33-5E21-4C71-94D2-23B6FC19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068-474A-4DDE-ADE2-572E7F24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9392-740A-49E9-B3A6-03AD710D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6CAD-DB67-4051-80C0-02FA18D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C5B49-4F23-4E5F-9903-43F8706B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0074-537A-48F4-8BC1-F477231D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8972-541A-4014-95D4-EC83C130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C45-D7AB-487F-A613-1EB1EAE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88E2-8746-42EB-9394-F20F486C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136F-2CAC-47E0-B207-10C01A6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5393-70FB-4D73-9966-7B3997EA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1716-2966-457C-9F00-64C7C9C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051B-E19B-431B-8672-410CE0A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122A-E782-43AA-851E-25EBA453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287E-035F-451C-B167-7509FD14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227B5-B1C8-4772-B2CB-4B9B3BA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3E478-45CC-4810-B271-5D83E22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D306-921F-4E2F-82E3-9631AAA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3AC-A5FE-4D6F-8985-4C672C2E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C8DA-2785-4EF9-8B8B-69BD0C4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A1742-A313-4385-A4FC-FFD46A6B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CC22-82A2-4903-ABAE-DC82BBDB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DC12-56E3-4DF1-BC68-0C2F9460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008A-1CB4-45C0-8D1B-F5652C52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600C3-6B15-4D38-9E2A-C8368EF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A37B-D7A0-44F5-B26F-1772553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A4859-D55A-4016-B81A-E42468F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B2B27-0DB8-4D3A-9CD9-6E708DC1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F5B67-340A-4B07-A0B0-B25F846B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09C-E063-4C38-8F29-93F2023B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ABDB2-FEDB-4D02-B934-2BA0AAC9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676AB-8E5D-4393-BFC4-E5610B4B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23777-0F28-4ABD-9B05-C5BECFC9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3E3EF-2CF8-46C8-B189-F21BA5A8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8BF5-6EE2-4EEE-AE5D-C90968D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E0BC-CA44-4863-861C-05DBC75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57ED-7992-4EBA-B7AE-ED0BE49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DBE7-F270-4AE1-B050-35D90C1F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4A6F5-019B-4F70-9528-BD91B8E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69BFB-2FEC-4119-B5CA-D2359757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B62-9BC8-4B80-8771-CCE0C972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FC47-15C6-495D-92CB-3DB49C25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23728-EA47-4F9E-9E5E-E9A69A40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59E7A-9C2D-4881-A647-243E9D1E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B514-B166-4EEC-B5DB-4765BDC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92337-4D7D-4DB2-BDCF-8EFAFDC2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B2EEC-4BD5-4EEC-9FEF-F5FCEAF3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4FF1-DA86-4185-90EE-6B0DC6AF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1C4A1-DE88-4AAF-B882-2B71167B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0C66-9540-4B48-AD4F-AFBFBEA9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B0B9-9A80-4EAC-8006-ACC5BA0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E2B-1BA2-434F-BDA2-DA9BB9B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CA2E-0B0C-441C-9D56-E0FCA631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C7FF1-F3EE-4090-848E-BB9A4496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F6E6-6E06-47A5-9109-389CFD9A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3738-D100-482A-B7A1-A762F961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B3650-6580-4C80-843C-473F41D7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087F8-40CB-4E47-B863-820C1D62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68DBD-531A-4485-AE72-020911D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52ADD-7054-4E0A-9420-2F570683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CB3A4-386D-4EC9-B4DA-613747CB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3612-C641-425E-AE6F-C6D00E51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96B-6250-405D-941A-D0D4B67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8878-3633-4FDE-87CC-3FFAC20A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5158-A853-4256-8647-208D996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387A-DC27-4626-9C81-65FE60A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CA33-B132-4CAE-915C-5FEFC495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55FF6-5ACC-4819-8D9F-58EF16DE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AD8-34A6-4202-BD29-E9F94BC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EB1-E5FC-4680-891F-F616073790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17D5-871F-4D0D-A523-2D09BD00292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DEAE-980F-45E8-B9EA-4F944BCB4F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BC87-5E07-4DDD-9E08-1265235404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9826-D893-4613-9DA1-1FECDF2A56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E0E5-5C47-453C-AECE-00DB7F9223B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B878-8FE8-47E5-A1AD-C38F69F78C0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http://inf5-7.gym5cheb.ru/images/spekt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689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f2f2"/>
                </a:solidFill>
                <a:latin typeface="Candara"/>
              </a:rPr>
              <a:t>Кодирование графической информац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60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Хачкиева Л.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Учитель информатики МБОУ СОШ №6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8" name="Рисунок 3" descr=""/>
          <p:cNvPicPr/>
          <p:nvPr/>
        </p:nvPicPr>
        <p:blipFill>
          <a:blip r:embed="rId2"/>
          <a:stretch/>
        </p:blipFill>
        <p:spPr>
          <a:xfrm>
            <a:off x="3560760" y="2708280"/>
            <a:ext cx="2022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Количество бит, необходимое для кодирования цвета точки называется </a:t>
            </a:r>
            <a:r>
              <a:rPr b="1" i="1" lang="ru-RU" sz="4000" spc="-1" strike="noStrike">
                <a:solidFill>
                  <a:srgbClr val="000000"/>
                </a:solidFill>
                <a:latin typeface="Candara"/>
              </a:rPr>
              <a:t>глубиной цвета</a:t>
            </a: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372960" y="213372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распространенными значениями глубины цвета являются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 4, 8, 16, и 24 бита на точку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692360" y="3273480"/>
          <a:ext cx="6767280" cy="2995560"/>
        </p:xfrm>
        <a:graphic>
          <a:graphicData uri="http://schemas.openxmlformats.org/drawingml/2006/table">
            <a:tbl>
              <a:tblPr/>
              <a:tblGrid>
                <a:gridCol w="2111400"/>
                <a:gridCol w="4655880"/>
              </a:tblGrid>
              <a:tr h="1097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Глубина цвет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(бито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Количество цветов в палитре,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65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16777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ъём требуемой видеопамяти можно рассчитать по формул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                     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V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=I * X * Y, 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Где </a:t>
            </a: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V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информационный объём видеопамяти в битах;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X * Y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количество точек изображения;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 I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- глубина цвета в битах на точк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бъем видеопамя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В чём суть растровой формы представления графической информаци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 Сколько бит информации необходимо для кодирования 1 точки чёрно-белого экрана монитора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 По какой формуле определяется объём видеопамяти диспле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 чём суть векторной формы представления графической информации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Закрепление материа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755640" y="1773360"/>
            <a:ext cx="7408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колько цветов будет содержать палитра, если каждый базовый цвет кодировать в 2 битах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шение задач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2050920" y="2852640"/>
          <a:ext cx="6096240" cy="3078360"/>
        </p:xfrm>
        <a:graphic>
          <a:graphicData uri="http://schemas.openxmlformats.org/drawingml/2006/table">
            <a:tbl>
              <a:tblPr/>
              <a:tblGrid>
                <a:gridCol w="2664000"/>
                <a:gridCol w="3432240"/>
              </a:tblGrid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ан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=2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б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айт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еше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2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дставляем значени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=2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=4 цвета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ая соединительная линия 5"/>
          <p:cNvSpPr/>
          <p:nvPr/>
        </p:nvSpPr>
        <p:spPr>
          <a:xfrm>
            <a:off x="3276720" y="2809800"/>
            <a:ext cx="0" cy="220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Прямая соединительная линия 9"/>
          <p:cNvSpPr/>
          <p:nvPr/>
        </p:nvSpPr>
        <p:spPr>
          <a:xfrm>
            <a:off x="2411280" y="3933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1f43"/>
                </a:solidFill>
                <a:latin typeface="Candara"/>
              </a:rPr>
              <a:t>Пусть видеопамять ПК имеет объем 512 Кбайт. Размер графической сетки 640*200. Сколько страниц экрана одновременно разместится в видеопамяти при палитре из 16 цветов?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9" name="Рисунок 3" descr=""/>
          <p:cNvPicPr/>
          <p:nvPr/>
        </p:nvPicPr>
        <p:blipFill>
          <a:blip r:embed="rId1"/>
          <a:srcRect l="8334" t="37343" r="23560" b="23893"/>
          <a:stretch/>
        </p:blipFill>
        <p:spPr>
          <a:xfrm>
            <a:off x="395280" y="1916280"/>
            <a:ext cx="8497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едставляется в виде растрового изображения,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торое формируется из определенного количества строк, которые, в свою очередь, содержат определенное количество точек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Графическая информация на экране монито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1" name="Picture 2" descr="http://school.ciit.zp.ua/inform-htm/kodir.files/image006.jpg"/>
          <p:cNvPicPr/>
          <p:nvPr/>
        </p:nvPicPr>
        <p:blipFill>
          <a:blip r:embed="rId1"/>
          <a:stretch/>
        </p:blipFill>
        <p:spPr>
          <a:xfrm>
            <a:off x="277920" y="1271520"/>
            <a:ext cx="1284120" cy="7779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http://school.ciit.zp.ua/inform-htm/kodir.files/image005.jpg"/>
          <p:cNvPicPr/>
          <p:nvPr/>
        </p:nvPicPr>
        <p:blipFill>
          <a:blip r:embed="rId2"/>
          <a:stretch/>
        </p:blipFill>
        <p:spPr>
          <a:xfrm>
            <a:off x="312840" y="2190600"/>
            <a:ext cx="3085920" cy="1886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school.ciit.zp.ua/inform-htm/kodir.files/pixel.PNG"/>
          <p:cNvPicPr/>
          <p:nvPr/>
        </p:nvPicPr>
        <p:blipFill>
          <a:blip r:embed="rId3"/>
          <a:stretch/>
        </p:blipFill>
        <p:spPr>
          <a:xfrm>
            <a:off x="2556000" y="4076640"/>
            <a:ext cx="22953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1960" y="4292280"/>
            <a:ext cx="88707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едставим себе, что на изображение ромба наложена сетка, которая разбивает его на квадратики. Такая сетка называется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астро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олучился так называемый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растровый рисунок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, состоящий из квадратиков-пикс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Рисунок 3" descr="http://urok-ikt.narod.ru/images/cl-10_1.gif"/>
          <p:cNvPicPr/>
          <p:nvPr/>
        </p:nvPicPr>
        <p:blipFill>
          <a:blip r:embed="rId1"/>
          <a:stretch/>
        </p:blipFill>
        <p:spPr>
          <a:xfrm>
            <a:off x="250920" y="1623960"/>
            <a:ext cx="2381040" cy="2092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4" descr="http://urok-ikt.narod.ru/images/cl-10_2.gif"/>
          <p:cNvPicPr/>
          <p:nvPr/>
        </p:nvPicPr>
        <p:blipFill>
          <a:blip r:embed="rId2"/>
          <a:stretch/>
        </p:blipFill>
        <p:spPr>
          <a:xfrm>
            <a:off x="2911320" y="1623960"/>
            <a:ext cx="2293920" cy="2092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http://urok-ikt.narod.ru/images/cl-10_3.gif"/>
          <p:cNvPicPr/>
          <p:nvPr/>
        </p:nvPicPr>
        <p:blipFill>
          <a:blip r:embed="rId3"/>
          <a:stretch/>
        </p:blipFill>
        <p:spPr>
          <a:xfrm>
            <a:off x="6084720" y="1623960"/>
            <a:ext cx="2232360" cy="2092320"/>
          </a:xfrm>
          <a:prstGeom prst="rect">
            <a:avLst/>
          </a:prstGeom>
          <a:ln w="0">
            <a:noFill/>
          </a:ln>
        </p:spPr>
      </p:pic>
      <p:sp>
        <p:nvSpPr>
          <p:cNvPr id="348" name="TextBox 6"/>
          <p:cNvSpPr/>
          <p:nvPr/>
        </p:nvSpPr>
        <p:spPr>
          <a:xfrm>
            <a:off x="684360" y="395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ndara"/>
              </a:rPr>
              <a:t>Кодирование черно-белого рисунка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328428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цесс разбиения изображения на отдельные маленькие фрагменты (точки) называется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странственной дискретизаци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Пиксель 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(англ. </a:t>
            </a: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pixel = picture element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, элемент рисунка) </a:t>
            </a:r>
            <a:r>
              <a:rPr b="0" i="1" lang="ru-RU" sz="4000" spc="-1" strike="noStrike">
                <a:solidFill>
                  <a:srgbClr val="ff0000"/>
                </a:solidFill>
                <a:latin typeface="Candara"/>
              </a:rPr>
              <a:t>– </a:t>
            </a:r>
            <a:r>
              <a:rPr b="0" lang="ru-RU" sz="4000" spc="-1" strike="noStrike">
                <a:solidFill>
                  <a:srgbClr val="ff0000"/>
                </a:solidFill>
                <a:latin typeface="Candara"/>
              </a:rPr>
              <a:t>это наименьший элемент рисунка, для которого можно задать свой цвет</a:t>
            </a:r>
            <a:r>
              <a:rPr b="0" lang="ru-RU" sz="4000" spc="-1" strike="noStrike">
                <a:solidFill>
                  <a:srgbClr val="2862aa"/>
                </a:solidFill>
                <a:latin typeface="Candar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640" y="393336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кодирования   черно-белого изображения, используется два состояния пикселя: светится-не светится(белый – черный (1-0)). 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2" name="Picture 2" descr=" "/>
          <p:cNvPicPr/>
          <p:nvPr/>
        </p:nvPicPr>
        <p:blipFill>
          <a:blip r:embed="rId1"/>
          <a:srcRect l="0" t="0" r="50014" b="50014"/>
          <a:stretch/>
        </p:blipFill>
        <p:spPr>
          <a:xfrm>
            <a:off x="900000" y="765000"/>
            <a:ext cx="2630520" cy="25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4427640" y="833400"/>
          <a:ext cx="4032000" cy="256536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  <a:gridCol w="1008000"/>
              </a:tblGrid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Кодирование цветного рисун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539640" y="155736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Для кодирования цвета пикселя уже не обойтись одним битом. Например,  на рисунке изображения российского флага 4 цвета: черный, синий, красный и белый. Для кодирования одного из четырех вариантов нужно 2 бита, поэтому код каждого цвета (и код каждого пикселя) будет состоять из двух б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6" name="Рисунок 3" descr="http://urok-ikt.narod.ru/images/cl-10_6.gif"/>
          <p:cNvPicPr/>
          <p:nvPr/>
        </p:nvPicPr>
        <p:blipFill>
          <a:blip r:embed="rId1"/>
          <a:stretch/>
        </p:blipFill>
        <p:spPr>
          <a:xfrm>
            <a:off x="826920" y="2997360"/>
            <a:ext cx="3097440" cy="1917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urok-ikt.narod.ru/images/cl-10_7.gif"/>
          <p:cNvPicPr/>
          <p:nvPr/>
        </p:nvPicPr>
        <p:blipFill>
          <a:blip r:embed="rId2"/>
          <a:stretch/>
        </p:blipFill>
        <p:spPr>
          <a:xfrm>
            <a:off x="4859280" y="2997360"/>
            <a:ext cx="28083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Любой цвет (в том числе и «белый») приближенно раскладывается на три составляющих – красную, зеленую и синюю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5" descr=""/>
          <p:cNvPicPr/>
          <p:nvPr/>
        </p:nvPicPr>
        <p:blipFill>
          <a:blip r:embed="rId1"/>
          <a:stretch/>
        </p:blipFill>
        <p:spPr>
          <a:xfrm>
            <a:off x="4622760" y="1844640"/>
            <a:ext cx="4334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68000" y="4581360"/>
            <a:ext cx="828036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з трех базовых цветов — зеленого, красного, синего — можно получить восемь комбинаций трехбитового кода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Picture 2" descr="cod1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700200" y="620640"/>
            <a:ext cx="747864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Количество цветов</a:t>
            </a: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 в палитре и количество информации </a:t>
            </a: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, необходимое для кодирования цвета каждой точки, связаны между собой  формулой: 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203640" y="4221000"/>
            <a:ext cx="22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N=2</a:t>
            </a:r>
            <a:r>
              <a:rPr b="1" lang="ru-RU" sz="5400" spc="-1" strike="noStrike" baseline="30000">
                <a:solidFill>
                  <a:srgbClr val="ff0000"/>
                </a:solidFill>
                <a:latin typeface="Candara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56:31Z</dcterms:created>
  <dc:creator>user</dc:creator>
  <dc:description/>
  <dc:language>en-US</dc:language>
  <cp:lastModifiedBy>user</cp:lastModifiedBy>
  <dcterms:modified xsi:type="dcterms:W3CDTF">2013-04-29T04:55:24Z</dcterms:modified>
  <cp:revision>13</cp:revision>
  <dc:subject/>
  <dc:title>Кодирование графической информации</dc:title>
</cp:coreProperties>
</file>