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12.jpeg" ContentType="image/jpeg"/>
  <Override PartName="/ppt/media/image6.jpeg" ContentType="image/jpeg"/>
  <Override PartName="/ppt/media/image7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2BF-F13E-4523-BB52-AAF894F2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041B-D7C5-4A35-82CD-46CCE831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0BE-DDF5-4717-BEAA-8EB46990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49C-6D61-43B8-9FEF-BB9B4F66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BC8B-B328-435B-9DF8-202321BA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214-038D-4D71-9285-7D3B2A56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D11-98E1-4A0B-BB92-95C53D9D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985-9A2E-477D-AB45-79483B17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C72-E202-4E4C-974B-53C186D9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ABF-47EF-4971-BD1F-C8FD148A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F13-3C6F-4F0D-8DAC-FB565281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F8F-FC7A-4312-8BE0-536E99AE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B470-801C-4381-A51E-31506FA56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a48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494172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54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рок математики на тему: «Компоненты сложени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1 класс (1-4), Л.Г. Петерсо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5520" y="6033960"/>
            <a:ext cx="880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Провела урок учитель начальных классов: Полушкина О.В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87640" y="1268280"/>
            <a:ext cx="6156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Замкнутые и незамкнутые лини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4000" y="2428920"/>
            <a:ext cx="3448080" cy="1600200"/>
          </a:xfrm>
          <a:custGeom>
            <a:avLst/>
            <a:gdLst/>
            <a:ahLst/>
            <a:rect l="l" t="t" r="r" b="b"/>
            <a:pathLst>
              <a:path w="2172" h="1008">
                <a:moveTo>
                  <a:pt x="12" y="1008"/>
                </a:moveTo>
                <a:cubicBezTo>
                  <a:pt x="4" y="984"/>
                  <a:pt x="0" y="939"/>
                  <a:pt x="21" y="918"/>
                </a:cubicBezTo>
                <a:cubicBezTo>
                  <a:pt x="30" y="909"/>
                  <a:pt x="45" y="907"/>
                  <a:pt x="57" y="900"/>
                </a:cubicBezTo>
                <a:cubicBezTo>
                  <a:pt x="134" y="854"/>
                  <a:pt x="84" y="873"/>
                  <a:pt x="138" y="855"/>
                </a:cubicBezTo>
                <a:cubicBezTo>
                  <a:pt x="227" y="862"/>
                  <a:pt x="263" y="873"/>
                  <a:pt x="336" y="837"/>
                </a:cubicBezTo>
                <a:cubicBezTo>
                  <a:pt x="357" y="806"/>
                  <a:pt x="377" y="786"/>
                  <a:pt x="408" y="765"/>
                </a:cubicBezTo>
                <a:cubicBezTo>
                  <a:pt x="423" y="721"/>
                  <a:pt x="443" y="691"/>
                  <a:pt x="480" y="666"/>
                </a:cubicBezTo>
                <a:cubicBezTo>
                  <a:pt x="490" y="637"/>
                  <a:pt x="484" y="635"/>
                  <a:pt x="516" y="621"/>
                </a:cubicBezTo>
                <a:cubicBezTo>
                  <a:pt x="533" y="613"/>
                  <a:pt x="570" y="603"/>
                  <a:pt x="570" y="603"/>
                </a:cubicBezTo>
                <a:cubicBezTo>
                  <a:pt x="635" y="616"/>
                  <a:pt x="692" y="637"/>
                  <a:pt x="750" y="666"/>
                </a:cubicBezTo>
                <a:cubicBezTo>
                  <a:pt x="777" y="680"/>
                  <a:pt x="811" y="683"/>
                  <a:pt x="840" y="693"/>
                </a:cubicBezTo>
                <a:cubicBezTo>
                  <a:pt x="876" y="690"/>
                  <a:pt x="912" y="690"/>
                  <a:pt x="948" y="684"/>
                </a:cubicBezTo>
                <a:cubicBezTo>
                  <a:pt x="967" y="681"/>
                  <a:pt x="1002" y="666"/>
                  <a:pt x="1002" y="666"/>
                </a:cubicBezTo>
                <a:cubicBezTo>
                  <a:pt x="1023" y="635"/>
                  <a:pt x="1043" y="615"/>
                  <a:pt x="1074" y="594"/>
                </a:cubicBezTo>
                <a:cubicBezTo>
                  <a:pt x="1101" y="553"/>
                  <a:pt x="1110" y="513"/>
                  <a:pt x="1146" y="477"/>
                </a:cubicBezTo>
                <a:cubicBezTo>
                  <a:pt x="1173" y="396"/>
                  <a:pt x="1192" y="281"/>
                  <a:pt x="1263" y="225"/>
                </a:cubicBezTo>
                <a:cubicBezTo>
                  <a:pt x="1263" y="225"/>
                  <a:pt x="1330" y="180"/>
                  <a:pt x="1344" y="171"/>
                </a:cubicBezTo>
                <a:cubicBezTo>
                  <a:pt x="1353" y="165"/>
                  <a:pt x="1362" y="159"/>
                  <a:pt x="1371" y="153"/>
                </a:cubicBezTo>
                <a:cubicBezTo>
                  <a:pt x="1380" y="147"/>
                  <a:pt x="1398" y="135"/>
                  <a:pt x="1398" y="135"/>
                </a:cubicBezTo>
                <a:cubicBezTo>
                  <a:pt x="1434" y="145"/>
                  <a:pt x="1471" y="149"/>
                  <a:pt x="1506" y="162"/>
                </a:cubicBezTo>
                <a:cubicBezTo>
                  <a:pt x="1516" y="166"/>
                  <a:pt x="1523" y="176"/>
                  <a:pt x="1533" y="180"/>
                </a:cubicBezTo>
                <a:cubicBezTo>
                  <a:pt x="1550" y="188"/>
                  <a:pt x="1587" y="198"/>
                  <a:pt x="1587" y="198"/>
                </a:cubicBezTo>
                <a:cubicBezTo>
                  <a:pt x="1617" y="238"/>
                  <a:pt x="1648" y="254"/>
                  <a:pt x="1695" y="270"/>
                </a:cubicBezTo>
                <a:cubicBezTo>
                  <a:pt x="1816" y="265"/>
                  <a:pt x="1870" y="275"/>
                  <a:pt x="1965" y="243"/>
                </a:cubicBezTo>
                <a:cubicBezTo>
                  <a:pt x="2018" y="163"/>
                  <a:pt x="1946" y="259"/>
                  <a:pt x="2010" y="207"/>
                </a:cubicBezTo>
                <a:cubicBezTo>
                  <a:pt x="2036" y="186"/>
                  <a:pt x="2082" y="135"/>
                  <a:pt x="2082" y="135"/>
                </a:cubicBezTo>
                <a:cubicBezTo>
                  <a:pt x="2095" y="95"/>
                  <a:pt x="2130" y="63"/>
                  <a:pt x="2154" y="27"/>
                </a:cubicBezTo>
                <a:cubicBezTo>
                  <a:pt x="2160" y="18"/>
                  <a:pt x="2172" y="0"/>
                  <a:pt x="2172" y="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2637000"/>
            <a:ext cx="2256120" cy="1571400"/>
          </a:xfrm>
          <a:custGeom>
            <a:avLst/>
            <a:gdLst/>
            <a:ahLst/>
            <a:rect l="l" t="t" r="r" b="b"/>
            <a:pathLst>
              <a:path w="1421" h="990">
                <a:moveTo>
                  <a:pt x="17" y="396"/>
                </a:moveTo>
                <a:cubicBezTo>
                  <a:pt x="22" y="316"/>
                  <a:pt x="0" y="258"/>
                  <a:pt x="62" y="216"/>
                </a:cubicBezTo>
                <a:cubicBezTo>
                  <a:pt x="78" y="191"/>
                  <a:pt x="79" y="184"/>
                  <a:pt x="107" y="171"/>
                </a:cubicBezTo>
                <a:cubicBezTo>
                  <a:pt x="124" y="163"/>
                  <a:pt x="161" y="153"/>
                  <a:pt x="161" y="153"/>
                </a:cubicBezTo>
                <a:cubicBezTo>
                  <a:pt x="183" y="155"/>
                  <a:pt x="266" y="152"/>
                  <a:pt x="305" y="171"/>
                </a:cubicBezTo>
                <a:cubicBezTo>
                  <a:pt x="339" y="188"/>
                  <a:pt x="329" y="191"/>
                  <a:pt x="359" y="216"/>
                </a:cubicBezTo>
                <a:cubicBezTo>
                  <a:pt x="396" y="247"/>
                  <a:pt x="457" y="282"/>
                  <a:pt x="503" y="297"/>
                </a:cubicBezTo>
                <a:cubicBezTo>
                  <a:pt x="518" y="294"/>
                  <a:pt x="534" y="294"/>
                  <a:pt x="548" y="288"/>
                </a:cubicBezTo>
                <a:cubicBezTo>
                  <a:pt x="592" y="268"/>
                  <a:pt x="612" y="231"/>
                  <a:pt x="656" y="216"/>
                </a:cubicBezTo>
                <a:cubicBezTo>
                  <a:pt x="694" y="159"/>
                  <a:pt x="733" y="94"/>
                  <a:pt x="782" y="45"/>
                </a:cubicBezTo>
                <a:cubicBezTo>
                  <a:pt x="806" y="21"/>
                  <a:pt x="842" y="19"/>
                  <a:pt x="872" y="9"/>
                </a:cubicBezTo>
                <a:cubicBezTo>
                  <a:pt x="926" y="13"/>
                  <a:pt x="987" y="0"/>
                  <a:pt x="1034" y="27"/>
                </a:cubicBezTo>
                <a:cubicBezTo>
                  <a:pt x="1045" y="33"/>
                  <a:pt x="1050" y="48"/>
                  <a:pt x="1061" y="54"/>
                </a:cubicBezTo>
                <a:cubicBezTo>
                  <a:pt x="1090" y="71"/>
                  <a:pt x="1136" y="79"/>
                  <a:pt x="1169" y="90"/>
                </a:cubicBezTo>
                <a:cubicBezTo>
                  <a:pt x="1190" y="121"/>
                  <a:pt x="1205" y="132"/>
                  <a:pt x="1241" y="144"/>
                </a:cubicBezTo>
                <a:cubicBezTo>
                  <a:pt x="1257" y="192"/>
                  <a:pt x="1269" y="167"/>
                  <a:pt x="1304" y="198"/>
                </a:cubicBezTo>
                <a:cubicBezTo>
                  <a:pt x="1326" y="218"/>
                  <a:pt x="1367" y="261"/>
                  <a:pt x="1367" y="261"/>
                </a:cubicBezTo>
                <a:cubicBezTo>
                  <a:pt x="1388" y="325"/>
                  <a:pt x="1358" y="248"/>
                  <a:pt x="1403" y="315"/>
                </a:cubicBezTo>
                <a:cubicBezTo>
                  <a:pt x="1411" y="327"/>
                  <a:pt x="1420" y="381"/>
                  <a:pt x="1421" y="387"/>
                </a:cubicBezTo>
                <a:cubicBezTo>
                  <a:pt x="1420" y="406"/>
                  <a:pt x="1418" y="522"/>
                  <a:pt x="1403" y="567"/>
                </a:cubicBezTo>
                <a:cubicBezTo>
                  <a:pt x="1375" y="650"/>
                  <a:pt x="1296" y="728"/>
                  <a:pt x="1232" y="783"/>
                </a:cubicBezTo>
                <a:cubicBezTo>
                  <a:pt x="1194" y="816"/>
                  <a:pt x="1164" y="848"/>
                  <a:pt x="1115" y="864"/>
                </a:cubicBezTo>
                <a:cubicBezTo>
                  <a:pt x="1086" y="907"/>
                  <a:pt x="1107" y="888"/>
                  <a:pt x="1043" y="909"/>
                </a:cubicBezTo>
                <a:cubicBezTo>
                  <a:pt x="1018" y="917"/>
                  <a:pt x="995" y="933"/>
                  <a:pt x="971" y="945"/>
                </a:cubicBezTo>
                <a:cubicBezTo>
                  <a:pt x="908" y="976"/>
                  <a:pt x="824" y="982"/>
                  <a:pt x="755" y="990"/>
                </a:cubicBezTo>
                <a:cubicBezTo>
                  <a:pt x="711" y="988"/>
                  <a:pt x="594" y="988"/>
                  <a:pt x="530" y="972"/>
                </a:cubicBezTo>
                <a:cubicBezTo>
                  <a:pt x="512" y="967"/>
                  <a:pt x="494" y="960"/>
                  <a:pt x="476" y="954"/>
                </a:cubicBezTo>
                <a:cubicBezTo>
                  <a:pt x="467" y="951"/>
                  <a:pt x="449" y="945"/>
                  <a:pt x="449" y="945"/>
                </a:cubicBezTo>
                <a:cubicBezTo>
                  <a:pt x="416" y="912"/>
                  <a:pt x="358" y="870"/>
                  <a:pt x="314" y="855"/>
                </a:cubicBezTo>
                <a:cubicBezTo>
                  <a:pt x="279" y="809"/>
                  <a:pt x="257" y="814"/>
                  <a:pt x="224" y="774"/>
                </a:cubicBezTo>
                <a:cubicBezTo>
                  <a:pt x="217" y="766"/>
                  <a:pt x="211" y="757"/>
                  <a:pt x="206" y="747"/>
                </a:cubicBezTo>
                <a:cubicBezTo>
                  <a:pt x="202" y="739"/>
                  <a:pt x="203" y="727"/>
                  <a:pt x="197" y="720"/>
                </a:cubicBezTo>
                <a:cubicBezTo>
                  <a:pt x="182" y="702"/>
                  <a:pt x="160" y="692"/>
                  <a:pt x="143" y="675"/>
                </a:cubicBezTo>
                <a:cubicBezTo>
                  <a:pt x="129" y="618"/>
                  <a:pt x="94" y="572"/>
                  <a:pt x="53" y="531"/>
                </a:cubicBezTo>
                <a:cubicBezTo>
                  <a:pt x="42" y="486"/>
                  <a:pt x="17" y="442"/>
                  <a:pt x="17" y="396"/>
                </a:cubicBezTo>
                <a:close/>
              </a:path>
            </a:pathLst>
          </a:custGeom>
          <a:solidFill>
            <a:srgbClr val="ffff66"/>
          </a:solidFill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57800"/>
            <a:ext cx="2686320" cy="1285920"/>
          </a:xfrm>
          <a:custGeom>
            <a:avLst/>
            <a:gdLst/>
            <a:ahLst/>
            <a:rect l="l" t="t" r="r" b="b"/>
            <a:pathLst>
              <a:path w="1692" h="810">
                <a:moveTo>
                  <a:pt x="54" y="297"/>
                </a:moveTo>
                <a:cubicBezTo>
                  <a:pt x="59" y="273"/>
                  <a:pt x="55" y="242"/>
                  <a:pt x="72" y="225"/>
                </a:cubicBezTo>
                <a:cubicBezTo>
                  <a:pt x="79" y="218"/>
                  <a:pt x="91" y="220"/>
                  <a:pt x="99" y="216"/>
                </a:cubicBezTo>
                <a:cubicBezTo>
                  <a:pt x="109" y="211"/>
                  <a:pt x="117" y="204"/>
                  <a:pt x="126" y="198"/>
                </a:cubicBezTo>
                <a:cubicBezTo>
                  <a:pt x="249" y="229"/>
                  <a:pt x="198" y="218"/>
                  <a:pt x="279" y="234"/>
                </a:cubicBezTo>
                <a:cubicBezTo>
                  <a:pt x="327" y="231"/>
                  <a:pt x="378" y="242"/>
                  <a:pt x="423" y="225"/>
                </a:cubicBezTo>
                <a:cubicBezTo>
                  <a:pt x="430" y="222"/>
                  <a:pt x="454" y="126"/>
                  <a:pt x="459" y="108"/>
                </a:cubicBezTo>
                <a:cubicBezTo>
                  <a:pt x="475" y="53"/>
                  <a:pt x="514" y="18"/>
                  <a:pt x="567" y="0"/>
                </a:cubicBezTo>
                <a:cubicBezTo>
                  <a:pt x="631" y="13"/>
                  <a:pt x="597" y="4"/>
                  <a:pt x="666" y="27"/>
                </a:cubicBezTo>
                <a:cubicBezTo>
                  <a:pt x="696" y="37"/>
                  <a:pt x="720" y="72"/>
                  <a:pt x="747" y="90"/>
                </a:cubicBezTo>
                <a:cubicBezTo>
                  <a:pt x="756" y="104"/>
                  <a:pt x="788" y="159"/>
                  <a:pt x="810" y="171"/>
                </a:cubicBezTo>
                <a:cubicBezTo>
                  <a:pt x="827" y="180"/>
                  <a:pt x="864" y="189"/>
                  <a:pt x="864" y="189"/>
                </a:cubicBezTo>
                <a:cubicBezTo>
                  <a:pt x="927" y="183"/>
                  <a:pt x="1021" y="177"/>
                  <a:pt x="1080" y="144"/>
                </a:cubicBezTo>
                <a:cubicBezTo>
                  <a:pt x="1099" y="133"/>
                  <a:pt x="1113" y="115"/>
                  <a:pt x="1134" y="108"/>
                </a:cubicBezTo>
                <a:cubicBezTo>
                  <a:pt x="1198" y="87"/>
                  <a:pt x="1172" y="101"/>
                  <a:pt x="1215" y="72"/>
                </a:cubicBezTo>
                <a:cubicBezTo>
                  <a:pt x="1281" y="75"/>
                  <a:pt x="1347" y="74"/>
                  <a:pt x="1413" y="81"/>
                </a:cubicBezTo>
                <a:cubicBezTo>
                  <a:pt x="1450" y="85"/>
                  <a:pt x="1500" y="109"/>
                  <a:pt x="1539" y="117"/>
                </a:cubicBezTo>
                <a:cubicBezTo>
                  <a:pt x="1570" y="148"/>
                  <a:pt x="1588" y="145"/>
                  <a:pt x="1620" y="171"/>
                </a:cubicBezTo>
                <a:cubicBezTo>
                  <a:pt x="1689" y="229"/>
                  <a:pt x="1607" y="171"/>
                  <a:pt x="1674" y="216"/>
                </a:cubicBezTo>
                <a:cubicBezTo>
                  <a:pt x="1681" y="246"/>
                  <a:pt x="1692" y="266"/>
                  <a:pt x="1674" y="297"/>
                </a:cubicBezTo>
                <a:cubicBezTo>
                  <a:pt x="1660" y="322"/>
                  <a:pt x="1576" y="364"/>
                  <a:pt x="1548" y="369"/>
                </a:cubicBezTo>
                <a:cubicBezTo>
                  <a:pt x="1488" y="379"/>
                  <a:pt x="1368" y="387"/>
                  <a:pt x="1368" y="387"/>
                </a:cubicBezTo>
                <a:cubicBezTo>
                  <a:pt x="1085" y="381"/>
                  <a:pt x="912" y="368"/>
                  <a:pt x="648" y="378"/>
                </a:cubicBezTo>
                <a:cubicBezTo>
                  <a:pt x="601" y="409"/>
                  <a:pt x="554" y="525"/>
                  <a:pt x="522" y="576"/>
                </a:cubicBezTo>
                <a:cubicBezTo>
                  <a:pt x="463" y="670"/>
                  <a:pt x="582" y="518"/>
                  <a:pt x="495" y="639"/>
                </a:cubicBezTo>
                <a:cubicBezTo>
                  <a:pt x="488" y="649"/>
                  <a:pt x="476" y="656"/>
                  <a:pt x="468" y="666"/>
                </a:cubicBezTo>
                <a:cubicBezTo>
                  <a:pt x="455" y="683"/>
                  <a:pt x="444" y="702"/>
                  <a:pt x="432" y="720"/>
                </a:cubicBezTo>
                <a:cubicBezTo>
                  <a:pt x="420" y="738"/>
                  <a:pt x="378" y="756"/>
                  <a:pt x="378" y="756"/>
                </a:cubicBezTo>
                <a:cubicBezTo>
                  <a:pt x="372" y="765"/>
                  <a:pt x="369" y="777"/>
                  <a:pt x="360" y="783"/>
                </a:cubicBezTo>
                <a:cubicBezTo>
                  <a:pt x="338" y="798"/>
                  <a:pt x="276" y="805"/>
                  <a:pt x="252" y="810"/>
                </a:cubicBezTo>
                <a:cubicBezTo>
                  <a:pt x="172" y="803"/>
                  <a:pt x="103" y="801"/>
                  <a:pt x="36" y="756"/>
                </a:cubicBezTo>
                <a:cubicBezTo>
                  <a:pt x="16" y="725"/>
                  <a:pt x="9" y="702"/>
                  <a:pt x="0" y="666"/>
                </a:cubicBezTo>
                <a:cubicBezTo>
                  <a:pt x="8" y="605"/>
                  <a:pt x="9" y="513"/>
                  <a:pt x="45" y="459"/>
                </a:cubicBezTo>
                <a:cubicBezTo>
                  <a:pt x="86" y="397"/>
                  <a:pt x="74" y="426"/>
                  <a:pt x="90" y="378"/>
                </a:cubicBezTo>
                <a:cubicBezTo>
                  <a:pt x="87" y="357"/>
                  <a:pt x="93" y="333"/>
                  <a:pt x="81" y="315"/>
                </a:cubicBezTo>
                <a:cubicBezTo>
                  <a:pt x="76" y="307"/>
                  <a:pt x="62" y="329"/>
                  <a:pt x="54" y="324"/>
                </a:cubicBezTo>
                <a:cubicBezTo>
                  <a:pt x="47" y="319"/>
                  <a:pt x="54" y="306"/>
                  <a:pt x="54" y="297"/>
                </a:cubicBezTo>
                <a:close/>
              </a:path>
            </a:pathLst>
          </a:custGeom>
          <a:solidFill>
            <a:srgbClr val="ffff66"/>
          </a:solidFill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5013360"/>
            <a:ext cx="2708280" cy="1533600"/>
          </a:xfrm>
          <a:custGeom>
            <a:avLst/>
            <a:gdLst/>
            <a:ahLst/>
            <a:rect l="l" t="t" r="r" b="b"/>
            <a:pathLst>
              <a:path w="1706" h="966">
                <a:moveTo>
                  <a:pt x="14" y="441"/>
                </a:moveTo>
                <a:cubicBezTo>
                  <a:pt x="91" y="493"/>
                  <a:pt x="0" y="424"/>
                  <a:pt x="50" y="486"/>
                </a:cubicBezTo>
                <a:cubicBezTo>
                  <a:pt x="63" y="502"/>
                  <a:pt x="86" y="507"/>
                  <a:pt x="104" y="513"/>
                </a:cubicBezTo>
                <a:cubicBezTo>
                  <a:pt x="141" y="562"/>
                  <a:pt x="189" y="588"/>
                  <a:pt x="248" y="603"/>
                </a:cubicBezTo>
                <a:cubicBezTo>
                  <a:pt x="302" y="639"/>
                  <a:pt x="360" y="609"/>
                  <a:pt x="419" y="594"/>
                </a:cubicBezTo>
                <a:cubicBezTo>
                  <a:pt x="428" y="585"/>
                  <a:pt x="435" y="574"/>
                  <a:pt x="446" y="567"/>
                </a:cubicBezTo>
                <a:cubicBezTo>
                  <a:pt x="454" y="562"/>
                  <a:pt x="466" y="564"/>
                  <a:pt x="473" y="558"/>
                </a:cubicBezTo>
                <a:cubicBezTo>
                  <a:pt x="533" y="510"/>
                  <a:pt x="446" y="549"/>
                  <a:pt x="518" y="513"/>
                </a:cubicBezTo>
                <a:cubicBezTo>
                  <a:pt x="556" y="494"/>
                  <a:pt x="536" y="517"/>
                  <a:pt x="572" y="486"/>
                </a:cubicBezTo>
                <a:cubicBezTo>
                  <a:pt x="644" y="424"/>
                  <a:pt x="713" y="383"/>
                  <a:pt x="806" y="360"/>
                </a:cubicBezTo>
                <a:cubicBezTo>
                  <a:pt x="857" y="363"/>
                  <a:pt x="908" y="364"/>
                  <a:pt x="959" y="369"/>
                </a:cubicBezTo>
                <a:cubicBezTo>
                  <a:pt x="995" y="373"/>
                  <a:pt x="984" y="384"/>
                  <a:pt x="1013" y="405"/>
                </a:cubicBezTo>
                <a:cubicBezTo>
                  <a:pt x="1032" y="419"/>
                  <a:pt x="1054" y="425"/>
                  <a:pt x="1076" y="432"/>
                </a:cubicBezTo>
                <a:cubicBezTo>
                  <a:pt x="1107" y="478"/>
                  <a:pt x="1136" y="537"/>
                  <a:pt x="1175" y="576"/>
                </a:cubicBezTo>
                <a:cubicBezTo>
                  <a:pt x="1196" y="638"/>
                  <a:pt x="1166" y="565"/>
                  <a:pt x="1220" y="630"/>
                </a:cubicBezTo>
                <a:cubicBezTo>
                  <a:pt x="1233" y="645"/>
                  <a:pt x="1234" y="669"/>
                  <a:pt x="1247" y="684"/>
                </a:cubicBezTo>
                <a:cubicBezTo>
                  <a:pt x="1282" y="726"/>
                  <a:pt x="1321" y="767"/>
                  <a:pt x="1355" y="810"/>
                </a:cubicBezTo>
                <a:cubicBezTo>
                  <a:pt x="1390" y="854"/>
                  <a:pt x="1398" y="878"/>
                  <a:pt x="1445" y="909"/>
                </a:cubicBezTo>
                <a:cubicBezTo>
                  <a:pt x="1483" y="966"/>
                  <a:pt x="1530" y="942"/>
                  <a:pt x="1598" y="936"/>
                </a:cubicBezTo>
                <a:cubicBezTo>
                  <a:pt x="1615" y="919"/>
                  <a:pt x="1635" y="908"/>
                  <a:pt x="1652" y="891"/>
                </a:cubicBezTo>
                <a:cubicBezTo>
                  <a:pt x="1671" y="872"/>
                  <a:pt x="1687" y="826"/>
                  <a:pt x="1706" y="801"/>
                </a:cubicBezTo>
                <a:cubicBezTo>
                  <a:pt x="1690" y="603"/>
                  <a:pt x="1680" y="346"/>
                  <a:pt x="1616" y="153"/>
                </a:cubicBezTo>
                <a:cubicBezTo>
                  <a:pt x="1603" y="60"/>
                  <a:pt x="1607" y="111"/>
                  <a:pt x="1607" y="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ff"/>
                </a:solidFill>
                <a:latin typeface="Arial"/>
              </a:rPr>
              <a:t>Работа в тетрадя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+          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700280"/>
            <a:ext cx="792360" cy="771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1700280"/>
            <a:ext cx="792360" cy="771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1628640"/>
            <a:ext cx="863640" cy="77004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1628640"/>
            <a:ext cx="934920" cy="79380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88000" y="1628640"/>
            <a:ext cx="936360" cy="79236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1628640"/>
            <a:ext cx="792000" cy="771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12000" y="1628640"/>
            <a:ext cx="792360" cy="771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56360" y="2421000"/>
            <a:ext cx="863640" cy="77004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2421000"/>
            <a:ext cx="863640" cy="77004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85080" y="2421000"/>
            <a:ext cx="863640" cy="77004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005360"/>
            <a:ext cx="615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Arial"/>
              </a:rPr>
              <a:t>2   +   3   =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6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3640" y="4365720"/>
            <a:ext cx="140328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59640" y="393372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280" y="40464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8920" y="40464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40464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9640" y="40464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88000" y="189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476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4000" y="4762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01080" y="189000"/>
            <a:ext cx="118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242100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42100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242100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2421000"/>
            <a:ext cx="9144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2421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24210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e412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0" y="4149720"/>
            <a:ext cx="60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Arial"/>
              </a:rPr>
              <a:t>4   +   2  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00720" y="4581360"/>
            <a:ext cx="151128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16720" y="4076640"/>
            <a:ext cx="86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8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5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Знаки сравнения чисе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2708280"/>
            <a:ext cx="1655640" cy="28728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547280" y="2997360"/>
            <a:ext cx="1800360" cy="4316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211280" y="2781360"/>
            <a:ext cx="2089080" cy="2160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2997360"/>
            <a:ext cx="2089080" cy="43164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87640" y="4076640"/>
            <a:ext cx="15843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87640" y="4581360"/>
            <a:ext cx="15843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260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Arial"/>
              </a:rPr>
              <a:t>Спасибо за               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Arial"/>
              </a:rPr>
              <a:t>урок, 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3600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155520"/>
            <a:ext cx="808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Компоненты с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234936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су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3789360"/>
            <a:ext cx="52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386064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0720" y="386064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51640" y="3789360"/>
            <a:ext cx="64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59640" y="3860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79736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Слагаем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4797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</a:rPr>
              <a:t>Слагаемое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372360" y="4653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Су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2951640" y="2240640"/>
            <a:ext cx="720720" cy="2808360"/>
          </a:xfrm>
          <a:custGeom>
            <a:avLst/>
            <a:gdLst>
              <a:gd name="textAreaLeft" fmla="*/ 0 w 720720"/>
              <a:gd name="textAreaRight" fmla="*/ 260280 w 72072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Найдите сумм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4788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4 + 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2060640"/>
            <a:ext cx="1706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12000" y="3284640"/>
            <a:ext cx="3132000" cy="357336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0" y="3141720"/>
            <a:ext cx="4284720" cy="3716280"/>
            <a:chOff x="0" y="3141720"/>
            <a:chExt cx="4284720" cy="37162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0" y="3141720"/>
              <a:ext cx="2268360" cy="24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1692360" y="3141720"/>
              <a:ext cx="2592360" cy="25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1979640" y="4365720"/>
              <a:ext cx="2232000" cy="24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0" y="4437000"/>
              <a:ext cx="2124000" cy="242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Что  изменится, если слагаемые поменять местам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-360" y="1915920"/>
            <a:ext cx="86756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13372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  +  4  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2349360"/>
            <a:ext cx="1584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2987640" cy="3500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8893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От перемены мест слагаемых сумма не изменяется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076720" y="3141720"/>
            <a:ext cx="4284720" cy="3716280"/>
            <a:chOff x="5076720" y="3141720"/>
            <a:chExt cx="4284720" cy="371628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076720" y="3141720"/>
              <a:ext cx="2268360" cy="24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6769080" y="3141720"/>
              <a:ext cx="2592360" cy="25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7056360" y="4365720"/>
              <a:ext cx="2232000" cy="24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tretch/>
          </p:blipFill>
          <p:spPr>
            <a:xfrm>
              <a:off x="5076720" y="4437000"/>
              <a:ext cx="2124000" cy="242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62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Найдите в этом примере части и целое. Части подчеркните, а целое обведите в кружоч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342864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Arial"/>
              </a:rPr>
              <a:t>3   +   3  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2000" y="3716280"/>
            <a:ext cx="13683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65300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465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6000" y="3284640"/>
            <a:ext cx="1800360" cy="17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Как найти неизвестную ча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0000" y="1628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+   1   =  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2133720"/>
            <a:ext cx="13460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51640" y="1700280"/>
            <a:ext cx="1548000" cy="14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3429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3284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165720"/>
            <a:ext cx="216000" cy="287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6165720"/>
            <a:ext cx="215640" cy="287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6165720"/>
            <a:ext cx="215640" cy="287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19280" y="3933720"/>
            <a:ext cx="2881440" cy="273996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5364000" y="3573360"/>
            <a:ext cx="3780000" cy="3284640"/>
            <a:chOff x="5364000" y="3573360"/>
            <a:chExt cx="3780000" cy="328464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364000" y="3573360"/>
              <a:ext cx="3780000" cy="32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V="1">
              <a:off x="5867280" y="4653000"/>
              <a:ext cx="1441440" cy="7128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451280" y="3645000"/>
              <a:ext cx="289080" cy="9381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524720" y="4220640"/>
              <a:ext cx="1224000" cy="36036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51640" y="4653000"/>
              <a:ext cx="1224000" cy="43164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72360" y="3860640"/>
              <a:ext cx="1008000" cy="72072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80"/>
                </a:solidFill>
                <a:latin typeface="Arial"/>
              </a:rPr>
              <a:t>Нужно из целого вычесть известную час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2707920"/>
            <a:ext cx="87692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800" spc="-1" strike="noStrike">
                <a:solidFill>
                  <a:srgbClr val="333399"/>
                </a:solidFill>
                <a:latin typeface="Arial"/>
              </a:rPr>
              <a:t>6   -   1   =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924280"/>
            <a:ext cx="1440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2781360"/>
            <a:ext cx="1224000" cy="1295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076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4149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18194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4508640"/>
            <a:ext cx="1819440" cy="2349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916360" y="4437000"/>
            <a:ext cx="1819080" cy="2421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284720" y="4581360"/>
            <a:ext cx="1890720" cy="2276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651640" y="4581360"/>
            <a:ext cx="1819080" cy="2276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7093080" y="4437000"/>
            <a:ext cx="20509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ыполните данный пример аналогично предыдуще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800080"/>
                </a:solidFill>
                <a:latin typeface="Arial"/>
              </a:rPr>
              <a:t>3   +            =     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2133720"/>
            <a:ext cx="14400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3500280"/>
            <a:ext cx="2554200" cy="3357720"/>
            <a:chOff x="0" y="3500280"/>
            <a:chExt cx="2554200" cy="3357720"/>
          </a:xfrm>
        </p:grpSpPr>
        <p:grpSp>
          <p:nvGrpSpPr>
            <p:cNvPr id="115" name=""/>
            <p:cNvGrpSpPr/>
            <p:nvPr/>
          </p:nvGrpSpPr>
          <p:grpSpPr>
            <a:xfrm>
              <a:off x="0" y="5084640"/>
              <a:ext cx="2554200" cy="1773360"/>
              <a:chOff x="0" y="5084640"/>
              <a:chExt cx="2554200" cy="177336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84640"/>
                <a:ext cx="1403280" cy="177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87280" y="5084640"/>
                <a:ext cx="1366920" cy="1773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0" y="3500280"/>
              <a:ext cx="1368360" cy="177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5219640" y="3500280"/>
            <a:ext cx="3924360" cy="3357720"/>
            <a:chOff x="5219640" y="3500280"/>
            <a:chExt cx="3924360" cy="3357720"/>
          </a:xfrm>
        </p:grpSpPr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7777080" y="5084640"/>
              <a:ext cx="136692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5"/>
            <a:stretch/>
          </p:blipFill>
          <p:spPr>
            <a:xfrm>
              <a:off x="6443640" y="5084640"/>
              <a:ext cx="136692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6"/>
            <a:stretch/>
          </p:blipFill>
          <p:spPr>
            <a:xfrm>
              <a:off x="7777080" y="3500280"/>
              <a:ext cx="136692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7"/>
            <a:stretch/>
          </p:blipFill>
          <p:spPr>
            <a:xfrm>
              <a:off x="6588000" y="3573360"/>
              <a:ext cx="136692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8"/>
            <a:stretch/>
          </p:blipFill>
          <p:spPr>
            <a:xfrm>
              <a:off x="5219640" y="5084640"/>
              <a:ext cx="136692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9"/>
            <a:stretch/>
          </p:blipFill>
          <p:spPr>
            <a:xfrm>
              <a:off x="5219640" y="3573360"/>
              <a:ext cx="1366920" cy="177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3564000" y="393372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4abbb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анимашки"/>
          <p:cNvPicPr/>
          <p:nvPr/>
        </p:nvPicPr>
        <p:blipFill>
          <a:blip r:embed="rId1"/>
          <a:stretch/>
        </p:blipFill>
        <p:spPr>
          <a:xfrm>
            <a:off x="1332000" y="333360"/>
            <a:ext cx="6624720" cy="6524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68360" y="404640"/>
            <a:ext cx="5488200" cy="626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8360" y="0"/>
            <a:ext cx="8136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547640" y="-316080"/>
            <a:ext cx="5761080" cy="7174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62773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7:07:24Z</dcterms:created>
  <dc:creator>User</dc:creator>
  <dc:description/>
  <dc:language>en-US</dc:language>
  <cp:lastModifiedBy>школа</cp:lastModifiedBy>
  <dcterms:modified xsi:type="dcterms:W3CDTF">2013-04-29T12:51:35Z</dcterms:modified>
  <cp:revision>42</cp:revision>
  <dc:subject/>
  <dc:title>Компоненты сложения. сумма</dc:title>
</cp:coreProperties>
</file>