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690-4077-4784-A5B8-028CC11F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120-28E4-4F41-A158-6B04C940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24B-1BB8-497F-80CE-33CB62E7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6A3-493E-46EA-BFE2-C93E9445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D0E-E634-4EFE-94B0-69DFA08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555-5866-4139-BF77-0FD92A7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5D4-517E-4682-B771-58B9B91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81C-A8CF-4DA6-811D-0618537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C17-75C3-4993-92BD-7274D12A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6A5-B75C-4AFE-9E89-D7047E5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0F0-D816-44FA-AF64-A4CD521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697-4F44-49B1-BAEF-AB37559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B16-A578-4EF4-BFA5-AD8E048C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8120" y="990720"/>
            <a:ext cx="352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85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84560" y="1332000"/>
            <a:ext cx="329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National park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"Orlovskoye Polesye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7880" y="3200400"/>
            <a:ext cx="40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tural heritage Orlovsch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5029200"/>
            <a:ext cx="297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занов Арт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овойт Дмит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«В»     2013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м"/>
          <p:cNvPicPr/>
          <p:nvPr/>
        </p:nvPicPr>
        <p:blipFill>
          <a:blip r:embed="rId2"/>
          <a:stretch/>
        </p:blipFill>
        <p:spPr>
          <a:xfrm>
            <a:off x="1295280" y="228600"/>
            <a:ext cx="666756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724280"/>
            <a:ext cx="844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ark "Orlovskoye Polesye" was created by the Government of the Russian Federation of 09.01.94, the territory of the national park belongs to the protected areas of federal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9144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eserve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ontr"/>
          <p:cNvPicPr/>
          <p:nvPr/>
        </p:nvPicPr>
        <p:blipFill>
          <a:blip r:embed="rId2"/>
          <a:stretch/>
        </p:blipFill>
        <p:spPr>
          <a:xfrm>
            <a:off x="990720" y="2362320"/>
            <a:ext cx="2286000" cy="33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зубры4"/>
          <p:cNvPicPr/>
          <p:nvPr/>
        </p:nvPicPr>
        <p:blipFill>
          <a:blip r:embed="rId3"/>
          <a:stretch/>
        </p:blipFill>
        <p:spPr>
          <a:xfrm>
            <a:off x="5867280" y="2438280"/>
            <a:ext cx="259092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838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Area for visi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6"/>
          <p:cNvPicPr/>
          <p:nvPr/>
        </p:nvPicPr>
        <p:blipFill>
          <a:blip r:embed="rId2"/>
          <a:stretch/>
        </p:blipFill>
        <p:spPr>
          <a:xfrm>
            <a:off x="990720" y="2286000"/>
            <a:ext cx="54864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2360" y="61452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nimal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лухарь_Ореликов А[1]"/>
          <p:cNvPicPr/>
          <p:nvPr/>
        </p:nvPicPr>
        <p:blipFill>
          <a:blip r:embed="rId2"/>
          <a:stretch/>
        </p:blipFill>
        <p:spPr>
          <a:xfrm>
            <a:off x="380880" y="2514600"/>
            <a:ext cx="40388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762120"/>
            <a:ext cx="63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an bison - the symbol of the National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зубры2"/>
          <p:cNvPicPr/>
          <p:nvPr/>
        </p:nvPicPr>
        <p:blipFill>
          <a:blip r:embed="rId2"/>
          <a:stretch/>
        </p:blipFill>
        <p:spPr>
          <a:xfrm>
            <a:off x="2209680" y="2286000"/>
            <a:ext cx="5105520" cy="311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56707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n - European wild forest bull - the largest hoofed our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8640" y="380880"/>
            <a:ext cx="66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cientific activity of the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86728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members of the scientific department are monitoring rare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pagnik"/>
          <p:cNvPicPr/>
          <p:nvPr/>
        </p:nvPicPr>
        <p:blipFill>
          <a:blip r:embed="rId2"/>
          <a:stretch/>
        </p:blipFill>
        <p:spPr>
          <a:xfrm>
            <a:off x="228600" y="1676520"/>
            <a:ext cx="1752480" cy="32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Volje8godnik_ob4k"/>
          <p:cNvPicPr/>
          <p:nvPr/>
        </p:nvPicPr>
        <p:blipFill>
          <a:blip r:embed="rId3"/>
          <a:stretch/>
        </p:blipFill>
        <p:spPr>
          <a:xfrm>
            <a:off x="5334120" y="121932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стрел"/>
          <p:cNvPicPr/>
          <p:nvPr/>
        </p:nvPicPr>
        <p:blipFill>
          <a:blip r:embed="rId4"/>
          <a:stretch/>
        </p:blipFill>
        <p:spPr>
          <a:xfrm>
            <a:off x="2133720" y="2209680"/>
            <a:ext cx="304776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fit_mel_b"/>
          <p:cNvPicPr/>
          <p:nvPr/>
        </p:nvPicPr>
        <p:blipFill>
          <a:blip r:embed="rId5"/>
          <a:stretch/>
        </p:blipFill>
        <p:spPr>
          <a:xfrm>
            <a:off x="7315200" y="2971800"/>
            <a:ext cx="1828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2438280"/>
            <a:ext cx="656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!!!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32:05Z</dcterms:created>
  <dc:creator>Артём</dc:creator>
  <dc:description/>
  <dc:language>en-US</dc:language>
  <cp:lastModifiedBy>ученик</cp:lastModifiedBy>
  <dcterms:modified xsi:type="dcterms:W3CDTF">2013-03-01T07:25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