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AE7-8011-4CD5-923C-A577CC10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32E-8C35-4BB0-ABBA-101873D5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624-2D2A-4A59-B4FD-C55F1D67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3C2-5D0B-4D3D-B4E1-B8A8C04A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E62-0018-47AE-981D-8064E760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35A-0B9E-4BC6-96C2-4591624C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F69-324E-406A-9860-D6087A98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65D-4375-4269-BCF4-84B79941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3E7-1C24-41EC-AC51-324844D0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AEF-23C9-4E1B-9BBB-B1B8727E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10B-097D-4430-8AB6-1B7FB6E1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01F-5EB0-499E-B141-F6F6DB90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6C52-C1EA-41C6-96FF-5CC74B346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8120" y="990720"/>
            <a:ext cx="352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6858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84560" y="1332000"/>
            <a:ext cx="3292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National park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"Orlovskoye Polesye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47880" y="3200400"/>
            <a:ext cx="40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tural heritage Orlovsch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5029200"/>
            <a:ext cx="297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занов Арт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овойт Дмит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«В»     2013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м"/>
          <p:cNvPicPr/>
          <p:nvPr/>
        </p:nvPicPr>
        <p:blipFill>
          <a:blip r:embed="rId2"/>
          <a:stretch/>
        </p:blipFill>
        <p:spPr>
          <a:xfrm>
            <a:off x="1295280" y="228600"/>
            <a:ext cx="6667560" cy="446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4724280"/>
            <a:ext cx="844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Park "Orlovskoye Polesye" was created by the Government of the Russian Federation of 09.01.94, the territory of the national park belongs to the protected areas of federal signific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95480" y="9144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eserve z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ontr"/>
          <p:cNvPicPr/>
          <p:nvPr/>
        </p:nvPicPr>
        <p:blipFill>
          <a:blip r:embed="rId2"/>
          <a:stretch/>
        </p:blipFill>
        <p:spPr>
          <a:xfrm>
            <a:off x="990720" y="2362320"/>
            <a:ext cx="2286000" cy="337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зубры4"/>
          <p:cNvPicPr/>
          <p:nvPr/>
        </p:nvPicPr>
        <p:blipFill>
          <a:blip r:embed="rId3"/>
          <a:stretch/>
        </p:blipFill>
        <p:spPr>
          <a:xfrm>
            <a:off x="5867280" y="2438280"/>
            <a:ext cx="259092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33720" y="838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Area for visit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06"/>
          <p:cNvPicPr/>
          <p:nvPr/>
        </p:nvPicPr>
        <p:blipFill>
          <a:blip r:embed="rId2"/>
          <a:stretch/>
        </p:blipFill>
        <p:spPr>
          <a:xfrm>
            <a:off x="990720" y="2286000"/>
            <a:ext cx="548640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2360" y="61452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nimal wor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Глухарь_Ореликов А[1]"/>
          <p:cNvPicPr/>
          <p:nvPr/>
        </p:nvPicPr>
        <p:blipFill>
          <a:blip r:embed="rId2"/>
          <a:stretch/>
        </p:blipFill>
        <p:spPr>
          <a:xfrm>
            <a:off x="380880" y="2514600"/>
            <a:ext cx="4038840" cy="3124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29200" y="25146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8800" y="762120"/>
            <a:ext cx="63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an bison - the symbol of the National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зубры2"/>
          <p:cNvPicPr/>
          <p:nvPr/>
        </p:nvPicPr>
        <p:blipFill>
          <a:blip r:embed="rId2"/>
          <a:stretch/>
        </p:blipFill>
        <p:spPr>
          <a:xfrm>
            <a:off x="2209680" y="2286000"/>
            <a:ext cx="5105520" cy="3111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95280" y="567072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on - European wild forest bull - the largest hoofed our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48640" y="380880"/>
            <a:ext cx="66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cientific activity of the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5867280"/>
            <a:ext cx="79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veral years, members of the scientific department are monitoring rare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Hpagnik"/>
          <p:cNvPicPr/>
          <p:nvPr/>
        </p:nvPicPr>
        <p:blipFill>
          <a:blip r:embed="rId2"/>
          <a:stretch/>
        </p:blipFill>
        <p:spPr>
          <a:xfrm>
            <a:off x="228600" y="1676520"/>
            <a:ext cx="1752480" cy="3276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Volje8godnik_ob4k"/>
          <p:cNvPicPr/>
          <p:nvPr/>
        </p:nvPicPr>
        <p:blipFill>
          <a:blip r:embed="rId3"/>
          <a:stretch/>
        </p:blipFill>
        <p:spPr>
          <a:xfrm>
            <a:off x="5334120" y="1219320"/>
            <a:ext cx="206532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прострел"/>
          <p:cNvPicPr/>
          <p:nvPr/>
        </p:nvPicPr>
        <p:blipFill>
          <a:blip r:embed="rId4"/>
          <a:stretch/>
        </p:blipFill>
        <p:spPr>
          <a:xfrm>
            <a:off x="2133720" y="2209680"/>
            <a:ext cx="3047760" cy="265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fit_mel_b"/>
          <p:cNvPicPr/>
          <p:nvPr/>
        </p:nvPicPr>
        <p:blipFill>
          <a:blip r:embed="rId5"/>
          <a:stretch/>
        </p:blipFill>
        <p:spPr>
          <a:xfrm>
            <a:off x="7315200" y="2971800"/>
            <a:ext cx="182880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2438280"/>
            <a:ext cx="6561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!!!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6:32:05Z</dcterms:created>
  <dc:creator>Артём</dc:creator>
  <dc:description/>
  <dc:language>en-US</dc:language>
  <cp:lastModifiedBy>ученик</cp:lastModifiedBy>
  <dcterms:modified xsi:type="dcterms:W3CDTF">2013-03-01T07:25:3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