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gif" ContentType="image/gif"/>
  <Override PartName="/ppt/media/image6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E908E-0EE8-4D04-B3A2-1BB69F5B5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177CF-5967-4B66-B8CE-87AF7C59C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70D9B-7023-4FBC-A8EF-3FBB9F75B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32D53-C40F-4AC4-8DDA-3B6875BC8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A19BB-2B9F-4D98-AD22-ACABCA514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F1563-A9F4-4F8F-99EC-3AF3E8AFC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BE6A9-47E4-4643-B066-92DAF939D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D701F-3653-4F58-857F-84622789C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7E293-FF5F-4CFD-B35E-2BBB67963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98228-AE88-42FF-BB6D-13FF141F7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A35CC-BC31-4E11-A20C-21A6C8E59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3AF6A-771F-42A1-8BE4-F4330E626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5D4FC-A036-4DFE-998C-985A1C9CC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3A2E1-0CE4-4926-BD26-AD1A70320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41192-4369-4766-BA17-BEEFF88DC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FB549-C479-41CC-A2E8-3E1164A28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D175D-9669-4E6B-B85A-029D354F7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6372A-27A3-4093-A508-6B33232A9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20790-9617-4492-B4C3-104246A3D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7DC8E-AACB-4707-B094-D775C73CC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602BF-8C0C-4EA5-A158-A3E58A2B3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C4EBB-1979-469E-966F-79A384644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09010-1B4E-46CF-B58E-BDF3ACEF7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C4E20-DC85-4EB2-A094-6DEFAEA5A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72A34-97BF-4E31-801C-101DE2ADB32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titlemaster_med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88DA6-F8CD-47B8-AA09-E1B87023D04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600" spc="-1" strike="noStrike">
                <a:solidFill>
                  <a:srgbClr val="000000"/>
                </a:solidFill>
                <a:latin typeface="Times New Roman"/>
              </a:rPr>
              <a:t>MY SCHOOL</a:t>
            </a:r>
            <a:endParaRPr b="0" lang="en-US" sz="96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87" name="Picture 10" descr="history2"/>
          <p:cNvPicPr/>
          <p:nvPr/>
        </p:nvPicPr>
        <p:blipFill>
          <a:blip r:embed="rId1"/>
          <a:stretch/>
        </p:blipFill>
        <p:spPr>
          <a:xfrm>
            <a:off x="838080" y="3657600"/>
            <a:ext cx="2743200" cy="2787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8" name=""/>
          <p:cNvGraphicFramePr/>
          <p:nvPr/>
        </p:nvGraphicFramePr>
        <p:xfrm>
          <a:off x="4876920" y="3693960"/>
          <a:ext cx="4038480" cy="1798920"/>
        </p:xfrm>
        <a:graphic>
          <a:graphicData uri="http://schemas.openxmlformats.org/drawingml/2006/table">
            <a:tbl>
              <a:tblPr/>
              <a:tblGrid>
                <a:gridCol w="4038480"/>
              </a:tblGrid>
              <a:tr h="179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ыполнили: Караманов Кристиан и Сальников Виктор, ученики 7 класса «В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58bf9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4" descr="history6"/>
          <p:cNvPicPr/>
          <p:nvPr/>
        </p:nvPicPr>
        <p:blipFill>
          <a:blip r:embed="rId1"/>
          <a:stretch/>
        </p:blipFill>
        <p:spPr>
          <a:xfrm>
            <a:off x="2362320" y="1905120"/>
            <a:ext cx="6419880" cy="438948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07880" y="837000"/>
            <a:ext cx="66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This is our school. Here, we obtain new knowledge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6" descr="school"/>
          <p:cNvPicPr/>
          <p:nvPr/>
        </p:nvPicPr>
        <p:blipFill>
          <a:blip r:embed="rId1"/>
          <a:stretch/>
        </p:blipFill>
        <p:spPr>
          <a:xfrm>
            <a:off x="2514600" y="1447920"/>
            <a:ext cx="6172200" cy="4117680"/>
          </a:xfrm>
          <a:prstGeom prst="rect">
            <a:avLst/>
          </a:prstGeom>
          <a:ln w="0">
            <a:noFill/>
          </a:ln>
        </p:spPr>
      </p:pic>
      <p:pic>
        <p:nvPicPr>
          <p:cNvPr id="92" name="Michel_Telo-Bara_Bara_Bere_Bere.mp3" descr=""/>
          <p:cNvPicPr/>
          <p:nvPr/>
        </p:nvPicPr>
        <p:blipFill>
          <a:blip r:embed="rId2"/>
          <a:stretch/>
        </p:blipFill>
        <p:spPr>
          <a:xfrm>
            <a:off x="8381880" y="525780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" dur="222362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55344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c0039"/>
                </a:solidFill>
                <a:latin typeface="Times New Roman"/>
              </a:rPr>
              <a:t>This is our class. Most of us learn from the first class. We are a very friendly family and the school us the second house.</a:t>
            </a: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768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" dur="768" fill="hold"/>
                                        <p:tgtEl>
                                          <p:spTgt spid="9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3" dur="768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5" dur="768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We are never bored. But about a study we do not forget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95" name="Рисунок 1" descr=""/>
          <p:cNvPicPr/>
          <p:nvPr/>
        </p:nvPicPr>
        <p:blipFill>
          <a:blip r:embed="rId1"/>
          <a:stretch/>
        </p:blipFill>
        <p:spPr>
          <a:xfrm>
            <a:off x="2362320" y="1752480"/>
            <a:ext cx="6019560" cy="451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THIS IS MY CURRICULUM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2438280" y="1600200"/>
          <a:ext cx="6324840" cy="4967280"/>
        </p:xfrm>
        <a:graphic>
          <a:graphicData uri="http://schemas.openxmlformats.org/drawingml/2006/table">
            <a:tbl>
              <a:tblPr/>
              <a:tblGrid>
                <a:gridCol w="1263600"/>
                <a:gridCol w="1265400"/>
                <a:gridCol w="1266840"/>
                <a:gridCol w="1265400"/>
                <a:gridCol w="1263600"/>
              </a:tblGrid>
              <a:tr h="95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NDA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UESDA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EDNESDA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URSDA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IDA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USSI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NGUAG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TERATU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OGRAFH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OMETR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OGRAFH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ISTOR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GLIS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GI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HISIC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GEB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HISIC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OMETR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R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IOLOG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GEB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ISTOR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GEB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USSI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NGUAG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TERATU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CI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UDI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FORMATIC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GEB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GLIS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USSI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NGUAG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GLIS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IOLOG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USSI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NGUAG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comb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2438280" y="2209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ru-RU" sz="6000" spc="-1" strike="noStrike">
                <a:solidFill>
                  <a:srgbClr val="000000"/>
                </a:solidFill>
                <a:latin typeface="Times New Roman"/>
              </a:rPr>
              <a:t>hank you for your attentio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SY - Gangnam Style.mp3" descr=""/>
          <p:cNvPicPr/>
          <p:nvPr/>
        </p:nvPicPr>
        <p:blipFill>
          <a:blip r:embed="rId1"/>
          <a:stretch/>
        </p:blipFill>
        <p:spPr>
          <a:xfrm>
            <a:off x="8899560" y="661356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1700"/>
                            </p:stCondLst>
                            <p:childTnLst>
                              <p:par>
                                <p:cTn id="3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" dur="223086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2-11-25T13:35:02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