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7F5-855D-4CF4-8FDE-B7C6E20C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CA1-10B1-478A-B33C-056E09D1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BD6-3440-488F-B2A6-8E5F5AEE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296-866D-40FA-8FF5-50E0AFDF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0DC2-E33D-4AF1-9D59-1C47080E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29A1-0C10-4123-BB2A-010F0E6A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89A1-F5B3-4E0F-B244-02FFE31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9564-4D15-417E-83D0-DA05A3FE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AA2A-CD43-4B01-8DC0-BABE3531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914A-43FB-4A10-A160-A91B862C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D5A8-5595-43D4-A058-38F83C60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9E0-4D4A-4B0B-860C-0168584E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0FA9-59F0-479F-9B94-A13B152C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9EDD-3206-43C5-ABD9-0538730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79C1-8FBF-496F-AC45-3F161A4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D76C-0472-4B68-A64C-65B93EC6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C155-DCD1-4C92-8B03-07767688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ABA-141C-421E-89DD-EFFE2F81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9D0-4364-4ACC-B3CC-88338ED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F97-44A8-4D87-96A7-322FEBCF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20E-7EB5-4231-B5E1-595E77E9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9C1-6DEF-4833-9951-BA685B61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417-9A4B-4154-BD8D-5722FC81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02B-61BE-492E-970E-6D94BDFE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BFBD-E84B-4E8D-B6D7-D2D31CDFB4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A0E4-6658-4A04-8DFC-3899EE8E2A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MY SCHOOL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7" name="Picture 10" descr="history2"/>
          <p:cNvPicPr/>
          <p:nvPr/>
        </p:nvPicPr>
        <p:blipFill>
          <a:blip r:embed="rId1"/>
          <a:stretch/>
        </p:blipFill>
        <p:spPr>
          <a:xfrm>
            <a:off x="838080" y="3657600"/>
            <a:ext cx="2743200" cy="278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876920" y="3693960"/>
          <a:ext cx="4038480" cy="1798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или: Караманов Кристиан и Сальников Виктор, ученики 7 класса «В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history6"/>
          <p:cNvPicPr/>
          <p:nvPr/>
        </p:nvPicPr>
        <p:blipFill>
          <a:blip r:embed="rId1"/>
          <a:stretch/>
        </p:blipFill>
        <p:spPr>
          <a:xfrm>
            <a:off x="2362320" y="1905120"/>
            <a:ext cx="6419880" cy="438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07880" y="83700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This is our school. Here, we obtain new knowled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chool"/>
          <p:cNvPicPr/>
          <p:nvPr/>
        </p:nvPicPr>
        <p:blipFill>
          <a:blip r:embed="rId1"/>
          <a:stretch/>
        </p:blipFill>
        <p:spPr>
          <a:xfrm>
            <a:off x="2514600" y="1447920"/>
            <a:ext cx="6172200" cy="4117680"/>
          </a:xfrm>
          <a:prstGeom prst="rect">
            <a:avLst/>
          </a:prstGeom>
          <a:ln w="0">
            <a:noFill/>
          </a:ln>
        </p:spPr>
      </p:pic>
      <p:pic>
        <p:nvPicPr>
          <p:cNvPr id="92" name="Michel_Telo-Bara_Bara_Bere_Bere.mp3" descr=""/>
          <p:cNvPicPr/>
          <p:nvPr/>
        </p:nvPicPr>
        <p:blipFill>
          <a:blip r:embed="rId2"/>
          <a:stretch/>
        </p:blipFill>
        <p:spPr>
          <a:xfrm>
            <a:off x="8381880" y="5257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22236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5534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c0039"/>
                </a:solidFill>
                <a:latin typeface="Times New Roman"/>
              </a:rPr>
              <a:t>This is our class. Most of us learn from the first class. We are a very friendly family and the school us the second house.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We are never bored. But about a study we do not forget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THIS IS MY CURRICULU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38280" y="1600200"/>
          <a:ext cx="6324840" cy="4967280"/>
        </p:xfrm>
        <a:graphic>
          <a:graphicData uri="http://schemas.openxmlformats.org/drawingml/2006/table">
            <a:tbl>
              <a:tblPr/>
              <a:tblGrid>
                <a:gridCol w="1263600"/>
                <a:gridCol w="1265400"/>
                <a:gridCol w="1266840"/>
                <a:gridCol w="1265400"/>
                <a:gridCol w="1263600"/>
              </a:tblGrid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DNE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URS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I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GRAF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ME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GRAF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S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ME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EB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S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8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hank you for your atten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SY - Gangnam Style.mp3" descr=""/>
          <p:cNvPicPr/>
          <p:nvPr/>
        </p:nvPicPr>
        <p:blipFill>
          <a:blip r:embed="rId1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23086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25T13:35:0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