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A02-CEB1-4E46-9CCC-E1C2D8B8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0A5-AFBD-4BC0-A7D8-963F93F9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6E3-9C10-4B1F-85CC-D1BEA4C6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C88-3B52-4A6D-97E7-F82BFED3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D0D3-0CD1-40A1-A045-637F5148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56B9-4435-43C1-A720-CA905A61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C4FF-582B-4839-BBF0-460D6C7B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7FAE-CAFF-43F0-8A93-B80254F7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C41E-83C3-401D-BB74-21D5AAB1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F0DC-E291-408B-B05A-821D5803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4B4B-7C15-4A5D-A898-79A789F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0E0-467D-4B5A-9F63-535F1053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4564-8975-4573-874E-C5D7F197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6159-4691-4255-82AB-A0990D0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18DA-DF4C-4896-9E3C-A1B8F19A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E99F-6218-45B6-8330-4B0E7602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81E4-564E-445C-BAAD-0920DD8D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57F-7650-4105-8E72-6E20D8B0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25C-1A07-4503-A901-06EB5E3C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07B-A6F5-42BA-A499-8EE23C58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9ED-4B15-4186-B65E-9619BC4A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366-BE22-46B7-BEFE-BD4D72A7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AF5-E1A1-4A70-9432-2A4C1583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6AE-B9EB-495E-85A0-7B2FA698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7938-653D-42CE-8698-E181E2BF547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7866-88D9-4109-8D11-DABC8F12E269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Картинка 306 из 5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447920" y="1447920"/>
            <a:ext cx="6400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Построение вопроса к подлежащему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в простом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прошедшем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                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времени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        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1 часть</a:t>
            </a:r>
            <a:r>
              <a:rPr b="0" lang="ru-RU" sz="40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172200"/>
            <a:ext cx="68580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Нехорошева Н.В. ГБОУ СОШ «Школа здоровья» № 90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2" name="Picture 8" descr="Картинка 93 из 52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thumbjivitniy_mir1122"/>
          <p:cNvPicPr/>
          <p:nvPr/>
        </p:nvPicPr>
        <p:blipFill>
          <a:blip r:embed="rId2"/>
          <a:stretch/>
        </p:blipFill>
        <p:spPr>
          <a:xfrm>
            <a:off x="0" y="2057400"/>
            <a:ext cx="3733920" cy="4800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 rot="445800">
            <a:off x="3850920" y="1517760"/>
            <a:ext cx="3986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m a dog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My name is Fog.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 often go for a walk.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 often sleep like a log.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Rectangle 11"/>
          <p:cNvSpPr/>
          <p:nvPr/>
        </p:nvSpPr>
        <p:spPr>
          <a:xfrm rot="414000">
            <a:off x="2131560" y="801720"/>
            <a:ext cx="600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Verdana"/>
              </a:rPr>
              <a:t>Скороговорка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0_2449f_c92d3ec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2895480" y="1676520"/>
            <a:ext cx="5639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S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x </a:t>
            </a:r>
            <a:r>
              <a:rPr b="1" lang="ru-RU" sz="48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s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 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Verdana"/>
              </a:rPr>
              <a:t>    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h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s n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s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x sl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 br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s w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th  p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 and 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      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st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s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447920" y="304920"/>
            <a:ext cx="70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Verdana"/>
              </a:rPr>
              <a:t>Скороговорка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0a275baa1c3f639ee8cc61d103af3fa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609480" y="160020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The Alphabet So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A B C D 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Stand up and look at me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F G H I J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I play football every day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K L M N O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I like cake, oh, oh, oh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P Q R S 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Hey people. Listen to m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U V W X Y Z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The alphabet is in m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head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6415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The Alphabet Song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alphabetsong.mp3" descr=""/>
          <p:cNvPicPr/>
          <p:nvPr/>
        </p:nvPicPr>
        <p:blipFill>
          <a:blip r:embed="rId2"/>
          <a:stretch/>
        </p:blipFill>
        <p:spPr>
          <a:xfrm>
            <a:off x="5181480" y="276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23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3-04-26T09:09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