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75463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2E6-0020-4BD3-9307-38666C39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68C1-7497-4EAE-9B2D-BAE64436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434-DA2B-4B65-8853-14CFD351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6E2-9D6C-48F0-AE2B-E2643BCC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9AD-930B-45C4-99F1-037A3B27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2141-9F73-41E1-8B35-C89BCAB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2CF8-059E-4FD4-93D7-165837AC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5E8E-1F79-48CF-A204-C7FB7B1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C796-318B-4942-8AD8-A1861BC9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6B1F-2A3F-4CA1-9339-119973D7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B864-9757-4433-993D-CEF6103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1A4-46E2-4117-AB0F-566AE26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E2AE-00D0-40AF-8447-694EE57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DA24-A7F3-4B8D-83E1-206E13F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ADB9-5B93-4E24-8F14-91828312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A8E5-6AB4-479A-A221-E8A411DE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348-D29F-4CD9-B0F8-435F2AD4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25E-CF7A-4554-99E1-AF04D1B7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88B-CDF0-4783-BF00-BD7E69E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2F1-4788-4A13-9FA4-5D948449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588-03B1-405A-982D-DA8F3023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7DCD-CF09-4BD8-986F-71E3850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2E7-D724-4773-843F-794B2E1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F77-5C28-45EA-A0D2-5617202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AA46-E07A-467A-85F2-9D856D40B3C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9D0-8ABD-4F49-9ACD-4E32D2B535BB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Картинка 306 из 52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447920" y="144792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Построение вопроса к подлежащему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в простом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прошедшем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 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времени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          </a:t>
            </a:r>
            <a:r>
              <a:rPr b="1" lang="ru-RU" sz="4000" spc="-1" strike="noStrike">
                <a:solidFill>
                  <a:srgbClr val="cc3300"/>
                </a:solidFill>
                <a:latin typeface="Verdana"/>
              </a:rPr>
              <a:t>1 часть</a:t>
            </a:r>
            <a:r>
              <a:rPr b="0" lang="ru-RU" sz="40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0" y="6172200"/>
            <a:ext cx="68580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Нехорошева Н.В. ГБОУ СОШ «Школа здоровья» № 901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Picture 8" descr="Картинка 93 из 52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thumbjivitniy_mir1122"/>
          <p:cNvPicPr/>
          <p:nvPr/>
        </p:nvPicPr>
        <p:blipFill>
          <a:blip r:embed="rId2"/>
          <a:stretch/>
        </p:blipFill>
        <p:spPr>
          <a:xfrm>
            <a:off x="0" y="2057400"/>
            <a:ext cx="3733920" cy="4800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 rot="445800">
            <a:off x="3850920" y="1517760"/>
            <a:ext cx="3986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m a dog</a:t>
            </a:r>
            <a:r>
              <a:rPr b="1" lang="ru-RU" sz="40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My name is Fog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 often go for a walk.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I often sleep like a log.</a:t>
            </a: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Rectangle 11"/>
          <p:cNvSpPr/>
          <p:nvPr/>
        </p:nvSpPr>
        <p:spPr>
          <a:xfrm rot="414000">
            <a:off x="2131560" y="801720"/>
            <a:ext cx="600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Verdana"/>
              </a:rPr>
              <a:t>Скороговорка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0_2449f_c92d3ec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2895480" y="1676520"/>
            <a:ext cx="5639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x </a:t>
            </a:r>
            <a:r>
              <a:rPr b="1" lang="ru-RU" sz="48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Verdana"/>
              </a:rPr>
              <a:t>   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h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 n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x sl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br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 w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th  p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 and 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      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st</a:t>
            </a:r>
            <a:r>
              <a:rPr b="1" lang="en-US" sz="4800" spc="-1" strike="noStrike">
                <a:solidFill>
                  <a:srgbClr val="33cccc"/>
                </a:solidFill>
                <a:latin typeface="Verdana"/>
              </a:rPr>
              <a:t>i</a:t>
            </a:r>
            <a:r>
              <a:rPr b="1" lang="en-US" sz="4800" spc="-1" strike="noStrike">
                <a:solidFill>
                  <a:srgbClr val="800080"/>
                </a:solidFill>
                <a:latin typeface="Verdana"/>
              </a:rPr>
              <a:t>cks</a:t>
            </a:r>
            <a:endParaRPr b="0" lang="en-US" sz="4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447920" y="304920"/>
            <a:ext cx="70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Verdana"/>
              </a:rPr>
              <a:t>Скороговорка</a:t>
            </a:r>
            <a:endParaRPr b="0" lang="en-US" sz="6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0a275baa1c3f639ee8cc61d103af3fa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609480" y="160020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The Alphabet Song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A B C D 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Stand up and look at me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F G H I J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I play football every day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K L M N O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I like cake, oh, oh, oh!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P Q R S T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Hey people. Listen to me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Verdana"/>
              </a:rPr>
              <a:t>U V W X Y Z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The alphabet is in my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head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6415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The Alphabet Song</a:t>
            </a: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alphabetsong.mp3" descr=""/>
          <p:cNvPicPr/>
          <p:nvPr/>
        </p:nvPicPr>
        <p:blipFill>
          <a:blip r:embed="rId2"/>
          <a:stretch/>
        </p:blipFill>
        <p:spPr>
          <a:xfrm>
            <a:off x="5181480" y="276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523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Учитель</cp:lastModifiedBy>
  <dcterms:modified xsi:type="dcterms:W3CDTF">2013-04-26T09:09:1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