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347B-CF55-440E-A38F-566CCD33B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AE47-7F45-48D1-A913-EFCF05C1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FCD3-3B74-4B05-82A4-6C1641D13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3053-7528-4B78-8E10-23FA6818E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63E4-A458-44EA-9E3B-E17E7B23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BE57-AAB6-4557-AF49-D8BE80E7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C1E1-C896-4D99-A0BC-AEADE074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2F88-6B6B-4CCD-8BDE-C8E19422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2F0A-14A2-47DC-9E5E-D15BE71F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EEB9-5DD6-47C6-AB6B-B118460C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E0DB-2B24-4692-92C6-DC012929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729D-AA95-454C-853A-4185062E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9111-1E33-440D-B084-E4B8822B518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работка пояса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Picture 2" descr="http://www.yubkioptom.ru/files/788-1_1.jpg"/>
          <p:cNvPicPr/>
          <p:nvPr/>
        </p:nvPicPr>
        <p:blipFill>
          <a:blip r:embed="rId1"/>
          <a:stretch/>
        </p:blipFill>
        <p:spPr>
          <a:xfrm>
            <a:off x="0" y="2394000"/>
            <a:ext cx="3348000" cy="4464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www.yubkiplus.ru/yubki-maxi/yubka-0830.jpg"/>
          <p:cNvPicPr/>
          <p:nvPr/>
        </p:nvPicPr>
        <p:blipFill>
          <a:blip r:embed="rId2"/>
          <a:stretch/>
        </p:blipFill>
        <p:spPr>
          <a:xfrm>
            <a:off x="6012000" y="2413080"/>
            <a:ext cx="3024000" cy="4444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http://www.yubkioptom.ru/files/736_1.jpg"/>
          <p:cNvPicPr/>
          <p:nvPr/>
        </p:nvPicPr>
        <p:blipFill>
          <a:blip r:embed="rId3"/>
          <a:stretch/>
        </p:blipFill>
        <p:spPr>
          <a:xfrm>
            <a:off x="2771640" y="2394000"/>
            <a:ext cx="3348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D:\Documents and Settings\User\Мои документы\Мои рисунки\Изображение\Изображение 130.jpg"/>
          <p:cNvPicPr/>
          <p:nvPr/>
        </p:nvPicPr>
        <p:blipFill>
          <a:blip r:embed="rId1"/>
          <a:srcRect l="5215" t="81503" r="10063" b="13250"/>
          <a:stretch/>
        </p:blipFill>
        <p:spPr>
          <a:xfrm>
            <a:off x="2556000" y="2997360"/>
            <a:ext cx="3671640" cy="360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D:\Documents and Settings\User\Мои документы\Мои рисунки\Изображение\Изображение 130.jpg"/>
          <p:cNvPicPr/>
          <p:nvPr/>
        </p:nvPicPr>
        <p:blipFill>
          <a:blip r:embed="rId2"/>
          <a:srcRect l="0" t="63814" r="6868" b="24421"/>
          <a:stretch/>
        </p:blipFill>
        <p:spPr>
          <a:xfrm>
            <a:off x="2484360" y="2133720"/>
            <a:ext cx="3959280" cy="790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D:\Documents and Settings\User\Мои документы\Мои рисунки\Изображение\Изображение 130.jpg"/>
          <p:cNvPicPr/>
          <p:nvPr/>
        </p:nvPicPr>
        <p:blipFill>
          <a:blip r:embed="rId3"/>
          <a:srcRect l="5215" t="44751" r="8403" b="46855"/>
          <a:stretch/>
        </p:blipFill>
        <p:spPr>
          <a:xfrm>
            <a:off x="2484360" y="1413000"/>
            <a:ext cx="3816360" cy="576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D:\Documents and Settings\User\Мои документы\Мои рисунки\Изображение\Изображение 130.jpg"/>
          <p:cNvPicPr/>
          <p:nvPr/>
        </p:nvPicPr>
        <p:blipFill>
          <a:blip r:embed="rId4"/>
          <a:srcRect l="6772" t="31705" r="10254" b="65091"/>
          <a:stretch/>
        </p:blipFill>
        <p:spPr>
          <a:xfrm>
            <a:off x="2484360" y="981000"/>
            <a:ext cx="3743280" cy="287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D:\Documents and Settings\User\Мои документы\Мои рисунки\Изображение\Изображение 130.jpg"/>
          <p:cNvPicPr/>
          <p:nvPr/>
        </p:nvPicPr>
        <p:blipFill>
          <a:blip r:embed="rId5"/>
          <a:srcRect l="3394" t="15776" r="8477" b="76726"/>
          <a:stretch/>
        </p:blipFill>
        <p:spPr>
          <a:xfrm>
            <a:off x="2484360" y="260280"/>
            <a:ext cx="3743280" cy="5047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6"/>
          <p:cNvSpPr/>
          <p:nvPr/>
        </p:nvSpPr>
        <p:spPr>
          <a:xfrm>
            <a:off x="0" y="42926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оверка качества работы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Ширина пояса одинаковая по всей длин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лина мысика равна 3 с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. углы и швы выправлены и вымета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лажно – тепловая обработка выполнена качествен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0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1"/>
          <p:cNvSpPr/>
          <p:nvPr/>
        </p:nvSpPr>
        <p:spPr>
          <a:xfrm>
            <a:off x="1258920" y="0"/>
            <a:ext cx="1225440" cy="6858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2"/>
          <p:cNvSpPr/>
          <p:nvPr/>
        </p:nvSpPr>
        <p:spPr>
          <a:xfrm>
            <a:off x="2484360" y="0"/>
            <a:ext cx="1440000" cy="6858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3851280" y="0"/>
            <a:ext cx="1297080" cy="6858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4"/>
          <p:cNvSpPr/>
          <p:nvPr/>
        </p:nvSpPr>
        <p:spPr>
          <a:xfrm>
            <a:off x="5148360" y="0"/>
            <a:ext cx="1368360" cy="6858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5"/>
          <p:cNvSpPr/>
          <p:nvPr/>
        </p:nvSpPr>
        <p:spPr>
          <a:xfrm>
            <a:off x="6516720" y="0"/>
            <a:ext cx="1295280" cy="6858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6"/>
          <p:cNvSpPr/>
          <p:nvPr/>
        </p:nvSpPr>
        <p:spPr>
          <a:xfrm>
            <a:off x="7775640" y="0"/>
            <a:ext cx="1368360" cy="6858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2" descr="Картинка 31 из 9787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611280" y="549360"/>
            <a:ext cx="1101600" cy="1101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Картинка 31 из 9787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7451640" y="404640"/>
            <a:ext cx="1101960" cy="1101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Картинка 31 из 9787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4067280" y="2781360"/>
            <a:ext cx="1101600" cy="1101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Картинка 31 из 9787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611280" y="5300640"/>
            <a:ext cx="1101600" cy="1101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Картинка 31 из 9787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7524720" y="5300640"/>
            <a:ext cx="1101600" cy="1101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Картинка 31 из 9787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4067280" y="404640"/>
            <a:ext cx="1101600" cy="1101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Картинка 31 из 9787"/>
          <p:cNvPicPr/>
          <p:nvPr/>
        </p:nvPicPr>
        <p:blipFill>
          <a:blip r:embed="rId7">
            <a:lum bright="-6000"/>
          </a:blip>
          <a:stretch/>
        </p:blipFill>
        <p:spPr>
          <a:xfrm>
            <a:off x="4140360" y="5300640"/>
            <a:ext cx="1101600" cy="1101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Картинка 31 из 9787"/>
          <p:cNvPicPr/>
          <p:nvPr/>
        </p:nvPicPr>
        <p:blipFill>
          <a:blip r:embed="rId8">
            <a:lum bright="-6000"/>
          </a:blip>
          <a:stretch/>
        </p:blipFill>
        <p:spPr>
          <a:xfrm>
            <a:off x="6372360" y="2781360"/>
            <a:ext cx="1101600" cy="1101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Картинка 31 из 9787"/>
          <p:cNvPicPr/>
          <p:nvPr/>
        </p:nvPicPr>
        <p:blipFill>
          <a:blip r:embed="rId9">
            <a:lum bright="-6000"/>
          </a:blip>
          <a:stretch/>
        </p:blipFill>
        <p:spPr>
          <a:xfrm>
            <a:off x="1547640" y="2708280"/>
            <a:ext cx="1101960" cy="1101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7" descr=""/>
          <p:cNvPicPr/>
          <p:nvPr/>
        </p:nvPicPr>
        <p:blipFill>
          <a:blip r:embed="rId10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1000"/>
                            </p:stCondLst>
                            <p:childTnLst>
                              <p:par>
                                <p:cTn id="76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3000"/>
                            </p:stCondLst>
                            <p:childTnLst>
                              <p:par>
                                <p:cTn id="80" nodeType="afterEffect" fill="hold" presetClass="exit" presetID="10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0"/>
                            </p:stCondLst>
                            <p:childTnLst>
                              <p:par>
                                <p:cTn id="84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7000"/>
                            </p:stCondLst>
                            <p:childTnLst>
                              <p:par>
                                <p:cTn id="88" nodeType="afterEffect" fill="hold" presetClass="exit" presetID="10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9000"/>
                            </p:stCondLst>
                            <p:childTnLst>
                              <p:par>
                                <p:cTn id="92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1000"/>
                            </p:stCondLst>
                            <p:childTnLst>
                              <p:par>
                                <p:cTn id="96" nodeType="afterEffect" fill="hold" presetClass="exit" presetID="10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3000"/>
                            </p:stCondLst>
                            <p:childTnLst>
                              <p:par>
                                <p:cTn id="100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4" nodeType="afterEffect" fill="hold" presetClass="exit" presetID="10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7000"/>
                            </p:stCondLst>
                            <p:childTnLst>
                              <p:par>
                                <p:cTn id="108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8000"/>
                            </p:stCondLst>
                            <p:childTnLst>
                              <p:par>
                                <p:cTn id="113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9000"/>
                            </p:stCondLst>
                            <p:childTnLst>
                              <p:par>
                                <p:cTn id="118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0"/>
                            </p:stCondLst>
                            <p:childTnLst>
                              <p:par>
                                <p:cTn id="123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1000"/>
                            </p:stCondLst>
                            <p:childTnLst>
                              <p:par>
                                <p:cTn id="128" nodeType="afterEffect" fill="hold" presetClass="path" presetID="3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712 -0.00208 L 0.01823 -0.34282 L 0.2941 -0.00208 L 0.01823 0.33935 L -0.25712 -0.00208 Z">
                                      <p:cBhvr>
                                        <p:cTn id="129" dur="3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D:\Documents and Settings\User\Мои документы\Мои рисунки\Изображение\Изображение 130.jpg"/>
          <p:cNvPicPr/>
          <p:nvPr/>
        </p:nvPicPr>
        <p:blipFill>
          <a:blip r:embed="rId1"/>
          <a:srcRect l="3394" t="15776" r="8477" b="76726"/>
          <a:stretch/>
        </p:blipFill>
        <p:spPr>
          <a:xfrm>
            <a:off x="2484360" y="3141720"/>
            <a:ext cx="3743280" cy="50328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3"/>
          <p:cNvSpPr/>
          <p:nvPr/>
        </p:nvSpPr>
        <p:spPr>
          <a:xfrm>
            <a:off x="324000" y="1125360"/>
            <a:ext cx="84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кроить пояс : длина пояса с прибавкой 5 см на мысик и швы, ширина 3,5см. Определить середину детали пояса по долевой ни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D:\Documents and Settings\User\Мои документы\Мои рисунки\Изображение\Изображение 130.jpg"/>
          <p:cNvPicPr/>
          <p:nvPr/>
        </p:nvPicPr>
        <p:blipFill>
          <a:blip r:embed="rId1"/>
          <a:srcRect l="6772" t="31705" r="10254" b="65091"/>
          <a:stretch/>
        </p:blipFill>
        <p:spPr>
          <a:xfrm>
            <a:off x="2843280" y="2924280"/>
            <a:ext cx="3529080" cy="21744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2"/>
          <p:cNvSpPr/>
          <p:nvPr/>
        </p:nvSpPr>
        <p:spPr>
          <a:xfrm>
            <a:off x="179280" y="620640"/>
            <a:ext cx="885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кроить прокладку для пояса: длина равна длине пояса без припусков на швы, ширина равна  ширине пояса без припусков на шв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D:\Documents and Settings\User\Мои документы\Мои рисунки\Изображение\Изображение 130.jpg"/>
          <p:cNvPicPr/>
          <p:nvPr/>
        </p:nvPicPr>
        <p:blipFill>
          <a:blip r:embed="rId1"/>
          <a:srcRect l="5215" t="44751" r="8403" b="46855"/>
          <a:stretch/>
        </p:blipFill>
        <p:spPr>
          <a:xfrm>
            <a:off x="2484360" y="3068640"/>
            <a:ext cx="3743280" cy="57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250920" y="476280"/>
          <a:ext cx="8893080" cy="609480"/>
        </p:xfrm>
        <a:graphic>
          <a:graphicData uri="http://schemas.openxmlformats.org/drawingml/2006/table">
            <a:tbl>
              <a:tblPr/>
              <a:tblGrid>
                <a:gridCol w="8893080"/>
              </a:tblGrid>
              <a:tr h="6094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ts val="10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TextBox 4"/>
          <p:cNvSpPr/>
          <p:nvPr/>
        </p:nvSpPr>
        <p:spPr>
          <a:xfrm>
            <a:off x="0" y="404640"/>
            <a:ext cx="914400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0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ложить прокладку на изнаночную сторону пояса на расстоянии 1 — 2 мм от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ts val="10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ts val="10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ед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ts val="10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ts val="10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али, наметать, настрочить двумя строчками на расстоянии 1 — 2 мм от верхнего кр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ts val="10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ts val="10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кладки и посередине проклад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D:\Documents and Settings\User\Мои документы\Мои рисунки\Изображение\Изображение 130.jpg"/>
          <p:cNvPicPr/>
          <p:nvPr/>
        </p:nvPicPr>
        <p:blipFill>
          <a:blip r:embed="rId1"/>
          <a:srcRect l="0" t="63814" r="6868" b="24421"/>
          <a:stretch/>
        </p:blipFill>
        <p:spPr>
          <a:xfrm>
            <a:off x="2484360" y="3284640"/>
            <a:ext cx="3959280" cy="79200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2"/>
          <p:cNvSpPr/>
          <p:nvPr/>
        </p:nvSpPr>
        <p:spPr>
          <a:xfrm>
            <a:off x="0" y="47628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ожить пояс вдоль по средней линии лицевой стороной внутрь. Сколоть и сметать концы пояса, как показано на рисунке, обтачать концы пояса. Срезать припуски на шов в углах, выполнить надсечку у мысика на ширину припуска на шов, удалить нитки строчек временного назнач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D:\Documents and Settings\User\Мои документы\Мои рисунки\Изображение\Изображение 130.jpg"/>
          <p:cNvPicPr/>
          <p:nvPr/>
        </p:nvPicPr>
        <p:blipFill>
          <a:blip r:embed="rId1"/>
          <a:srcRect l="5215" t="81503" r="10063" b="13250"/>
          <a:stretch/>
        </p:blipFill>
        <p:spPr>
          <a:xfrm>
            <a:off x="2700360" y="2781360"/>
            <a:ext cx="3672000" cy="36036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2"/>
          <p:cNvSpPr/>
          <p:nvPr/>
        </p:nvSpPr>
        <p:spPr>
          <a:xfrm>
            <a:off x="0" y="10526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вернуть пояс, выправить углы, швы. Выметать швы на ребро, приутюжи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7T06:19:57Z</dcterms:created>
  <dc:creator>User</dc:creator>
  <dc:description/>
  <dc:language>en-US</dc:language>
  <cp:lastModifiedBy>User</cp:lastModifiedBy>
  <dcterms:modified xsi:type="dcterms:W3CDTF">2013-02-27T10:50:52Z</dcterms:modified>
  <cp:revision>7</cp:revision>
  <dc:subject/>
  <dc:title>Обработка пояса.</dc:title>
</cp:coreProperties>
</file>