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32D-2117-4C91-B704-639BFD71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BDFA-4652-4A3F-AF2C-B0BA1BB2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6A9-2DF1-4E54-88A5-210B04E4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8DB-10F2-4C94-AAB1-4D9B3D2F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EECA-4912-41FE-AB09-8C2DA120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2B9-F10E-4FAA-8E00-35357B2B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14B-045B-48A7-BF27-3594F738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E0D8-75BE-4552-BFAA-90617833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635-A78E-4B2E-BDF0-03381D63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7C48-EC0D-4ED0-8446-95991CEE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040-2424-4EE1-B691-D055FD34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4E3-1CB6-4398-90FF-30404EE5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2B02-F677-4A19-B493-0B4E6C14D9F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ботка пояс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2" descr="http://www.yubkioptom.ru/files/788-1_1.jpg"/>
          <p:cNvPicPr/>
          <p:nvPr/>
        </p:nvPicPr>
        <p:blipFill>
          <a:blip r:embed="rId1"/>
          <a:stretch/>
        </p:blipFill>
        <p:spPr>
          <a:xfrm>
            <a:off x="0" y="2394000"/>
            <a:ext cx="3348000" cy="4464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yubkiplus.ru/yubki-maxi/yubka-0830.jpg"/>
          <p:cNvPicPr/>
          <p:nvPr/>
        </p:nvPicPr>
        <p:blipFill>
          <a:blip r:embed="rId2"/>
          <a:stretch/>
        </p:blipFill>
        <p:spPr>
          <a:xfrm>
            <a:off x="6012000" y="2413080"/>
            <a:ext cx="3024000" cy="444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://www.yubkioptom.ru/files/736_1.jpg"/>
          <p:cNvPicPr/>
          <p:nvPr/>
        </p:nvPicPr>
        <p:blipFill>
          <a:blip r:embed="rId3"/>
          <a:stretch/>
        </p:blipFill>
        <p:spPr>
          <a:xfrm>
            <a:off x="2771640" y="2394000"/>
            <a:ext cx="3348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D:\Documents and Settings\User\Мои документы\Мои рисунки\Изображение\Изображение 130.jpg"/>
          <p:cNvPicPr/>
          <p:nvPr/>
        </p:nvPicPr>
        <p:blipFill>
          <a:blip r:embed="rId1"/>
          <a:srcRect l="5215" t="81503" r="10063" b="13250"/>
          <a:stretch/>
        </p:blipFill>
        <p:spPr>
          <a:xfrm>
            <a:off x="2556000" y="2997360"/>
            <a:ext cx="3671640" cy="360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D:\Documents and Settings\User\Мои документы\Мои рисунки\Изображение\Изображение 130.jpg"/>
          <p:cNvPicPr/>
          <p:nvPr/>
        </p:nvPicPr>
        <p:blipFill>
          <a:blip r:embed="rId2"/>
          <a:srcRect l="0" t="63814" r="6868" b="24421"/>
          <a:stretch/>
        </p:blipFill>
        <p:spPr>
          <a:xfrm>
            <a:off x="2484360" y="2133720"/>
            <a:ext cx="3959280" cy="79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D:\Documents and Settings\User\Мои документы\Мои рисунки\Изображение\Изображение 130.jpg"/>
          <p:cNvPicPr/>
          <p:nvPr/>
        </p:nvPicPr>
        <p:blipFill>
          <a:blip r:embed="rId3"/>
          <a:srcRect l="5215" t="44751" r="8403" b="46855"/>
          <a:stretch/>
        </p:blipFill>
        <p:spPr>
          <a:xfrm>
            <a:off x="2484360" y="1413000"/>
            <a:ext cx="3816360" cy="57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D:\Documents and Settings\User\Мои документы\Мои рисунки\Изображение\Изображение 130.jpg"/>
          <p:cNvPicPr/>
          <p:nvPr/>
        </p:nvPicPr>
        <p:blipFill>
          <a:blip r:embed="rId4"/>
          <a:srcRect l="6772" t="31705" r="10254" b="65091"/>
          <a:stretch/>
        </p:blipFill>
        <p:spPr>
          <a:xfrm>
            <a:off x="2484360" y="981000"/>
            <a:ext cx="3743280" cy="28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D:\Documents and Settings\User\Мои документы\Мои рисунки\Изображение\Изображение 130.jpg"/>
          <p:cNvPicPr/>
          <p:nvPr/>
        </p:nvPicPr>
        <p:blipFill>
          <a:blip r:embed="rId5"/>
          <a:srcRect l="3394" t="15776" r="8477" b="76726"/>
          <a:stretch/>
        </p:blipFill>
        <p:spPr>
          <a:xfrm>
            <a:off x="2484360" y="260280"/>
            <a:ext cx="3743280" cy="5047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0" y="4292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верка качества работ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Ширина пояса одинаковая по всей дли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лина мысика равна 3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. углы и швы выправлены и вымета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лажно – тепловая обработка выполнена качеств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0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1258920" y="0"/>
            <a:ext cx="1225440" cy="6858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2484360" y="0"/>
            <a:ext cx="144000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3851280" y="0"/>
            <a:ext cx="1297080" cy="6858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5148360" y="0"/>
            <a:ext cx="136836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>
            <a:off x="6516720" y="0"/>
            <a:ext cx="1295280" cy="6858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>
            <a:off x="7775640" y="0"/>
            <a:ext cx="136836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Картинка 31 из 9787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1280" y="54936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Картинка 31 из 9787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451640" y="404640"/>
            <a:ext cx="1101960" cy="1101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Картинка 31 из 9787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067280" y="278136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Картинка 31 из 9787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611280" y="530064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Картинка 31 из 9787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7524720" y="530064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Картинка 31 из 9787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4067280" y="404640"/>
            <a:ext cx="1101600" cy="1101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Картинка 31 из 9787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4140360" y="530064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Картинка 31 из 9787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6372360" y="278136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Картинка 31 из 9787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1547640" y="2708280"/>
            <a:ext cx="1101960" cy="110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7" descr=""/>
          <p:cNvPicPr/>
          <p:nvPr/>
        </p:nvPicPr>
        <p:blipFill>
          <a:blip r:embed="rId10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7000"/>
                            </p:stCondLst>
                            <p:childTnLst>
                              <p:par>
                                <p:cTn id="88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9000"/>
                            </p:stCondLst>
                            <p:childTnLst>
                              <p:par>
                                <p:cTn id="9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96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4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8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3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8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3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8" nodeType="afterEffect" fill="hold" presetClass="path" presetID="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712 -0.00208 L 0.01823 -0.34282 L 0.2941 -0.00208 L 0.01823 0.33935 L -0.25712 -0.00208 Z">
                                      <p:cBhvr>
                                        <p:cTn id="129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D:\Documents and Settings\User\Мои документы\Мои рисунки\Изображение\Изображение 130.jpg"/>
          <p:cNvPicPr/>
          <p:nvPr/>
        </p:nvPicPr>
        <p:blipFill>
          <a:blip r:embed="rId1"/>
          <a:srcRect l="3394" t="15776" r="8477" b="76726"/>
          <a:stretch/>
        </p:blipFill>
        <p:spPr>
          <a:xfrm>
            <a:off x="2484360" y="3141720"/>
            <a:ext cx="3743280" cy="5032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24000" y="112536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оить пояс : длина пояса с прибавкой 5 см на мысик и швы, ширина 3,5см. Определить середину детали пояса по долевой ни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D:\Documents and Settings\User\Мои документы\Мои рисунки\Изображение\Изображение 130.jpg"/>
          <p:cNvPicPr/>
          <p:nvPr/>
        </p:nvPicPr>
        <p:blipFill>
          <a:blip r:embed="rId1"/>
          <a:srcRect l="6772" t="31705" r="10254" b="65091"/>
          <a:stretch/>
        </p:blipFill>
        <p:spPr>
          <a:xfrm>
            <a:off x="2843280" y="2924280"/>
            <a:ext cx="3529080" cy="2174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179280" y="620640"/>
            <a:ext cx="88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оить прокладку для пояса: длина равна длине пояса без припусков на швы, ширина равна  ширине пояса без припусков на шв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D:\Documents and Settings\User\Мои документы\Мои рисунки\Изображение\Изображение 130.jpg"/>
          <p:cNvPicPr/>
          <p:nvPr/>
        </p:nvPicPr>
        <p:blipFill>
          <a:blip r:embed="rId1"/>
          <a:srcRect l="5215" t="44751" r="8403" b="46855"/>
          <a:stretch/>
        </p:blipFill>
        <p:spPr>
          <a:xfrm>
            <a:off x="2484360" y="3068640"/>
            <a:ext cx="3743280" cy="5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250920" y="476280"/>
          <a:ext cx="8893080" cy="609480"/>
        </p:xfrm>
        <a:graphic>
          <a:graphicData uri="http://schemas.openxmlformats.org/drawingml/2006/table">
            <a:tbl>
              <a:tblPr/>
              <a:tblGrid>
                <a:gridCol w="8893080"/>
              </a:tblGrid>
              <a:tr h="6094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Box 4"/>
          <p:cNvSpPr/>
          <p:nvPr/>
        </p:nvSpPr>
        <p:spPr>
          <a:xfrm>
            <a:off x="0" y="404640"/>
            <a:ext cx="914400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0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ожить прокладку на изнаночную сторону пояса на расстоянии 1 — 2 мм от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10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10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ед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10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10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али, наметать, настрочить двумя строчками на расстоянии 1 — 2 мм от верхнего кр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10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10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кладки и посередине проклад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D:\Documents and Settings\User\Мои документы\Мои рисунки\Изображение\Изображение 130.jpg"/>
          <p:cNvPicPr/>
          <p:nvPr/>
        </p:nvPicPr>
        <p:blipFill>
          <a:blip r:embed="rId1"/>
          <a:srcRect l="0" t="63814" r="6868" b="24421"/>
          <a:stretch/>
        </p:blipFill>
        <p:spPr>
          <a:xfrm>
            <a:off x="2484360" y="3284640"/>
            <a:ext cx="3959280" cy="792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0" y="4762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жить пояс вдоль по средней линии лицевой стороной внутрь. Сколоть и сметать концы пояса, как показано на рисунке, обтачать концы пояса. Срезать припуски на шов в углах, выполнить надсечку у мысика на ширину припуска на шов, удалить нитки строчек временного назнач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D:\Documents and Settings\User\Мои документы\Мои рисунки\Изображение\Изображение 130.jpg"/>
          <p:cNvPicPr/>
          <p:nvPr/>
        </p:nvPicPr>
        <p:blipFill>
          <a:blip r:embed="rId1"/>
          <a:srcRect l="5215" t="81503" r="10063" b="13250"/>
          <a:stretch/>
        </p:blipFill>
        <p:spPr>
          <a:xfrm>
            <a:off x="2700360" y="2781360"/>
            <a:ext cx="3672000" cy="3603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2"/>
          <p:cNvSpPr/>
          <p:nvPr/>
        </p:nvSpPr>
        <p:spPr>
          <a:xfrm>
            <a:off x="0" y="1052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ернуть пояс, выправить углы, швы. Выметать швы на ребро, приутюжи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6:19:57Z</dcterms:created>
  <dc:creator>User</dc:creator>
  <dc:description/>
  <dc:language>en-US</dc:language>
  <cp:lastModifiedBy>User</cp:lastModifiedBy>
  <dcterms:modified xsi:type="dcterms:W3CDTF">2013-02-27T10:50:52Z</dcterms:modified>
  <cp:revision>7</cp:revision>
  <dc:subject/>
  <dc:title>Обработка пояса.</dc:title>
</cp:coreProperties>
</file>