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5.png" ContentType="image/png"/>
  <Override PartName="/ppt/media/image43.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31.jpeg" ContentType="image/jpeg"/>
  <Override PartName="/ppt/media/image32.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44.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6.jpeg" ContentType="image/jpeg"/>
  <Override PartName="/ppt/media/image27.jpeg" ContentType="image/jpeg"/>
  <Override PartName="/ppt/media/image33.jpeg" ContentType="image/jpeg"/>
  <Override PartName="/ppt/media/image4.gif" ContentType="image/gif"/>
  <Override PartName="/ppt/media/image35.jpeg" ContentType="image/jpeg"/>
  <Override PartName="/ppt/media/image1.jpeg" ContentType="image/jpeg"/>
  <Override PartName="/ppt/media/image22.jpeg" ContentType="image/jpeg"/>
  <Override PartName="/ppt/media/image3.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6FD2-B5B6-45CA-9887-4F9C93E8ED2D}" type="slidenum">
              <a:rPr b="0" lang="ru-RU"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days.pravoslavie.ru/Life/slovar2244.htm" TargetMode="External"/><Relationship Id="rId2" Type="http://schemas.openxmlformats.org/officeDocument/2006/relationships/hyperlink" Target="http://days.pravoslavie.ru/Life/slovar2462.htm" TargetMode="External"/><Relationship Id="rId3" Type="http://schemas.openxmlformats.org/officeDocument/2006/relationships/hyperlink" Target="http://days.pravoslavie.ru/Images/ii535&amp;1741.htm" TargetMode="External"/><Relationship Id="rId4" Type="http://schemas.openxmlformats.org/officeDocument/2006/relationships/hyperlink" Target="http://days.pravoslavie.ru/Life/id535.htm" TargetMode="External"/><Relationship Id="rId5" Type="http://schemas.openxmlformats.org/officeDocument/2006/relationships/hyperlink" Target="http://days.pravoslavie.ru/Life/id535.htm" TargetMode="External"/><Relationship Id="rId6" Type="http://schemas.openxmlformats.org/officeDocument/2006/relationships/hyperlink" Target="http://days.pravoslavie.ru/Images/ii535&amp;37.htm" TargetMode="External"/><Relationship Id="rId7" Type="http://schemas.openxmlformats.org/officeDocument/2006/relationships/hyperlink" Target="http://days.pravoslavie.ru/Trop/IT535.htm" TargetMode="External"/><Relationship Id="rId8" Type="http://schemas.openxmlformats.org/officeDocument/2006/relationships/hyperlink" Target="http://days.pravoslavie.ru/Hram/i535.htm" TargetMode="External"/><Relationship Id="rId9" Type="http://schemas.openxmlformats.org/officeDocument/2006/relationships/hyperlink" Target="http://days.pravoslavie.ru/Images/ii598&amp;3101.htm" TargetMode="External"/><Relationship Id="rId10" Type="http://schemas.openxmlformats.org/officeDocument/2006/relationships/hyperlink" Target="http://days.pravoslavie.ru/Life/slovar2135.htm" TargetMode="External"/><Relationship Id="rId11" Type="http://schemas.openxmlformats.org/officeDocument/2006/relationships/hyperlink" Target="http://days.pravoslavie.ru/Life/slovar2289.htm" TargetMode="External"/><Relationship Id="rId12" Type="http://schemas.openxmlformats.org/officeDocument/2006/relationships/hyperlink" Target="http://days.pravoslavie.ru/Life/life6552.htm" TargetMode="External"/><Relationship Id="rId13" Type="http://schemas.openxmlformats.org/officeDocument/2006/relationships/hyperlink" Target="http://days.pravoslavie.ru/Life/life6552.htm" TargetMode="External"/><Relationship Id="rId14" Type="http://schemas.openxmlformats.org/officeDocument/2006/relationships/hyperlink" Target="http://days.pravoslavie.ru/Images/ii598&amp;3101.htm" TargetMode="External"/><Relationship Id="rId15" Type="http://schemas.openxmlformats.org/officeDocument/2006/relationships/hyperlink" Target="http://days.pravoslavie.ru/Trop/IT598.htm" TargetMode="External"/><Relationship Id="rId16" Type="http://schemas.openxmlformats.org/officeDocument/2006/relationships/hyperlink" Target="http://days.pravoslavie.ru/Hram/i598.htm" TargetMode="External"/><Relationship Id="rId17" Type="http://schemas.openxmlformats.org/officeDocument/2006/relationships/hyperlink" Target="http://days.pravoslavie.ru/Images/ii1547&amp;1922.htm" TargetMode="External"/><Relationship Id="rId18" Type="http://schemas.openxmlformats.org/officeDocument/2006/relationships/hyperlink" Target="http://days.pravoslavie.ru/Life/id1547.htm" TargetMode="External"/><Relationship Id="rId19" Type="http://schemas.openxmlformats.org/officeDocument/2006/relationships/hyperlink" Target="http://days.pravoslavie.ru/Life/id1547.htm" TargetMode="External"/><Relationship Id="rId20" Type="http://schemas.openxmlformats.org/officeDocument/2006/relationships/hyperlink" Target="http://days.pravoslavie.ru/Images/ii1547&amp;140.htm" TargetMode="External"/><Relationship Id="rId21" Type="http://schemas.openxmlformats.org/officeDocument/2006/relationships/hyperlink" Target="http://days.pravoslavie.ru/Hram/i1547.htm" TargetMode="External"/><Relationship Id="rId22" Type="http://schemas.openxmlformats.org/officeDocument/2006/relationships/hyperlink" Target="http://days.pravoslavie.ru/Images/ii1635&amp;3074.htm" TargetMode="External"/><Relationship Id="rId23" Type="http://schemas.openxmlformats.org/officeDocument/2006/relationships/hyperlink" Target="http://days.pravoslavie.ru/Life/id1635.htm" TargetMode="External"/><Relationship Id="rId24" Type="http://schemas.openxmlformats.org/officeDocument/2006/relationships/hyperlink" Target="http://days.pravoslavie.ru/Life/id1635.htm" TargetMode="External"/><Relationship Id="rId25" Type="http://schemas.openxmlformats.org/officeDocument/2006/relationships/hyperlink" Target="http://days.pravoslavie.ru/Images/ii1635&amp;145.htm" TargetMode="External"/><Relationship Id="rId26" Type="http://schemas.openxmlformats.org/officeDocument/2006/relationships/hyperlink" Target="http://days.pravoslavie.ru/Trop/IT1635.htm" TargetMode="External"/><Relationship Id="rId27" Type="http://schemas.openxmlformats.org/officeDocument/2006/relationships/hyperlink" Target="http://days.pravoslavie.ru/Hram/i1635.htm" TargetMode="External"/><Relationship Id="rId28" Type="http://schemas.openxmlformats.org/officeDocument/2006/relationships/hyperlink" Target="http://days.pravoslavie.ru/Images/ii2064&amp;2053.htm" TargetMode="External"/><Relationship Id="rId29" Type="http://schemas.openxmlformats.org/officeDocument/2006/relationships/hyperlink" Target="http://days.pravoslavie.ru/Life/slovar2457.htm" TargetMode="External"/><Relationship Id="rId30" Type="http://schemas.openxmlformats.org/officeDocument/2006/relationships/hyperlink" Target="http://days.pravoslavie.ru/Life/slovar2320.htm" TargetMode="External"/><Relationship Id="rId31" Type="http://schemas.openxmlformats.org/officeDocument/2006/relationships/hyperlink" Target="http://days.pravoslavie.ru/Life/slovar2282.htm" TargetMode="External"/><Relationship Id="rId32" Type="http://schemas.openxmlformats.org/officeDocument/2006/relationships/hyperlink" Target="http://days.pravoslavie.ru/Images/ii2064&amp;1173.htm" TargetMode="External"/><Relationship Id="rId33" Type="http://schemas.openxmlformats.org/officeDocument/2006/relationships/hyperlink" Target="http://days.pravoslavie.ru/Images/ii1974&amp;2029.htm" TargetMode="External"/><Relationship Id="rId34" Type="http://schemas.openxmlformats.org/officeDocument/2006/relationships/hyperlink" Target="http://days.pravoslavie.ru/Life/id1974.htm" TargetMode="External"/><Relationship Id="rId35" Type="http://schemas.openxmlformats.org/officeDocument/2006/relationships/hyperlink" Target="http://days.pravoslavie.ru/Life/id1974.htm" TargetMode="External"/><Relationship Id="rId36" Type="http://schemas.openxmlformats.org/officeDocument/2006/relationships/hyperlink" Target="http://days.pravoslavie.ru/Images/ii1974&amp;288.htm" TargetMode="External"/><Relationship Id="rId37" Type="http://schemas.openxmlformats.org/officeDocument/2006/relationships/hyperlink" Target="http://days.pravoslavie.ru/Trop/IT1974.htm" TargetMode="External"/><Relationship Id="rId38" Type="http://schemas.openxmlformats.org/officeDocument/2006/relationships/hyperlink" Target="http://days.pravoslavie.ru/Hram/i1974.htm" TargetMode="External"/><Relationship Id="rId39" Type="http://schemas.openxmlformats.org/officeDocument/2006/relationships/hyperlink" Target="http://days.pravoslavie.ru/Images/ii2064&amp;1172.htm" TargetMode="External"/><Relationship Id="rId40" Type="http://schemas.openxmlformats.org/officeDocument/2006/relationships/slide" Target="../slides/slide10.xml"/><Relationship Id="rId41"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days.pravoslavie.ru/Life/id1694.htm" TargetMode="External"/><Relationship Id="rId2" Type="http://schemas.openxmlformats.org/officeDocument/2006/relationships/hyperlink" Target="http://days.pravoslavie.ru/Life/id1694.htm" TargetMode="External"/><Relationship Id="rId3" Type="http://schemas.openxmlformats.org/officeDocument/2006/relationships/hyperlink" Target="http://days.pravoslavie.ru/Images/ii1694&amp;149.htm" TargetMode="External"/><Relationship Id="rId4" Type="http://schemas.openxmlformats.org/officeDocument/2006/relationships/hyperlink" Target="http://days.pravoslavie.ru/Trop/IT1694.htm" TargetMode="External"/><Relationship Id="rId5" Type="http://schemas.openxmlformats.org/officeDocument/2006/relationships/hyperlink" Target="http://days.pravoslavie.ru/Hram/i1694.htm" TargetMode="External"/><Relationship Id="rId6" Type="http://schemas.openxmlformats.org/officeDocument/2006/relationships/hyperlink" Target="http://days.pravoslavie.ru/Images/ii1270&amp;468.htm" TargetMode="External"/><Relationship Id="rId7" Type="http://schemas.openxmlformats.org/officeDocument/2006/relationships/hyperlink" Target="http://days.pravoslavie.ru/Life/id1270.htm" TargetMode="External"/><Relationship Id="rId8" Type="http://schemas.openxmlformats.org/officeDocument/2006/relationships/hyperlink" Target="http://days.pravoslavie.ru/Life/id1270.htm" TargetMode="External"/><Relationship Id="rId9" Type="http://schemas.openxmlformats.org/officeDocument/2006/relationships/hyperlink" Target="http://days.pravoslavie.ru/Images/ii1270&amp;468.htm" TargetMode="External"/><Relationship Id="rId10" Type="http://schemas.openxmlformats.org/officeDocument/2006/relationships/hyperlink" Target="http://days.pravoslavie.ru/Trop/IT1270.htm" TargetMode="External"/><Relationship Id="rId11" Type="http://schemas.openxmlformats.org/officeDocument/2006/relationships/hyperlink" Target="http://days.pravoslavie.ru/Hram/i1270.htm" TargetMode="External"/><Relationship Id="rId12" Type="http://schemas.openxmlformats.org/officeDocument/2006/relationships/hyperlink" Target="http://days.pravoslavie.ru/Images/im703.htm" TargetMode="External"/><Relationship Id="rId13" Type="http://schemas.openxmlformats.org/officeDocument/2006/relationships/hyperlink" Target="http://days.pravoslavie.ru/Life/id601.htm" TargetMode="External"/><Relationship Id="rId14" Type="http://schemas.openxmlformats.org/officeDocument/2006/relationships/hyperlink" Target="http://days.pravoslavie.ru/Life/id601.htm" TargetMode="External"/><Relationship Id="rId15" Type="http://schemas.openxmlformats.org/officeDocument/2006/relationships/hyperlink" Target="http://days.pravoslavie.ru/Images/ii601&amp;517.htm" TargetMode="External"/><Relationship Id="rId16" Type="http://schemas.openxmlformats.org/officeDocument/2006/relationships/hyperlink" Target="http://days.pravoslavie.ru/Trop/IT601.htm" TargetMode="External"/><Relationship Id="rId17" Type="http://schemas.openxmlformats.org/officeDocument/2006/relationships/hyperlink" Target="http://days.pravoslavie.ru/Hram/i601.htm" TargetMode="External"/><Relationship Id="rId18" Type="http://schemas.openxmlformats.org/officeDocument/2006/relationships/slide" Target="../slides/slide13.xml"/><Relationship Id="rId19"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days.pravoslavie.ru/Images/ii898&amp;682.htm" TargetMode="External"/><Relationship Id="rId2" Type="http://schemas.openxmlformats.org/officeDocument/2006/relationships/hyperlink" Target="http://days.pravoslavie.ru/Images/ii898&amp;231.htm"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days.pravoslavie.ru/Life/id601.htm" TargetMode="External"/><Relationship Id="rId2" Type="http://schemas.openxmlformats.org/officeDocument/2006/relationships/hyperlink" Target="http://days.pravoslavie.ru/Life/id601.htm" TargetMode="External"/><Relationship Id="rId3" Type="http://schemas.openxmlformats.org/officeDocument/2006/relationships/hyperlink" Target="http://days.pravoslavie.ru/Images/ii601&amp;517.htm" TargetMode="External"/><Relationship Id="rId4" Type="http://schemas.openxmlformats.org/officeDocument/2006/relationships/hyperlink" Target="http://days.pravoslavie.ru/Trop/IT601.htm" TargetMode="External"/><Relationship Id="rId5" Type="http://schemas.openxmlformats.org/officeDocument/2006/relationships/hyperlink" Target="http://days.pravoslavie.ru/Hram/i601.htm" TargetMode="External"/><Relationship Id="rId6" Type="http://schemas.openxmlformats.org/officeDocument/2006/relationships/slide" Target="../slides/slide15.xml"/><Relationship Id="rId7"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days.pravoslavie.ru/Images/im310.htm" TargetMode="External"/><Relationship Id="rId2" Type="http://schemas.openxmlformats.org/officeDocument/2006/relationships/hyperlink" Target="http://days.pravoslavie.ru/Images/im879.htm" TargetMode="External"/><Relationship Id="rId3" Type="http://schemas.openxmlformats.org/officeDocument/2006/relationships/hyperlink" Target="http://days.pravoslavie.ru/Images/ii295&amp;161.htm" TargetMode="External"/><Relationship Id="rId4" Type="http://schemas.openxmlformats.org/officeDocument/2006/relationships/hyperlink" Target="http://days.pravoslavie.ru/Images/ii295&amp;39.htm" TargetMode="External"/><Relationship Id="rId5" Type="http://schemas.openxmlformats.org/officeDocument/2006/relationships/slide" Target="../slides/slide16.xml"/><Relationship Id="rId6"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days.pravoslavie.ru/Images/ii2211&amp;1248.htm" TargetMode="External"/><Relationship Id="rId2" Type="http://schemas.openxmlformats.org/officeDocument/2006/relationships/hyperlink" Target="http://days.pravoslavie.ru/Images/ii2211&amp;376.htm" TargetMode="External"/><Relationship Id="rId3" Type="http://schemas.openxmlformats.org/officeDocument/2006/relationships/hyperlink" Target="http://days.pravoslavie.ru/Images/ii2211&amp;2090.htm" TargetMode="External"/><Relationship Id="rId4" Type="http://schemas.openxmlformats.org/officeDocument/2006/relationships/slide" Target="../slides/slide17.xml"/><Relationship Id="rId5"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days.pravoslavie.ru/Images/ii2598&amp;940.htm" TargetMode="External"/><Relationship Id="rId2" Type="http://schemas.openxmlformats.org/officeDocument/2006/relationships/hyperlink" Target="http://days.pravoslavie.ru/Images/ii2598&amp;2231.htm" TargetMode="External"/><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days.pravoslavie.ru/Images/ii2523&amp;3042.htm"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days.pravoslavie.ru/Images/ii1037&amp;1834.htm" TargetMode="External"/><Relationship Id="rId2" Type="http://schemas.openxmlformats.org/officeDocument/2006/relationships/hyperlink" Target="http://days.pravoslavie.ru/Images/ii1037&amp;242.htm" TargetMode="External"/><Relationship Id="rId3" Type="http://schemas.openxmlformats.org/officeDocument/2006/relationships/hyperlink" Target="http://days.pravoslavie.ru/Images/ii1037&amp;2782.htm" TargetMode="External"/><Relationship Id="rId4" Type="http://schemas.openxmlformats.org/officeDocument/2006/relationships/slide" Target="../slides/slide20.xml"/><Relationship Id="rId5"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days.pravoslavie.ru/Life/id3044.htm" TargetMode="External"/><Relationship Id="rId2" Type="http://schemas.openxmlformats.org/officeDocument/2006/relationships/hyperlink" Target="http://days.pravoslavie.ru/Life/id3044.htm" TargetMode="External"/><Relationship Id="rId3" Type="http://schemas.openxmlformats.org/officeDocument/2006/relationships/hyperlink" Target="http://days.pravoslavie.ru/Images/ii3044&amp;1223.htm" TargetMode="External"/><Relationship Id="rId4" Type="http://schemas.openxmlformats.org/officeDocument/2006/relationships/hyperlink" Target="http://days.pravoslavie.ru/Trop/IT3044.htm" TargetMode="External"/><Relationship Id="rId5" Type="http://schemas.openxmlformats.org/officeDocument/2006/relationships/hyperlink" Target="http://days.pravoslavie.ru/Hram/i3044.htm" TargetMode="External"/><Relationship Id="rId6" Type="http://schemas.openxmlformats.org/officeDocument/2006/relationships/slide" Target="../slides/slide21.xml"/><Relationship Id="rId7"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days.pravoslavie.ru/Images/ii962&amp;1318.htm" TargetMode="External"/><Relationship Id="rId2" Type="http://schemas.openxmlformats.org/officeDocument/2006/relationships/hyperlink" Target="http://days.pravoslavie.ru/Images/ii962&amp;1806.htm" TargetMode="External"/><Relationship Id="rId3" Type="http://schemas.openxmlformats.org/officeDocument/2006/relationships/hyperlink" Target="http://days.pravoslavie.ru/Images/ii962&amp;1317.htm" TargetMode="External"/><Relationship Id="rId4" Type="http://schemas.openxmlformats.org/officeDocument/2006/relationships/hyperlink" Target="http://days.pravoslavie.ru/Images/ii962&amp;1316.htm" TargetMode="External"/><Relationship Id="rId5" Type="http://schemas.openxmlformats.org/officeDocument/2006/relationships/slide" Target="../slides/slide22.xml"/><Relationship Id="rId6"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days.pravoslavie.ru/Images/im187.htm" TargetMode="External"/><Relationship Id="rId2" Type="http://schemas.openxmlformats.org/officeDocument/2006/relationships/hyperlink" Target="http://days.pravoslavie.ru/Images/ii1635&amp;2880.htm" TargetMode="External"/><Relationship Id="rId3" Type="http://schemas.openxmlformats.org/officeDocument/2006/relationships/hyperlink" Target="http://days.pravoslavie.ru/Images/ii1635&amp;472.htm" TargetMode="External"/><Relationship Id="rId4" Type="http://schemas.openxmlformats.org/officeDocument/2006/relationships/hyperlink" Target="http://days.pravoslavie.ru/Images/im2907.htm" TargetMode="External"/><Relationship Id="rId5" Type="http://schemas.openxmlformats.org/officeDocument/2006/relationships/hyperlink" Target="http://days.pravoslavie.ru/Images/ii1635&amp;147.htm" TargetMode="External"/><Relationship Id="rId6" Type="http://schemas.openxmlformats.org/officeDocument/2006/relationships/hyperlink" Target="http://days.pravoslavie.ru/Images/ii1635&amp;507.htm" TargetMode="External"/><Relationship Id="rId7" Type="http://schemas.openxmlformats.org/officeDocument/2006/relationships/hyperlink" Target="http://days.pravoslavie.ru/Images/ii1635&amp;3074.htm" TargetMode="External"/><Relationship Id="rId8" Type="http://schemas.openxmlformats.org/officeDocument/2006/relationships/hyperlink" Target="http://days.pravoslavie.ru/Images/ii1635&amp;144.htm" TargetMode="External"/><Relationship Id="rId9" Type="http://schemas.openxmlformats.org/officeDocument/2006/relationships/hyperlink" Target="http://days.pravoslavie.ru/Images/ii1635&amp;146.htm" TargetMode="External"/><Relationship Id="rId10" Type="http://schemas.openxmlformats.org/officeDocument/2006/relationships/hyperlink" Target="http://days.pravoslavie.ru/Images/im96.htm" TargetMode="External"/><Relationship Id="rId11" Type="http://schemas.openxmlformats.org/officeDocument/2006/relationships/slide" Target="../slides/slide23.xml"/><Relationship Id="rId1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days.pravoslavie.ru/Life/id1061.htm" TargetMode="External"/><Relationship Id="rId2" Type="http://schemas.openxmlformats.org/officeDocument/2006/relationships/hyperlink" Target="http://days.pravoslavie.ru/Life/id1061.htm" TargetMode="External"/><Relationship Id="rId3" Type="http://schemas.openxmlformats.org/officeDocument/2006/relationships/hyperlink" Target="http://days.pravoslavie.ru/Images/ii1061&amp;129.htm" TargetMode="External"/><Relationship Id="rId4" Type="http://schemas.openxmlformats.org/officeDocument/2006/relationships/hyperlink" Target="http://days.pravoslavie.ru/Trop/IT1061.htm" TargetMode="External"/><Relationship Id="rId5" Type="http://schemas.openxmlformats.org/officeDocument/2006/relationships/hyperlink" Target="http://days.pravoslavie.ru/Life/id3038.htm" TargetMode="External"/><Relationship Id="rId6" Type="http://schemas.openxmlformats.org/officeDocument/2006/relationships/hyperlink" Target="http://days.pravoslavie.ru/Life/id3038.htm" TargetMode="External"/><Relationship Id="rId7" Type="http://schemas.openxmlformats.org/officeDocument/2006/relationships/hyperlink" Target="http://days.pravoslavie.ru/Images/ii3038&amp;534.htm" TargetMode="External"/><Relationship Id="rId8" Type="http://schemas.openxmlformats.org/officeDocument/2006/relationships/hyperlink" Target="http://days.pravoslavie.ru/Trop/IT3038.htm" TargetMode="External"/><Relationship Id="rId9" Type="http://schemas.openxmlformats.org/officeDocument/2006/relationships/hyperlink" Target="http://days.pravoslavie.ru/Hram/i3038.htm" TargetMode="External"/><Relationship Id="rId10" Type="http://schemas.openxmlformats.org/officeDocument/2006/relationships/hyperlink" Target="http://days.pravoslavie.ru/Life/life1029.htm" TargetMode="External"/><Relationship Id="rId11" Type="http://schemas.openxmlformats.org/officeDocument/2006/relationships/hyperlink" Target="http://days.pravoslavie.ru/Life/life1029.htm" TargetMode="External"/><Relationship Id="rId12" Type="http://schemas.openxmlformats.org/officeDocument/2006/relationships/hyperlink" Target="http://days.pravoslavie.ru/Images/ii2014&amp;2039.htm" TargetMode="External"/><Relationship Id="rId13" Type="http://schemas.openxmlformats.org/officeDocument/2006/relationships/slide" Target="../slides/slide24.xml"/><Relationship Id="rId1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days.pravoslavie.ru/Images/ii1525&amp;1913.htm" TargetMode="External"/><Relationship Id="rId2" Type="http://schemas.openxmlformats.org/officeDocument/2006/relationships/hyperlink" Target="http://days.pravoslavie.ru/Images/im466.htm" TargetMode="External"/><Relationship Id="rId3" Type="http://schemas.openxmlformats.org/officeDocument/2006/relationships/hyperlink" Target="http://days.pravoslavie.ru/Images/im884.htm" TargetMode="External"/><Relationship Id="rId4" Type="http://schemas.openxmlformats.org/officeDocument/2006/relationships/hyperlink" Target="http://days.pravoslavie.ru/Images/ii1233&amp;1867.htm" TargetMode="External"/><Relationship Id="rId5" Type="http://schemas.openxmlformats.org/officeDocument/2006/relationships/hyperlink" Target="http://days.pravoslavie.ru/Images/im955.htm" TargetMode="External"/><Relationship Id="rId6" Type="http://schemas.openxmlformats.org/officeDocument/2006/relationships/slide" Target="../slides/slide25.xml"/><Relationship Id="rId7"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days.pravoslavie.ru/Life/id2858.htm" TargetMode="External"/><Relationship Id="rId2" Type="http://schemas.openxmlformats.org/officeDocument/2006/relationships/hyperlink" Target="http://days.pravoslavie.ru/Life/id2858.htm" TargetMode="External"/><Relationship Id="rId3" Type="http://schemas.openxmlformats.org/officeDocument/2006/relationships/hyperlink" Target="http://days.pravoslavie.ru/Images/ii2858&amp;53.htm" TargetMode="External"/><Relationship Id="rId4" Type="http://schemas.openxmlformats.org/officeDocument/2006/relationships/hyperlink" Target="http://days.pravoslavie.ru/Trop/IT2858.htm" TargetMode="External"/><Relationship Id="rId5" Type="http://schemas.openxmlformats.org/officeDocument/2006/relationships/hyperlink" Target="http://days.pravoslavie.ru/Hram/i2858.htm" TargetMode="External"/><Relationship Id="rId6" Type="http://schemas.openxmlformats.org/officeDocument/2006/relationships/hyperlink" Target="http://days.pravoslavie.ru/Life/id2687.htm" TargetMode="External"/><Relationship Id="rId7" Type="http://schemas.openxmlformats.org/officeDocument/2006/relationships/hyperlink" Target="http://days.pravoslavie.ru/Life/id2687.htm" TargetMode="External"/><Relationship Id="rId8" Type="http://schemas.openxmlformats.org/officeDocument/2006/relationships/hyperlink" Target="http://days.pravoslavie.ru/Images/ii2687&amp;2270.htm" TargetMode="External"/><Relationship Id="rId9" Type="http://schemas.openxmlformats.org/officeDocument/2006/relationships/hyperlink" Target="http://days.pravoslavie.ru/Trop/IT2687.htm" TargetMode="External"/><Relationship Id="rId10" Type="http://schemas.openxmlformats.org/officeDocument/2006/relationships/hyperlink" Target="http://days.pravoslavie.ru/Life/id3044.htm" TargetMode="External"/><Relationship Id="rId11" Type="http://schemas.openxmlformats.org/officeDocument/2006/relationships/hyperlink" Target="http://days.pravoslavie.ru/Life/id3044.htm" TargetMode="External"/><Relationship Id="rId12" Type="http://schemas.openxmlformats.org/officeDocument/2006/relationships/hyperlink" Target="http://days.pravoslavie.ru/Images/ii3044&amp;1223.htm" TargetMode="External"/><Relationship Id="rId13" Type="http://schemas.openxmlformats.org/officeDocument/2006/relationships/hyperlink" Target="http://days.pravoslavie.ru/Trop/IT3044.htm" TargetMode="External"/><Relationship Id="rId14" Type="http://schemas.openxmlformats.org/officeDocument/2006/relationships/hyperlink" Target="http://days.pravoslavie.ru/Hram/i3044.htm" TargetMode="External"/><Relationship Id="rId15" Type="http://schemas.openxmlformats.org/officeDocument/2006/relationships/slide" Target="../slides/slide5.xml"/><Relationship Id="rId16"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days.pravoslavie.ru/Life/life2526.htm" TargetMode="External"/><Relationship Id="rId2" Type="http://schemas.openxmlformats.org/officeDocument/2006/relationships/hyperlink" Target="http://days.pravoslavie.ru/Life/life2526.htm" TargetMode="External"/><Relationship Id="rId3" Type="http://schemas.openxmlformats.org/officeDocument/2006/relationships/hyperlink" Target="http://days.pravoslavie.ru/Images/ii988&amp;1819.htm" TargetMode="External"/><Relationship Id="rId4" Type="http://schemas.openxmlformats.org/officeDocument/2006/relationships/hyperlink" Target="http://days.pravoslavie.ru/Trop/IT988.htm" TargetMode="External"/><Relationship Id="rId5" Type="http://schemas.openxmlformats.org/officeDocument/2006/relationships/hyperlink" Target="http://days.pravoslavie.ru/Hram/i988.htm" TargetMode="External"/><Relationship Id="rId6" Type="http://schemas.openxmlformats.org/officeDocument/2006/relationships/hyperlink" Target="http://days.pravoslavie.ru/Images/ii988&amp;1819.htm" TargetMode="External"/><Relationship Id="rId7" Type="http://schemas.openxmlformats.org/officeDocument/2006/relationships/hyperlink" Target="http://days.pravoslavie.ru/Images/im894.htm" TargetMode="External"/><Relationship Id="rId8" Type="http://schemas.openxmlformats.org/officeDocument/2006/relationships/hyperlink" Target="http://days.pravoslavie.ru/Life/id1270.htm" TargetMode="External"/><Relationship Id="rId9" Type="http://schemas.openxmlformats.org/officeDocument/2006/relationships/hyperlink" Target="http://days.pravoslavie.ru/Life/id1270.htm" TargetMode="External"/><Relationship Id="rId10" Type="http://schemas.openxmlformats.org/officeDocument/2006/relationships/hyperlink" Target="http://days.pravoslavie.ru/Images/ii1270&amp;468.htm" TargetMode="External"/><Relationship Id="rId11" Type="http://schemas.openxmlformats.org/officeDocument/2006/relationships/hyperlink" Target="http://days.pravoslavie.ru/Trop/IT1270.htm" TargetMode="External"/><Relationship Id="rId12" Type="http://schemas.openxmlformats.org/officeDocument/2006/relationships/hyperlink" Target="http://days.pravoslavie.ru/Hram/i1270.htm" TargetMode="External"/><Relationship Id="rId13" Type="http://schemas.openxmlformats.org/officeDocument/2006/relationships/slide" Target="../slides/slide6.xml"/><Relationship Id="rId1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days.pravoslavie.ru/Images/ii497&amp;223.htm" TargetMode="External"/><Relationship Id="rId2" Type="http://schemas.openxmlformats.org/officeDocument/2006/relationships/hyperlink" Target="http://days.pravoslavie.ru/Images/ii497&amp;1312.htm" TargetMode="External"/><Relationship Id="rId3" Type="http://schemas.openxmlformats.org/officeDocument/2006/relationships/hyperlink" Target="http://days.pravoslavie.ru/Images/ii497&amp;118.htm" TargetMode="External"/><Relationship Id="rId4" Type="http://schemas.openxmlformats.org/officeDocument/2006/relationships/hyperlink" Target="http://days.pravoslavie.ru/Images/ii497&amp;119.htm" TargetMode="External"/><Relationship Id="rId5" Type="http://schemas.openxmlformats.org/officeDocument/2006/relationships/hyperlink" Target="http://days.pravoslavie.ru/Images/ii497&amp;117.htm" TargetMode="External"/><Relationship Id="rId6" Type="http://schemas.openxmlformats.org/officeDocument/2006/relationships/hyperlink" Target="http://days.pravoslavie.ru/Images/ii497&amp;177.htm" TargetMode="External"/><Relationship Id="rId7" Type="http://schemas.openxmlformats.org/officeDocument/2006/relationships/slide" Target="../slides/slide7.xml"/><Relationship Id="rId8"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days.pravoslavie.ru/Life/life611.htm" TargetMode="External"/><Relationship Id="rId2" Type="http://schemas.openxmlformats.org/officeDocument/2006/relationships/hyperlink" Target="http://days.pravoslavie.ru/Life/life611.htm"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28C2-E886-4B67-ACD0-FBC4C9EB62D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0Святитель Стефан, просветитель Перми, апостол зырян, родился около 1340 года в семье устюжского причетника Симеона. Под влиянием своей благочестивой матери Марии, обладая большими способностями, он с юных лет проявлял необыкновенное усердие к служению Церкви: в один год выучился читать Священные Книги и помогал отцу в церкви при Богослужении, исполняя должность </a:t>
            </a:r>
            <a:r>
              <a:rPr b="0" lang="ru-RU" sz="1200" spc="-1" strike="noStrike" u="sng">
                <a:solidFill>
                  <a:srgbClr val="009999"/>
                </a:solidFill>
                <a:uFillTx/>
                <a:latin typeface="Arial"/>
                <a:hlinkClick r:id="rId1"/>
              </a:rPr>
              <a:t>канонарха </a:t>
            </a:r>
            <a:r>
              <a:rPr b="0" lang="ru-RU" sz="1200" spc="-1" strike="noStrike">
                <a:solidFill>
                  <a:srgbClr val="000000"/>
                </a:solidFill>
                <a:latin typeface="Arial"/>
              </a:rPr>
              <a:t> и </a:t>
            </a:r>
            <a:r>
              <a:rPr b="0" lang="ru-RU" sz="1200" spc="-1" strike="noStrike" u="sng">
                <a:solidFill>
                  <a:srgbClr val="009999"/>
                </a:solidFill>
                <a:uFillTx/>
                <a:latin typeface="Arial"/>
                <a:hlinkClick r:id="rId2"/>
              </a:rPr>
              <a:t>чтеца </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Григорий Богос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лодости святой принял иночество в монастыре в честь святителя </a:t>
            </a:r>
            <a:r>
              <a:rPr b="0" lang="ru-RU" sz="1200" spc="-1" strike="noStrike" u="sng">
                <a:solidFill>
                  <a:srgbClr val="009999"/>
                </a:solidFill>
                <a:uFillTx/>
                <a:latin typeface="Arial"/>
                <a:hlinkClick r:id="rId4"/>
              </a:rPr>
              <a:t>Григория Богослова</a:t>
            </a:r>
            <a:r>
              <a:rPr b="0" lang="ru-RU" sz="1200" spc="-1" strike="noStrike" u="sng">
                <a:solidFill>
                  <a:srgbClr val="009999"/>
                </a:solidFill>
                <a:uFillTx/>
                <a:latin typeface="Arial"/>
                <a:hlinkClick r:id="rId5"/>
              </a:rPr>
              <a:t> </a:t>
            </a:r>
            <a:r>
              <a:rPr b="0" lang="ru-RU" sz="1200" spc="-1" strike="noStrike" u="sng">
                <a:solidFill>
                  <a:srgbClr val="009999"/>
                </a:solidFill>
                <a:uFillTx/>
                <a:latin typeface="Arial"/>
                <a:hlinkClick r:id="rId6"/>
              </a:rPr>
              <a:t> </a:t>
            </a:r>
            <a:r>
              <a:rPr b="0" lang="ru-RU" sz="1200" spc="-1" strike="noStrike" u="sng">
                <a:solidFill>
                  <a:srgbClr val="009999"/>
                </a:solidFill>
                <a:uFillTx/>
                <a:latin typeface="Arial"/>
                <a:hlinkClick r:id="rId7"/>
              </a:rPr>
              <a:t> </a:t>
            </a:r>
            <a:r>
              <a:rPr b="0" lang="ru-RU" sz="1200" spc="-1" strike="noStrike" u="sng">
                <a:solidFill>
                  <a:srgbClr val="009999"/>
                </a:solidFill>
                <a:uFillTx/>
                <a:latin typeface="Arial"/>
                <a:hlinkClick r:id="rId8"/>
              </a:rPr>
              <a:t> </a:t>
            </a:r>
            <a:r>
              <a:rPr b="0" lang="ru-RU" sz="1200" spc="-1" strike="noStrike">
                <a:solidFill>
                  <a:srgbClr val="000000"/>
                </a:solidFill>
                <a:latin typeface="Arial"/>
              </a:rPr>
              <a:t> в Ростове. Монастырь славился богатым книжным собранием. Святой Стефан хотел читать святых отцов в подлиннике и для этого изучал греческий язык. В юности, помогая отцу в церкви, он часто беседовал с зырянами. Теперь, овладев богатой церковной культурой, святой Стефан горел желанием обратить зырян ко Хрис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9"/>
              </a:rPr>
              <a:t> </a:t>
            </a:r>
            <a:br>
              <a:rPr sz="1200"/>
            </a:br>
            <a:r>
              <a:rPr b="1" lang="ru-RU" sz="1200" spc="-1" strike="noStrike">
                <a:solidFill>
                  <a:srgbClr val="000000"/>
                </a:solidFill>
                <a:latin typeface="Arial"/>
              </a:rPr>
              <a:t>Явление иконы Свт. Николая Димитрию Донско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освещения зырян он составил азбуку их языка и перевел на него несколько церковных книг. За подвиги благочестия Ростовский епископ Арсений (1374 - 1380) посвятил его в сан иеродиакона. Приготовив себя к миссионерской деятельности, святитель Стефан явился в Москву (1379 г.) к Коломенскому епископу Герасиму, который управлял тогда делами митрополии, и просил его: "Благослови меня, Владыко, идти в страну языческую - Пермь. Хочу учить святой вере неверных людей. Я решился или привести их ко Христу, или сложить у них за Христа голову". Епископ с радостью благословил его и посвятил в сан иеромонаха. Он снабдил его </a:t>
            </a:r>
            <a:r>
              <a:rPr b="0" lang="ru-RU" sz="1200" spc="-1" strike="noStrike" u="sng">
                <a:solidFill>
                  <a:srgbClr val="009999"/>
                </a:solidFill>
                <a:uFillTx/>
                <a:latin typeface="Arial"/>
                <a:hlinkClick r:id="rId10"/>
              </a:rPr>
              <a:t>антиминсами </a:t>
            </a:r>
            <a:r>
              <a:rPr b="0" lang="ru-RU" sz="1200" spc="-1" strike="noStrike">
                <a:solidFill>
                  <a:srgbClr val="000000"/>
                </a:solidFill>
                <a:latin typeface="Arial"/>
              </a:rPr>
              <a:t>, святым </a:t>
            </a:r>
            <a:r>
              <a:rPr b="0" lang="ru-RU" sz="1200" spc="-1" strike="noStrike" u="sng">
                <a:solidFill>
                  <a:srgbClr val="009999"/>
                </a:solidFill>
                <a:uFillTx/>
                <a:latin typeface="Arial"/>
                <a:hlinkClick r:id="rId11"/>
              </a:rPr>
              <a:t>миром </a:t>
            </a:r>
            <a:r>
              <a:rPr b="0" lang="ru-RU" sz="1200" spc="-1" strike="noStrike">
                <a:solidFill>
                  <a:srgbClr val="000000"/>
                </a:solidFill>
                <a:latin typeface="Arial"/>
              </a:rPr>
              <a:t> и Богослужебными книгами, а великий князь </a:t>
            </a:r>
            <a:r>
              <a:rPr b="0" lang="ru-RU" sz="1200" spc="-1" strike="noStrike" u="sng">
                <a:solidFill>
                  <a:srgbClr val="009999"/>
                </a:solidFill>
                <a:uFillTx/>
                <a:latin typeface="Arial"/>
                <a:hlinkClick r:id="rId12"/>
              </a:rPr>
              <a:t>Димитрий</a:t>
            </a:r>
            <a:r>
              <a:rPr b="0" lang="ru-RU" sz="1200" spc="-1" strike="noStrike" u="sng">
                <a:solidFill>
                  <a:srgbClr val="009999"/>
                </a:solidFill>
                <a:uFillTx/>
                <a:latin typeface="Arial"/>
                <a:hlinkClick r:id="rId13"/>
              </a:rPr>
              <a:t> </a:t>
            </a:r>
            <a:r>
              <a:rPr b="0" lang="ru-RU" sz="1200" spc="-1" strike="noStrike" u="sng">
                <a:solidFill>
                  <a:srgbClr val="009999"/>
                </a:solidFill>
                <a:uFillTx/>
                <a:latin typeface="Arial"/>
                <a:hlinkClick r:id="rId14"/>
              </a:rPr>
              <a:t> </a:t>
            </a:r>
            <a:r>
              <a:rPr b="0" lang="ru-RU" sz="1200" spc="-1" strike="noStrike" u="sng">
                <a:solidFill>
                  <a:srgbClr val="009999"/>
                </a:solidFill>
                <a:uFillTx/>
                <a:latin typeface="Arial"/>
                <a:hlinkClick r:id="rId15"/>
              </a:rPr>
              <a:t> </a:t>
            </a:r>
            <a:r>
              <a:rPr b="0" lang="ru-RU" sz="1200" spc="-1" strike="noStrike" u="sng">
                <a:solidFill>
                  <a:srgbClr val="009999"/>
                </a:solidFill>
                <a:uFillTx/>
                <a:latin typeface="Arial"/>
                <a:hlinkClick r:id="rId16"/>
              </a:rPr>
              <a:t> </a:t>
            </a:r>
            <a:r>
              <a:rPr b="0" lang="ru-RU" sz="1200" spc="-1" strike="noStrike">
                <a:solidFill>
                  <a:srgbClr val="000000"/>
                </a:solidFill>
                <a:latin typeface="Arial"/>
              </a:rPr>
              <a:t> Иоаннович дал ему охранные грамо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Устюга святой Стефан спустился по Северной Двине до впадения в нее Вычегды, откуда начинались поселения зырян. Много трудов, борьбы, лишений и скорбей вытерпел проповедник веры Христовой, живя среди язычников, поклонявшихся идолам, "огню, воде, деревьям, камню и золотой бабе, и кудесником, и волхвом, и древ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7"/>
              </a:rPr>
              <a:t> </a:t>
            </a:r>
            <a:br>
              <a:rPr sz="1200"/>
            </a:br>
            <a:r>
              <a:rPr b="1" lang="ru-RU" sz="1200" spc="-1" strike="noStrike">
                <a:solidFill>
                  <a:srgbClr val="000000"/>
                </a:solidFill>
                <a:latin typeface="Arial"/>
              </a:rPr>
              <a:t>Михаил Арханг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о благоговели зыряне перед так называемой "прокудливой березой". Громадная по толщине и вышине береза росла на возвышенном месте. Зыряне собирались к ней и приносили в жертву добытых зверей. Святой Стефан поставил свою келлию невдалеке от березы и использовал собрания суеверных язычников у дерева, чтобы учить их святой истине. Затем святой Стефан срубил и сжег березу для искоренения суеверия. Зыряне собирались убить его. Святой обратился к ним с проповедью: "Судите сами, сильны ли боги ваши, когда они не могут защитить себя от огня? Боги ли они, когда так немощны, да и не имеют не только смысла, но и слуха и зрения? И от меня, слабого, не сумело защитить себя ваше божество. Не таковы же ли и все другие боги ваши? Не таков Бог Христианский. Он видит все, все знает и Всемогущ, ибо создал весь мир и о всем промышляет. И как Он благ, особенно к знающим Его! Я желаю вам добра, проповедуя вам Истинного Бога. Он будет любить вас, будет благотворить вам, когда станете чтить Его искренне". На месте "прокудливой березы" святой Стефан построил храм в честь </a:t>
            </a:r>
            <a:r>
              <a:rPr b="0" lang="ru-RU" sz="1200" spc="-1" strike="noStrike" u="sng">
                <a:solidFill>
                  <a:srgbClr val="009999"/>
                </a:solidFill>
                <a:uFillTx/>
                <a:latin typeface="Arial"/>
                <a:hlinkClick r:id="rId18"/>
              </a:rPr>
              <a:t>Архангела Михаила</a:t>
            </a:r>
            <a:r>
              <a:rPr b="0" lang="ru-RU" sz="1200" spc="-1" strike="noStrike" u="sng">
                <a:solidFill>
                  <a:srgbClr val="009999"/>
                </a:solidFill>
                <a:uFillTx/>
                <a:latin typeface="Arial"/>
                <a:hlinkClick r:id="rId19"/>
              </a:rPr>
              <a:t> </a:t>
            </a:r>
            <a:r>
              <a:rPr b="0" lang="ru-RU" sz="1200" spc="-1" strike="noStrike" u="sng">
                <a:solidFill>
                  <a:srgbClr val="009999"/>
                </a:solidFill>
                <a:uFillTx/>
                <a:latin typeface="Arial"/>
                <a:hlinkClick r:id="rId20"/>
              </a:rPr>
              <a:t> </a:t>
            </a:r>
            <a:r>
              <a:rPr b="0" lang="ru-RU" sz="1200" spc="-1" strike="noStrike" u="sng">
                <a:solidFill>
                  <a:srgbClr val="009999"/>
                </a:solidFill>
                <a:uFillTx/>
                <a:latin typeface="Arial"/>
                <a:hlinkClick r:id="rId21"/>
              </a:rPr>
              <a:t> </a:t>
            </a:r>
            <a:r>
              <a:rPr b="0" lang="ru-RU" sz="1200" spc="-1" strike="noStrike">
                <a:solidFill>
                  <a:srgbClr val="000000"/>
                </a:solidFill>
                <a:latin typeface="Arial"/>
              </a:rPr>
              <a:t>, низложителя духов ть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естившиеся зыряне сами стали истреблять то, чему раньше поклонялись: рубили священные деревья, сокрушали идолов; богатые дары, предназначенные для языческих жертвенников, они приносили святому Стефану. Он велел служившему при нем зырянину Матфею все предавать огню и лишь дозволял употреблять полотно на обвертывание но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2"/>
              </a:rPr>
              <a:t> </a:t>
            </a:r>
            <a:br>
              <a:rPr sz="1200"/>
            </a:br>
            <a:r>
              <a:rPr b="1" lang="ru-RU" sz="1200" spc="-1" strike="noStrike">
                <a:solidFill>
                  <a:srgbClr val="000000"/>
                </a:solidFill>
                <a:latin typeface="Arial"/>
              </a:rPr>
              <a:t>Великорецкая икона свт. Николая Чудотвор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окончательный перелом в зырянах произошел после того, как святой Стефан посрамил их главного жреца Паму, который восстал против распространения святой веры. Жрец вступил в спор со святым Стефаном. "У вас, христиан, - говорил Пама, - один Бог, а у нас много помощников и на суше, и на воде, подающих нам счастливую ловлю в лесах и ее избытками снабжающих Москву, орду и дальние страны; они сообщают нам в волхвовании тайны, недоступные вам". Святой Стефан отвечал, что Истинный Бог - один; Всемогущество - одно, а бессилие богов-идолов очевидно по опыту. После долгих споров жрец Пама в оправдание своей веры вызвался пройти сквозь огонь и воду и того же потребовал от святого Стефана. "Я не повелеваю стихиями, - смиренно отвечал святой Стефан, - но Христианский Бог велик: иду с тобой". Пама затрепетал и молил избавить его от верной смерти. "Вы свидетели, - сказал святой Стефан собравшемуся народу, - сам он потребовал решить спор о вере огнем и водой и однако не хочет креститься. За кого считать теперь Паму? Что с ним делать?" "Обманщика предать смерти, - ответил народ, - если отпустить Паму, он наделает тебе пакостей". "Нет, - ответил святой, - Христос меня послал не предавать кого-либо смерти, а учить. Пама не хочет принять спасительной веры, пусть его упорство накажет его, но не я". Пама был выгнан. В благодарность Господу за победу над главой язычников, святой Стефан построил на Вишере храм в честь святителя </a:t>
            </a:r>
            <a:r>
              <a:rPr b="0" lang="ru-RU" sz="1200" spc="-1" strike="noStrike" u="sng">
                <a:solidFill>
                  <a:srgbClr val="009999"/>
                </a:solidFill>
                <a:uFillTx/>
                <a:latin typeface="Arial"/>
                <a:hlinkClick r:id="rId23"/>
              </a:rPr>
              <a:t>Николая</a:t>
            </a:r>
            <a:r>
              <a:rPr b="0" lang="ru-RU" sz="1200" spc="-1" strike="noStrike" u="sng">
                <a:solidFill>
                  <a:srgbClr val="009999"/>
                </a:solidFill>
                <a:uFillTx/>
                <a:latin typeface="Arial"/>
                <a:hlinkClick r:id="rId24"/>
              </a:rPr>
              <a:t> </a:t>
            </a:r>
            <a:r>
              <a:rPr b="0" lang="ru-RU" sz="1200" spc="-1" strike="noStrike" u="sng">
                <a:solidFill>
                  <a:srgbClr val="009999"/>
                </a:solidFill>
                <a:uFillTx/>
                <a:latin typeface="Arial"/>
                <a:hlinkClick r:id="rId25"/>
              </a:rPr>
              <a:t> </a:t>
            </a:r>
            <a:r>
              <a:rPr b="0" lang="ru-RU" sz="1200" spc="-1" strike="noStrike" u="sng">
                <a:solidFill>
                  <a:srgbClr val="009999"/>
                </a:solidFill>
                <a:uFillTx/>
                <a:latin typeface="Arial"/>
                <a:hlinkClick r:id="rId26"/>
              </a:rPr>
              <a:t> </a:t>
            </a:r>
            <a:r>
              <a:rPr b="0" lang="ru-RU" sz="1200" spc="-1" strike="noStrike" u="sng">
                <a:solidFill>
                  <a:srgbClr val="009999"/>
                </a:solidFill>
                <a:uFillTx/>
                <a:latin typeface="Arial"/>
                <a:hlinkClick r:id="rId27"/>
              </a:rPr>
              <a:t> </a:t>
            </a:r>
            <a:r>
              <a:rPr b="0" lang="ru-RU" sz="1200" spc="-1" strike="noStrike">
                <a:solidFill>
                  <a:srgbClr val="000000"/>
                </a:solidFill>
                <a:latin typeface="Arial"/>
              </a:rPr>
              <a:t>. После этого проповедь святого о Христе стала идти все успешн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8"/>
              </a:rPr>
              <a:t> </a:t>
            </a:r>
            <a:br>
              <a:rPr sz="1200"/>
            </a:br>
            <a:r>
              <a:rPr b="1" lang="ru-RU" sz="1200" spc="-1" strike="noStrike">
                <a:solidFill>
                  <a:srgbClr val="000000"/>
                </a:solidFill>
                <a:latin typeface="Arial"/>
              </a:rPr>
              <a:t>Стефан Перм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383 году святой Стефан был поставлен епископом Малой Перми. Как любвеобильный отец он неустанно заботился о своей пастве. Для утверждения в вере новообращенных святитель Стефан при храмах открывал училища, где Священные Книги изучались на пермском языке. Святитель присматривался к учащимся, учитывал их способности с тем, чтобы из них ставить священников и диаконов. Некоторых учеников святитель Стефан научил писать по-пермски. Святитель строил церкви, в которых ставил священников из зырян, ввел Богослужение на зырянском язы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итель Стефан перевел на зырянский язык </a:t>
            </a:r>
            <a:r>
              <a:rPr b="0" lang="ru-RU" sz="1200" spc="-1" strike="noStrike" u="sng">
                <a:solidFill>
                  <a:srgbClr val="009999"/>
                </a:solidFill>
                <a:uFillTx/>
                <a:latin typeface="Arial"/>
                <a:hlinkClick r:id="rId29"/>
              </a:rPr>
              <a:t>Часослов </a:t>
            </a:r>
            <a:r>
              <a:rPr b="0" lang="ru-RU" sz="1200" spc="-1" strike="noStrike">
                <a:solidFill>
                  <a:srgbClr val="000000"/>
                </a:solidFill>
                <a:latin typeface="Arial"/>
              </a:rPr>
              <a:t>, Псалтирь, избранные чтения из Евангелия и Апостола, Паремийник, Стихирарь, </a:t>
            </a:r>
            <a:r>
              <a:rPr b="0" lang="ru-RU" sz="1200" spc="-1" strike="noStrike" u="sng">
                <a:solidFill>
                  <a:srgbClr val="009999"/>
                </a:solidFill>
                <a:uFillTx/>
                <a:latin typeface="Arial"/>
                <a:hlinkClick r:id="rId30"/>
              </a:rPr>
              <a:t>Октоих </a:t>
            </a:r>
            <a:r>
              <a:rPr b="0" lang="ru-RU" sz="1200" spc="-1" strike="noStrike">
                <a:solidFill>
                  <a:srgbClr val="000000"/>
                </a:solidFill>
                <a:latin typeface="Arial"/>
              </a:rPr>
              <a:t>, несколько праздничных служб и </a:t>
            </a:r>
            <a:r>
              <a:rPr b="0" lang="ru-RU" sz="1200" spc="-1" strike="noStrike" u="sng">
                <a:solidFill>
                  <a:srgbClr val="009999"/>
                </a:solidFill>
                <a:uFillTx/>
                <a:latin typeface="Arial"/>
                <a:hlinkClick r:id="rId31"/>
              </a:rPr>
              <a:t>Божественную литургию </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2"/>
              </a:rPr>
              <a:t> </a:t>
            </a:r>
            <a:br>
              <a:rPr sz="1200"/>
            </a:br>
            <a:r>
              <a:rPr b="1" lang="ru-RU" sz="1200" spc="-1" strike="noStrike">
                <a:solidFill>
                  <a:srgbClr val="000000"/>
                </a:solidFill>
                <a:latin typeface="Arial"/>
              </a:rPr>
              <a:t>Святитель Стефан Пермский по дороге в Моск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 время неурожая Святитель снабжал зырян хлебом, много раз избавлял их от насилия и взяток тиунов, облегчал им подати, защищал от нападений других племен, ходатайствуя за них в Москве. Плодом его подвигов и добродетелей стало обращение всей обширной Пермской земли к христианству. Это великое дело было совершено силой веры и христианской любви. Жизнь святителя - это победа веры над неверием, любви и кротости - над злобой и нечест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3"/>
              </a:rPr>
              <a:t> </a:t>
            </a:r>
            <a:br>
              <a:rPr sz="1200"/>
            </a:br>
            <a:r>
              <a:rPr b="1" lang="ru-RU" sz="1200" spc="-1" strike="noStrike">
                <a:solidFill>
                  <a:srgbClr val="000000"/>
                </a:solidFill>
                <a:latin typeface="Arial"/>
              </a:rPr>
              <a:t>Сергий в пусты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илительно "заочное свидание" святителя Стефана Пермского с преподобным </a:t>
            </a:r>
            <a:r>
              <a:rPr b="0" lang="ru-RU" sz="1200" spc="-1" strike="noStrike" u="sng">
                <a:solidFill>
                  <a:srgbClr val="009999"/>
                </a:solidFill>
                <a:uFillTx/>
                <a:latin typeface="Arial"/>
                <a:hlinkClick r:id="rId34"/>
              </a:rPr>
              <a:t>Сергием Радонежским</a:t>
            </a:r>
            <a:r>
              <a:rPr b="0" lang="ru-RU" sz="1200" spc="-1" strike="noStrike" u="sng">
                <a:solidFill>
                  <a:srgbClr val="009999"/>
                </a:solidFill>
                <a:uFillTx/>
                <a:latin typeface="Arial"/>
                <a:hlinkClick r:id="rId35"/>
              </a:rPr>
              <a:t> </a:t>
            </a:r>
            <a:r>
              <a:rPr b="0" lang="ru-RU" sz="1200" spc="-1" strike="noStrike" u="sng">
                <a:solidFill>
                  <a:srgbClr val="009999"/>
                </a:solidFill>
                <a:uFillTx/>
                <a:latin typeface="Arial"/>
                <a:hlinkClick r:id="rId36"/>
              </a:rPr>
              <a:t> </a:t>
            </a:r>
            <a:r>
              <a:rPr b="0" lang="ru-RU" sz="1200" spc="-1" strike="noStrike" u="sng">
                <a:solidFill>
                  <a:srgbClr val="009999"/>
                </a:solidFill>
                <a:uFillTx/>
                <a:latin typeface="Arial"/>
                <a:hlinkClick r:id="rId37"/>
              </a:rPr>
              <a:t> </a:t>
            </a:r>
            <a:r>
              <a:rPr b="0" lang="ru-RU" sz="1200" spc="-1" strike="noStrike" u="sng">
                <a:solidFill>
                  <a:srgbClr val="009999"/>
                </a:solidFill>
                <a:uFillTx/>
                <a:latin typeface="Arial"/>
                <a:hlinkClick r:id="rId38"/>
              </a:rPr>
              <a:t> </a:t>
            </a:r>
            <a:r>
              <a:rPr b="0" lang="ru-RU" sz="1200" spc="-1" strike="noStrike">
                <a:solidFill>
                  <a:srgbClr val="000000"/>
                </a:solidFill>
                <a:latin typeface="Arial"/>
              </a:rPr>
              <a:t>, бывшее в 1390 году во время путешествия святителя в Москву по церковным делам. Святитель Стефан горячо любил Радонежского подвижника и очень желал повидаться с ним на пути из Пермской земли, но не мог исполнить этого из-за недостатка времени. Находясь в 10 верстах от монастыря преподобного Сергия, святитель Стефан, помолившись, обратился в сторону обители и с поклоном произнес: "Мир тебе, духовный брате!". Преподобный Сергий, который сидел вместе с братией за трапезой, встал, помолился и, поклонившись в ту сторону, где проезжал святитель, ответил: "Радуйся и ты, пастырю стада Христова, и мир Божий да пребывает с тоб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глубокой духовной связи святителя Стефана Пермского и Преподобного Сергия Радонежского свидетельствует и ныне особая повседневная молитва к ним на братской трапез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устройства церквей, святитель Стефан основал для зырян и несколько монастырей: Спасскую Ульяновскую пустынь в 165 верстах от Усть-Сысольска, Стефановскую - в 60 верстах от Усть-Сысольска, Усть-Вымскую Архангельскую, Яренгскую Архангельску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9"/>
              </a:rPr>
              <a:t> </a:t>
            </a:r>
            <a:br>
              <a:rPr sz="1200"/>
            </a:br>
            <a:r>
              <a:rPr b="1" lang="ru-RU" sz="1200" spc="-1" strike="noStrike">
                <a:solidFill>
                  <a:srgbClr val="000000"/>
                </a:solidFill>
                <a:latin typeface="Arial"/>
              </a:rPr>
              <a:t>Святитель Стефан, епископ Перм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395 году святитель Стефан снова отправился в Москву по делам паствы и здесь скончался. Тело его было положено в монастыре "Спаса за стеною" (в храме на Бору в честь Спасителя) в Московском Кремле. Горько оплакивали зыряне кончину своего апостола. Они усиленно упрашивали Московского князя и Митрополита отпустить в Пермь тело их наставника, но Москва не хотела расстаться с останками великого свят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славление святителя Стефана началось еще в начале XV века. Житие было написано вскоре после смерти святителя в 1472 году. Службу ему составил иеромонах Пахомий Серб с иеромонахом Епифанием Премудрым, учеником преподобного Сергия Радонежского, который хорошо знал святителя и любил с ним беседовать.</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3672-8E54-419F-B734-D997352250A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2Сродник Господень по плоти, сын Клеопы, младшего брата св. Иосифа Обручника, епископ Иерусалимский, управлявший Церковью 40 лет и много потрудившийся в проповеди Евангелия. Пострадал в 107 г. в царствование императора Траяна. По доносу св. Симеон, как потомок царя Давида и как последователь и родственник Христа, после разных истязаний был распят язычниками на кресте, в возрасте 120 лет.</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D3046-92DB-4B8A-A9AD-33198FE5979A}"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1Мученик Виталий Керкирский Пострадал за Христа вместе со св. мучениками Зиноном, Евсевием и Неоном. В 63 г. апостолы от 70-ти Иасон и Сосипатр (память 28 апреля/11 мая) отправились с евангельской проповедью на запад и достигли острова Керкиры в Ионическом море близ Греции. Просвященные апостолами св. мученики за святую веру по истязании были сожжены.(иконы  в презентации нет)</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5E76-0CE0-4480-AF4A-A11B4959342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Город Кизик находится в Малой Азии на берегу Дарданельского пролива. Христианство в нем начало распространяться еще со времен проповеди святого апостола </a:t>
            </a:r>
            <a:r>
              <a:rPr b="0" lang="ru-RU" sz="1200" spc="-1" strike="noStrike" u="sng">
                <a:solidFill>
                  <a:srgbClr val="009999"/>
                </a:solidFill>
                <a:uFillTx/>
                <a:latin typeface="Arial"/>
                <a:hlinkClick r:id="rId1"/>
              </a:rPr>
              <a:t>Павла</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 </a:t>
            </a:r>
            <a:r>
              <a:rPr b="0" lang="ru-RU" sz="1200" spc="-1" strike="noStrike" u="sng">
                <a:solidFill>
                  <a:srgbClr val="009999"/>
                </a:solidFill>
                <a:uFillTx/>
                <a:latin typeface="Arial"/>
                <a:hlinkClick r:id="rId4"/>
              </a:rPr>
              <a:t> </a:t>
            </a:r>
            <a:r>
              <a:rPr b="0" lang="ru-RU" sz="1200" spc="-1" strike="noStrike" u="sng">
                <a:solidFill>
                  <a:srgbClr val="009999"/>
                </a:solidFill>
                <a:uFillTx/>
                <a:latin typeface="Arial"/>
                <a:hlinkClick r:id="rId5"/>
              </a:rPr>
              <a:t> </a:t>
            </a:r>
            <a:r>
              <a:rPr b="0" lang="ru-RU" sz="1200" spc="-1" strike="noStrike">
                <a:solidFill>
                  <a:srgbClr val="000000"/>
                </a:solidFill>
                <a:latin typeface="Arial"/>
              </a:rPr>
              <a:t> (память 29 июня). Но гонения язычников привели к тому, что одни из христиан убежали из города, другие же держали веру Христову в тайне. Поэтому в конце III века Кизик был в значительной мере языческим, хотя там и была христианская церковь. Такое положение в городе огорчало истинных христиан, стремившихся утвердить Христову веру. К ним принадлежали и 9 святых мучеников - Феогнид, Руф, Антипатр, Феостих, Артема, Магн, Феодот, Фавмасий и Филимон. Они происходили из разных местностей, были разного возраста: и юные, как святой Антипатр, и престарелые, как святой Руф, занимали разное положение в обществе: среди них были и воины, и поселяне, и горожане, и клирики. Но всех их объединяла вера во Христа и горячее стремление к распространению и укреплению Истинной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6"/>
              </a:rPr>
              <a:t> </a:t>
            </a:r>
            <a:br>
              <a:rPr sz="1200"/>
            </a:br>
            <a:r>
              <a:rPr b="1" lang="ru-RU" sz="1200" spc="-1" strike="noStrike">
                <a:solidFill>
                  <a:srgbClr val="000000"/>
                </a:solidFill>
                <a:latin typeface="Arial"/>
              </a:rPr>
              <a:t>Император Константин Вели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азавшись в городе Кизике, святые дерзновенно исповедовали Христа и безбоязненно обличали языческое нечестие. Их схватили и представили на суд правителю города. В течение нескольких дней их пытали, заключали в темницу и снова выводили из нее, обещая свободу за отречение от Христа. Но доблестные воины Христовы продолжали славить Имя Христово. Все девять мучеников были усечены мечом (+ ок. 284 - 292), и тела их погребли близ гор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 324 году Восточной половиной империи стал править святой </a:t>
            </a:r>
            <a:r>
              <a:rPr b="0" lang="ru-RU" sz="1200" spc="-1" strike="noStrike" u="sng">
                <a:solidFill>
                  <a:srgbClr val="009999"/>
                </a:solidFill>
                <a:uFillTx/>
                <a:latin typeface="Arial"/>
                <a:hlinkClick r:id="rId7"/>
              </a:rPr>
              <a:t>Константин Великий</a:t>
            </a:r>
            <a:r>
              <a:rPr b="0" lang="ru-RU" sz="1200" spc="-1" strike="noStrike" u="sng">
                <a:solidFill>
                  <a:srgbClr val="009999"/>
                </a:solidFill>
                <a:uFillTx/>
                <a:latin typeface="Arial"/>
                <a:hlinkClick r:id="rId8"/>
              </a:rPr>
              <a:t> </a:t>
            </a:r>
            <a:r>
              <a:rPr b="0" lang="ru-RU" sz="1200" spc="-1" strike="noStrike" u="sng">
                <a:solidFill>
                  <a:srgbClr val="009999"/>
                </a:solidFill>
                <a:uFillTx/>
                <a:latin typeface="Arial"/>
                <a:hlinkClick r:id="rId9"/>
              </a:rPr>
              <a:t> </a:t>
            </a:r>
            <a:r>
              <a:rPr b="0" lang="ru-RU" sz="1200" spc="-1" strike="noStrike" u="sng">
                <a:solidFill>
                  <a:srgbClr val="009999"/>
                </a:solidFill>
                <a:uFillTx/>
                <a:latin typeface="Arial"/>
                <a:hlinkClick r:id="rId10"/>
              </a:rPr>
              <a:t> </a:t>
            </a:r>
            <a:r>
              <a:rPr b="0" lang="ru-RU" sz="1200" spc="-1" strike="noStrike" u="sng">
                <a:solidFill>
                  <a:srgbClr val="009999"/>
                </a:solidFill>
                <a:uFillTx/>
                <a:latin typeface="Arial"/>
                <a:hlinkClick r:id="rId11"/>
              </a:rPr>
              <a:t> </a:t>
            </a:r>
            <a:r>
              <a:rPr b="0" lang="ru-RU" sz="1200" spc="-1" strike="noStrike">
                <a:solidFill>
                  <a:srgbClr val="000000"/>
                </a:solidFill>
                <a:latin typeface="Arial"/>
              </a:rPr>
              <a:t> (306 - 337; память 21 мая) и прекратились гонения на христиан, кизические христиане извлекли из земли нетленные тела 9-ти мучеников и положили их в храме, построенном в их че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святых мощей происходили различные чудеса: исцелялись больные, приходили в разум безумные. Вера Христова утверждалась в городе заступлением святых мучеников, многие из язычников обращались в христиа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оцарился Юлиан Отступник (361 - 363), язычники Кизика обратились к нему с жалобой на христиан за разорение языческих храмов. Юлиан приказал восстановить языческие храмы и заключить в темницу епископа Елевсия. После гибели Юлиана епископ Елевсий получил свободу, и снова в Кизике воссиял свет Христовой веры под покровительством святых мучени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2"/>
              </a:rPr>
              <a:t> </a:t>
            </a:r>
            <a:br>
              <a:rPr sz="1200"/>
            </a:br>
            <a:r>
              <a:rPr b="1" lang="ru-RU" sz="1200" spc="-1" strike="noStrike">
                <a:solidFill>
                  <a:srgbClr val="000000"/>
                </a:solidFill>
                <a:latin typeface="Arial"/>
              </a:rPr>
              <a:t>Избранные свят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оссии недалеко от города Казани был устроен монастырь в честь 9-ти мучеников Кизических иеродиаконом Стефаном, который принес с собой из Палестины часть мощей святых. Этот монастырь был основан в уповании избавления их предстательством и молитвами от различных недугов и болезней, особенно горячки, свирепствовавшей в Казани в 1687 году, "ибо, - пишет святитель </a:t>
            </a:r>
            <a:r>
              <a:rPr b="0" lang="ru-RU" sz="1200" spc="-1" strike="noStrike" u="sng">
                <a:solidFill>
                  <a:srgbClr val="009999"/>
                </a:solidFill>
                <a:uFillTx/>
                <a:latin typeface="Arial"/>
                <a:hlinkClick r:id="rId13"/>
              </a:rPr>
              <a:t>Димитрий Ростовский</a:t>
            </a:r>
            <a:r>
              <a:rPr b="0" lang="ru-RU" sz="1200" spc="-1" strike="noStrike" u="sng">
                <a:solidFill>
                  <a:srgbClr val="009999"/>
                </a:solidFill>
                <a:uFillTx/>
                <a:latin typeface="Arial"/>
                <a:hlinkClick r:id="rId14"/>
              </a:rPr>
              <a:t> </a:t>
            </a:r>
            <a:r>
              <a:rPr b="0" lang="ru-RU" sz="1200" spc="-1" strike="noStrike" u="sng">
                <a:solidFill>
                  <a:srgbClr val="009999"/>
                </a:solidFill>
                <a:uFillTx/>
                <a:latin typeface="Arial"/>
                <a:hlinkClick r:id="rId15"/>
              </a:rPr>
              <a:t> </a:t>
            </a:r>
            <a:r>
              <a:rPr b="0" lang="ru-RU" sz="1200" spc="-1" strike="noStrike" u="sng">
                <a:solidFill>
                  <a:srgbClr val="009999"/>
                </a:solidFill>
                <a:uFillTx/>
                <a:latin typeface="Arial"/>
                <a:hlinkClick r:id="rId16"/>
              </a:rPr>
              <a:t> </a:t>
            </a:r>
            <a:r>
              <a:rPr b="0" lang="ru-RU" sz="1200" spc="-1" strike="noStrike" u="sng">
                <a:solidFill>
                  <a:srgbClr val="009999"/>
                </a:solidFill>
                <a:uFillTx/>
                <a:latin typeface="Arial"/>
                <a:hlinkClick r:id="rId17"/>
              </a:rPr>
              <a:t> </a:t>
            </a:r>
            <a:r>
              <a:rPr b="0" lang="ru-RU" sz="1200" spc="-1" strike="noStrike">
                <a:solidFill>
                  <a:srgbClr val="000000"/>
                </a:solidFill>
                <a:latin typeface="Arial"/>
              </a:rPr>
              <a:t> (+ 1709; память 21 сентября), автор службы 9-ти мученикам, - этим святым далась обильная благодать ко прогнанию трясавичных болезней". Святитель Димитрий также описал страдания святых мучеников и составил слово на день их памяти</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C32C-F650-4BA3-AB58-3BCA59F10B60}"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вятитель Игнатий (в миру Дмитрий Александрович Брянчанинов) родился 6 февраля 1807 г. в родовом имении отца, селе Покровском Вологодской губернии. Мать родила Дмитрия после продолжительного бесплодия, по горячей молитве и путешествии по окрестным святым местам. Детство мальчик провел в уединении сельской жизни; с ранних лет безотчетно влекся он к жизни иноческой. С возрастом его религиозное настроение обнаруживалось все заметнее: оно проявлялось в особенной расположенности к молитве и чтению духовных кни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br>
              <a:rPr sz="800"/>
            </a:br>
            <a:r>
              <a:rPr b="1" lang="ru-RU" sz="800" spc="-1" strike="noStrike">
                <a:solidFill>
                  <a:srgbClr val="000000"/>
                </a:solidFill>
                <a:latin typeface="Arial"/>
              </a:rPr>
              <a:t>Игнатий Брянчанин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ился Дмитрий превосходно и до самого выхода из училища оставался первым учеником в своем классе. Его способности были самые разносторонние — не только в науках, но и в рисовании, и музыке. Родственные связи ввели его в дом президента Академии художеств А. Н. Оленина; здесь, на литературных вечерах он сделался любимым чтецом и вскоре познакомился с А. Пушкиным, К. Батюшковым, Н. Гнедичем, И. Крыловым. Но в шуме и суете столичной жизни Дмитрий не изменял своим душевным стремлениям. В поисках «вечной собственности для вечного человека» он постепенно пришел к малоутешительному выводу: значение науки ограничивается земными потребностями человека и пределами его жизн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9999"/>
                </a:solidFill>
                <a:uFillTx/>
                <a:latin typeface="Arial"/>
                <a:hlinkClick r:id="rId1"/>
              </a:rPr>
              <a:t> </a:t>
            </a:r>
            <a:br>
              <a:rPr sz="800"/>
            </a:br>
            <a:r>
              <a:rPr b="1" lang="ru-RU" sz="800" spc="-1" strike="noStrike">
                <a:solidFill>
                  <a:srgbClr val="000000"/>
                </a:solidFill>
                <a:latin typeface="Arial"/>
              </a:rPr>
              <a:t>Святитель Игнатий (Брянчаин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толь же ревностно, как занимался наукой, принимается Дмитрий за изучение древней и новой философии, пытаясь успокоить свое духовное томление, но и на этот раз не находит решения главнейшего вопроса об Истине и смысле жизни. Изучение Священного Писания было следующей ступенью, и оно убедило его в том, что, предоставленное произвольному толкованию отдельного человека, Писание не может быть достаточным критерием истинной веры и прельщает лжеучениями. И тогда Дмитрий обратился к изучению Православной веры по писаниям святых отцов, святость которых, как и чудное и величественное согласие, стали для него ручательством их вер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9999"/>
                </a:solidFill>
                <a:uFillTx/>
                <a:latin typeface="Arial"/>
                <a:hlinkClick r:id="rId2"/>
              </a:rPr>
              <a:t> </a:t>
            </a:r>
            <a:br>
              <a:rPr sz="800"/>
            </a:br>
            <a:r>
              <a:rPr b="1" lang="ru-RU" sz="800" spc="-1" strike="noStrike">
                <a:solidFill>
                  <a:srgbClr val="000000"/>
                </a:solidFill>
                <a:latin typeface="Arial"/>
              </a:rPr>
              <a:t>Святитель Игнатий Брянчанин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митрий Брянчанинов посещает богослужения в Александро-Невской лавре и там находит истинных наставников, понимающих его духовные нужды. Окончательный переворот в жизни произвело знакомство со старцем Леонидом (впоследствии оптинский иеромонах Лев). Дмитрий Брянчанинов оставляет блеск и богатство аристократи-ческой жизни и, вызывая глубочайшее недоумение «света» и недовольство своих родителей, в 1827 г. уходит в отставку. Пробыв послушником в нескольких монастырях, он принимает иноческий постриг с именем Игнатий в уединенном Глушицком Дионисиевом монастыр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январе 1832 г. иеромонах Игнатий был назначен строителем Пельшемского Лопотова монастыря в Вологодской губернии, а в 1833 г. возведен в сан игумена этого монастыря. Вскоре император Николай I вызывает Игнатия в Петербург; по Высочайшей рекомендации и по распоряжению Священного Синода его рукополагают в архимандрита и назначают настоятелем Сергиевой пустын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жив в Сергиевой пустыни 24 года, архимандрит Игнатий привел ее в цветущее состояние. 27 октября 1857 г. он был хиротонисан во епископа Кавказского и Черноморского. В следующем году Владыка прибыл в Ставрополь. где ему предстояли новые большие труды, но постигшая его тяжелая болезнь, оспа, воспрепятствовала им. Преосвященный решил проситься на покой и в 1871 г. поселился в Николо-Бабаевском монастыре. Здесь, свободный от служебных обязанностей, все свое время до конца жизни (( 1867) он отдал работе над духовными сочинениями.</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A7D8-96E7-4555-BA17-5E4898F7358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Икона Божией Матери, именуемая "Нечаянная Радость", пишется так: в комнате, вверху икона Божией Матери, а внизу около нее коленопреклоненно молящийся юноша. Предание об исцелении некоего юноши от плотской страсти через эту святую икону описано в книге святителя </a:t>
            </a:r>
            <a:r>
              <a:rPr b="0" lang="ru-RU" sz="1200" spc="-1" strike="noStrike" u="sng">
                <a:solidFill>
                  <a:srgbClr val="009999"/>
                </a:solidFill>
                <a:uFillTx/>
                <a:latin typeface="Arial"/>
                <a:hlinkClick r:id="rId1"/>
              </a:rPr>
              <a:t>Димитрия Ростовского</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 </a:t>
            </a:r>
            <a:r>
              <a:rPr b="0" lang="ru-RU" sz="1200" spc="-1" strike="noStrike" u="sng">
                <a:solidFill>
                  <a:srgbClr val="009999"/>
                </a:solidFill>
                <a:uFillTx/>
                <a:latin typeface="Arial"/>
                <a:hlinkClick r:id="rId4"/>
              </a:rPr>
              <a:t> </a:t>
            </a:r>
            <a:r>
              <a:rPr b="0" lang="ru-RU" sz="1200" spc="-1" strike="noStrike" u="sng">
                <a:solidFill>
                  <a:srgbClr val="009999"/>
                </a:solidFill>
                <a:uFillTx/>
                <a:latin typeface="Arial"/>
                <a:hlinkClick r:id="rId5"/>
              </a:rPr>
              <a:t> </a:t>
            </a:r>
            <a:r>
              <a:rPr b="0" lang="ru-RU" sz="1200" spc="-1" strike="noStrike">
                <a:solidFill>
                  <a:srgbClr val="000000"/>
                </a:solidFill>
                <a:latin typeface="Arial"/>
              </a:rPr>
              <a:t> "Руно Орошенное". Юноша молился по привычке перед образом Пречистой и вдруг увидел, что изображение ожило, язвы Господа Иисуса раскрылись и кровоточат. В страхе он воскликнул: "О Госпожа, кто это сделал?" На что Богородица отвечала: "Ты и прочие грешники грехами своими вновь распинаете Сына Моего". Тогда только раскрылась перед ним бездна его грехопадения, долго молил он в слезах Богородицу и Спасителя о помиловании. Наконец, была дана ему нечаянная им уже радость прощения и оставления грехов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E770-862C-4B43-BE26-6BE40954E84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Святой Афанасий родился в Александрии; мать его, подобно Анне, которая привела сына своего Самуила в храм Господень (1 Цар 1, 28), так же привела его к св. Александру, патриарху Александрийскому, и отдала в храм на служение Богу. И он стал при храме проводить свою жизнь, ревностно исполняя заповеди Бож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Святитель Афанасий Вели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319 г. патриарх рукоположил его в диакона Александрийской Церкви. Уже в это время святитель Афанасий стал писать сочинения. Будущий святитель видел, что нет у новопришедших в Церковь Христову ревности, нет у них истинного благочестия, многие из них искали славы для себя, пустословили, празднословили и все языческие обычаи, которые были раньше у них, переносили в христианскую жизнь. Объявился некий Арий, который хулил Христа, уничижал Матерь Божию и возмущал народ, уча народ добиваться чести, славы, проникать и в Церковь, достигать священства и даже архиерейства. И многие его слушали и становились последователями этой ереси — арианами. И эта ересь так распространилась, что чуть не захлестнула всю Церковь — великая была брань. В 325 г. святитель Афанасий был на Ннкейском Соборе, где выступал против Ар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Святители Кирилл и Афанасий, патриархи Александрий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326 г. по смерти патриарха Александра святитель Афанасий был избран на Александрийскою кафедру. Епископом Афанасий объезжал церкви, много выступал, боролся против ариан, писал, обличал их, и восстали против него все неистинные христиане и стали на него клеветать. В то время царствовал Константин Великий (306-337 гг.), он считался покровителем Церкви Христовой. Он хорошо понимал военную стратегию, дипломатию, государственные дела, но дел церковных и проповеди Евангелия не знал, поэтому колебался между арианством и Православ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Святители Афанасий и Кирил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ьзуясь добротой и простотой императора, еретики окружили весь его двор, проникли во все должности и стали нашептывать ереси и неправды и вводить расколы. Они обвиняли архиепископа Афанасия, что он плохой человек, что он не слушается царя, взимает налоги отдельно от царской казны и совершает нехорошие дела, что он и чародей, и преступник, и блудник. Император видел великую распрю, вражду, старался водворить мир, но бывали такие времена, что могла открыться война, тогда он предлагал святителю Афанасию на время удалиться куда-нибудь. И большую часть своего долгого правления святитель провел в изгнании, и тогда нередко он пользовался поддержкой монахов, был в дружбе с обоими отцами монашества — святыми преподобными Антонием и Пахом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Афанасий Великий,патриарх Александрий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собенности старались еретики и злые люди обвинить святого Афанасия в том, что он не слушает повелений императора, не обращает внимания на его предписания, не принимая Ария в церковное общение, что он колдун и чародей, сами будучи явными чародеями, и что посредством какой-то мертвой руки, якобы принадлежавшей клирику Арсению, творит чарования Император повелел провести расследование. Арсений был клириком, чтецом, совершив какой-то проступок, он долго скрывался, а когда молва об этом стала распространяться везде, то у него проявилось чувство правды, справедливости, потому что невиновен был святитель Христов Афанасий, да и сам Арсений совершенно не пострадал, не ему отрубили руку, другого человека где-то нашли судьи-злодеи, хотя многие из них были епископы. Соболезнуя о своем отце и благодетеле и скорбя сердцем о том, что истина беззаконно побеждается ложью, он тайно пришел к самому Афанасию, припадая к его честным ногам Блаженный Афанасий, радуясь прибытию Арсения, повелел ему до суда никому не показывать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rPr>
              <a:t> </a:t>
            </a:r>
            <a:br>
              <a:rPr sz="1200"/>
            </a:br>
            <a:r>
              <a:rPr b="1" lang="ru-RU" sz="1200" spc="-1" strike="noStrike">
                <a:solidFill>
                  <a:srgbClr val="000000"/>
                </a:solidFill>
                <a:latin typeface="Arial"/>
              </a:rPr>
              <a:t>Святитель Афанасий Великий, архиепископ Александрий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 тем злобная ненависть противников Афанасия так возросла, что к одной лжи они приложили еще новую: подкупили одну бесстыдную женщину возвести клевету на святителя Афанасия, что он совершил с нею беззаконие. Когда начался суд, судьи сели на своих местах и клеветники предстали, была введена и эта женщина. С плачем долго жаловалась она на святителя, которого никогда не видала, и даже не знала, каков он по виду. Все слушали в недоумении. А она и не хотела знать благочестия евангельского, радуясь, что много денег ей дали. В то время друг Афанасия пресвитер Тимофей, стоя с ним за дверями и все слыша, возмутился духом и, неожиданно войдя внутрь судилища, с поспешностью стал перед глазами той клеветницы, как будто он был сам Афанасий; он смело обратился к ней: «Я ли совершил над тобою ночью насилие, как ты говоришь?» И она еще с большим бесстыдством, возопила к судьям «Сей, сей человек мой растлитель и злоумышленник против моей чистоты; он...» Судьи рассмеялись, увидев подлость, разыгранную комедию и прогнали ее. Но противники св. Афанасия, хотя и устыдились, но не успокоились и стали обвинять его в убийстве Арсения, показывая какую-то страшную на вид мертвую руку. Святой Афанасий терпеливо слушал их и молчал, потом спросил: «Есть ли среди вас, кто хорошо знал Арсения? Кто из вас может подтвердить действительно ли это его рука?» И поднялись большинство неправедных судей, подскочили и стали утверждать, что действительно это рука Арсения. И тогда, когда они показали свое грязное сердце и коварство свое, святитель отодвинул занавеску, за которой стоял Арсений, вывел его перед собранием и спросил: «А это кто стоит перед вами? Вы сказали, что Арсения нет в живых, это его рука». И все пришли в ужас. «Вот, мужи, и Арсений! — объявил святитель Афанасий. — Вот и руки его, которые совсем не были отсечены! Покажите же и вы своего Арсения, если такого имеете, и поведайте, кому принадлежит отсеченная рука, которая осуждает вас самих, как сделавших это преступление». Но судии продолжали проводить суд, истощая все свои клеветы. И святитель Афанасий, не вынося совершаемой несправедливости, вслух засвидетельствовал всему собору: « Угасла правда, попрана истина, погибло правосудие, исчезло у судей законное расследование и осторожное рассмотрение дел! Разве законно, чтобы желающий оправдаться содержался в узах, а суд всего дела был бы поручен клеветникам и врагам, и чтобы сами оговорщики судили того, на кого клевещут?» Императором святитель был оправдан и послан на свою Александрийскую кафед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умер Константин Великий и престолом завладел его второй сын Констанций, то весь двор императорский перешел на сторону ариан. Они стали гнать христиан православных, епископов ссылать, ставить на престолы нечестивых людей, коварных, блудников, еретиков, которые Иисуса Христа не прзнавали за Бога. И пришлось святителю Афанасию бежать в Рим, где три года наход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ом Господь рассудил все судом Своим: наказал Ария и еретиков, и нечестивый царь погиб. После него два года царствовал Юлиан Отступник, за ним вступил Иовиниан благочестивый, потом Валент, который, хотя и много зла творил Церкви, но, испугавшись мятежа александрийцев, позволил святителю Афанасию вернуться и безбоязненно управлять Александрийской Церковью. И описывается в житии святителя Афанасия, что последнее время своей жизни он жил в мире и спокойствии, почил о Господе 2 мая 373 г. в возрасте 76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6 лет святитель Афанасий был епископом города Александрии и много раз изгонялся с кафедры и возвращался обратно, потому что ариане, называющие себя христианами, верующие в Евангелие, искали, придумывали вину, чтобы осудить и предать смерти святителя. А Господь, возвещая Евангелие, не проповедовал убивать врагов своих; эти же злодеи притворно приняли крещение, христианство и веровали без благочестия.</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BB60-BD62-4CED-9F5E-B0F9C3EC9F5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Основатель Киево-Печерской лавры святой Антоний родился в начале XI века в городе Любече (вблизи Чернигова) и в крещении был назван Антипой. С юных лет он почувствовал влечение к высшей духовной жизни и по внушению свыше решился идти на Афон. В одной из Афонских обителей он принял постриг и начал уединенную жизнь в пещере близ этого монастыря, которую до сих пор показывают. Когда он приобрел в своих подвигах духовную опытность, игумен дал ему послушание, чтобы он шел на Русь и насадил иночество в этой новопросвещенной христианской стране. Антоний повиновался. Когда преподобный Антоний пришел в Киев, здесь было уже несколько монастырей, основанных по желанию князей греками. Но святой Антоний не избрал ни одного из них, поселился в двухсаженной пещере, выкопанной пресвитером Иларионом. Это было в 1051 г. Здесь святой Антоний продолжал подвиги строгой иноческой жизни, которыми славился на Афоне: пищей его были черный хлеб через день и вода в крайне умеренном количестве. Вскоре слава о нем разнеслась не только по Киеву, но и по другим русским городам. Многие приходили к нему за духовным советом и благословением. Некоторые стали проситься к нему на жительство. Первым был принят некто Никон, саном иерей, вторым преподобный Феодо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Преподобный Феодосий Печер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одобный Феодосий провел свою молодость в Курске, где жили его родители. С ранних лет он обнаружил благочестивое настроение духа: каждый день он бывал в храме, прилежно читал слово Божие, отличался скромностью, смирением и другими добрыми качествами. Узнав, что в храме иногда не служат литургию из-за недостатка просфор, он решил сам заняться этим делом: покупал пшеницу, своими руками молол и испеченные просфоры приносил в церков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Преподобный Феодо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эти подвиги он терпел много неприятностей от матери, которая горячо его любила, но не сочувствовала его стремлениям. Услышав однажды в церкви слова Господни: «Кто любит отца или мать более, нежели Меня, недостоин Меня» (Матф. 10, 37), он решился оставить и мать (отец уже умер), и родной город и явился в Киев к преподобному Антонию. «Видишь ли чадо, — спросил его Антоний, — что пещера моя скромна и тесна?» — «Сам Бог привел меня к тебе, — ответил Феодосий, — буду исполнять то, что ты мне повелиш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Преподобный Феодосий Печер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число сподвижников преп. Антония возросло до 12, он удалился на соседнюю гору, вырыл себе здесь пещеру и стал подвизаться в затворе. Феодосий остался на прежнем месте; скоро он был избран братией во игумена и начал стараться об учреждении правильного общежития по уставу цареградского Студийского монастыря. Главные черты учрежденного им общежития были следующие: все имущество у братии должно быть общее, время проводилось в непрестанных трудах; труды разделялись по силе каждого игуменом; каждое дело начиналось молитвой и благосло-вением старшего; помыслы открывались игумену, который был истинным руководителем всех ко спасению. Преподобный Феодосий часто обходил кельи и наблюдал, нет ли у кого чего лишнего, и чем занимается братия. Часто и ночью он приходил к двери келий и, если слышал разговор двух или трех иноков, сошедшихся вместе, то ударял жезлом в дверь, а утром обличал виновных. Сам преподобный был во всем примером для братии: носил воду, рубил дрова, работал в пекарне, носил самую простую одежду, прежде всех приходил в церковь, и на монастырские работы. Кроме аскетических подвигов, преп. Феодосий отличался великим милосердием к бедным и любовью к духовному просвещению и старался расположить к ним и свою братию. В обители он устроил особый дом для жительства нищих, слепых, хромых, расслабленных и на содержание их уделял десятую долю монастырских дохо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каждую субботу отсылал целый воз хлеба заключенным в темницах. Из сочинений преподобного Феодосия известны: два поучения к народу, десять поучений к инокам, два послания к великому князю Изяславу и две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Феодосий Печер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анная преподобным Антонием и устроенная преподобным Феодосием Киево-Печерская обитель сделалась образцом для других монастырей и имела великое значение для развития Русской церкви. Из ее стен выходили знаменитые архипастыри, ревностные проповедники веры и замечательные писатели. Из святителей, постриженников Киево-Печерской обители, особенно известны святые Леонтий и Исаия (епископы Ростовские), Нифонт (епископ Новгородский). преподобный Кукша (просветитель вятичей), писатели преп. Нестор Летописец и Симон.</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44D7-44D0-4630-996B-DE8993FCE4C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Святая равноапостольная Мария Магдалина, одна из жен-мироносиц, удостоилась первой из людей увидеть Воскресшего Господа Иисуса Христа. Родилась она в местечке Магдалы в Галилее. Жители Галилеи отличались непосредственностью, пылкостью нрава и самоотверженностью. Эти качества были присущи и святой Марии Магдалине. С юности она страдала тяжким недугом — беснованием (Лк. 8, 2). Перед Пришествием в мир Христа Спасителя бесноватых было особенно много: враг рода человеческого, предвидя свое близкое посрамление, восставал на людей со свирепой силой. Через болезнь Марии Магдалины явилась слава Божия, сама же она обрела великую добродетель всецелого упования на волю Божию и ничем неколеблемую преданность Господу Иисусу Христу. Когда Господь изгнал из нее семь бесов, она, оставив все, последовала за Н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Богоматерь и Мария Магда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ая Мария Магдалина следовала за Христом вместе с другими женами, исцеленными Господом, проявляя трогательную заботу о Нем. Она не оставила Господа после взятия Его иудеями, когда начала колебаться вера в Него ближайших учеников. Страх, побудивший к отречению апостола Петра, в душе Марии Магдалины был побежден любовью. Она стояла у Креста вместе с Пресвятой Богородицей и апостолом Иоанном, переживая страдания Божественного Учителя и приобщаясь великому горю Богоматери. Святая Мария Магдалина сопровождала Пречистое Тело Господа Иисуса Христа при перенесении Его ко гробу в саду праведного Иосифа Аримафейского, была при Его погребении (Мф. 27, 61; Мк. 15, 47). Служа Господу во время Его земной жизни, она желала послужить Ему и после смерти, воздав последние почести Его Телу, умастив его, по обычаю евреев, миром и ароматами (Лк. 23, 56). Воскресший Христос послал святую Марию с вестью от Него к ученикам, и блаженная жена, ликуя, возвестила апостолам о виденном — «Христос воскрес!» Как первая благовестница Христова воскресения, святая Мария Магдалина признана Церковью равноапостольной. В этом благовестии главное событие ее жизни, начало ее апостольского сл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Богоматерь и Мария Магда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преданию, она благовествовала не только в Иерусалиме. Святая Мария Магдалина отправилась в Рим и видела императора Тиверия (14-37). Известный своим ..жестокосердием император выслушал святую Марию, которая рассказала ему о жизни, чудесах и учении Христа, о Его неправедном осуждении иудеями, о малодушии Пилата. Затем она поднесла ему красное яйцо со словами «Христос воскрес!». С этим поступком святой Марии Магдалины связывают пасхальный обычай дарить друг Другу красные яйца (яйцо, символ таинственной жизни, выражает веру в грядущее общее Воскрес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Мария Магдал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тем святая Мария отправилась в Ефес (Малая Азия). Здесь она помогала святому апостолу и евангелисту Иоанну Богослову в его проповеди. Здесь же она, по преданию Церкви, преставилась и была погребена. В IX веке при императоре Льве VI Философе (886-912) нетленные мощи святой Марии Магдалины были перенесены из Ефеса в Константинополь. Полагают, что во время крестовых походов они были увезены в Рим, где и покоились в храме во имя святого Иоанна Латеранского. Папа Римский Гонорий III (1216-1227) освятил этот храм во имя святой равноапостольной Марии Магдалины. Часть ее мощей находится во Франции, в Проваже близ Марселя, где также воздвигнут храм, посвященный святой Марии Магдалине. Части святых мощей равноапостольной Марии Магдалины хранятся в различных монастырях Святой Горы Афон и в Иерусалиме. Многочисленные паломники Русской Церкви, посещающие эти святые места, благоговейно поклоняются ее святым мощам.</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28DF-A371-42DF-9318-56FF58296F4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Святая Ирина, родом славянка, жила во второй половине I века и была дочерью Ликиния, правителя города Магеддона в Македонии. Еще в юности Ирина поняла суетность язычества и уверовала во Христа. Согласно преданию, ее крестил апостол Тимофей, ученик апостола Павла. Желая посвятить свою жизнь Богу, святая Ирина отказалась от замуж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Ирина Фессалоникий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навая все глубже христианскую веру, святая Ирина стала убеждать и родителей стать христианами. Ликиний, отец Ирины сначала благосклонно внимавший ее словам, потом вознегодовал на нее, и когда она отказалась поклониться идолам, бросил ее под ноги диким лошадям. Не коснувшись мученицы, лошади бросились на Ликиния и задавили его до смерти. Когда по молитве святой он возвращен был к жизни, то уверовал во Христа сам и все его семейство, а с ним уверовало 3000 челове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Св. Ири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этого святая Ирина стала смело проповедовать Христа среди жителей Македонии, за что много раз подвергалась унижениям и страданиям. По приказанию правителя Седекии святую Ирину то бросали в ров со змеями, то старались распилить пилой, то ввязывали к мельничному колесу. Мучения Ирины сопровождались чудесными знаниями, привлекавшими многих к вере во Христа. Так, змеи не дотрагивались до мученицы, пилы не вредили ее телу, колесо мельничное не вертелось. Сам мучитель Ваводон уверовал во Христа и крестился. Всего же Ириной обращено было более 10000 язычников. Когда Господь указал Ирине день ее кончины, она удалилась в одну горную пещеру около города Ефеса, вход которой по ее просьбе, был завален камнями. На четвертый день ее знакомые вернулись к пещере и, открыв ее, не нашли в ней тела святой Ирины. Все поняли, что она была взята Господом на Неб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мять святой Ирины очень чтилась в древней Византии. В Царьграде в память святой Ирины было построено несколько великолепных храмов.</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2F49-BC68-4E7E-856F-297C87348DC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9Максимовская икона Божией Матери написана в 1299 году по видению святителю Максиму, митрополиту Владимирскому (+ 1305, память 6 декабря). На ней изображена Божия Матерь во весь рост с Предвечным Младенцем и митрополит Максим, стоящий на коленях и принимающий из Ее рук святительский омофор. Икона написана в память явления Пресвятой Богородицы святителю Максиму, когда он прибыл во Владимир из Киева. В видении Божия Матерь вручила ему омофор со словами: "Раб Мой Максим, хорошо, что ты пришел посетить Мой город. Приими этот омофор и паси во граде Моем словесные овцы". Когда святитель проснулся, на его руках лежал омофор. Явление Матери Божией было знамением Небесного благословения на перенесение митрополии из Киева во Владимир. Омофор, переданный Матерью Божией, хранился в Успенском соборе во Владимире 112 лет. В 1412 году, во время нашествия татар, омофор был скрыт ключарем собора Патрикием, замученным татарами.</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F67C3-9BBA-436A-8025-BB70C0DB6425}"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После татарского нашествия вся юго-западная Русь, опустошенная и разоренная, почти обезлюдела. Через сто лет ее заняли литовские войска. А когда в конце 15-го века была провозглашена Люблинская уния и Польша с Литвой были соединены, то для коренного русского православного населения наступили тяжкие времена угнетения православной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559 г. приехал на Волынь греческий митрополит Неофит и привез с собой чудотворную икону Божией Матери. По внушению свыше он оставил ее в доме благочестивой помещицы Анны Гой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596 г. над православной верой, по попущению Божьему, разразилось страшное несчастие: дело было в том, что, преследуя православных, польское правительство старалось сделать так, чтобы епископские кафедры замещались лицами не стойкими в православии, и эти епископы согласились признать власть папы на соборе, созванном в Брест-Литовс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ославный обряд сохранялся, но лица, согласившиеся на это соединение, или унию, стали католиками. А народ, оставшийся верным православию и не признававший Брестскую унию, католики стали еще больше теснить и угнет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гда многие стали уходить в степи и заднепровские пороги и там образовали вольное казацкое войско, которое много раз поднимало восстание для защиты православной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стали объединяться в церковные братства или же становиться под защиту вельмож, оставшихся верными православию. Самым видным из них был князь Константин Острожский, вокруг которого образовался круг ученых. Он основал в своем городе Остроге духовную академию и типографию, и они много писали в защиту правосла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следующий же год после объявления унии, Анна Гойская, ради укрепления православия, передала хранившуюся у нее чудотворную икону монахам-отшельникам, подвизавшимся на горе, называвшейся Почаевской, и с тех пор святая эта икона стала именоваться Почаевской иконой Божией Мате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Преподобный Иов Почае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аевская гора находилась недалеко от имения Анны Гойской и стала известной давно, еще во времена татарского нашествия в 1240 году. Сама Пресвятая Богородица явилась на ней пастухам, причем в память этого соблаговолила оставить след Своей стопы, так и называющийся «Стопа Пресвятой Богородицы». С тех пор на этой горе стали подвизаться отшельники, на ней нашли убежище и монахи разрушенного Киево-Печерского монастыря. Со времени перенесения на Почаевскую гору чудотворной иконы Божией Матери там основался монастыр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Иов Почае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 Иов жил в эти тяжелые времена. Он родился в 1550 г. в Галиции и назывался в миру Иоанн Железо. Десятилетним отроком он поступил в Угорницкий монастырь. В этом раннем возрасте он так преуспел в иноческих подвигах, что 12-ти лет был уже пострижен в мантию с именем Иова, по достижении совершенного возраста возведен в священнический сан, а тридцати лет удостоен великой схимы, причем ему было возвращено имя Иоанн. Он особенно любил это имя и всегда им подписывался, но к лику святых он был причислен с именем Ио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просьбе князя Острожского, преп. Иов был переведен в находившийся в его владениях Дубенский монастырь, где стал настоятелем и много писал в защиту православия. Однако же, жажда подвижнического уединенного жития заставила его перейти на св. гору Почаевскую, но и там его избрали настоятелем. Для молитвенных подвигов он удалился в каменную пещеру: ноги его покрылись ранами так, что обнажились к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Преподобный Иов, игумен Почае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был делателем непрестанной молитвы Иисусовой — «Господи, Иисусе Христе, помилуй мя, грешнаго», доводящей подвижника до высоких духовных степеней. Вот, то о нем повествует его ученик и сподвижник Досифей, ставший по его кончине его преемником по игуменству. «Однажды, когда молился преподобный в той пещере, вдруг облистал его свет благодати Божией, сиявший по всей церкви в течение двух часов непрестанно. Я же, увидев его, в великом ужасе пал на землю, побежденный таким чудным виде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й силы достиг святой старец над грешной душой человеческой, показывает следующий случай: однажды, придя ночью на гумно монастырское, он увидел вора, который хотел взвалить себе на спину куль зерна. Преподобный помог ему поднять этот куль, но напомнил ему об ответе на страшном Суде Христовом. Потрясенный кратким словом святого, грешник упал ему в ноги с мольбой о прощен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бители преп. Иов ввел общежительный устав. Обитель он окружил оградой с помощью благочестивых помещиков Феодора и Евы Домашевских и воздвиг Свято-Троицкий собор, а потом и еще шесть меньших церквей. Он создал Почаевскую типографию и продолжал писать в защиту православия. Сохранилась одна из его книг под заглавием «Книга Иова Железа, игумена Почаевскаго, властною его рукою написанная». В 1889 году она была издана под заглавием «Почаевская Пче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графия преп. Иова, возобновленная в начале этого века архимандритом Виталием (Максименко), была им вывезена после русской революции за границу и ныне продолжает существовать в Америке, в Свято-Троицком монастыре, обслуживая духовные нужды русской эмигр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скорбей принес преп. Иову наследник Анны Гойской, лютеранин Фирлей. Оп завладел монастырскими землями и даже чудотворной иконой. Но св. икона была возвращена монастырю, после того как жену Фирлея постигло за кощунство над ней Божие наказание, а земли были возвращены судом незадолго до кончины преподоб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вободное время преп. Иов любил заниматься садоводством и развел в Почаеве прекрасный са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620 г. он принимал участие в Киевском Соборе, осудившим унию и постановившем твердо стоять за православие. Под постановлением этим есть подпись: «Иоанн Железо, игумен Почае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Иов Почае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нчался преп. Иов 28-го октября 1651 года. Мощи его были открыты в 1659 году после трехкратного его явления митрополиту Киевскому Дионисию. Вскоре после этого в обитель приехала на богомолье Ева Домашевская. Ночью она увидела, что в Троицкой церкви сияет свет и услышала пение. Служанка ее, девица Анна, пошла узнать, какое служение совершается, и к своему ужасу увидела, что церковные двери открыты, а посреди церкви, между двумя ангелами, молится в необычайно светлом одеянии преп. Иов. Обратившись к девице, он приказал ей позвать игумена Досифея, в это время безнадежно больного, и дал ей для него плат, омоченный в миро. Больной, получив этот плат, помазался им и получил исцел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675 г. татары осадили Почаевский монастырь. На третий день осады, во время чтения акафиста, над монастырем явилась Сама Царица Небесная. Татары пробовали пускать стрелы в небесное явление, но стрелы возвращались назад и поражали их самих. Тогда татары беж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721 г. Почаевским монастырем завладели униаты. Чудотворную икону Божией Матери они чтили, но доступ к мощам преподобного для верующих закрыли. Однако же через 20 лет чудеса преподобного заставили их допустить к ним верую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831 г. униаты были воссоединены с Православной Церковью. Мощи преподобного были вновь торжественно открыты, а Почаевский монастырь объявлен Лаврой.</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7E83-A525-407C-96EB-777795CB1AF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Икона Божией Матери Жировицкая явилась в 1470 году в местечке Жировицы Гродненского края. В лесу, принадлежавшем православному литовскому вельможе Александру Солтону, пастухи увидели необыкновенно яркий свет, проникавший сквозь ветви грушевого дерева, стоявшего над ручьем под горой. Пастухи подошли ближе и увидели на дереве небольшую икону Божией Матери в лучезарном сиянии. Пастухи с благоговением взяли икону и отнесли к Александру Солтону. Александр Солтон не придал особого значения сообщению пастухов, но икону все-таки взял и запер в ларец. На следующий день к Солтону пришли гости, и хозяин захотел показать им находку. К своему удивлению, он не обнаружил иконы в ларце, хотя незадолго до этого видел ее. Через некоторое время пастухи снова обрели икону на том же месте и опять отнесли ее Александру Солтону. На этот раз он отнесся к иконе с большим благоговением и дал обет соорудить на месте явления церковь в честь Пресвятой Богородицы. Около деревянного храма вскоре появилось селение и образовался приход. Около 1520 года храм совершенно сгорел, несмотря на усилия жителей потушить пожар и спасти икону. Все думали, что она погибла. Но однажды крестьянские дети, возвращаясь из школы, увидели чудное видение: Дева необыкновенной красоты в лучезарном сиянии сидела на камне у сгоревшего храма, а в руках у Нее была икона, которую все считали сгоревшей. Дети не осмелились подойти к Ней, но поспешили рассказать о видении родным и знакомым. Все приняли рассказ о видении за Божественное откровение и вместе со священником отправились к горе. На камне у зажженной свечи стояла Жировицкая икона Божией Матери, нисколько не пострадавшая от огня. На время икону поставили в доме священника, а камень был огорожен. Когда построили каменный храм, туда, поставили чудотворную икону. Впоследствии около храма возник мужской монастырь. Его братство возглавило борьбу за Православие против унии и латинства. В 1609 году монастырь был захвачен униатами и находился в их руках до 1839 года. Во все это время Жировицкая икона Божией Матери пользовалась почитанием и униатов, и католиков. В 1839 году монастырь был возвращен православным и стал первым местом восстановления православного Богослужения в западнорусском крае. Во время первой мировой войны Жировицкую икону Божией Матери перевезли в Москву, а в начале 20-х годов она была возвращена в обитель. Ныне она находится в соборе в честь </a:t>
            </a:r>
            <a:r>
              <a:rPr b="0" lang="ru-RU" sz="1200" spc="-1" strike="noStrike" u="sng">
                <a:solidFill>
                  <a:srgbClr val="009999"/>
                </a:solidFill>
                <a:uFillTx/>
                <a:latin typeface="Arial"/>
                <a:hlinkClick r:id="rId1"/>
              </a:rPr>
              <a:t>Успения Пресвятой Богородицы</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 </a:t>
            </a:r>
            <a:r>
              <a:rPr b="0" lang="ru-RU" sz="1200" spc="-1" strike="noStrike" u="sng">
                <a:solidFill>
                  <a:srgbClr val="009999"/>
                </a:solidFill>
                <a:uFillTx/>
                <a:latin typeface="Arial"/>
                <a:hlinkClick r:id="rId4"/>
              </a:rPr>
              <a:t> </a:t>
            </a:r>
            <a:r>
              <a:rPr b="0" lang="ru-RU" sz="1200" spc="-1" strike="noStrike" u="sng">
                <a:solidFill>
                  <a:srgbClr val="009999"/>
                </a:solidFill>
                <a:uFillTx/>
                <a:latin typeface="Arial"/>
                <a:hlinkClick r:id="rId5"/>
              </a:rPr>
              <a:t> </a:t>
            </a:r>
            <a:r>
              <a:rPr b="0" lang="ru-RU" sz="1200" spc="-1" strike="noStrike">
                <a:solidFill>
                  <a:srgbClr val="000000"/>
                </a:solidFill>
                <a:latin typeface="Arial"/>
              </a:rPr>
              <a:t> Жировицкого монастыря Минской епархии и глубоко почитается за ее благодатную помощь. Икона вырезана на камне размером 43х56 м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BE3C-B3BC-4A12-BF61-AC35D74AEA5F}"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Святой апостол и евангелист Иоанн Богослов был сыном Зеведея и Саломии - дочери святого Иосифа Обручника. Одновременно со своим старшим братом Иаковом он был призван Господом нашим Иисусом Христом в число Своих учеников на Геннисаретском озере. Оставив своего отца, оба брата последовали за Господ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Ап. Иоанн Богос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постол Иоанн был особенно любим Спасителем за жертвенную любовь и девственную чистоту. После своего призвания апостол не расставался с Господом и был одним из трех учеников, которых Он особенно приблизил к Себе. Святой Иоанн Богослов присутствовал при воскрешении Господом дочери Иаира и был свидетелем Преображения Господня на Фаворе. Во время Тайной Вечери он возлежал рядом с Господом и по знаку апостола Петра, приникнув к груди Спасителя, спросил об имени предателя. Апостол Иоанн следовал за Господом, когда Его, связанного, вели из Гефсиманского сада на суд беззаконных первосвященников Анны и Каиафы, он же находился во дворе архиерейском при допросах своего Божественного Учителя и неотступно следовал за Ним по Крестному пути, скорбя всем сердцем. У подножия Креста он плакал вместе с Божией Матерью и услышал обращенные к Ней с высоты Креста слова Распятого Господа: "Жено, се сын Твой" и к нему: "Се Мати твоя" (Ин. 19, 26, 27). С этого времени апостол Иоанн, как любящий сын, заботился о Пресвятой Деве Марии и служил Ей до Ее Успения, никуда не отлучаясь из Иерусалима. После Успения Божией Матери апостол Иоанн, по выпавшему ему жребию, направился в Ефес и другие Малоазийские города для проповеди Евангелия, взяв с собой своего ученика Прохора. Они отправились в путь на корабле, который потонул во время сильной бури. Все путешественники были выброшены на сушу, только апостол Иоанн остался в морской пучине. Прохор горько рыдал, лишившись своего духовного отца и наставника, и пошел в Ефес один. На четырнадцатый день пути он стоял на берегу моря и увидел, что волна выбросила на берег человека. Подойдя к нему, он узнал апостола Иоанна, которого Господь сохранял живым четырнадцать дней в морской глубине. Учитель и ученик отправились в Ефес, где апостол Иоанн непрестанно проповедовал язычникам о Христе. Его проповедь сопровождалась многочисленными и великими чудесами, так что число уверовавших увеличивалось с каждым днем. В это время началось гонение на христиан императора Нерона (56 - 68). Апостола Иоанна отвели на суд в Рим. За исповедание веры в Господа Иисуса Христа апостол Иоанн был приговорен к смерти, но Господь сохранил Своего избранника. Апостол выпил предложенную ему чашу со смертельным ядом и остался живым, затем вышел невредимым из котла с кипящим маслом, в который был брошен по приказанию мучителя. После этого апостола Иоанна сослали в заточение на остров Патмос, где он прожил много лет. По пути следования к месту ссылки апостол Иоанн совершил много чудес. На острове Патмос проповедь, сопровождавшаяся чудесами, привлекла к нему всех жителей острова, которых апостол Иоанн просветил светом Евангелия. Он изгнал многочисленных бесов из идольских капищ и исцелил великое множество больных. Волхвы различными бесовскими наваждениями оказывали большое сопротивление проповеди святого апостола. Особенно устрашал всех надменный волхв Кинопс, похвалявшийся тем, что доведет до гибели апостола. Но великий Иоанн - Сын Громов, как именовал его Сам Господь, силой действующей через него благодати Божией разрушил все ухищрения бесовские, на которые надеялся Кинопс, и гордый волхв бесславно погиб в морской пучи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Видение Иоанна Богосло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постол Иоанн удалился со своим учеником Прохором на пустынную гору, где наложил на себя трехдневный пост. Во время молитвы апостола гора заколебалась, загремел гром. Прохор в страхе упал на землю. Апостол Иоанн поднял его и приказал записывать то, что он будет говорить. "Аз есмь Альфа и Омега, начаток и конец, глаголет Господь, Сый и Иже бе и Грядый, Вседержитель" (Откр. 1, 8), - возвещал Дух Божий через святого апостола. Так около 67 года была написана Книга Откровения (Апокалипсис) святого апостола Иоанна Богослова. В этой книге раскрыты тайны судеб Церкви и конца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Иоанн Евангели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длительной ссылки апостол Иоанн получил свободу и вернулся в Ефес, где продолжал свою деятельность, поучая христиан остерегаться лжеучителей и их лжеучений. Около 95 года апостол Иоанн написал в Ефесе Евангелие. Он призывал всех христиан любить Господа и друг друга и этим исполнить заповеди Христовы. Апостолом любви именует Церковь святого Иоанна, ибо он постоянно учил, что без любви человек не может приблизиться к Богу. В трех Посланиях, написанных апостолом Иоанном, говорится о значении любви к Богу и ближним. Уже в глубокой старости, узнав о юноше, совратившемся с пути истинного и сделавшемся предводителем шайки разбойников, апостол Иоанн пошел искать его в пустыню. Увидев святого старца, виновный стал скрываться, но апостол побежал за ним и умолял его остановиться, обещая грех юноши взять на себя, лишь бы тот покаялся и не губил своей души. Тронутый теплотой любви святого старца, юноша действительно покаялся и исправил свою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ой апостол Иоанн скончался в возрасте ста с лишним лет. Он намного пережил всех остальных очевидцев Господа, долго оставаясь единственным живым свидетелем земных путей Спас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Иоанн Богос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настало время отшествия апостола Иоанна к Богу, он удалился за пределы Ефеса с семью своими учениками и повелел приготовить для себя в земле крестообразную могилу, в которую лег, сказав ученикам, чтобы они засыпали его землей. Ученики с плачем целовали своего любимого наставника, но, не решаясь ослушаться, исполнили его повеление. Они закрыли лицо святого платом и закопали могилу. Узнав об этом, остальные ученики апостола пришли к месту его погребения и раскопали могилу, но ничего в ней не наш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год из могилы святого апостола Иоанна 8-го мая выступал тонкий прах, который верующие собирали и исцелялись им от болезней. Поэтому Церковь празднует память святого апостола Иоанна Богослова еще и 8 м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rPr>
              <a:t> </a:t>
            </a:r>
            <a:br>
              <a:rPr sz="1200"/>
            </a:br>
            <a:r>
              <a:rPr b="1" lang="ru-RU" sz="1200" spc="-1" strike="noStrike">
                <a:solidFill>
                  <a:srgbClr val="000000"/>
                </a:solidFill>
                <a:latin typeface="Arial"/>
              </a:rPr>
              <a:t>Иоан Богос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подь дал своему любимому ученику Иоанну и его брату имя "сынов грома" - вестника устрашающего в своей очистительной силе небесного огня. Этим самым Спаситель указывал на пламенный, огненный, жертвенный характер христианской любви, проповедником которой был апостол Иоанн Богослов. Орел - символ высокого парения Богословской мысли - иконографический знак евангелиста Иоанна Богослова. Наименование Богослова Святая Церковь дала из учеников Христовых только святому Иоанну, тайнозрителю Судеб Божиих.</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A050-3DD2-4D8A-B10E-84853EA1D1A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Святитель Николай родился во второй половине Ш века в городе Патары, области Ликии в Малой Азии. Родители его Феофан и Нонна были из благородного рода и весьма зажиточны, что не мешало им быть благочестивыми христианами, милосердными к бедным и усердными к Бо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глубокой старости они не имели детей; в непрестанной горячей молитве они просили Всевышнего дать им сына, обещая посвятить его служению Богу. Молитва их была услышана: Господь даровал им сына, который при святом крещении получил имя Николай, что значит по-гречески — «побеждающий нар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в первые дни своего младенчества святитель Николай показал, что он предназначен на особое служение Господу. Сохранилось предание, что во время крещения, когда обряд был очень длительным, он, никем не поддерживаемый, простоял в купели в продолжение трех часов. С первых же дней святитель Николай начал строгую подвижническую жизнь, которой остался верен до гроб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необычное поведение ребенка показало родителям, что он станет великим Угодником Божиим, поэтому они обратили особое внимание на его воспитание и постарались, прежде всего внушить сыну истины христианства и направить его на праведную жизнь. Отрок вскоре постиг, благодаря богатым дарованиям, руководимый Святым Дух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нижную премудр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певая в учении, отрок Николай успевал также и в благочестивой жизни. Его не занимали пустые беседы сверстников: заразительный пример товарищества, ведущий к чему-либо худому, ему был чуж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я суетных греховных развлечений, отрок Николай отличался примерным целомудрием и избегал всяких нечистых помыслов. Почти все время он проводил в чтении Священного Писания, в подвигах поста и молитвы. К храму Божию питал такую любовь, что проводил там иногдацелые дни и ночи в богомысленной молитве и чтении божественных кни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агочестивая жизнь юного Николая скоро стала известной всем жителям города Патары. Епископом в этом городе был его дядя, по имени тоже Николай. Заметив, что племянник выделяется среди других молодых людей добродетелями и строгой подвижнической жизнью, он стал уговаривать родителей отдать его на служение Господу. Они охотно согласились, потому что еще перед рождением сына дали такой обет. Дядя епископ посвятил его в пресвит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совершении над святителем Николаем Таинства священства, епископ, исполненный Духа Святого, пророчески предсказал народу великое будущее Угодника Божиего: «Вот, братие, я вижу новое солнце, восходящее над концами земли, которое явится утешением для всех печальных. Блаженно то стадо, которое удостоится иметь такого пастыря! Хорошо он будет пасти души заблудших, питая их на пажитях благочестия; и всем, находящимся в бедах, явится теплым помощни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в сан священника, святитель Николай стал проводить еще более строгую подвижническую жизнь. По глубокому смирению он совершал свои духовные подвиги наедине. Но Промыслу Божию угодно было, чтобы добродетельная жизнь святителя направляла и других на путь исти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Никола Зарай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ядя епископ отправился в Палестину, а управление своей епархией поручил своему племяннику пресвитеру. Он всей душой отдался выполнению многотрудных обязанностей епископского управления. Много добра сделал он своей пастве, проявляя широкую благотворительность. К тому времени родители его умерли, оставив ему богатое наследство, которое все он употребил на оказание помощи неимущим. Следующий случай свидетельствует, к тому же, о его крайнем смирении. В Патарах жил один бедный человек, у которого были три дочери красавицы. Он был настолько беден, что ему не на что было выдать замуж своих дочерей. До чего может довести нужда человека, недостаточно проникнутого христианским созна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частного отца нужда привела к ужасной мысли — пожертвовать честью своих дочерей и из их красоты извлечь средства, необходимые для их прида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к счастью, в их городе был добрый пастырь, святитель Николай, бдительно следивший за нуждами своей паствы. Получив от Господа откровение о преступном намерении отца, он решил избавить его от телесной нищеты, чтобы тем самым спасти его семейство от духовной гибели. Он задумал оказать благодеяние так, чтобы никто не знал о нем, как о благодетеле, не знал даже тот, кому он сделал до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яв большой узел с золотом, в полночь, когда все спали и не могли его видеть, он подошел к хижине несчастного отца и через окно бросил внутрь золото, а сам поспешно возвратился домой. На утро отец нашел золото, но не мог ведать, кто был его тайным благодетелем. Решив, что Сам Промысел Божий послал ему эту помощь, он возблагодарил Господа и вскоре смог выдать замуж старшую доч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итель Николай, когда увидел, что его благодеяние принесло надлежащий плод, решил довести его до конца. В одну из следующих ночей он также тайно бросил через окно в хижину бедняка другой мешок с золо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ец вскоре выдал замуж и вторую дочь, твердо надеясь, что Господь таким же образом окажет милость и третьей дочери. Но он решил во что бы то ни стало узнать своего тайного благодетеля и достойно поблагодарить его. Для этого он не спал ночей, выжидая его при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долго ему пришлось ждать: скоро пришел и в третий раз добрый пастырь Христов. Услышав звон упавшего золота, отец поспешно вышел из дома и догнал своего тайного благодетеля. Узнав в нем святителя Николая, он пал к его ногам, целовал их и благодарил его как освободителя отдуховной гиб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Никола с Косьмой и Дамиан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возвращении дяди из Палестины, святитель Николай сам собрался туда же. В пути на корабле он проявил дар глубокого прозрения и чудотворения: предвозвестил наступающую жестокую бурю и силой своей молитвы усмирил ее. Вскоре здесь же на корабле он совершил великое чудо, воскресив юношу матроса, который упал с мачты на палубу и разбился насмерть. В пути корабль часто приставал к берегу. Святитель Николай везде приложил заботы к врачеванию недугов мест-ных жителей: одних исцелил от неизлечимых болезней, из других изгнал мучивших их злых духов, иным, наконец, подал утешение в скорб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прибытии в Палестину, святитель Николай поселился неподалеку от Иерусалима в селении Бейт-Жала (библейская Ефраффа), которое находится на пути в Вифлеем. Все жители этого благословенного села — православные; там находятся две православные церкви, из которых одна, во имя святителя Николая, построена на том месте, где некогда проживал святитель в пещере, служащей теперь местом поклон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ь предание, что во время посещения святых мест Палестины, святитель Николаи пожелал однажды ночью помолиться в храме; подошел к дверям, закрытым на замок, и двери Чудесной Силой сами открылись, чтобы Избранник Божий мог войти в храм и исполнить благочестивое желание своей душ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ламенев любовью к Божественному Человеколюбцу, святитель Николай возымел желание навсегда остаться в Палестине, удалиться от людей и втайне подвизаться перед Небесным Отц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Господу угодно было, чтобы такой светильник веры не оставался под спудом в пустыне, но ярко освещал Ликийскую страну. И вот, по изволению свыше, благочестивый пресвитер возвратился на роди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ая удалиться от суеты мирской, святитель Николай отправился не в Патары, а в Сионскую обитель, основанную его дядей епископом, где он был принят братиею с большой радостью. В тихом уединении монашеской кели он думал остаться на всю жизнь. Но наступило время, когда великий Угодник Божий должен был выступить верховным руководителем Ликийской Церкви, чтобы просвещать людей светом евангельского учения и своей добродетельной жиз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стоя на молитве, он услышал глас: «Николай! Ты должен вступить на служение народу, если хочешь получить венец от Ме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ый ужас объял пресвитера Николая: что именно повелевает совершить ему чудный глас? «Николай! Эта обитель не та нива, на которой можешь ты принести ожидаемый Мной от тебя плод. Уйди отсюда и пойди в мир, к людям, чтобы прославилось в тебе имя М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Местночтимая икона Св. Николая Чудотворца (Екатеринбур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инуясь этому велению, святитель Николай удалился из обители и местом жительства избрал не свой город Патары, где все его знали и оказывали ему почести, а большой город Миры, столицу и митрополию Ликийской земли, где, никем не знаемый, он мог скорее избегнуть мирской славы. Жил он как нищий, не имел где приклонить голову, но неизбежно посещал все церковные службы. Насколько Угодник Божий смирял себя, настолько Господь, унижающий гордых и возвышающий смиренных, возвысил его. Скончался архиепископ всей Ликийской страны Иоанн. Для избрания нового архиепископа собрались в Миры все местные архиереи. Много было предложено к избранию умных и честных людей, но общего согласия не было. Господь сулил для занятия этой должности более достойного мужа, чем те, которые находились в их среде. Епископы усердно молились Богу, прося указать лицо наиболее достойн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ому из старейших епископов явился в видении муж, озаренный неземным светом, и повелел в эту ночь стать в притворе храма и заметить, кто первый придет в храм на утреннее богослужение: это и есть угодный Господу муж, которого епископы должны поставить своим архиепископом; открыто было и имя его — Никол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ив сие божественное откровение, старец епископ сообщил о нем другим, которые, в чаянии милости Божией, еще усилили свои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наступлением ночи старец епископ стал в притворе храма, ожидая прибытия избранника. Святитель Николай, встав с полуночи, пришел в храм. Его остановил старец и спросил о имени. Он тихо и скромно ответил: «Называюсь я Николай, раб святыни твоея, владык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Великорецкая икона святителя Николая Чудотвор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имени и глубокому смирению прибывшего, старец убедился, что он и есть избранник Божий. Он взял его за руку и повел на собор епископов. Все с радостью приняли его и поставили на середину храма. Несмотря на ночное время, весть о чудесном избрании разнеслась по городу; собралось множество народа. Старец епископ, сподобившийся видения, обратился ко всем со словами: «Примите, братие, своего пастыря, которого помазал для вас Святой Дух и которому он поручил управление ваших душ. Не человеческий собор, а Суд Божий поставил его. Вот теперь мы имеем того, кого ждали, приняли и обрели, кого искали. Под его мудрым руководством мы смело можем надеяться предстать Господу в день Его славы и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ступлении в управление Мирликийской епархией, святитель Николай сказал сам в себе: «Теперь, Николай, твой сан и твоя должность требуют от тебя, чтобы ты всецело жил не для себя, а для друг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rPr>
              <a:t> </a:t>
            </a:r>
            <a:br>
              <a:rPr sz="1200"/>
            </a:br>
            <a:r>
              <a:rPr b="1" lang="ru-RU" sz="1200" spc="-1" strike="noStrike">
                <a:solidFill>
                  <a:srgbClr val="000000"/>
                </a:solidFill>
                <a:latin typeface="Arial"/>
              </a:rPr>
              <a:t>Святители Николай Чудотворец и Иннокентий Иркут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ерь он не стал скрывать свои добрые дела для блага паствы и для прославления имени Божиего; но был, как всегда, кроток и смирен духом, незлоблив сердцем, чужд всякой надменности и своекорыстия; соблюдал строгую умеренность и простоту: носил простую одежду, вкушал постную пищу раз в сутки — вечером. Целый день великий архипастырь творил дела благочестия и пастырского служения. Двери его дома были открыты для всех: каждого он принимал с любовью и радушием, являясь для сирот отцом, для нищих — питателем, для плачущих — утешителем, для притесненных — заступником. Паства его процвета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приближались дни испытаний. Церковь Христова подверглась гонениям императора Диоклетиана (285—30 гг.). Храмы разрушались, божественные и богослужебные книги сжигались; епископы и священники заключались в темницы и предавались пыткам. Все христиане подвергались всяческим обидам и мучениям. Гонение дошло и до Ликийской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итель Николай в эти трудные дни поддерживал в вере свою паству, громко и открыто проповедуя имя Божие, за что был заключен в темницу, где не переставал укреплять веру среди заключенных и утверждал их в крепком исповедании Господа, чтобы они были готовы пострадать з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емник Диоклетиана Галерий прекратил гонения. Святитель Николай, по выходе из темницы, снова занял Мирликийскую кафедру и с еще большей ревностью отдался исполнению своих высоких обязанностей. Он прославился особенно ревностью по утверждению Православной веры и искоренению язычества и ерес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енно сильно пострадала Церковь Христова в начале IV века от ереси Ария. (Он отвергал божество Сына Божия и не признавал Его Единосущным Отц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ая водворить в стаде Христовом мир, потрясенный ересью Ариева лжеучения. Равноапостольный император Константин созвал Первый Вселенский Собор 325 года в Никее, где под председательством императора собрались триста восемнадцать архиереев; здесь было подвергнуто осуждению учение Ария и его последов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обенно подвизались на этом Соборе святитель Афанасий Александрийский и святитель Николай. Прочие святители защищали Православие помощью своего просвещения. Святитель Николай же защищал веру самою же верою — тем, что все христиане, начиная с Апостолов, веровали в Божество Иисус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rPr>
              <a:t> </a:t>
            </a:r>
            <a:br>
              <a:rPr sz="1200"/>
            </a:br>
            <a:r>
              <a:rPr b="1" lang="ru-RU" sz="1200" spc="-1" strike="noStrike">
                <a:solidFill>
                  <a:srgbClr val="000000"/>
                </a:solidFill>
                <a:latin typeface="Arial"/>
              </a:rPr>
              <a:t>Николай Чудотвор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ь предание, что во время одного из соборных заседаний, не стерпев богохульства Ария, святитель Николай ударил этого еретика по щеке. Отцы Собора сочли такой поступок излишеством ревности, лишили святителя Николая преимущества его архиерейского сана — омофора и заключили его в тюремную башню. Но вскоре они убедились в правоте святителя Николая, тем более, что многие из них имели видение, когда пред их очами Господь наш Иисус Христос подал святителю Николаю Евангелие, а Пресвятая Богородица возложила на него омофор. Они освободили его из заключения, возвратили ему его прежний сан и прославили его как великого Угодника Божи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стное предание Никейской Церкви не только верно сохраняет память о святителе Николае, но и резко выделяет его из числа трехсот восемнадцати отцов, которых считает всех своими покровителями. Даже турки-мусульмане имеют глубокое уважение к святителю: в башне они до сего времени бережно хранят ту темницу, где был заключен этот великий му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возвращении с Собора святитель Николай продолжал свою благотворную пастырскую деятельность по устройству Церкви Христовой: утверждал в вере христиан, обращал к истинной вере язычников и вразумлял еретиков, спасая тем их от гиб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6"/>
              </a:rPr>
              <a:t> </a:t>
            </a:r>
            <a:br>
              <a:rPr sz="1200"/>
            </a:br>
            <a:r>
              <a:rPr b="1" lang="ru-RU" sz="1200" spc="-1" strike="noStrike">
                <a:solidFill>
                  <a:srgbClr val="000000"/>
                </a:solidFill>
                <a:latin typeface="Arial"/>
              </a:rPr>
              <a:t>Святитель Николай Чудотвор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отясь о духовных нуждах своей паствы, святитель Николай не пренебрегал удовлетворением их телесных потребностей. Когда в Ликии наступил великий голод, добрый пастырь, чтобы спасти голодающих, сотворил новое чудо: один торговец нагрузил большой корабль хлебом и накануне отплытия куда-то на запад увидел во сне святителя Николая, который повелел ему доставить весь хлеб в Ликию, ибо он покупает у него весь груз и дает ему в задаток три золотые монеты. Проснувшись, купец был очень удивлен, найдя зажатыми у себя в руке действительно три золотые монеты. Он понял, что это было повеление свыше, привез хлеб в Ликию, и голодающие были спасены. Здесь он рассказал о видении, и граждане по его описанию узнали своего архиеписко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при жизни своей святитель Николай прославился как умиротворитель враждующих, защитник невинно осужденных и избавитель от напрасной смер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7"/>
              </a:rPr>
              <a:t> </a:t>
            </a:r>
            <a:br>
              <a:rPr sz="1200"/>
            </a:br>
            <a:r>
              <a:rPr b="1" lang="ru-RU" sz="1200" spc="-1" strike="noStrike">
                <a:solidFill>
                  <a:srgbClr val="000000"/>
                </a:solidFill>
                <a:latin typeface="Arial"/>
              </a:rPr>
              <a:t>Великорецкая икона свт. Николая Чудотвор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царствование Константина Великого в стране Фригии вспыхнул мятеж. Для его усмирения царь послал туда войско под начальством трех воевод: Непотиана, Урса и Эрпилиона. Корабли их прибило бурей к берегам Ликии, где им пришлось стоять долго. Припасы истощились, — стали грабить население, которое сопротивлялось, причем произошла жестокая схватка у города Плакомат. Узнав об этом, святитель Николай лично прибыл туда, прекратил вражду, затем вместе с тремя воеводами отправился во Фригию, где добрым словом и увещеванием, без применения военной силы, усмирил мятеж. Здесь ему сообщили, что во время его отсутствия из города Миры тамошний градоправитель Евстафий невинно осудил на смертную казнь трех граждан, оклеветанных врагами. Святитель Николай поспешил в Миры и с ним — трое царских воевод, которым очень полюбился этот добрый архиерей, оказавший им великую услу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иры прибыли они в самый момент казни. Палач уже заносит меч, чтобы обезглавить несчастных, но святитель Николай властной рукой вырывает у него меч иповелевает освободить невинно осужденных. Никто из присутствующих не осмелился противиться ему: все поняли, что творится воля Божия. Трое царских воеводдивились сему, не подозревая, что вскоре и им самим понадобится чудесное заступничество свят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8"/>
              </a:rPr>
              <a:t> </a:t>
            </a:r>
            <a:br>
              <a:rPr sz="1200"/>
            </a:br>
            <a:r>
              <a:rPr b="1" lang="ru-RU" sz="1200" spc="-1" strike="noStrike">
                <a:solidFill>
                  <a:srgbClr val="000000"/>
                </a:solidFill>
                <a:latin typeface="Arial"/>
              </a:rPr>
              <a:t>Святитель Никол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вратившись ко двору, они заслужили почет и благосклонность царя, чем вызвали зависть и вражду со стороны прочих царедворцев, которые оклеветали перед царем этих трех воевод, будто они пытались захватить власть. Завистливые клеветникисумели убедить царя: трое воевод были заключены в темницу и осуждены на смерть. Тюремный сторож предупредил их, что казнь должна состояться на другой день. Невинно осужденные стали горячо молиться Богу, прося заступни-чества через святителя Николая. В ту же ночь Угодник Божий явился во сне царю и властно потребовал освобождения трех воевод, угрожая поднять мятеж и лишить царя вла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ты, что смеешь требовать и угрожать цар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 Николай, Мир Ликийских Архиеписко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снувшись, царь стал размышлять об этом сне. В ту же ночь святитель Николай явился также начальнику города Евлавию и потребовал освобождения невинно осужденн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призвал к себе Евлавия, и узнав, что и он имел такое же видение, велел привести трех воев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колдовство делаете вы, чтобы давать мне и Евлавию видения во сне?» — спросил царь и рассказал им о явлении святителя Никол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не делаем никакого колдовства, — отвечали воеводы, — но сами ранее были свидетелями, как этот архиерей спас в Мирах невинных людей от смертной ка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велел рассмотреть их дело и, убедившись в их невиновности, отпусти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9"/>
              </a:rPr>
              <a:t> </a:t>
            </a:r>
            <a:br>
              <a:rPr sz="1200"/>
            </a:br>
            <a:r>
              <a:rPr b="1" lang="ru-RU" sz="1200" spc="-1" strike="noStrike">
                <a:solidFill>
                  <a:srgbClr val="000000"/>
                </a:solidFill>
                <a:latin typeface="Arial"/>
              </a:rPr>
              <a:t>Святитель Никола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итель во время своей жизни оказывал помощь людям, даже совсем его не знавшим. Однажды корабль, плывший из Египта в Ликию, был застигнут сильнейшей бурей. Сорвало на нем паруса, сломало мачты, волны готовы были поглотить корабль, обреченный на неминуемую гибель. Никакие силы человеческие не могли ее предотвратить. Одна надежда — просить помощи у святителя Николая, которого, правда, ни один из этих моряков никогда не видел, но все знали о его чудесном заступничестве. Погибающие корабельщики стали горячо молиться, — и вот святитель Николай появился на корме у руля, стал управлять кораблем и благополучно привел его в гава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щались к нему не только верующие, но и язычники, и святитель отзывался своей неизменной чудной помощью всем, искавшим ее. У спасаемых им от телесных бед он возбуждал раскаяние в грехах и желание исправить свою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ловам святого Андрея Критского, святитель Николай являлся к людям, обремененным различными бедствиями, подавал им помощь и спасал их от смерти: «Своими делами и добродетельной жизнью святитель Николай сиял в Мирах, как звезда утренняя среди облаков, как месяц красивый в полнолунии своем. Для Церкви Христовой он был ярко сияющим солнцем, украшал Ее, как лилия при источнике, был для у Нее миром благоухан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глубокой старости сподобил Господь дожить Своего великого Угодника. Но наступило время, когда и он должен был отдать общий долг человеческого естества. После непродолжительной болезни он мирно скончался 6 декабря 342 года, и был погребен в соборной церкви города Ми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жизни своей святитель Николай был благодетелем рода человеческого; не перестал он им быть и после своей смерти. Господь сподобил его честное тело нетления и особой чудотворной силы. Мощи его начали — и продолжают по сей день — источать благоуханное миро, обладающее даром чудотво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о семьсот с лишним лет после кончины Угодника Божиего. Город Миры и вся Ликийская страна были разрушены сарацинами. Развалины храма с гробницей святителя были в запустении и охранялись лишь несколькими благочестивыми монах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087 году святитель Николай явился во сне одному апулийскому священнику города Бари (в южной Италии) и повелел перенести его мощи в этот гор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свитеры и знатные горожане снарядили для этой цели три корабля и под видом торговцев отправились в путь. Эта предосторожность была нужна для того, чтобы усыпить бдительность венецианцев, которые, проведав о приготовлениях жителей Бари, имели намерение их опередить и привезти мощи святителя в свой гор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0"/>
              </a:rPr>
              <a:t> </a:t>
            </a:r>
            <a:br>
              <a:rPr sz="1200"/>
            </a:br>
            <a:r>
              <a:rPr b="1" lang="ru-RU" sz="1200" spc="-1" strike="noStrike">
                <a:solidFill>
                  <a:srgbClr val="000000"/>
                </a:solidFill>
                <a:latin typeface="Arial"/>
              </a:rPr>
              <a:t>Три cвятителя: Николай Чудотворец, Иоанн Милостивый и Василий Исповед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ряне, окружным путем, через Египет и Палестину, заходя в порты и ведя торговлю, как простые купцы, прибыли, наконец, в Ликийскую землю. Посланные разведчики сообщили, что никакой стражи у гробницы нет и ее охраняют только четыре старика монаха. Баряне пришли в Миры, где, не зная точного местоположения гробницы, пытались подкупить монахов, предложив им триста золотых монет, но ввиду их отказа, применили силу: связали монахов и под угрозой пыток, заставили одного малодушного указать им местонахождение гробн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удесно сохранившаяся гробница белого мрамора была вскрыта. Она оказалась наполненной до краев благоуханным миром, в котором и были погружены мощи святителя. Не имея возможности взять большую и тяжелую гробницу, баряне переложили мощи в заготовленный ковчег и отправились в обратный пу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ешествие длилось двадцать дней, и 9 мая 1087 года они прибыли в Бари. Великой святыне была устроена торжественная встреча при участии многочисленного духовенства и всего населения. Вначале мощи святителя были помещены в церкви святого Евстаф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о чудес происходило от них. Через два года была законче-на и освящена нижняя часть (крипт) нового храма и во имя Святого Николая, сооруженного нарочито для хранения его мощей, куда они и были торжественно перенесены папой Урбаном Вторым 1 октября 1089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хняя часть храма (базилика) была построена значительно позже — 22 июня 1197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жба святителю, совершаемая в день перенесения его мощей из Мир Ликийских в Барград — 9/22 мая — была составлена в 1097 году русским православным иноком Печерской обители Григорием и русским митрополитом Ефрем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ая Церковь Православная чествует память святителя Николая не только 6 декабря и 9 мая, но и еженедельно, каждый четверг, особыми песнопениями.</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93044-DE49-485F-91D7-163B16E9E2B3}"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Святой апостол Симон Зилот происходил из Каны Галилейской, был сыном святого </a:t>
            </a:r>
            <a:r>
              <a:rPr b="0" lang="ru-RU" sz="1200" spc="-1" strike="noStrike" u="sng">
                <a:solidFill>
                  <a:srgbClr val="009999"/>
                </a:solidFill>
                <a:uFillTx/>
                <a:latin typeface="Arial"/>
                <a:hlinkClick r:id="rId1"/>
              </a:rPr>
              <a:t>Обручника Иосифа</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 </a:t>
            </a:r>
            <a:r>
              <a:rPr b="0" lang="ru-RU" sz="1200" spc="-1" strike="noStrike" u="sng">
                <a:solidFill>
                  <a:srgbClr val="009999"/>
                </a:solidFill>
                <a:uFillTx/>
                <a:latin typeface="Arial"/>
                <a:hlinkClick r:id="rId4"/>
              </a:rPr>
              <a:t> </a:t>
            </a:r>
            <a:r>
              <a:rPr b="0" lang="ru-RU" sz="1200" spc="-1" strike="noStrike">
                <a:solidFill>
                  <a:srgbClr val="000000"/>
                </a:solidFill>
                <a:latin typeface="Arial"/>
              </a:rPr>
              <a:t>, по плоти братом Господа, и одним из 12-ти апостолов. Первое чудо, которое сотворил Спаситель, - претворение воды в вино, произошло в доме Симона: во время пира для гостей недостало вина. Тогда Господь, по предстательству Пресвятой Богоматери, претворил воду в вино. Пораженный чудом, Симон всем сердцем и душой уверовал в Господа Иисуса как обетованного Мессию и, все оставив, последовал за Ним. Симон получил наименование "зилота", т. е. ревнителя. В день </a:t>
            </a:r>
            <a:r>
              <a:rPr b="0" lang="ru-RU" sz="1200" spc="-1" strike="noStrike" u="sng">
                <a:solidFill>
                  <a:srgbClr val="009999"/>
                </a:solidFill>
                <a:uFillTx/>
                <a:latin typeface="Arial"/>
                <a:hlinkClick r:id="rId5"/>
              </a:rPr>
              <a:t>Пятидесятницы</a:t>
            </a:r>
            <a:r>
              <a:rPr b="0" lang="ru-RU" sz="1200" spc="-1" strike="noStrike" u="sng">
                <a:solidFill>
                  <a:srgbClr val="009999"/>
                </a:solidFill>
                <a:uFillTx/>
                <a:latin typeface="Arial"/>
                <a:hlinkClick r:id="rId6"/>
              </a:rPr>
              <a:t> </a:t>
            </a:r>
            <a:r>
              <a:rPr b="0" lang="ru-RU" sz="1200" spc="-1" strike="noStrike" u="sng">
                <a:solidFill>
                  <a:srgbClr val="009999"/>
                </a:solidFill>
                <a:uFillTx/>
                <a:latin typeface="Arial"/>
                <a:hlinkClick r:id="rId7"/>
              </a:rPr>
              <a:t> </a:t>
            </a:r>
            <a:r>
              <a:rPr b="0" lang="ru-RU" sz="1200" spc="-1" strike="noStrike" u="sng">
                <a:solidFill>
                  <a:srgbClr val="009999"/>
                </a:solidFill>
                <a:uFillTx/>
                <a:latin typeface="Arial"/>
                <a:hlinkClick r:id="rId8"/>
              </a:rPr>
              <a:t> </a:t>
            </a:r>
            <a:r>
              <a:rPr b="0" lang="ru-RU" sz="1200" spc="-1" strike="noStrike" u="sng">
                <a:solidFill>
                  <a:srgbClr val="009999"/>
                </a:solidFill>
                <a:uFillTx/>
                <a:latin typeface="Arial"/>
                <a:hlinkClick r:id="rId9"/>
              </a:rPr>
              <a:t> </a:t>
            </a:r>
            <a:r>
              <a:rPr b="0" lang="ru-RU" sz="1200" spc="-1" strike="noStrike">
                <a:solidFill>
                  <a:srgbClr val="000000"/>
                </a:solidFill>
                <a:latin typeface="Arial"/>
              </a:rPr>
              <a:t> он принял вместе с другими Апостолами дар Святого Духа. Святой апостол Симон проповедовал учение Христово в Иудее, Египте, Ливии, Киринее и Британии. В Абхазии принял мученическую кончину, был распят на кресте. Погребен в городе Никопсии около Сухуми. Впоследствии (в XIX в.) на месте подвигов святого Апостола, близ Иверской горы, был сооружен Новоафонский монастырь </a:t>
            </a:r>
            <a:r>
              <a:rPr b="0" lang="ru-RU" sz="1200" spc="-1" strike="noStrike" u="sng">
                <a:solidFill>
                  <a:srgbClr val="009999"/>
                </a:solidFill>
                <a:uFillTx/>
                <a:latin typeface="Arial"/>
                <a:hlinkClick r:id="rId10"/>
              </a:rPr>
              <a:t>Симона Кананита</a:t>
            </a:r>
            <a:r>
              <a:rPr b="0" lang="ru-RU" sz="1200" spc="-1" strike="noStrike" u="sng">
                <a:solidFill>
                  <a:srgbClr val="009999"/>
                </a:solidFill>
                <a:uFillTx/>
                <a:latin typeface="Arial"/>
                <a:hlinkClick r:id="rId11"/>
              </a:rPr>
              <a:t> </a:t>
            </a:r>
            <a:r>
              <a:rPr b="0" lang="ru-RU" sz="1200" spc="-1" strike="noStrike" u="sng">
                <a:solidFill>
                  <a:srgbClr val="009999"/>
                </a:solidFill>
                <a:uFillTx/>
                <a:latin typeface="Arial"/>
                <a:hlinkClick r:id="rId12"/>
              </a:rPr>
              <a:t> </a:t>
            </a:r>
            <a:r>
              <a:rPr b="0" lang="ru-RU" sz="1200" spc="-1" strike="noStrike">
                <a:solidFill>
                  <a:srgbClr val="000000"/>
                </a:solidFill>
                <a:latin typeface="Arial"/>
              </a:rPr>
              <a:t>. Доныне сохранилась пещера, в которой подвизался святой Апостол.</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1728B-0E86-472F-BE5D-D36DE9448352}"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Икона XIX века. Частное собрание Родные братья Кирилл и Мефодий происходили из благочестивой семьи, жившей в греческом городе Солуни (в Македонии). Они были дети одного воеводы, родом болгарского славянина. Святой Мефодий был старшим из семи братьев, святой Константин (Кирилл — его монашеское имя) — самым младш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Равноапостольные Мефодий и Кирил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ой Мефодий сначала служил, как и отец его, в военном звании. Царь, узнав о нем, как о хорошем воине, поставил его воеводой в одно славянское княжество Славинию, бывшею под греческой державой. Это случилось по особому усмотрению Божию и для того, чтобы Мефодий мог лучше научиться славянскому языку, как будущий впоследствии духовный учитель и пастырь славян. Пробыв в чине воеводы около 10 лет и познав суету житейскую, Мефодий стал располагав свою волю к отречению от всего земного и устремлять свои мысли к небесному. Оставив воеводство и все утехи мира, он ушел в монахи на гору Олим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Мефодий Мора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брат его святой Константин с юности своей показал блестящие успехи как в светском, так и в религиозно-нравственном образовании. Он учился вместе с малолетним императором Михаилом у лучших учителей Константинополя, в том числе у Фотия, будущего патриарха Константинопольского. Получив блестящее образование, он в совершенстве постиг все науки своего времени и многие языки, особенно прилежно изучал он творения святителя Григория Богослова, за что получил прозвание Философа (мудрого). По окончании учения святой Константин принял сан иерея и был назначен хранителем патриаршей библиотеки при храме святой Софии. Но, пренебрегая всеми выгодами своего положения, удалился в один из монастырей при Черном море. Почти насильно он был возвращен в Константинополь и определен учителем философии в высшей Константинопольской школе. Мудрость и сила веры еще совсем молодого Константина были столь велики, что ему удалось победить в прениях вождя еретиков-иконоборцев Ани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Святые Кирилл и Мефод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тем Кирилл удалился к брату Мефодию и несколько лет разделял с ним иноческие подвиги в монастыре на Олимпе, где впервые стал заниматься изучением славянского языка. В обителях, бывших на горе, было много иноков-славян из разных соседних стран, почему Константин мог иметь здесь для себя постоянную практику, что для него было особенно важно, так как он, почти с детства, все время проводил в греческой среде. Вскоре император вызвал обоих святых братьев из монастыря и отправил их к хазарам для евангельской проповеди. На пути они остановились на некоторое время в городе Корсуни, готовясь к пропове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есь же святые братья узнали, что мощи священномученика Климента, папы Римского, находятся в море, и чудесным образом обрели 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же в Корсуни святой Константин нашел Евангелие и Псалтирь, написанные «русскими буквами», и человека, говорящего по-русски, и стал учиться у этого человека читать и говорить на его языке. После этого святые братья отправились к хазарам, где одержали победу в прениях с иудеями и мусульманами, проповедуя Евангельское у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Святители Кирилл и Мефод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коре пришли к императору послы от моравского князя Ростислава, притесняемого немецкими епископами, с просьбой послать в Моравию учителей, которые могли бы проповедовать на родном для славян языке. Император призвал святого Константина и сказал ему: «Необходимо тебе идти туда, ибо лучше тебя никто этого не выполнит». Святой Константин с постом и молитвой приступил к новому подвигу. С помощью своего брата святого Мефодия и учеников Горазда, Климента, Саввы, Наума и Ангеляра он составил славянскую азбуку и перевел на славянский язык книги, без которых не могло совершаться Богослужение: Евангелие, Псалтирь и избранные службы. Некоторые летописцы сообщают, что первые слова, написанные на славянском языке, были слова апостола Евангелиста Иоанна: «Вначале бе (было) Слово, и Слово бе к Богу, и Бог бе Слово». Это было в 863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rPr>
              <a:t> </a:t>
            </a:r>
            <a:br>
              <a:rPr sz="1200"/>
            </a:br>
            <a:r>
              <a:rPr b="1" lang="ru-RU" sz="1200" spc="-1" strike="noStrike">
                <a:solidFill>
                  <a:srgbClr val="000000"/>
                </a:solidFill>
                <a:latin typeface="Arial"/>
              </a:rPr>
              <a:t>Кирилл, учитель Словен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завершения перевода святые братья отправились Моравию, где были приняты с великой честью и стали учить Богослужению на славянском языке. Это вызвало злобу немецких епископов, совершавших в моравских церквах Богослужение на латинском языке, и они восстали против святых братьев и подали жалобу в Рим. В 867 году св. Мефодий и Константин вызваны были папою Николаем I в Рим на суд для решения этого вопроса. Взяв с собой мощи святого Климента, папы Римского, святые Константин и Мефодий отправились в Рим. Когда они прибыли в Рим, Николая I уже не было в живых; его преемник Адриан II, узнав, что они несут с собой мощи св. Климента, встретил их торжественно за городом. Папа Римский утвердил Богослужение на славянском языке, а переведенные братьями книги приказал положить в римских церквах и совершать Литургию на славянском язы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rPr>
              <a:t> </a:t>
            </a:r>
            <a:br>
              <a:rPr sz="1200"/>
            </a:br>
            <a:r>
              <a:rPr b="1" lang="ru-RU" sz="1200" spc="-1" strike="noStrike">
                <a:solidFill>
                  <a:srgbClr val="000000"/>
                </a:solidFill>
                <a:latin typeface="Arial"/>
              </a:rPr>
              <a:t>Святые Кирилл и Мефодий - учителя Словен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дясь в Риме, святой Константин, в чудесном видении извещенный Господом о приближении кончины, принял схиму с именем Кирилл. Через 50 дней после принятия схимы, 14 февраля 869 года, равноапостольный Кирилл скончался в возрасте 42 лет. Перед смертью он говорил брату: «Мы с тобой как дружная пара волов вели одну борозду; я изнемог, но ты не подумай оставить труды учительства и снова удалиться на свою гору». Папа приказал положить мощи святого Кирилла в церкви святого Климента, где от них стали совершаться чуд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Кирилл и Мефод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кончины святого Кирилла папа, следуя просьбе славянского князя Коцела, послал святого Мефодия в Паннонию, рукоположив его во архиепископа Моравии и Паннонии, на древний престол святого апостола Антродина. При этом Мефодию немало приходилось переносить неприятностей от инославных миссионеров, но он продолжал Евангельскую проповедь среди славян и крестил чешского князя Боривоя и его супругу Людмилу (память 16 сентября), а также одного из польских кня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ие годы своей жизни святитель Мефодий с помощью двух учеников-священников перевел на славянский язык весь Ветхий Завет, кроме Маккавейских книг, а также Номоканон (Правила святых отцов) и святоотеческие книги (Патер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итель предсказал день своей смерти и скончался 6 апреля 885 года в возрасте около 60 лет. Отпевание святителя было совершено на трех языках — славянском, греческом и латинском; он был погребен в соборной церкви Велеграда — столицы Морав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ику святых равноапостольные Кирилл и Мефодий причислены в древности. В Русской Православной Церкви память равноапостольных просветителей славян чествуется с XI века. Древнейшие службы святым, дошедшие до нашего времени, относятся к XIII ве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жественное празднование памяти святых первосвятителей равноапостольных Кирилла и Мефодия было установлено в Русской Церкви в 1863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Иконописном подлиннике под 11 мая сказано: «Преподобных отец наших Мефодия и Константина, нареченного Кирилла, епископов Моравских, учителей Словенских. Мефодий — подобием стар, власы седы, брада долга аки Власиева, ризы святительские и омофор, в руках Евангелие. Константин — ризы преподобнические и в схиме, в руках книга, а в ней написана русская азбука А, Б, В, Г, Д и прочие слова (буквы) все по ря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Кирилл и Мефодий, учители Словенс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казом Св. Синода (1885 г.) празднование памяти славянских учителей отнесено к средним церковным праздникам. Тем же указом определено: в молитвах на литии, по Евангелии на утрени перед каноном, на отпустах, а равно во всех молитвах, в коих поминаются вселенские святители Русской Церкви, поминать после имени святителя Николая архиепископа Мирликийского чудотворца, имена: иже во святых отец наших Мефодия и Кирилла, учителей Словенск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равославной России празднование свв. первоучителям имеет особое значение: «Ими бо начася на сроднем нам язьще словенстем Литургия Божественная и все церковное служение совершатися, и тем неисчерпаемый кладезь воды текущия в жизнь вечную дадеся нам».</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9A3A-2FBC-40B7-93D8-6FC7E482F91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Священномученик Ермоген, Патриарх Московский и всея Руси, происходил из донских казаков. По свидетельству самого Патриарха, он был вначале священником в городе Казани при гостинодворской церкви во имя святителя Николая (память 6 декабря и 9 мая). Вскоре он принял монашество и с 1582 года был архимандритом Спасо-Пре-ображенского монастыря в Казани. 13 мая 1589 года хиротонисан во епископа и стал первым Казанским митрополи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Святитель Ермоген, патриарх Московский и всея Росс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 время служения будущего Патриарха в Казани совершилось явление и обретение чудотворной Казанской иконы Божией Матери в 1579 году. Будучи еще священником, он, с благословения тогдашнего Казанского архиерея Иеремии, переносил новоявленную икону с места обретения в церковь во имя святителя Николая. Обладая незаурядным литературным дарованием, святитель сам составил в 1594 году сказание о явлении чудотворной иконы и совершавшихся от нее чудесах. В сказании он со смирением пишет о себе: «Я же тогда... хотя и был каменносердечен, однако прослезился и припал к Богородичному образу, и к чудотворной иконе, и к Предвечному Младенцу, Спасу Христу... И по велению Архиепископа, с прочими святыми крестами пошел я с иконою в находящуюся вблизи церковь святого Николая, который зовется Тульским...» В 1591 году святитель собирал в кафедральный собор новокрещенных татар и в течение нескольких дней наставлял их в христианской вер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Собор Московских святителей Ермоген, Алексий, Петр, Иона и Филипп</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 января 1592 года святитель Ермоген направил Патриарху Иову письмо, в котором сообщал, что в Казани не совершается особое поминовение православных воинов, жизнь положивших за веру и Отечество под Казанью, и просил установить определенный день памяти воинов. В ответ святителю Ермогену Патриарх прислал указ от 25 февраля, который предписывал «по всем православным воинам, убитым под Казанью и в пределах казанских, совершать в Казани и по всей Казанской митрополии панихиду и субботний день после Покрова Пресвятой богородицы и вписать их в большой синодик, читаемый в Неделю Православия». Святитель Ермоген проявлял ревность по вере и твердость в соблюдении церковных традиций, заботился о просвещении верой Христовой казанских тата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Святитель Ермоген, патриарх Мос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595 году при деятельном участии святителя совершилось обретение и открытие мощей Казанских чудотворцев: святителей Гурия, первого архиепископа Казанского и Варсонофия, епископа Тверского. Царь Феодор Иоаннович приказал соорудить в Казанском Спасо-Преображенском монастыре новую каменную церковь на месте прежней, где были погребены святые. Когда были обретены гробы святых, святитель Ермоген пришел с собором духовенства, повелел вскрыть гробы и, увидев нетленные мощи и одежды святителей, сообщил Патриарху и царю. По благословению Святейшего Патриарха Иова (+ 1605) и по повелению царя, мощи новоявленных чудотворцев были поставлены в новом храме. Святой Ермоген сам составил жития святителей Гурия и Варсонофия, епископов Казанск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Московские свят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 выдающиеся архипастырские труды митрополита Ермогена избрали на первосвятительскую кафедру, а 3 июля 1606 года он был возведен собором святителей на Патриарший престол в Московском Успенском соборе. Митрополит Исидор вручил Святейшему Патриарху Ермогену посох святителя Петра, Московского чудотворца (+ 21 декабря 1326), a царь принес в дар новому Патриарху панагию, украшенную драгоценными камнями, белый клобук и посох. По древнему чину Святейший Патриарх Ермоген совершал шествие на осляти вокруг стен Крем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Ермоген Патриарх Мос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Патриарха Ермогена совпала с трудным для Русского государства периодом — нашествием самозванца Лжедмитрия и польского короля Сигизмунда III. В этом подвиге Патриарх Ермоген не был одинок: ему подражали и помогали самоотверженные русские люди. С особенным вдохновением противостоял Святейший Патриарх изменникам и врагам Отечества, желавшим поработить русский народ, ввести в России униатство и католичество, и искоренить Православие. Когда самозванец подошел к Москве и расположился в Тушине, Патриарх Ермоген направил мятежным изменникам два послания. В одном из них он писал: «...Вы забыли обеты Православной веры нашей, в которой мы родились, крестились, воспитались и возросли, преступили крестное целование и клятву стоять до смерти за Дом Пресвятой Богородицы и за Московское государство и припали к ложно-мнимому вашему царику... Болит моя душа, болезнует сердце и все внутренности мои терзаются, все составы мои содрогаются; я плачу и с рыданием вопию: помилуйте, помилуйте, братие и чада, свои души и своих родителей, отшедших и живых... Посмотрите, как отечество наше расхищается и разоряется чужими, какому поруганию предаются святые иконы и церкви, как проливается кровь неповинных, вопиющая к Богу. Вспомните, на кого вы поднимаете оружие: не на Бога ли, сотворившего вас? не на своих ли братьев? Не свое ли Отечество разоряете?... Заклинаю вас Именем Бога, отстаньте от своего начинания, пока есть время, чтобы не погибнуть вам до конц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ругой грамоте Первосвятитель призывал: «...Бога ради, познайте себя и обратитесь, обрадуйте своих родителей, жен и чад, и всех нас; и станем молить за вас Б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Ермоген Патриарх Московск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коре праведный суд Божий свершился и над Тушинским вором: его постигла столь же печальная и бесславная участь, как и предшественника; он был убит собственными приближенными 11 декабря 1610 года. Но Москва продолжала оставаться в опасности, так как в ней находились поляки и изменники-бояре, преданные Сигизмунду III. Грамоты, рассылавшиеся Патриархом Ермогеном по городам и селам, возбуждали русский народ к освобождению Москвы от врагов и избранию законного русского царя. Москвичи подняли восстание, в ответ на которое поляки подожгли город, а сами укрылись в Кремле. Совместно с русскими изменниками они насильно свели святого Патриарха Ермогена с Патриаршего престола и заключили в Чудовом монастыре под стражу. В Светлый понедельник 1611 года русское ополчение подошло к Москве и начало осаду Кремля, продолжавшуюся несколько месяцев. Осажденные в Кремле поляки не раз посылали к Патриарху послов с требованием, чтобы он приказал русским ополченцам отойти от города, угрожая при этом ему смертной казнью. Святитель твердо отвечал: «Что вы мне угрожаете? Боюсь одного Бога. Если все вы, литовские люди, пойдете из Московского государства, я благословлю русское ополчение идти от Москвы, если же останетесь здесь, я благословлю всех стоять против вас и помереть за Православную веру». Уже из заточения священномученик Ермоген обратился с последним посланием к русскому народу, благословляя освободительную войну против завоевателей. Но русские воеводы не проявили тогда единодушия и согласованности, поэтому не смогли взять Кремль и освободить своего Первосвятителя. Более девяти месяцев томился он в тяжком заточении и 17 февраля 1612 года скончался мученической смертью от гол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вобождение России, за которое с таким несокрушимым мужеством стоял святитель Ермоген, успешно завершилось по его предстательству русским народом. Тело священномученика Ермогена было погребено в Чудовом монастыре, а в 1654 году перенесено в Московский Успенский собор. Прославление Патриарха Ермогена в лике святителей совершилось 12 мая 1913 года. Память его также празднуется 17 февраля.</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BA89-3FE9-40C0-92BD-A95CCF46C9A4}"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Родился в 1605 г. в городе Овруче, на Волыне, в знатной семье Токаревских, известных ревнителей Православия. В 1614-1620 гг. святой обучался при Успенском Овручском монастыре и по смерти родителей стал иноком этого монастыря, начав свое служение с меньшего монастырского чина — послушника. В 1625 г. инок Макарий с благословения архимандрита переходит в Купятичский Пинский монастырь. В 1630 г. святой был посвящен в сан иеродиакона, а в 1632 г. — в сан иеромонаха. В 1637 г. настоятель Купятичского монастыря послал его к Киевскому митрополиту Петру Могиле, который заметил в иеромонахе Макарии преданного сына Церкви Божией, и в 1638 г. назначил его настоятелем Каменецкого Воскресенского монастыря (Гродненская область). С 1642 г. преподобный Макарий руководил братией Купятичского монастыря, с 1656—1659 гг. возглавлял Пинский монастырь, а с 1660 г. руководил братией родного Успенского Овручского монастыр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десяти лет продолжалась непрерывная борьба с латино-поляками в Овруче. Только в 1671 г., после опустошения Овруча татарами, архимандрит Макарий покинул монастырь и отправился для духовных подвигов в Киево-Печерскую лавру. Но защитники Православия нужны были не только в Киеве, и преподобный Макарий был назначен настоятелем Каневского монастыря, где он снова был впереди не стихающей битвы за Православ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нчался преподобный Макарий мученически от турок, 4 сентября 1678 г. напавших на монастырь. Св. Макарий встретил врагов с крестом в руках на паперти храма. Турки повесили настоятеля за руки и за ноги между двух столбов. Через два дня преподобномученику отрубили голову (+ 7 сентября 1678 г.). Свидетели мученической кончины преподобного Макария внесли его тело в монастырский храм, в котором для безопасности затворились. Но вернувшиеся турки обложили церковь дровами и сожгли всех, скрывшихся в храме. Когда оставшиеся в живых горожане Канева стали разбирать тела погибших, то только одно тело было найдено в целости и было как бы живое, — это тело священномученика Макария, одетое во власяницу, с крестом на груди и с другим крестом в руке. Святое тело было погребено в том же храме под жертвенником 8 сентября 1678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мученик Макарий был мужем высоко праведной и духовной жизни, прославленный еще при жизни чудотворением и даром прозорливости. Жизненный подвиг, совершенный преподобномучеником, был подвигом защиты православной веры в условиях неравной изнурительной борьбы, когда защищать можно было только будущее Русской Православной Церкви, поскольку то, что сохранилось от проносящегося урагана унии, сносилось татарскими набег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688 г. при обновлении храма гроб преподобномученика был открыт, и в нем обретено нетленное тело святого. Четыре раза совершалось перенесения мощей, ради их сохранения, а с 1965 г. они находятся в храме в честь Рождества Пресвятой Богородицы г. Черкассы.</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A68E-C643-40B7-B9FF-08244D55FBE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Кипрская икона Божией Матери явилась в 392 году на острове Кипре и была помещена в монастыре, устроенном на месте ее явления.</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CDB8-F6E0-4D30-A27D-A8466689E70E}"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r>
              <a:rPr b="0" i="1" lang="ru-RU" sz="1200" spc="-1" strike="noStrike">
                <a:solidFill>
                  <a:srgbClr val="000000"/>
                </a:solidFill>
                <a:latin typeface="Arial"/>
              </a:rPr>
              <a:t>Преподобные Евфросин Псковский, Савва Крыпецкий, Досифей Верхнеостровский, Иларион Псковоезерский, Серапион Спасоелеазаровский, Игнатий Псковский</a:t>
            </a:r>
            <a:r>
              <a:rPr b="0" lang="ru-RU" sz="1200" spc="-1" strike="noStrike">
                <a:solidFill>
                  <a:srgbClr val="000000"/>
                </a:solidFill>
                <a:latin typeface="Arial"/>
              </a:rPr>
              <a:t> Родился в конце XIV века в городе Юрьеве (Дерпте) и был воспитан в строгом благочестии. Хорошо зная Священное Писание и творения святых отцов, был пламенным исповедником православной веры и ревностным обличителем латинского заблуж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35 лет от роду святой поселяется на реке Толве и становится учеником преподобного Евфросина Псковского (+ 1481 г., 15/28 мая), жившего еще в полном уединении, и разделяет с ним пустынные подвиги и труды по устройству обители (55 лет прожили святые вмес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известно, где и когда принял преподобный Серапион постриг, но к преподобному Евфросину он пришел уже иноком. Ревностно исполняя все монастырские уставы, святой особенно прилежал к церковной молитве и говорил, что: «двенадцать псалмов, пропетых в келлии, не могут равняться единожды пропетой в храме краткой молитве: "Господи, помилу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ди великих подвигов своих преподобный еще при жизни удостоился от Господа дара прозорливости и чудотворений. В 1476 г. исцелился от гнойной раны на ноге латыш-крестьянин, приложив к ней снег от следов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одобный предсказал нашествие на Псков немцев в год его смерти и то, что обитель не пострадает, что и исполнило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нчался он 90-летним старцем, 8 сентября 1480 г. По смерти прославился многочисленными чудотворениями.</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F71F-28E7-4FDC-A30C-168382420ED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8Родилась блаженная Матрона (Матрона Димитриевна Никонова) в 1885 году в селе Себино Епифанского уезда (ныне Кимовского района) Тульской губернии. Село это расположено километрах в двадцати от знаменитого Куликова поля. Родители ее — Димитрий и Наталия, крестьяне — были людьми благочестивыми, честно трудились, жили бедно. В семье было четверо детей: двое братьев — Иван и Михаил, и две сестры — Мария и Матрона. Матрона была младшей. Когда она родилась, родители ее были уже немол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той нужде, в которой жили Никоновы, четвертый ребенок мог стать прежде всего лишним ртом. Поэтому из-за бедности еще до рождения последнего ребенка мать решила избавиться от него. Об убийстве младенца во чреве матери в патриархальной крестьянской семье не могло быть и речи. Зато существовало множество приютов, где незаконнорожденные и необеспеченные дети воспитывались за казенный счет или на средства благотвор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ь Матроны решила отдать будущего ребенка в приют князя Голицина в соседнее село Бучалки, но увидела вещий сон. Еще не родившаяся дочь явилась Наталии во сне в виде белой птицы с человеческим лицом и закрытыми глазами и села ей на правую руку. Приняв сон за знамение, богобоязненная женщина отказалась от мысли отдать ребенка в приют. Дочь родилась слепой, но мать любила свое «дитя несчастн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свидетельствует, что Всеведущий Бог иногда предъизбирает Себе служителей еще до их рождения. Так, Господь говорит святому пророку Иеремии: «Прежде нежели Я образовал тебя во чреве, Я познал тебя, и прежде нежели ты вышел из утробы, Я освятил тебя» (Иер. 1, 5). Господь, избрав Матрону для особого служения, с самого начала возложил на нее тяжелый крест, который она с покорностью и терпением несла всю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крещении девочка была названа Матроной в честь преподобной Матроны Константинопольской, греческой подвижни-цы V века, память которой празднуется 9 (22) ноябр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богоизбранности девочки свидетельствовало то, что при крещении, когда священник, опустил дитя в купель, присутствующие увидели над младенцем столб благоухающего легкого дыма. Об этом поведал родственник блаженной Павел Иванович Прохоров, присутствовавший при крещении. Священник, отец Василий, которого прихожане почитали как праведника и блаженного, был несказанно удивлен: «Я много крестил, но такое вижу в первый раз, и этот младенец будет свят». Еще отец Василий сказал Наталии: «Если девочка что-то попросит, вы обязательно обратитесь прямо ко мне, идите и говорите прямо, что нужно».</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BC2C-9C65-42A6-A1ED-5C35D1FDA4A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Фреска церкви св. Симеона Богоприимца в Новгороде. XVв. Священномученик Александр, епископ Иерусалимский, был учеником великого учителя Церкви и писателя, пресвитера Климента Александрийского (+ ок. 217). В начале III века он был избран епископом Флавии Каппадокийской. При Септимии Севере (193 - 211) святитель был заключен в темницу и провел в ней три года. После освобождения из темницы отправился в Иерусалим на поклонение святым местам и, по откровению свыше, был там избран соправителем преклонного годами Патриарха Наркисса (в 212 году). Это - чрезвычайно редкий случай в практике древней Церкви. В этом сане он управлял Иерусалимскою Церковью 38 лет, много потрудившись в христианском просвещении. Им была собрана в Иерусалиме большая библиотека творений христианских писателей. Скончался в темнице во время гонений императора Декия.</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33EF-2512-4768-BCCE-66A4E64C250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5Имя преподобной Евфросинии в миру — Евдокия («Благоволение»). Она была дочерью Суздальского князя Димитрия Константиновича и его супруги Анны. По благословению святителя Алексия митрополита Московского 18 января 1366 г. совершилось бракосочетание Евдокии с великим князем Московским Димитрием Ивановичем. Свадьбу торжественно отпраздновали по обычаям тех лет в Коломне. Этот брак имел большое значение для судьбы Московского государства, скрепляя союз Московского и Суздальского княжеств. Бракосочетание юных князя и княгини «преисполнило радостию сердца русских», как говорит летопис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рудное время был заключен этот брак. Заканчивался сорокалетний период относительного спокойствия на Руси: наступало время практически не прекращающихся войн с многочисленными врагами — внешними и внутренними. Кроме постоянного противостояния внешним врагам — Орде и Литве, продолжалось кровавое соперничество русских княжест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почти в самый год бракосочетания князя Димитрия с Евдокией свирепствовала в Москве «моровая язва», народ умирал тысячами, по московским улицам слышан был плач и причитания осиротелых людей. К этой беде присоединилась еще одна — страшный пожар в Москве. Море огня охватило улицы города, безжалостно пожирая деревянные постройки. Горели дома, имущество, скот, гибли лю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он и плач народа достигал княжеского терема, оставляя свой след в сердце юной княгини — и вот тогда-то явила себя Евдокия матерью 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ровительницей обездоленных погорельцев, вдов и сир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ва Москва восстановилась из пепла, как в 1368 г. литовский князь Ольгерд осадил Кремль, в котором затворились великий князь с княгиней, митрополит Алексий и бояре. И снова горела Москва, опять слышались стоны и крики московских, жителей, побиваемых литовцами. Вся Московская земля была опустоше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ная княгиня непрестанно молилась о родной земле, всеми силами старалась облегчить положение страждущих. Не прошло и пяти лет замужества, как князю Димитрию было необходимо ехать в Орду в связи со спором о великом княжении с Тверским князем Михаилом Александровичем (1399 г.). Первосвятитель Русской Церкви митрополит Алексий не только благословил князя на эту поездку — восьмидесятилетний старец сам сопровождал его до Коломны. В отсутствии супруга Евдокия со всем народом молилась о благополучном возвращении князя. По молитвам святителя Алексия и преподобного Сергия князь Димитрий Иванович вернулся из Орды в Москву с ярлыком на великое княж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Евфросиния (Евдокия) Москов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я жизнь великокняжеской четы прошла под духовным руководством и благословением великих святых земли Русской — святителя Алексия и преподобного Сергия, а также ученика преподобного — святого Феодора, игумена Московского Симонова монастыря (впоследствии архиепископа Ростовского), который был духовником Евдокии. Преподобный Сергий крестил самого Димитрия и двух его детей, в том числе и первенца Василия (у великокняжеской четы родилось 5 сыновей и 3 дочери). Это был поистине благословенный христианский брак. Автор «Слова о житии...» князя Димитрия находит удивительные и точные слова для описания совместной жизни великокняжеской четы: «Еще и мудрый сказал, что любящего душа в теле любимого. И я не стыжусь говорить, что двое таких носят в двух телах единую душу и одна у обоих добродетельная жизнь, на будущую славу взирают, возводя очи к небу. Так же и Димитрий имел жену, и жили они в целомудрии. Как и железо в огне раскаляется и водой закаляется, чтобы было острым, так и они огнем Божественного Духа распалялись и слезами покаяния очища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от пришел 1380 год — новая разлука с мужем, снова скорбь и молитвы о спасении Отчизны. Утешала надежда на победу, предсказанную преподобным Сергием. Княгиня по праву разделила с великим князем подвиг борьбы за освобождение Руси от монголо-татарского ига, — горячими молитвами и делами любви. В память победы на Куликовом поле Евдокия построила внутри Московского Кремля храм в честь Рождества Пресвятой Богородицы. Храм был расписан великими иконописцами Древней Руси Феофаном Греком и Симеоном Чер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шествие татарского хана Тохтамыша в 1382 г. стало новым страшным испытанием для Москвы и всей Русской земли. Димитрий Иванович уехал собирать войско сначала в Переславль, а затем в Кострому, оставив в Москве великую княгиню. Из-за опасности взятия Москвы великая княгиня с детьми и митрополит Киприан с трудом сумели выйти за городские стены, после чего Евдокия направилась вслед за князем. На пути она едва на попала в плен. Через три дня осады войска Тохтамыша взяли Москву и сожгли город, после чего обратили в пепелище большую часть русских земель. По преданию, Димитрий Иванович плакал на развалинах Москвы и похоронил убитых на собственные день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Евдокия (Евфросиния) Москов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383 г. Димитрий Иванович должен был явиться к Тохтамышу, чтобы отстоять у хана права на великое княжение. Из-за крайнего озлобления Тохтамыша решили послать в Орду старшего сына великого князя — Василия, которому было около 13 лет. Евдокия отпустила сына и тем самым обрекла себя на двухлетнее страдание — сын был задержан в Орде как заложник. Тохтамыш кроме дани потребовал за Василия выкуп 8 тысяч рублей. Сумма по тем временам была огромная и разоренное Московское княжество не могло выплатить всю сумму. Поэтому Василию пришлось жить в плену у хана два долгих года, после чего ему удалось бежать. 19 мая 1389 г. великий князь Димитрий Иванович_x0002_ скончался на сороковом году жизни. По свидетельству современников этот день был днем печали и слез для многих русских людей. Летописец записал «Плач великой княгини по умершем муже» — одно из вдохновеннейших поэтических творений Древней Руси. Погребли великого князя в Архангельском соборе Московского Крем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митрий Иванович передал престол своему сыну Василию, завещав, чтобы соправительницей ему была мать. Великая княгиня воздержалась от непосредственного участия в государственных делах. Еще при жизни супруга она жила истинно по-христиански, а после кончины его повела строго монашескую подвижническую жизнь, одела власяницу, носила под роскошной великокняжеской одеждой тяжелые вериги. Даже перед близкими своими не желала она открывать свои подвиги; устраивала в великокняжеском тереме званые обеды, но сама не прикасалась к явствам, вкушая постную пищ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Преподобный Павел Препростый, Варсонофий еп. Тверской Гурий и Герман архиеп. Казанские, Прп. Евдок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ская злоба и клевета не обошли ее. По Москве стали ходить нелепые слухи, затрагивающие честь вдовы — княгини. Слухи эти доходили до сыновей. Княжичи, хоть и любили мать и не верили клевете, все же не могли не смущаться. Один из них, Юрий, обратился к матери с вопросом о наветах, порочащих ее. Тогда княгиня собрала всех сыновей своих и сняла часть великокняжеских одежд — дети увидели, что подвижница так исхудала от поста и подвигов, что тело ее иссохло и почернело и «плоть прилипла к костям». Юрий с другими братьями просили прощения у матери и хотели отомстить за клевету. Но мать запретила им и думать о мести. Она сказала, что с радостью претерпела бы унижение и людское злословие ради Христа, но увидев смущение детей, решилась открыть им свою тайн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Благоверная княгиня Евдокия Московск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день Евдокию можно было встретить то в одном из храмов, то в монастыре. Поминая своего покойного супруга, она постоянно делала вклады в монастыри, одаривала бедных деньгами и одеждой. Сыновья великой княгини повзрослели, она стала думать о монастыре, в котором могла бы всецело посвятить себя Богу. В сердце Москвы — в Кремле — устраивает она новый женский монастырь (в то время в Москве были два женских монастыря — Алексеевский и Рождественский) в честь Вознесения. Выбрали место у Флоровских ворот. Отсюда она провожала, здесь встречала своего супруга, возвращавшегося с Куликова поля. Поблизости от ворот находился великокняжеский терем, сожженный во время нашествия Тохтамыша. На этом место бывшего княжеского жилища воздвигла великая княгиня монашеские кельи. Одновременно она строила несколько храмов и монастырей в Переславле-Залесс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именем великой княгини Евдокии связано одно из самых значительных событий духовной истории России. Совершилось оно во время нашествия Тамерлана в 1395 г. Весть о том, что полчища грозного полководца подошли к границам Руси, привели в ужас весь народ. Великий князь Василий, благодаря влиянию матери, проявил твердость духа, собрал войско и вышел навстречу врагу. Но что могла сделать эта малая дружина перед полчищами непобедимого завоевателя, утверждавшего, что вся вселенная недостойна иметь двух прав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род, подкрепляемый верой в заступничество Божие, вместе со своей княгиней молился Богу. Евдокия совершала сугубые молитвы об избавлении Руси от гибели. Молитва праведницы была услышана Богом. По совету матери Василий Димитриевич повелел принести чудотворную Владимирскую икону Божией Матери из Владимира в Москву. 26 августа 1395 г. великая княгиня Евдокия с сыновьями, митрополитом, духовенством, боярами, с множеством собравшихся жителей Москвы встретили икону Богоматери на Кучковом поле._x0002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от самый день и час Тамерлан в сонном видении увидел «Светозарную Жену», окруженную сиянием и множеством «молнеиносных воинов», грозно устремившихся вперед. По совету своих наставников Тамерлан отдал приказ войскам повернуть от границ Рус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407 г., после видения архангела Михаила, предвозвестившего ой скорую кончину, княгиня Евдокии решила принять монашество, к которому стремилась всю свою жизнь. По ее желанию был написан образ архангела Михаила и помещен в кремлевском храме в честь Рождества Пресвятой Богород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азание говорит, что вступление великой княгини на монашеский путь было ознаменовано Божиим благословением и чудом. Одному нищему слепцу великая княгиня явилась во сне в канун своего пострига и обещала исцелить его от слепоты. И вот, когда Евдокия шла в обитель на «иноческий подвиг», слепец-нищий обратился к ней с мольбой: «Боголюбивая госпожа великая княгиня, питательница нищих! Ты всегда довольствовала нас пищею и одеждою, и никогда не отказывала нам в просьбах наших! Не презри и моей просьбы, исцели меня от многолетней слепоты, как сама обещала, явившись мне в сию ночь. Ты сказала мне: завтра дам тебе прозрение; ныне настало для тебя время обещ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кая княгиня, будто не замечая слепца и не слыша его мольбу, шла далее и как бы случайно опустила на слепца рукав рубашки. Тот с благоговением и верою отер этим рукавом свои глаза. На виду у всех совершилось чудо: слепой прозрел! Народ прославил вместе с прозревшим угодницу Божию. По сказанию, в день пострига великой княгини исцелились от различных болезней 30 человек. Постриг совершился 17 мая 1407 г. в деревянной церкви Вознесения. Великая княгиня получила в постриге имя Евфросинии («рад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через три дня, 20 мая, произошла закладка новой каменной церкви в честь Вознесения Христова. В этом храме великая княгиня определила и место своего упокоения. Но ей не довелось увидеть завершение строительства. 7 июля 1407 года она скончалась на 54-м году жизни. Погребали святую Евфросинию при большом стечении народа в указанном ею месте строившегося храма, где и почивала она до 1929 г., совершая многочисленные исцеления и даруя благодатную помощь всем, с верою приходящим к ее многоцелебным мощ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осле кончины, как повествует сказание, преподобная Евфросиния была «удостоена прославления». Не раз отмечено, как у гроба ее сами собой зажигались свеч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кончине преподобной постройку храма продолжила великая княгиня Софья Витовтовна, супруга великого князя Василия Димитриевича. Большой пожар не позволил окончить сооружение храма, так что он стоял недостроенным почти 50 лет и, наконец, супруга великого князя Василия Темного — Мария Ярославна — дала обет завершить постройку. В 1467 г. храм был торжественно освящ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несенский храм стал усыпальницей великих княгинь и цариц Российского государства. Над местами их погребения воздвигались надгробья. Здесь были погребены Софья Палеолог (1503 г.) — вторая жена Иоанна III, Елена Глинская (1533 г.) — мать Иоанна IV Грозного, Ирина Годунова (1603 г.) — супруга царя Феодора Иоанновича, Наталия Кирилловна (1694 г.) — мать Петра I и другие. Последней упокоена здесь царевна и великая княгиня Наталия Алексеевна (1728 г.), внучка Петра I, дочь царевича Алексея Петровича. К началу XX века в храме стояло 35 гробни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щи основательницы монастыря почивали под спудом за правым столпом собора, у южной стены. В 1822 г. над мощами была устроена посеребренная рака с се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июля 1907 г. в Кремле праздновали 500-летие со дня кончины преподобной Евфросинии. Этот праздник оживил в памяти верующих образ молитвенницы за Русскую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ануне, после Литургии крестным ходом с преднесением иконы Вознесения направились из Вознесенского монастыря в Архангельский собор для возложения иконы на гроб Димитрия Донского. Вечером в обители было всенощное бдение, во время которого все молящиеся стояли с зажженными свечами. Утром Божественную Литургию служил Московский митрополит Владимир (Богоявленский ( 1918 г.). По окончании ее присутствующим раздавали юбилейные медали, образки и листки с жизнеописанием преподобной. Многие московские храмы отметили 500-летие торжественными служб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2 г. раку и сень над мощами изъяли с целью извлечения из нее драгоценных металлов. Мощи преподобной Евфросинии остались в каменной гробнице под полом соб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9 г. по решению правительства началось уничтожение построек Вознесенского монастыря. Сотрудники музея пытались спасти некрополь. Для его размещения выбрали подвал Судной палаты Архангельского собора. Белокаменная гробница преподобной Евфросинии оказалась поврежденной и вынуть ее целиком из земли не смогли. Мощи преподобной были спасены от уничтожения, но выделить их сегодня вряд ли возможно, т.к. они находятся вместе с другими останками из захоронений в двух белокаменных гробницах XV 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скрытии захоронений среди останков преподобной Евфросинии кроме небольших частичек ткани от савана нашли обрывки ее кожаного монашеского пояса с тиснеными изображениями двунадесятых праздников и подписями к ним. Эти святыни вместе с находившимися в гробах сосудами для елея хранятся в фондах музеев Кремля. Обломки каменной гробницы преподобной находятся до сего дня в том же подва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Архангельский собор Кремля стал общей семейной усыпальницей великокняжеских и царских семей Российского госуда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одобная Евфросиния, великая княгиня Московская, соединила подвиг гражданского служения своему народу и родной земле с монашеским подвигом, восстанавливая царское достоинство человека. Недаром изображают ее в древнерусских лицевых рукописях с царской короной. Она становится пятой из святых жен Руси с именем Евфросиния: «Радость». Ибо ее жизнь явилась великой радостью для всей земли Русской.</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3336-8AF8-4F9B-9C26-305E049FC53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0</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2804-26F5-46BC-B019-915173E1040A}"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7Кипрская икона Божией Матери явилась в 392 году на острове Кипре и была помещена в монастыре, устроенном на месте ее явления.</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2985-38F2-4A41-9426-FE45CFEED3B8}"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6Моздокская икона Божией Матери, список с афонской </a:t>
            </a:r>
            <a:r>
              <a:rPr b="0" lang="ru-RU" sz="1200" spc="-1" strike="noStrike" u="sng">
                <a:solidFill>
                  <a:srgbClr val="009999"/>
                </a:solidFill>
                <a:uFillTx/>
                <a:latin typeface="Arial"/>
                <a:hlinkClick r:id="rId1"/>
              </a:rPr>
              <a:t>Иверской</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 </a:t>
            </a:r>
            <a:r>
              <a:rPr b="0" lang="ru-RU" sz="1200" spc="-1" strike="noStrike" u="sng">
                <a:solidFill>
                  <a:srgbClr val="009999"/>
                </a:solidFill>
                <a:uFillTx/>
                <a:latin typeface="Arial"/>
                <a:hlinkClick r:id="rId4"/>
              </a:rPr>
              <a:t> </a:t>
            </a:r>
            <a:r>
              <a:rPr b="0" lang="ru-RU" sz="1200" spc="-1" strike="noStrike" u="sng">
                <a:solidFill>
                  <a:srgbClr val="009999"/>
                </a:solidFill>
                <a:uFillTx/>
                <a:latin typeface="Arial"/>
                <a:hlinkClick r:id="rId5"/>
              </a:rPr>
              <a:t> </a:t>
            </a:r>
            <a:r>
              <a:rPr b="0" lang="ru-RU" sz="1200" spc="-1" strike="noStrike">
                <a:solidFill>
                  <a:srgbClr val="000000"/>
                </a:solidFill>
                <a:latin typeface="Arial"/>
              </a:rPr>
              <a:t> иконы, была в XIII веке прислана святой царицей </a:t>
            </a:r>
            <a:r>
              <a:rPr b="0" lang="ru-RU" sz="1200" spc="-1" strike="noStrike" u="sng">
                <a:solidFill>
                  <a:srgbClr val="009999"/>
                </a:solidFill>
                <a:uFillTx/>
                <a:latin typeface="Arial"/>
                <a:hlinkClick r:id="rId6"/>
              </a:rPr>
              <a:t>Тамарой</a:t>
            </a:r>
            <a:r>
              <a:rPr b="0" lang="ru-RU" sz="1200" spc="-1" strike="noStrike" u="sng">
                <a:solidFill>
                  <a:srgbClr val="009999"/>
                </a:solidFill>
                <a:uFillTx/>
                <a:latin typeface="Arial"/>
                <a:hlinkClick r:id="rId7"/>
              </a:rPr>
              <a:t> </a:t>
            </a:r>
            <a:r>
              <a:rPr b="0" lang="ru-RU" sz="1200" spc="-1" strike="noStrike" u="sng">
                <a:solidFill>
                  <a:srgbClr val="009999"/>
                </a:solidFill>
                <a:uFillTx/>
                <a:latin typeface="Arial"/>
                <a:hlinkClick r:id="rId8"/>
              </a:rPr>
              <a:t> </a:t>
            </a:r>
            <a:r>
              <a:rPr b="0" lang="ru-RU" sz="1200" spc="-1" strike="noStrike" u="sng">
                <a:solidFill>
                  <a:srgbClr val="009999"/>
                </a:solidFill>
                <a:uFillTx/>
                <a:latin typeface="Arial"/>
                <a:hlinkClick r:id="rId9"/>
              </a:rPr>
              <a:t> </a:t>
            </a:r>
            <a:r>
              <a:rPr b="0" lang="ru-RU" sz="1200" spc="-1" strike="noStrike">
                <a:solidFill>
                  <a:srgbClr val="000000"/>
                </a:solidFill>
                <a:latin typeface="Arial"/>
              </a:rPr>
              <a:t> в дар новопросвещенным христианам осетинского аула Марьям-Каду. В 1768 году эта икона явила знамение на берегу Терека, недалеко от Моздока. Епископ Гаий построил для иконы часовню. В 1796 - 1797 годах на месте часовни был выстроен храм в честь </a:t>
            </a:r>
            <a:r>
              <a:rPr b="0" lang="ru-RU" sz="1200" spc="-1" strike="noStrike" u="sng">
                <a:solidFill>
                  <a:srgbClr val="009999"/>
                </a:solidFill>
                <a:uFillTx/>
                <a:latin typeface="Arial"/>
                <a:hlinkClick r:id="rId10"/>
              </a:rPr>
              <a:t>Успения Пресвятой Богородицы</a:t>
            </a:r>
            <a:r>
              <a:rPr b="0" lang="ru-RU" sz="1200" spc="-1" strike="noStrike" u="sng">
                <a:solidFill>
                  <a:srgbClr val="009999"/>
                </a:solidFill>
                <a:uFillTx/>
                <a:latin typeface="Arial"/>
                <a:hlinkClick r:id="rId11"/>
              </a:rPr>
              <a:t> </a:t>
            </a:r>
            <a:r>
              <a:rPr b="0" lang="ru-RU" sz="1200" spc="-1" strike="noStrike" u="sng">
                <a:solidFill>
                  <a:srgbClr val="009999"/>
                </a:solidFill>
                <a:uFillTx/>
                <a:latin typeface="Arial"/>
                <a:hlinkClick r:id="rId12"/>
              </a:rPr>
              <a:t> </a:t>
            </a:r>
            <a:r>
              <a:rPr b="0" lang="ru-RU" sz="1200" spc="-1" strike="noStrike" u="sng">
                <a:solidFill>
                  <a:srgbClr val="009999"/>
                </a:solidFill>
                <a:uFillTx/>
                <a:latin typeface="Arial"/>
                <a:hlinkClick r:id="rId13"/>
              </a:rPr>
              <a:t> </a:t>
            </a:r>
            <a:r>
              <a:rPr b="0" lang="ru-RU" sz="1200" spc="-1" strike="noStrike" u="sng">
                <a:solidFill>
                  <a:srgbClr val="009999"/>
                </a:solidFill>
                <a:uFillTx/>
                <a:latin typeface="Arial"/>
                <a:hlinkClick r:id="rId14"/>
              </a:rPr>
              <a:t> </a:t>
            </a:r>
            <a:r>
              <a:rPr b="0" lang="ru-RU" sz="1200" spc="-1" strike="noStrike">
                <a:solidFill>
                  <a:srgbClr val="000000"/>
                </a:solidFill>
                <a:latin typeface="Arial"/>
              </a:rPr>
              <a:t>, при котором вскоре была основана женская обитель (упраздненная вместе с самой Моздокской епархией в 1799 году). В конце XIX века жители Моздока выстроили в честь Моздокской Иверской иконы Божией Матери величественный храм. Матерь Божия неоднократно оказывала скорую помощь верующим через эту свою икону.</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A833-A8BF-40AD-A0A2-ABA5B03ACBA6}"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5Преподобный Виталий, инок монастыря преподобного Серида, пришел в Александрию при святителе </a:t>
            </a:r>
            <a:r>
              <a:rPr b="0" lang="ru-RU" sz="1200" spc="-1" strike="noStrike" u="sng">
                <a:solidFill>
                  <a:srgbClr val="009999"/>
                </a:solidFill>
                <a:uFillTx/>
                <a:latin typeface="Arial"/>
                <a:hlinkClick r:id="rId1"/>
              </a:rPr>
              <a:t>Иоанне Милостивом</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 </a:t>
            </a:r>
            <a:r>
              <a:rPr b="0" lang="ru-RU" sz="1200" spc="-1" strike="noStrike" u="sng">
                <a:solidFill>
                  <a:srgbClr val="009999"/>
                </a:solidFill>
                <a:uFillTx/>
                <a:latin typeface="Arial"/>
                <a:hlinkClick r:id="rId4"/>
              </a:rPr>
              <a:t> </a:t>
            </a:r>
            <a:r>
              <a:rPr b="0" lang="ru-RU" sz="1200" spc="-1" strike="noStrike" u="sng">
                <a:solidFill>
                  <a:srgbClr val="009999"/>
                </a:solidFill>
                <a:uFillTx/>
                <a:latin typeface="Arial"/>
                <a:hlinkClick r:id="rId5"/>
              </a:rPr>
              <a:t> </a:t>
            </a:r>
            <a:r>
              <a:rPr b="0" lang="ru-RU" sz="1200" spc="-1" strike="noStrike">
                <a:solidFill>
                  <a:srgbClr val="000000"/>
                </a:solidFill>
                <a:latin typeface="Arial"/>
              </a:rPr>
              <a:t> (память 12 ноября), Патриархе Александрийском (609 - 6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6"/>
              </a:rPr>
              <a:t> </a:t>
            </a:r>
            <a:br>
              <a:rPr sz="1200"/>
            </a:br>
            <a:r>
              <a:rPr b="1" lang="ru-RU" sz="1200" spc="-1" strike="noStrike">
                <a:solidFill>
                  <a:srgbClr val="000000"/>
                </a:solidFill>
                <a:latin typeface="Arial"/>
              </a:rPr>
              <a:t>Иоанн Милостивы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ой, достигнув старости (ему было 60 лет), дерзнул взять на себя необычайный подвиг: он записал к себе в помянник всех блудниц Александрии и начал усердно молиться о них. Преподобный трудился с утра до вечера и зарабатывал каждый день 12 медных монет. Вечером святой покупал себе один боб, который съедал не ранее заката солнца. Остальные деньги он отдавал одной из блудниц, к которой приходил на ночь и говорил: "Умоляю тебя, за эти деньги соблюди себя в чистоте эту ночь, не греши ни с кем". Затем преподобный запирался с блудницей в ее комнате, и пока блудница спала, старец всю ночь молился, читая псалмы, а утром тихо уходил от нее. И так он делал каждый день, посещая по очереди всех блудниц, причем брал с них клятву, что они сохранят в тайне цель его посещений. Жители Александрии, не зная правды, возмущались поведением инока, всячески оскорбляли его, а он покорно терпел все насмешки и только просил не осуждать друг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ые молитвы преподобного Виталия спасли многих падших женщин. Одни из них ушли в монастыри, другие вышли замуж, третьи начали честно трудиться. Но рассказать о причине своего исправления и тем снять обвинения с преподобного Виталия они боялись - их связывала клятва, взятая святым. Когда одна из женщин нарушила ее и стала оправдывать монаха, она впала в беснование. Александрийцы после этого не сомневались в греховности преподоб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7"/>
              </a:rPr>
              <a:t> </a:t>
            </a:r>
            <a:br>
              <a:rPr sz="1200"/>
            </a:br>
            <a:r>
              <a:rPr b="1" lang="ru-RU" sz="1200" spc="-1" strike="noStrike">
                <a:solidFill>
                  <a:srgbClr val="000000"/>
                </a:solidFill>
                <a:latin typeface="Arial"/>
              </a:rPr>
              <a:t>Святые Константин Елена и Агаф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клирики, соблазнившиеся поведением монаха, донесли на него святому Патриарху Иоанну Милостивому. Но он не поверил доносчикам и сказал: "Перестаньте осуждать, особенно иноков. Разве не знаете, что произошло на Первом Никейском Соборе? Некоторые из епископов и клириков принесли друг на друга письменные доносы блаженной памяти царю </a:t>
            </a:r>
            <a:r>
              <a:rPr b="0" lang="ru-RU" sz="1200" spc="-1" strike="noStrike" u="sng">
                <a:solidFill>
                  <a:srgbClr val="009999"/>
                </a:solidFill>
                <a:uFillTx/>
                <a:latin typeface="Arial"/>
                <a:hlinkClick r:id="rId8"/>
              </a:rPr>
              <a:t>Константину Великому</a:t>
            </a:r>
            <a:r>
              <a:rPr b="0" lang="ru-RU" sz="1200" spc="-1" strike="noStrike" u="sng">
                <a:solidFill>
                  <a:srgbClr val="009999"/>
                </a:solidFill>
                <a:uFillTx/>
                <a:latin typeface="Arial"/>
                <a:hlinkClick r:id="rId9"/>
              </a:rPr>
              <a:t> </a:t>
            </a:r>
            <a:r>
              <a:rPr b="0" lang="ru-RU" sz="1200" spc="-1" strike="noStrike" u="sng">
                <a:solidFill>
                  <a:srgbClr val="009999"/>
                </a:solidFill>
                <a:uFillTx/>
                <a:latin typeface="Arial"/>
                <a:hlinkClick r:id="rId10"/>
              </a:rPr>
              <a:t> </a:t>
            </a:r>
            <a:r>
              <a:rPr b="0" lang="ru-RU" sz="1200" spc="-1" strike="noStrike" u="sng">
                <a:solidFill>
                  <a:srgbClr val="009999"/>
                </a:solidFill>
                <a:uFillTx/>
                <a:latin typeface="Arial"/>
                <a:hlinkClick r:id="rId11"/>
              </a:rPr>
              <a:t> </a:t>
            </a:r>
            <a:r>
              <a:rPr b="0" lang="ru-RU" sz="1200" spc="-1" strike="noStrike" u="sng">
                <a:solidFill>
                  <a:srgbClr val="009999"/>
                </a:solidFill>
                <a:uFillTx/>
                <a:latin typeface="Arial"/>
                <a:hlinkClick r:id="rId12"/>
              </a:rPr>
              <a:t> </a:t>
            </a:r>
            <a:r>
              <a:rPr b="0" lang="ru-RU" sz="1200" spc="-1" strike="noStrike">
                <a:solidFill>
                  <a:srgbClr val="000000"/>
                </a:solidFill>
                <a:latin typeface="Arial"/>
              </a:rPr>
              <a:t>. Он повелел принести зажженную свечу и, даже не прочитав писаний, сжег их и сказал: "Если бы я собственными глазами увидел согрешающего епископа, или священника, или инока, то покрыл бы такого своей одеждой, чтобы никто не видел его греха"". Так мудрый святитель пристыдил клеветни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одобный Виталий продолжал свой трудный подвиг: являясь перед людьми грешником и блудником, он приводил заблудших к покаяни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выходя из блудилища, преподобный встретил шедшего туда юношу - блудника, который с бранью ударил его по щеке и закричал, что монах позорит Имя Христа. Преподобный ответил ему: "Поверь мне, что за меня, смиренного, и ты получишь такой удар по щеке, что вся Александрия сбежится на твой кр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устя некоторое время преподобный Виталий поселился в небольшой келлии и в ней ночью скончался. В тот же час перед юношей, ударившим старца, появился страшный бес, ударил его по щеке и закричал: "Вот тебе удар от монаха Виталия". Юноша начал бесноваться. Он в исступлении катался по земле, рвал на себе одежду и кричал так громко, что собрал множество нар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через несколько часов юноша пришел в себя, то побежал к келлии преподобного, взывая: "Помилуй меня, раб Божий, что я согрешил против тебя". У дверей келлии он окончательно пришел в себя и рассказал собравшимся о своей встрече с преподобным Виталием. Затем юноша постучал в дверь келлии, но не получил ответа. Когда дверь взломали, то увидели, что преподобный преставился к Богу, стоя на коленях перед иконой. В руках у него был свиток со словами: "Мужи александрийские, не осуждайте прежде времени, пока не придет Господь, Праведный Суд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 время пришла бесноватая женщина, наказанная преподобным за нарушение тайны его подвига. Прикоснувшись к телу святого, она исцелилась и рассказала народу обо всем, случившемся с не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о смерти преподобного Виталия узнали спасенные им женщины, они собрались и рассказали о добродетелях и милости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титель Иоанн Милостивый радовался, что не поверил клеветникам и не осудил праведника. Затем при стечении покаявшихся женщин, обращенных преподобным Виталием, святой Патриарх торжественно пронес его останки через весь город и предал их честному погребению. С тех пор многие александрийцы положили себе завет не осуждать никого.</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404F-96D5-4483-90A8-45C0C1D9C419}"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4Великомученик Георгий был сыном богатых и благочестивых родителей, воспитавших его в христианской вере. Родился он в городе Бейрут (в древности — Белит), у подножия Ливанских г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Великомученик Георгий Победонос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упив на военную службу, великомученик Георгий выделялся среди прочих воинов своим умом, храбростью, физической силой, воинской осанкой и красотой. Достигнув вскоре звания тысяченачальника, св. Георгий сделался любимцем императора Диоклетиана. Диоклетиан был талантливым правителем, но фанатичным приверженцем римских богов. Поставив себе целью возродить в Римской империи отмирающее язычество, он вошел в историю, как один из самых жестоких гонителей христи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rPr>
              <a:t> </a:t>
            </a:r>
            <a:br>
              <a:rPr sz="1200"/>
            </a:br>
            <a:r>
              <a:rPr b="1" lang="ru-RU" sz="1200" spc="-1" strike="noStrike">
                <a:solidFill>
                  <a:srgbClr val="000000"/>
                </a:solidFill>
                <a:latin typeface="Arial"/>
              </a:rPr>
              <a:t>Георгий, чудо о зм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лышав однажды на суде бесчеловечный приговор об истреблении христиан, св. Георгий воспламенился состраданием к ним. Предвидя, что его тоже ожидают страдания, Георгий раздал свое имущество бедным, отпустил на волю своих рабов, явился к Диоклетиану и, объявив себя христианином, обличил его в жестокости и несправедливости. Речь св. Георгия была полна сильных и убедительных возражений против императорского приказа преследовать христи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rPr>
              <a:t> </a:t>
            </a:r>
            <a:br>
              <a:rPr sz="1200"/>
            </a:br>
            <a:r>
              <a:rPr b="1" lang="ru-RU" sz="1200" spc="-1" strike="noStrike">
                <a:solidFill>
                  <a:srgbClr val="000000"/>
                </a:solidFill>
                <a:latin typeface="Arial"/>
              </a:rPr>
              <a:t>Великомученик Георгий Победоносец на тро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безрезультатных уговоров отречься от Христа император приказал подвергнуть святого различным мучениям. Св. Георгий был заключен в темницу, где его положили спиной на землю, ноги заключили в колодки, а на грудь положили тяжелый камень. Но Св. Георгий мужественно переносил страдания и прославлял Господа. Тогда мучители Георгия начали изощряться в жестокости. Они били святого воловьими жилами, колесовали, бросали в негашеную известь, принуждали бежать в сапогах с острыми гвоздями внутри. Святой мученик все терпеливо переносил. В конце концов император приказал отрубить мечом голову святому. Так святой страдалец отошел ко Христу в Никомидии в 303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rPr>
              <a:t> </a:t>
            </a:r>
            <a:br>
              <a:rPr sz="1200"/>
            </a:br>
            <a:r>
              <a:rPr b="1" lang="ru-RU" sz="1200" spc="-1" strike="noStrike">
                <a:solidFill>
                  <a:srgbClr val="000000"/>
                </a:solidFill>
                <a:latin typeface="Arial"/>
              </a:rPr>
              <a:t>Георгий Победонос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комученика Георгия за мужество и за духовную победу над мучителями, которые не смогли заставить его отказаться от христианства, а также за чудодейственную помощь людям в опасности — называют еще Победоносцем. Мощи святого Георгия Победоносца положили в палестинском городе Лида, в храме, носящем его имя, глава же его хранилась в Риме в храме, тоже посвященном 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rPr>
              <a:t> </a:t>
            </a:r>
            <a:br>
              <a:rPr sz="1200"/>
            </a:br>
            <a:r>
              <a:rPr b="1" lang="ru-RU" sz="1200" spc="-1" strike="noStrike">
                <a:solidFill>
                  <a:srgbClr val="000000"/>
                </a:solidFill>
                <a:latin typeface="Arial"/>
              </a:rPr>
              <a:t>Чудо Георгия о зм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иконах св. Георгий изображается сидящим на белом коне и поражающим копьем змия. Это изображение основано на предании и относится к посмертным чудесам святого великомученика Георгия. Рассказывают, что недалеко от места, где родился св. Георгий в городе Бейруте, в озере жил змей, который часто пожирал людей той местности. Что это был за зверь — удав, крокодил или большая ящерица — неизвест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еверные люди той местности для утоления ярости змея начали регулярно по жребию отдавать ему на съедение юношу или девицу. Однажды жребий выпал на дочь правителя той местности. Ее отвели к берегу озера и привязали, где она в ужасе стала ожидать появления зме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rPr>
              <a:t> </a:t>
            </a:r>
            <a:br>
              <a:rPr sz="1200"/>
            </a:br>
            <a:r>
              <a:rPr b="1" lang="ru-RU" sz="1200" spc="-1" strike="noStrike">
                <a:solidFill>
                  <a:srgbClr val="000000"/>
                </a:solidFill>
                <a:latin typeface="Arial"/>
              </a:rPr>
              <a:t>Георгий Победонос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же зверь стал приближаться к ней, вдруг появился на белом коне светлый юноша, который копьем поразил змея и спас девицу. Этот юноша был святой великомученик Георгий. Таким чудесным явлением он прекратил уничтожение юношей и девушек в пределах Бейрута и обратил ко Христу жителей той страны, которые до этого были язычник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жно предположить, что явление святого Георгия на коне для защиты жителей от змея, а также описанное в житии чудесное оживление единственного вола у земледельца, послужили поводом к почитанию святого Георгия покровителем скотоводства и защитником от хищных звер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6"/>
              </a:rPr>
              <a:t> </a:t>
            </a:r>
            <a:br>
              <a:rPr sz="1200"/>
            </a:br>
            <a:r>
              <a:rPr b="1" lang="ru-RU" sz="1200" spc="-1" strike="noStrike">
                <a:solidFill>
                  <a:srgbClr val="000000"/>
                </a:solidFill>
                <a:latin typeface="Arial"/>
              </a:rPr>
              <a:t>Георгий Победоносе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ореволюционное время в день памяти святого Георгия Победоносца жители русских деревень в первый раз после холодной зимы выгоняли скот на пастбище, совершив молебен святому великомученику с окроплением домов и животных святой водой. День великомученика Георгия в народе еще называют — «Юрьев день», в этот день, до времен царствования Бориса Годунова, крестьяне могли переходить к другому помещи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 Георгий — покровитель воинства. Изображение Георгия Победоносца на коне символизирует победу над диаволом — «древним змием» (Откр. 12, 3; 20, 2). Это изображение было включено в древний герб города Москвы.</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76E8-8549-4C6E-8C38-3B1184E431D7}"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3Преподобная Елисавета чудотворица была избрана на служение Богу еще до рождения. Ее матери было откровение, что отроковица будет избранным сосудом Святого Дух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детства родители отдали девочку в монастырь. Она выросла в посте и трудах и получила дар исцелять не только телесные недуги, но и душев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тры избрали преподобную игуменией. Преподобная носила одежду из острой власяницы. Тело ее мерзло, но дух горел пламенем Божественной люб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держание святой было безмерно: многие годы она питалась лишь травами и овощами без хлеба, а вина и масла не принимала никогда. Много раз преподобная Елисавета проводила святую </a:t>
            </a:r>
            <a:r>
              <a:rPr b="0" lang="ru-RU" sz="1200" spc="-1" strike="noStrike" u="sng">
                <a:solidFill>
                  <a:srgbClr val="009999"/>
                </a:solidFill>
                <a:uFillTx/>
                <a:latin typeface="Arial"/>
                <a:hlinkClick r:id="rId1"/>
              </a:rPr>
              <a:t>Четыредесятницу</a:t>
            </a:r>
            <a:r>
              <a:rPr b="0" lang="ru-RU" sz="1200" spc="-1" strike="noStrike" u="sng">
                <a:solidFill>
                  <a:srgbClr val="009999"/>
                </a:solidFill>
                <a:uFillTx/>
                <a:latin typeface="Arial"/>
                <a:hlinkClick r:id="rId2"/>
              </a:rPr>
              <a:t> </a:t>
            </a:r>
            <a:r>
              <a:rPr b="0" lang="ru-RU" sz="1200" spc="-1" strike="noStrike">
                <a:solidFill>
                  <a:srgbClr val="000000"/>
                </a:solidFill>
                <a:latin typeface="Arial"/>
              </a:rPr>
              <a:t>, ничего не вкушая. Подражая мытареву смирению, она три года не поднимала глаз на небо, но духовными очами всегда взирала к Богу. В полуночных молитвах преподобную осиявал и просвещал Небесный Св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чудес сотворила преподобная: лютого змея умертвила молитвой, исцелила кровоточивую женщину, которая болела много лет, отгоняла от людей нечистых духов. По смерти гроб преподобной Елисаветы также подавал исцеления от болезней. Даже самый прах, взятый от ее мощей, даровал слепым прозрение.</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5E2B-3928-4CDF-817A-0D9C553C950B}"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1Родился в Иерусалиме, племянник апостола Варнавы. В ночь крестных страданий Христа он следовал за Ним (Мр. 14, 51-52). Ученик апостола Петра. Основал Церковь в Египте, был первым епископом в Александрии. Здесь положил начало христианскому училищу. С проповедью Евангелия путешествовал в Ливии, Нектополе, посетил внутренние области Африки. Посетил апостола Павла в Риме, где он находился в узах. По преданию, здесь апостол Марк написал Евангелие для уверовавших язычни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br>
              <a:rPr sz="1200"/>
            </a:br>
            <a:r>
              <a:rPr b="1" lang="ru-RU" sz="1200" spc="-1" strike="noStrike">
                <a:solidFill>
                  <a:srgbClr val="000000"/>
                </a:solidFill>
                <a:latin typeface="Arial"/>
              </a:rPr>
              <a:t>Евангелист Мар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евние церковные писатели свидетельствуют, что Евангелие от Марка является краткой записью проповеди и рассказов апостола Петра. Вернувшись в Александрию, апостол укреплял верующих, противодействуя язычникам, что возбудило их ненависть. Святой Марк, предвидя свои конец, поспешил оставить после себя преемников — епископа Ананию и трех пресвитеров. Вскоре язычники напали на апостола во время богослужения, избили его, проволокли по улицам города и бросили в темницу. Ночью ему явился Спаситель и воодушевил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тро толпа язычников снова варварски повлекла апостола Марка в судилище, но по дороге св. Евангелист скончался со словами: «В руки Твои, Господи, предаю дух мой».</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3D4EC-065E-41A2-980D-8EABB7488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BF45F-40A3-49E7-A5AB-05AF18F64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935B9-1DD5-4B61-A3B6-3C0D5C788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78286-32B7-4CCA-84D6-79A6615B9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224C7-2E3A-4CB2-8CBA-0108158A2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B39B0-8AAF-4EB5-A860-E530B78C7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96001-F7E8-4DD2-A872-921AB4CF6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44521-59DA-4FAA-89B5-C17FFD096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ADBB4-50E9-46E3-8935-B3CB81775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7E27C-46CB-4424-AE1B-3F45608C1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3E7AD-5936-4033-BB5A-062D2D00D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323D-CC63-4043-8813-BC0289D11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8481-F629-4C4A-AAEC-CFD406696789}" type="slidenum">
              <a:rPr b="0" lang="ru-RU"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8.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39.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40.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41.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43.jpe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44.jpeg"/><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85880" y="121428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b7e7ff"/>
                </a:solidFill>
                <a:latin typeface="Arial"/>
              </a:rPr>
              <a:t>Православный календарь</a:t>
            </a:r>
            <a:endParaRPr b="0" lang="en-US" sz="4800" spc="-1" strike="noStrike">
              <a:solidFill>
                <a:srgbClr val="b7e7ff"/>
              </a:solidFill>
              <a:latin typeface="Arial"/>
            </a:endParaRPr>
          </a:p>
        </p:txBody>
      </p:sp>
      <p:pic>
        <p:nvPicPr>
          <p:cNvPr id="49" name="Picture 3" descr="ХРАМ РХ"/>
          <p:cNvPicPr/>
          <p:nvPr/>
        </p:nvPicPr>
        <p:blipFill>
          <a:blip r:embed="rId1"/>
          <a:stretch/>
        </p:blipFill>
        <p:spPr>
          <a:xfrm>
            <a:off x="2357280" y="3286080"/>
            <a:ext cx="4711680" cy="3143160"/>
          </a:xfrm>
          <a:prstGeom prst="rect">
            <a:avLst/>
          </a:prstGeom>
          <a:ln w="0">
            <a:noFill/>
          </a:ln>
        </p:spPr>
      </p:pic>
      <p:sp>
        <p:nvSpPr>
          <p:cNvPr id="50" name="Rectangle 8"/>
          <p:cNvSpPr/>
          <p:nvPr/>
        </p:nvSpPr>
        <p:spPr>
          <a:xfrm>
            <a:off x="7528320" y="207720"/>
            <a:ext cx="134352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Май</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 новому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стилю</a:t>
            </a:r>
            <a:endParaRPr b="0" lang="en-US" sz="1600" spc="-1" strike="noStrike">
              <a:solidFill>
                <a:srgbClr val="ffffff"/>
              </a:solidFill>
              <a:latin typeface="Tahoma"/>
            </a:endParaRPr>
          </a:p>
        </p:txBody>
      </p:sp>
      <p:pic>
        <p:nvPicPr>
          <p:cNvPr id="51" name="Picture 9" descr="98732"/>
          <p:cNvPicPr/>
          <p:nvPr/>
        </p:nvPicPr>
        <p:blipFill>
          <a:blip r:embed="rId2"/>
          <a:stretch/>
        </p:blipFill>
        <p:spPr>
          <a:xfrm>
            <a:off x="7643880" y="1071720"/>
            <a:ext cx="1241280" cy="1655640"/>
          </a:xfrm>
          <a:prstGeom prst="rect">
            <a:avLst/>
          </a:prstGeom>
          <a:ln w="0">
            <a:noFill/>
          </a:ln>
        </p:spPr>
      </p:pic>
      <p:pic>
        <p:nvPicPr>
          <p:cNvPr id="52" name="Picture 9" descr="98732"/>
          <p:cNvPicPr/>
          <p:nvPr/>
        </p:nvPicPr>
        <p:blipFill>
          <a:blip r:embed="rId3"/>
          <a:stretch/>
        </p:blipFill>
        <p:spPr>
          <a:xfrm>
            <a:off x="500040" y="1071720"/>
            <a:ext cx="1241280" cy="1655640"/>
          </a:xfrm>
          <a:prstGeom prst="rect">
            <a:avLst/>
          </a:prstGeom>
          <a:ln w="0">
            <a:noFill/>
          </a:ln>
        </p:spPr>
      </p:pic>
      <p:sp>
        <p:nvSpPr>
          <p:cNvPr id="53" name="Rectangle 5"/>
          <p:cNvSpPr/>
          <p:nvPr/>
        </p:nvSpPr>
        <p:spPr>
          <a:xfrm>
            <a:off x="30600" y="5112360"/>
            <a:ext cx="2068920" cy="1736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Автор презентации: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учитель основ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православной культуры</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МАОУ СОШ №4</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города Абинска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Краснодарского края</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Чунихина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Елена  Михайловна</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 name="Rectangle 4"/>
          <p:cNvSpPr/>
          <p:nvPr/>
        </p:nvSpPr>
        <p:spPr>
          <a:xfrm>
            <a:off x="7259400" y="6122160"/>
            <a:ext cx="1910520" cy="733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Мультимедийное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пособие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для 1-11 классов</a:t>
            </a:r>
            <a:endParaRPr b="0" lang="en-US" sz="1400" spc="-1" strike="noStrike">
              <a:solidFill>
                <a:srgbClr val="ffffff"/>
              </a:solidFill>
              <a:latin typeface="Tahoma"/>
            </a:endParaRPr>
          </a:p>
        </p:txBody>
      </p:sp>
      <p:sp>
        <p:nvSpPr>
          <p:cNvPr id="55" name="Rectangle 6"/>
          <p:cNvSpPr/>
          <p:nvPr/>
        </p:nvSpPr>
        <p:spPr>
          <a:xfrm>
            <a:off x="2280240" y="214200"/>
            <a:ext cx="458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ОСНОВЫ ПРАВОСЛАВНОЙ КУЛЬТУРЫ</a:t>
            </a:r>
            <a:endParaRPr b="0" lang="en-US" sz="1800" spc="-1" strike="noStrike">
              <a:solidFill>
                <a:srgbClr val="ffffff"/>
              </a:solidFill>
              <a:latin typeface="Tahoma"/>
            </a:endParaRPr>
          </a:p>
        </p:txBody>
      </p:sp>
      <p:sp>
        <p:nvSpPr>
          <p:cNvPr id="56" name="Rectangle 8"/>
          <p:cNvSpPr/>
          <p:nvPr/>
        </p:nvSpPr>
        <p:spPr>
          <a:xfrm>
            <a:off x="393480" y="249480"/>
            <a:ext cx="1422720" cy="1067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Май</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по старому </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 </a:t>
            </a:r>
            <a:r>
              <a:rPr b="1" lang="ru-RU" sz="1600" spc="-1" strike="noStrike">
                <a:solidFill>
                  <a:srgbClr val="ffffff"/>
                </a:solidFill>
                <a:latin typeface="Tahoma"/>
              </a:rPr>
              <a:t>стилю</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Святитель</a:t>
            </a:r>
            <a:br>
              <a:rPr sz="4000"/>
            </a:br>
            <a:r>
              <a:rPr b="1" lang="ru-RU" sz="4000" spc="-1" strike="noStrike">
                <a:solidFill>
                  <a:srgbClr val="ffffff"/>
                </a:solidFill>
                <a:latin typeface="Arial"/>
              </a:rPr>
              <a:t> Стефан Пермский</a:t>
            </a:r>
            <a:endParaRPr b="0" lang="en-US" sz="4000" spc="-1" strike="noStrike">
              <a:solidFill>
                <a:srgbClr val="b7e7ff"/>
              </a:solidFill>
              <a:latin typeface="Arial"/>
            </a:endParaRPr>
          </a:p>
        </p:txBody>
      </p:sp>
      <p:sp>
        <p:nvSpPr>
          <p:cNvPr id="114"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9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15" name="Picture 5" descr="angel21"/>
          <p:cNvPicPr/>
          <p:nvPr/>
        </p:nvPicPr>
        <p:blipFill>
          <a:blip r:embed="rId1"/>
          <a:stretch/>
        </p:blipFill>
        <p:spPr>
          <a:xfrm flipH="1">
            <a:off x="178920" y="620640"/>
            <a:ext cx="1195560" cy="2060640"/>
          </a:xfrm>
          <a:prstGeom prst="rect">
            <a:avLst/>
          </a:prstGeom>
          <a:ln w="0">
            <a:noFill/>
          </a:ln>
        </p:spPr>
      </p:pic>
      <p:pic>
        <p:nvPicPr>
          <p:cNvPr id="116" name="Picture 6" descr="angel21"/>
          <p:cNvPicPr/>
          <p:nvPr/>
        </p:nvPicPr>
        <p:blipFill>
          <a:blip r:embed="rId2"/>
          <a:stretch/>
        </p:blipFill>
        <p:spPr>
          <a:xfrm>
            <a:off x="7862760" y="692280"/>
            <a:ext cx="1281240" cy="1989000"/>
          </a:xfrm>
          <a:prstGeom prst="rect">
            <a:avLst/>
          </a:prstGeom>
          <a:ln w="0">
            <a:noFill/>
          </a:ln>
        </p:spPr>
      </p:pic>
      <p:sp>
        <p:nvSpPr>
          <p:cNvPr id="117" name="Rectangle 7"/>
          <p:cNvSpPr/>
          <p:nvPr/>
        </p:nvSpPr>
        <p:spPr>
          <a:xfrm>
            <a:off x="0" y="0"/>
            <a:ext cx="2141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6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8" name="brval90.mp3" descr=""/>
          <p:cNvPicPr/>
          <p:nvPr/>
        </p:nvPicPr>
        <p:blipFill>
          <a:blip r:embed="rId3"/>
          <a:stretch/>
        </p:blipFill>
        <p:spPr>
          <a:xfrm>
            <a:off x="468360" y="6021360"/>
            <a:ext cx="304920" cy="304920"/>
          </a:xfrm>
          <a:prstGeom prst="rect">
            <a:avLst/>
          </a:prstGeom>
          <a:ln w="0">
            <a:noFill/>
          </a:ln>
        </p:spPr>
      </p:pic>
      <p:pic>
        <p:nvPicPr>
          <p:cNvPr id="119" name="Picture 10" descr="Святитель Стефан Пермский по дороге в Москву"/>
          <p:cNvPicPr/>
          <p:nvPr/>
        </p:nvPicPr>
        <p:blipFill>
          <a:blip r:embed="rId4"/>
          <a:stretch/>
        </p:blipFill>
        <p:spPr>
          <a:xfrm>
            <a:off x="1258920" y="1916280"/>
            <a:ext cx="3865680" cy="4132080"/>
          </a:xfrm>
          <a:prstGeom prst="rect">
            <a:avLst/>
          </a:prstGeom>
          <a:ln w="0">
            <a:noFill/>
          </a:ln>
        </p:spPr>
      </p:pic>
      <p:sp>
        <p:nvSpPr>
          <p:cNvPr id="120" name="Rectangle 11"/>
          <p:cNvSpPr/>
          <p:nvPr/>
        </p:nvSpPr>
        <p:spPr>
          <a:xfrm>
            <a:off x="809280" y="6490440"/>
            <a:ext cx="6069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Святитель Стефан Пермский по дороге в Москву</a:t>
            </a:r>
            <a:endParaRPr b="0" lang="en-US" sz="1800" spc="-1" strike="noStrike">
              <a:solidFill>
                <a:srgbClr val="ffffff"/>
              </a:solidFill>
              <a:latin typeface="Tahoma"/>
            </a:endParaRPr>
          </a:p>
        </p:txBody>
      </p:sp>
      <p:pic>
        <p:nvPicPr>
          <p:cNvPr id="121" name="Picture 13" descr="Стефан Пермский"/>
          <p:cNvPicPr/>
          <p:nvPr/>
        </p:nvPicPr>
        <p:blipFill>
          <a:blip r:embed="rId5"/>
          <a:stretch/>
        </p:blipFill>
        <p:spPr>
          <a:xfrm>
            <a:off x="5076720" y="1916280"/>
            <a:ext cx="3046680" cy="41320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118"/>
                    </p:tgtEl>
                  </p:cond>
                </p:stCondLst>
                <p:childTnLst>
                  <p:par>
                    <p:cTn id="51" fill="hold">
                      <p:stCondLst>
                        <p:cond evt="onClick">
                          <p:tgtEl>
                            <p:spTgt spid="118"/>
                          </p:tgtEl>
                        </p:cond>
                      </p:stCondLst>
                      <p:childTnLst>
                        <p:par>
                          <p:cTn id="52" fill="hold">
                            <p:stCondLst>
                              <p:cond delay="0"/>
                            </p:stCondLst>
                            <p:childTnLst>
                              <p:par>
                                <p:cTn id="53" nodeType="clickEffect" fill="hold" presetClass="mediacall" presetID="1">
                                  <p:stCondLst>
                                    <p:cond delay="0"/>
                                  </p:stCondLst>
                                  <p:childTnLst>
                                    <p:cmd type="call" cmd="playFrom(0.0)">
                                      <p:cBhvr>
                                        <p:cTn id="54" dur="310962"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Симеон</a:t>
            </a:r>
            <a:br>
              <a:rPr sz="4000"/>
            </a:br>
            <a:r>
              <a:rPr b="1" lang="ru-RU" sz="4000" spc="-1" strike="noStrike">
                <a:solidFill>
                  <a:srgbClr val="b7e7ff"/>
                </a:solidFill>
                <a:latin typeface="Arial"/>
              </a:rPr>
              <a:t> сродник Господень</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23"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0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24" name="Picture 5" descr="angel21"/>
          <p:cNvPicPr/>
          <p:nvPr/>
        </p:nvPicPr>
        <p:blipFill>
          <a:blip r:embed="rId1"/>
          <a:stretch/>
        </p:blipFill>
        <p:spPr>
          <a:xfrm flipH="1">
            <a:off x="178920" y="620640"/>
            <a:ext cx="1195560" cy="2060640"/>
          </a:xfrm>
          <a:prstGeom prst="rect">
            <a:avLst/>
          </a:prstGeom>
          <a:ln w="0">
            <a:noFill/>
          </a:ln>
        </p:spPr>
      </p:pic>
      <p:pic>
        <p:nvPicPr>
          <p:cNvPr id="125" name="Picture 6" descr="angel21"/>
          <p:cNvPicPr/>
          <p:nvPr/>
        </p:nvPicPr>
        <p:blipFill>
          <a:blip r:embed="rId2"/>
          <a:stretch/>
        </p:blipFill>
        <p:spPr>
          <a:xfrm>
            <a:off x="7862760" y="765000"/>
            <a:ext cx="1281240" cy="1989360"/>
          </a:xfrm>
          <a:prstGeom prst="rect">
            <a:avLst/>
          </a:prstGeom>
          <a:ln w="0">
            <a:noFill/>
          </a:ln>
        </p:spPr>
      </p:pic>
      <p:sp>
        <p:nvSpPr>
          <p:cNvPr id="126" name="Rectangle 7"/>
          <p:cNvSpPr/>
          <p:nvPr/>
        </p:nvSpPr>
        <p:spPr>
          <a:xfrm>
            <a:off x="0" y="0"/>
            <a:ext cx="199872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7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7" name="brval82.mp3" descr=""/>
          <p:cNvPicPr/>
          <p:nvPr/>
        </p:nvPicPr>
        <p:blipFill>
          <a:blip r:embed="rId3"/>
          <a:stretch/>
        </p:blipFill>
        <p:spPr>
          <a:xfrm>
            <a:off x="468360" y="6021360"/>
            <a:ext cx="304920" cy="304920"/>
          </a:xfrm>
          <a:prstGeom prst="rect">
            <a:avLst/>
          </a:prstGeom>
          <a:ln w="0">
            <a:noFill/>
          </a:ln>
        </p:spPr>
      </p:pic>
      <p:pic>
        <p:nvPicPr>
          <p:cNvPr id="128" name="Picture 10" descr="Симеон сродник Господень"/>
          <p:cNvPicPr/>
          <p:nvPr/>
        </p:nvPicPr>
        <p:blipFill>
          <a:blip r:embed="rId4"/>
          <a:stretch/>
        </p:blipFill>
        <p:spPr>
          <a:xfrm>
            <a:off x="3708360" y="1844640"/>
            <a:ext cx="1447920" cy="42768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127"/>
                    </p:tgtEl>
                  </p:cond>
                </p:stCondLst>
                <p:childTnLst>
                  <p:par>
                    <p:cTn id="57" fill="hold">
                      <p:stCondLst>
                        <p:cond evt="onClick">
                          <p:tgtEl>
                            <p:spTgt spid="127"/>
                          </p:tgtEl>
                        </p:cond>
                      </p:stCondLst>
                      <p:childTnLst>
                        <p:par>
                          <p:cTn id="58" fill="hold">
                            <p:stCondLst>
                              <p:cond delay="0"/>
                            </p:stCondLst>
                            <p:childTnLst>
                              <p:par>
                                <p:cTn id="59" nodeType="clickEffect" fill="hold" presetClass="mediacall" presetID="1">
                                  <p:stCondLst>
                                    <p:cond delay="0"/>
                                  </p:stCondLst>
                                  <p:childTnLst>
                                    <p:cmd type="call" cmd="playFrom(0.0)">
                                      <p:cBhvr>
                                        <p:cTn id="60" dur="76278"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Христос Спаситель</a:t>
            </a:r>
            <a:endParaRPr b="0" lang="en-US" sz="4400" spc="-1" strike="noStrike">
              <a:solidFill>
                <a:srgbClr val="b7e7ff"/>
              </a:solidFill>
              <a:latin typeface="Arial"/>
            </a:endParaRPr>
          </a:p>
        </p:txBody>
      </p:sp>
      <p:sp>
        <p:nvSpPr>
          <p:cNvPr id="130"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1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31" name="Picture 5" descr="angel21"/>
          <p:cNvPicPr/>
          <p:nvPr/>
        </p:nvPicPr>
        <p:blipFill>
          <a:blip r:embed="rId1"/>
          <a:stretch/>
        </p:blipFill>
        <p:spPr>
          <a:xfrm flipH="1">
            <a:off x="250920" y="620640"/>
            <a:ext cx="1195200" cy="2060640"/>
          </a:xfrm>
          <a:prstGeom prst="rect">
            <a:avLst/>
          </a:prstGeom>
          <a:ln w="0">
            <a:noFill/>
          </a:ln>
        </p:spPr>
      </p:pic>
      <p:pic>
        <p:nvPicPr>
          <p:cNvPr id="132" name="Picture 6" descr="angel21"/>
          <p:cNvPicPr/>
          <p:nvPr/>
        </p:nvPicPr>
        <p:blipFill>
          <a:blip r:embed="rId2"/>
          <a:stretch/>
        </p:blipFill>
        <p:spPr>
          <a:xfrm>
            <a:off x="7862760" y="692280"/>
            <a:ext cx="1281240" cy="1989000"/>
          </a:xfrm>
          <a:prstGeom prst="rect">
            <a:avLst/>
          </a:prstGeom>
          <a:ln w="0">
            <a:noFill/>
          </a:ln>
        </p:spPr>
      </p:pic>
      <p:sp>
        <p:nvSpPr>
          <p:cNvPr id="133" name="Rectangle 7"/>
          <p:cNvSpPr/>
          <p:nvPr/>
        </p:nvSpPr>
        <p:spPr>
          <a:xfrm>
            <a:off x="0" y="0"/>
            <a:ext cx="1925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8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4" name="brval81.mp3" descr=""/>
          <p:cNvPicPr/>
          <p:nvPr/>
        </p:nvPicPr>
        <p:blipFill>
          <a:blip r:embed="rId3"/>
          <a:stretch/>
        </p:blipFill>
        <p:spPr>
          <a:xfrm>
            <a:off x="468360" y="6021360"/>
            <a:ext cx="304920" cy="304920"/>
          </a:xfrm>
          <a:prstGeom prst="rect">
            <a:avLst/>
          </a:prstGeom>
          <a:ln w="0">
            <a:noFill/>
          </a:ln>
        </p:spPr>
      </p:pic>
      <p:pic>
        <p:nvPicPr>
          <p:cNvPr id="135" name="Picture 10" descr="Христос Спаситель"/>
          <p:cNvPicPr/>
          <p:nvPr/>
        </p:nvPicPr>
        <p:blipFill>
          <a:blip r:embed="rId4"/>
          <a:stretch/>
        </p:blipFill>
        <p:spPr>
          <a:xfrm>
            <a:off x="3203640" y="2060640"/>
            <a:ext cx="3019320" cy="42861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134"/>
                    </p:tgtEl>
                  </p:cond>
                </p:stCondLst>
                <p:childTnLst>
                  <p:par>
                    <p:cTn id="63" fill="hold">
                      <p:stCondLst>
                        <p:cond evt="onClick">
                          <p:tgtEl>
                            <p:spTgt spid="134"/>
                          </p:tgtEl>
                        </p:cond>
                      </p:stCondLst>
                      <p:childTnLst>
                        <p:par>
                          <p:cTn id="64" fill="hold">
                            <p:stCondLst>
                              <p:cond delay="0"/>
                            </p:stCondLst>
                            <p:childTnLst>
                              <p:par>
                                <p:cTn id="65" nodeType="clickEffect" fill="hold" presetClass="mediacall" presetID="1">
                                  <p:stCondLst>
                                    <p:cond delay="0"/>
                                  </p:stCondLst>
                                  <p:childTnLst>
                                    <p:cmd type="call" cmd="playFrom(0.0)">
                                      <p:cBhvr>
                                        <p:cTn id="66" dur="146756"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Девять мучеников Кизических</a:t>
            </a:r>
            <a:endParaRPr b="0" lang="en-US" sz="4000" spc="-1" strike="noStrike">
              <a:solidFill>
                <a:srgbClr val="b7e7ff"/>
              </a:solidFill>
              <a:latin typeface="Arial"/>
            </a:endParaRPr>
          </a:p>
        </p:txBody>
      </p:sp>
      <p:sp>
        <p:nvSpPr>
          <p:cNvPr id="137"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2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38" name="Picture 5" descr="angel21"/>
          <p:cNvPicPr/>
          <p:nvPr/>
        </p:nvPicPr>
        <p:blipFill>
          <a:blip r:embed="rId1"/>
          <a:stretch/>
        </p:blipFill>
        <p:spPr>
          <a:xfrm flipH="1">
            <a:off x="178920" y="620640"/>
            <a:ext cx="1195560" cy="2060640"/>
          </a:xfrm>
          <a:prstGeom prst="rect">
            <a:avLst/>
          </a:prstGeom>
          <a:ln w="0">
            <a:noFill/>
          </a:ln>
        </p:spPr>
      </p:pic>
      <p:pic>
        <p:nvPicPr>
          <p:cNvPr id="139" name="Picture 6" descr="angel21"/>
          <p:cNvPicPr/>
          <p:nvPr/>
        </p:nvPicPr>
        <p:blipFill>
          <a:blip r:embed="rId2"/>
          <a:stretch/>
        </p:blipFill>
        <p:spPr>
          <a:xfrm>
            <a:off x="7862760" y="620640"/>
            <a:ext cx="1281240" cy="1989360"/>
          </a:xfrm>
          <a:prstGeom prst="rect">
            <a:avLst/>
          </a:prstGeom>
          <a:ln w="0">
            <a:noFill/>
          </a:ln>
        </p:spPr>
      </p:pic>
      <p:sp>
        <p:nvSpPr>
          <p:cNvPr id="140"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9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1" name="brval10.mp3" descr=""/>
          <p:cNvPicPr/>
          <p:nvPr/>
        </p:nvPicPr>
        <p:blipFill>
          <a:blip r:embed="rId3"/>
          <a:stretch/>
        </p:blipFill>
        <p:spPr>
          <a:xfrm>
            <a:off x="468360" y="6021360"/>
            <a:ext cx="304920" cy="304920"/>
          </a:xfrm>
          <a:prstGeom prst="rect">
            <a:avLst/>
          </a:prstGeom>
          <a:ln w="0">
            <a:noFill/>
          </a:ln>
        </p:spPr>
      </p:pic>
      <p:pic>
        <p:nvPicPr>
          <p:cNvPr id="142" name="Picture 10" descr="Девять мучеников Кизических"/>
          <p:cNvPicPr/>
          <p:nvPr/>
        </p:nvPicPr>
        <p:blipFill>
          <a:blip r:embed="rId4"/>
          <a:stretch/>
        </p:blipFill>
        <p:spPr>
          <a:xfrm>
            <a:off x="2556000" y="1773360"/>
            <a:ext cx="3609720" cy="4276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141"/>
                    </p:tgtEl>
                  </p:cond>
                </p:stCondLst>
                <p:childTnLst>
                  <p:par>
                    <p:cTn id="69" fill="hold">
                      <p:stCondLst>
                        <p:cond evt="onClick">
                          <p:tgtEl>
                            <p:spTgt spid="141"/>
                          </p:tgtEl>
                        </p:cond>
                      </p:stCondLst>
                      <p:childTnLst>
                        <p:par>
                          <p:cTn id="70" fill="hold">
                            <p:stCondLst>
                              <p:cond delay="0"/>
                            </p:stCondLst>
                            <p:childTnLst>
                              <p:par>
                                <p:cTn id="71" nodeType="clickEffect" fill="hold" presetClass="mediacall" presetID="1">
                                  <p:stCondLst>
                                    <p:cond delay="0"/>
                                  </p:stCondLst>
                                  <p:childTnLst>
                                    <p:cmd type="call" cmd="playFrom(0.0)">
                                      <p:cBhvr>
                                        <p:cTn id="72" dur="135315"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                  </a:t>
            </a:r>
            <a:br>
              <a:rPr sz="4000"/>
            </a:br>
            <a:endParaRPr b="0" lang="en-US" sz="4000" spc="-1" strike="noStrike">
              <a:solidFill>
                <a:srgbClr val="b7e7ff"/>
              </a:solidFill>
              <a:latin typeface="Arial"/>
            </a:endParaRPr>
          </a:p>
        </p:txBody>
      </p:sp>
      <p:pic>
        <p:nvPicPr>
          <p:cNvPr id="144" name="Архангельский глас.mp3" descr=""/>
          <p:cNvPicPr/>
          <p:nvPr/>
        </p:nvPicPr>
        <p:blipFill>
          <a:blip r:embed="rId1"/>
          <a:stretch/>
        </p:blipFill>
        <p:spPr>
          <a:xfrm>
            <a:off x="179280" y="6308640"/>
            <a:ext cx="304920" cy="304920"/>
          </a:xfrm>
          <a:prstGeom prst="rect">
            <a:avLst/>
          </a:prstGeom>
          <a:ln w="0">
            <a:noFill/>
          </a:ln>
        </p:spPr>
      </p:pic>
      <p:sp>
        <p:nvSpPr>
          <p:cNvPr id="145" name="Rectangle 5"/>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3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46" name="Picture 6" descr="angel21"/>
          <p:cNvPicPr/>
          <p:nvPr/>
        </p:nvPicPr>
        <p:blipFill>
          <a:blip r:embed="rId2"/>
          <a:stretch/>
        </p:blipFill>
        <p:spPr>
          <a:xfrm flipH="1">
            <a:off x="-360" y="620640"/>
            <a:ext cx="1195560" cy="2060640"/>
          </a:xfrm>
          <a:prstGeom prst="rect">
            <a:avLst/>
          </a:prstGeom>
          <a:ln w="0">
            <a:noFill/>
          </a:ln>
        </p:spPr>
      </p:pic>
      <p:pic>
        <p:nvPicPr>
          <p:cNvPr id="147" name="Picture 7" descr="angel21"/>
          <p:cNvPicPr/>
          <p:nvPr/>
        </p:nvPicPr>
        <p:blipFill>
          <a:blip r:embed="rId3"/>
          <a:stretch/>
        </p:blipFill>
        <p:spPr>
          <a:xfrm>
            <a:off x="7862760" y="620640"/>
            <a:ext cx="1281240" cy="1989360"/>
          </a:xfrm>
          <a:prstGeom prst="rect">
            <a:avLst/>
          </a:prstGeom>
          <a:ln w="0">
            <a:noFill/>
          </a:ln>
        </p:spPr>
      </p:pic>
      <p:sp>
        <p:nvSpPr>
          <p:cNvPr id="148" name="Rectangle 10"/>
          <p:cNvSpPr/>
          <p:nvPr/>
        </p:nvSpPr>
        <p:spPr>
          <a:xfrm>
            <a:off x="0" y="0"/>
            <a:ext cx="1781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0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9" name="Picture 14" descr="Святитель Игнатий Брянчанинов"/>
          <p:cNvPicPr/>
          <p:nvPr/>
        </p:nvPicPr>
        <p:blipFill>
          <a:blip r:embed="rId4"/>
          <a:stretch/>
        </p:blipFill>
        <p:spPr>
          <a:xfrm>
            <a:off x="755640" y="1989000"/>
            <a:ext cx="3514680" cy="4286520"/>
          </a:xfrm>
          <a:prstGeom prst="rect">
            <a:avLst/>
          </a:prstGeom>
          <a:ln w="0">
            <a:noFill/>
          </a:ln>
        </p:spPr>
      </p:pic>
      <p:pic>
        <p:nvPicPr>
          <p:cNvPr id="150" name="Picture 16" descr="Святитель Игнатий Брянчанинов"/>
          <p:cNvPicPr/>
          <p:nvPr/>
        </p:nvPicPr>
        <p:blipFill>
          <a:blip r:embed="rId5"/>
          <a:stretch/>
        </p:blipFill>
        <p:spPr>
          <a:xfrm>
            <a:off x="4356000" y="1989000"/>
            <a:ext cx="3867120" cy="4286520"/>
          </a:xfrm>
          <a:prstGeom prst="rect">
            <a:avLst/>
          </a:prstGeom>
          <a:ln w="0">
            <a:noFill/>
          </a:ln>
        </p:spPr>
      </p:pic>
      <p:sp>
        <p:nvSpPr>
          <p:cNvPr id="151" name="Rectangle 17"/>
          <p:cNvSpPr/>
          <p:nvPr/>
        </p:nvSpPr>
        <p:spPr>
          <a:xfrm>
            <a:off x="1569960" y="259560"/>
            <a:ext cx="6406200" cy="1312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Святитель</a:t>
            </a:r>
            <a:endParaRPr b="0" lang="en-US" sz="4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 </a:t>
            </a:r>
            <a:r>
              <a:rPr b="1" lang="ru-RU" sz="4000" spc="-1" strike="noStrike">
                <a:solidFill>
                  <a:srgbClr val="ffffff"/>
                </a:solidFill>
                <a:latin typeface="Tahoma"/>
              </a:rPr>
              <a:t>Игнатий Брянчанинов</a:t>
            </a: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144"/>
                    </p:tgtEl>
                  </p:cond>
                </p:stCondLst>
                <p:childTnLst>
                  <p:par>
                    <p:cTn id="75" fill="hold">
                      <p:stCondLst>
                        <p:cond evt="onClick">
                          <p:tgtEl>
                            <p:spTgt spid="144"/>
                          </p:tgtEl>
                        </p:cond>
                      </p:stCondLst>
                      <p:childTnLst>
                        <p:par>
                          <p:cTn id="76" fill="hold">
                            <p:stCondLst>
                              <p:cond delay="0"/>
                            </p:stCondLst>
                            <p:childTnLst>
                              <p:par>
                                <p:cTn id="77" nodeType="clickEffect" fill="hold" presetClass="mediacall" presetID="1">
                                  <p:stCondLst>
                                    <p:cond delay="0"/>
                                  </p:stCondLst>
                                  <p:childTnLst>
                                    <p:cmd type="call" cmd="playFrom(0.0)">
                                      <p:cBhvr>
                                        <p:cTn id="78" dur="48118"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Икона Божией Матери ''Нечаянная Радость''</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53"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4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54" name="Picture 5" descr="angel21"/>
          <p:cNvPicPr/>
          <p:nvPr/>
        </p:nvPicPr>
        <p:blipFill>
          <a:blip r:embed="rId1"/>
          <a:stretch/>
        </p:blipFill>
        <p:spPr>
          <a:xfrm flipH="1">
            <a:off x="178920" y="549360"/>
            <a:ext cx="1195560" cy="2060640"/>
          </a:xfrm>
          <a:prstGeom prst="rect">
            <a:avLst/>
          </a:prstGeom>
          <a:ln w="0">
            <a:noFill/>
          </a:ln>
        </p:spPr>
      </p:pic>
      <p:pic>
        <p:nvPicPr>
          <p:cNvPr id="155" name="Picture 6" descr="angel21"/>
          <p:cNvPicPr/>
          <p:nvPr/>
        </p:nvPicPr>
        <p:blipFill>
          <a:blip r:embed="rId2"/>
          <a:stretch/>
        </p:blipFill>
        <p:spPr>
          <a:xfrm>
            <a:off x="7862760" y="620640"/>
            <a:ext cx="1281240" cy="1989360"/>
          </a:xfrm>
          <a:prstGeom prst="rect">
            <a:avLst/>
          </a:prstGeom>
          <a:ln w="0">
            <a:noFill/>
          </a:ln>
        </p:spPr>
      </p:pic>
      <p:sp>
        <p:nvSpPr>
          <p:cNvPr id="156"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7" name="brval11.mp3" descr=""/>
          <p:cNvPicPr/>
          <p:nvPr/>
        </p:nvPicPr>
        <p:blipFill>
          <a:blip r:embed="rId3"/>
          <a:stretch/>
        </p:blipFill>
        <p:spPr>
          <a:xfrm>
            <a:off x="468360" y="6021360"/>
            <a:ext cx="304920" cy="304920"/>
          </a:xfrm>
          <a:prstGeom prst="rect">
            <a:avLst/>
          </a:prstGeom>
          <a:ln w="0">
            <a:noFill/>
          </a:ln>
        </p:spPr>
      </p:pic>
      <p:pic>
        <p:nvPicPr>
          <p:cNvPr id="158" name="Picture 10" descr="Икона Божией Матери ''Нечаянная Радость''"/>
          <p:cNvPicPr/>
          <p:nvPr/>
        </p:nvPicPr>
        <p:blipFill>
          <a:blip r:embed="rId4"/>
          <a:stretch/>
        </p:blipFill>
        <p:spPr>
          <a:xfrm>
            <a:off x="2916360" y="1916280"/>
            <a:ext cx="3228840" cy="4276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restart="whenNotActive" nodeType="interactiveSeq" fill="hold">
                <p:stCondLst>
                  <p:cond evt="onClick">
                    <p:tgtEl>
                      <p:spTgt spid="157"/>
                    </p:tgtEl>
                  </p:cond>
                </p:stCondLst>
                <p:childTnLst>
                  <p:par>
                    <p:cTn id="81" fill="hold">
                      <p:stCondLst>
                        <p:cond evt="onClick">
                          <p:tgtEl>
                            <p:spTgt spid="157"/>
                          </p:tgtEl>
                        </p:cond>
                      </p:stCondLst>
                      <p:childTnLst>
                        <p:par>
                          <p:cTn id="82" fill="hold">
                            <p:stCondLst>
                              <p:cond delay="0"/>
                            </p:stCondLst>
                            <p:childTnLst>
                              <p:par>
                                <p:cTn id="83" nodeType="clickEffect" fill="hold" presetClass="mediacall" presetID="1">
                                  <p:stCondLst>
                                    <p:cond delay="0"/>
                                  </p:stCondLst>
                                  <p:childTnLst>
                                    <p:cmd type="call" cmd="playFrom(0.0)">
                                      <p:cBhvr>
                                        <p:cTn id="84" dur="112327"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Борис и Глеб</a:t>
            </a:r>
            <a:br>
              <a:rPr sz="4000"/>
            </a:br>
            <a:r>
              <a:rPr b="1" lang="ru-RU" sz="4000" spc="-1" strike="noStrike">
                <a:solidFill>
                  <a:srgbClr val="b7e7ff"/>
                </a:solidFill>
                <a:latin typeface="Arial"/>
              </a:rPr>
              <a:t>Святитель </a:t>
            </a:r>
            <a:br>
              <a:rPr sz="4000"/>
            </a:br>
            <a:r>
              <a:rPr b="1" lang="ru-RU" sz="4000" spc="-1" strike="noStrike">
                <a:solidFill>
                  <a:srgbClr val="b7e7ff"/>
                </a:solidFill>
                <a:latin typeface="Arial"/>
              </a:rPr>
              <a:t>Афанасий Великий</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60"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5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61" name="Picture 5" descr="angel21"/>
          <p:cNvPicPr/>
          <p:nvPr/>
        </p:nvPicPr>
        <p:blipFill>
          <a:blip r:embed="rId1"/>
          <a:stretch/>
        </p:blipFill>
        <p:spPr>
          <a:xfrm flipH="1">
            <a:off x="178920" y="620640"/>
            <a:ext cx="1195560" cy="2060640"/>
          </a:xfrm>
          <a:prstGeom prst="rect">
            <a:avLst/>
          </a:prstGeom>
          <a:ln w="0">
            <a:noFill/>
          </a:ln>
        </p:spPr>
      </p:pic>
      <p:pic>
        <p:nvPicPr>
          <p:cNvPr id="162" name="Picture 6" descr="angel21"/>
          <p:cNvPicPr/>
          <p:nvPr/>
        </p:nvPicPr>
        <p:blipFill>
          <a:blip r:embed="rId2"/>
          <a:stretch/>
        </p:blipFill>
        <p:spPr>
          <a:xfrm>
            <a:off x="7862760" y="765000"/>
            <a:ext cx="1281240" cy="1989360"/>
          </a:xfrm>
          <a:prstGeom prst="rect">
            <a:avLst/>
          </a:prstGeom>
          <a:ln w="0">
            <a:noFill/>
          </a:ln>
        </p:spPr>
      </p:pic>
      <p:sp>
        <p:nvSpPr>
          <p:cNvPr id="163" name="Rectangle 7"/>
          <p:cNvSpPr/>
          <p:nvPr/>
        </p:nvSpPr>
        <p:spPr>
          <a:xfrm>
            <a:off x="0" y="0"/>
            <a:ext cx="1781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4" name="brval12.mp3" descr=""/>
          <p:cNvPicPr/>
          <p:nvPr/>
        </p:nvPicPr>
        <p:blipFill>
          <a:blip r:embed="rId3"/>
          <a:stretch/>
        </p:blipFill>
        <p:spPr>
          <a:xfrm>
            <a:off x="468360" y="6021360"/>
            <a:ext cx="304920" cy="304920"/>
          </a:xfrm>
          <a:prstGeom prst="rect">
            <a:avLst/>
          </a:prstGeom>
          <a:ln w="0">
            <a:noFill/>
          </a:ln>
        </p:spPr>
      </p:pic>
      <p:pic>
        <p:nvPicPr>
          <p:cNvPr id="165" name="Picture 10" descr="Борис и Глеб"/>
          <p:cNvPicPr/>
          <p:nvPr/>
        </p:nvPicPr>
        <p:blipFill>
          <a:blip r:embed="rId4"/>
          <a:stretch/>
        </p:blipFill>
        <p:spPr>
          <a:xfrm>
            <a:off x="2916360" y="1916280"/>
            <a:ext cx="3286080" cy="4286160"/>
          </a:xfrm>
          <a:prstGeom prst="rect">
            <a:avLst/>
          </a:prstGeom>
          <a:ln w="0">
            <a:noFill/>
          </a:ln>
        </p:spPr>
      </p:pic>
      <p:pic>
        <p:nvPicPr>
          <p:cNvPr id="166" name="Picture 12" descr="Святитель Афанасий Великий"/>
          <p:cNvPicPr/>
          <p:nvPr/>
        </p:nvPicPr>
        <p:blipFill>
          <a:blip r:embed="rId5"/>
          <a:stretch/>
        </p:blipFill>
        <p:spPr>
          <a:xfrm>
            <a:off x="395280" y="2637000"/>
            <a:ext cx="2457360" cy="3350880"/>
          </a:xfrm>
          <a:prstGeom prst="rect">
            <a:avLst/>
          </a:prstGeom>
          <a:ln w="0">
            <a:noFill/>
          </a:ln>
        </p:spPr>
      </p:pic>
      <p:pic>
        <p:nvPicPr>
          <p:cNvPr id="167" name="Picture 14" descr="Святитель Афанасий Великий"/>
          <p:cNvPicPr/>
          <p:nvPr/>
        </p:nvPicPr>
        <p:blipFill>
          <a:blip r:embed="rId6"/>
          <a:stretch/>
        </p:blipFill>
        <p:spPr>
          <a:xfrm>
            <a:off x="6227640" y="2637000"/>
            <a:ext cx="2484720" cy="32781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restart="whenNotActive" nodeType="interactiveSeq" fill="hold">
                <p:stCondLst>
                  <p:cond evt="onClick">
                    <p:tgtEl>
                      <p:spTgt spid="164"/>
                    </p:tgtEl>
                  </p:cond>
                </p:stCondLst>
                <p:childTnLst>
                  <p:par>
                    <p:cTn id="87" fill="hold">
                      <p:stCondLst>
                        <p:cond evt="onClick">
                          <p:tgtEl>
                            <p:spTgt spid="164"/>
                          </p:tgtEl>
                        </p:cond>
                      </p:stCondLst>
                      <p:childTnLst>
                        <p:par>
                          <p:cTn id="88" fill="hold">
                            <p:stCondLst>
                              <p:cond delay="0"/>
                            </p:stCondLst>
                            <p:childTnLst>
                              <p:par>
                                <p:cTn id="89" nodeType="clickEffect" fill="hold" presetClass="mediacall" presetID="1">
                                  <p:stCondLst>
                                    <p:cond delay="0"/>
                                  </p:stCondLst>
                                  <p:childTnLst>
                                    <p:cmd type="call" cmd="playFrom(0.0)">
                                      <p:cBhvr>
                                        <p:cTn id="90" dur="369738"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40464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b7e7ff"/>
                </a:solidFill>
                <a:latin typeface="Arial"/>
              </a:rPr>
              <a:t>Печерская икона</a:t>
            </a:r>
            <a:br>
              <a:rPr sz="3600"/>
            </a:br>
            <a:r>
              <a:rPr b="1" lang="ru-RU" sz="3600" spc="-1" strike="noStrike">
                <a:solidFill>
                  <a:srgbClr val="b7e7ff"/>
                </a:solidFill>
                <a:latin typeface="Arial"/>
              </a:rPr>
              <a:t> Божией Матери</a:t>
            </a:r>
            <a:br>
              <a:rPr sz="3600"/>
            </a:br>
            <a:r>
              <a:rPr b="1" lang="ru-RU" sz="3600" spc="-1" strike="noStrike">
                <a:solidFill>
                  <a:srgbClr val="b7e7ff"/>
                </a:solidFill>
                <a:latin typeface="Arial"/>
              </a:rPr>
              <a:t> с предстоящими </a:t>
            </a:r>
            <a:br>
              <a:rPr sz="3600"/>
            </a:br>
            <a:r>
              <a:rPr b="1" lang="ru-RU" sz="3600" spc="-1" strike="noStrike">
                <a:solidFill>
                  <a:srgbClr val="b7e7ff"/>
                </a:solidFill>
                <a:latin typeface="Arial"/>
              </a:rPr>
              <a:t>Антонием и Феодосием</a:t>
            </a:r>
            <a:endParaRPr b="0" lang="en-US" sz="3600" spc="-1" strike="noStrike">
              <a:solidFill>
                <a:srgbClr val="b7e7ff"/>
              </a:solidFill>
              <a:latin typeface="Arial"/>
            </a:endParaRPr>
          </a:p>
        </p:txBody>
      </p:sp>
      <p:sp>
        <p:nvSpPr>
          <p:cNvPr id="169"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6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70" name="Picture 5" descr="angel21"/>
          <p:cNvPicPr/>
          <p:nvPr/>
        </p:nvPicPr>
        <p:blipFill>
          <a:blip r:embed="rId1"/>
          <a:stretch/>
        </p:blipFill>
        <p:spPr>
          <a:xfrm flipH="1">
            <a:off x="178920" y="620640"/>
            <a:ext cx="1195560" cy="2060640"/>
          </a:xfrm>
          <a:prstGeom prst="rect">
            <a:avLst/>
          </a:prstGeom>
          <a:ln w="0">
            <a:noFill/>
          </a:ln>
        </p:spPr>
      </p:pic>
      <p:pic>
        <p:nvPicPr>
          <p:cNvPr id="171" name="Picture 6" descr="angel21"/>
          <p:cNvPicPr/>
          <p:nvPr/>
        </p:nvPicPr>
        <p:blipFill>
          <a:blip r:embed="rId2"/>
          <a:stretch/>
        </p:blipFill>
        <p:spPr>
          <a:xfrm>
            <a:off x="7862760" y="620640"/>
            <a:ext cx="1281240" cy="1989360"/>
          </a:xfrm>
          <a:prstGeom prst="rect">
            <a:avLst/>
          </a:prstGeom>
          <a:ln w="0">
            <a:noFill/>
          </a:ln>
        </p:spPr>
      </p:pic>
      <p:sp>
        <p:nvSpPr>
          <p:cNvPr id="172"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3" name="brval10.mp3" descr=""/>
          <p:cNvPicPr/>
          <p:nvPr/>
        </p:nvPicPr>
        <p:blipFill>
          <a:blip r:embed="rId3"/>
          <a:stretch/>
        </p:blipFill>
        <p:spPr>
          <a:xfrm>
            <a:off x="468360" y="6021360"/>
            <a:ext cx="304920" cy="304920"/>
          </a:xfrm>
          <a:prstGeom prst="rect">
            <a:avLst/>
          </a:prstGeom>
          <a:ln w="0">
            <a:noFill/>
          </a:ln>
        </p:spPr>
      </p:pic>
      <p:pic>
        <p:nvPicPr>
          <p:cNvPr id="174" name="Picture 11" descr="Печерская икона Божией Матери с предстоящими Антонием и Феодосием"/>
          <p:cNvPicPr/>
          <p:nvPr/>
        </p:nvPicPr>
        <p:blipFill>
          <a:blip r:embed="rId4"/>
          <a:stretch/>
        </p:blipFill>
        <p:spPr>
          <a:xfrm>
            <a:off x="4140360" y="2349360"/>
            <a:ext cx="3705120" cy="4286520"/>
          </a:xfrm>
          <a:prstGeom prst="rect">
            <a:avLst/>
          </a:prstGeom>
          <a:ln w="0">
            <a:noFill/>
          </a:ln>
        </p:spPr>
      </p:pic>
      <p:pic>
        <p:nvPicPr>
          <p:cNvPr id="175" name="Picture 13" descr="Преподобные Антоний и Феодосий Печерские"/>
          <p:cNvPicPr/>
          <p:nvPr/>
        </p:nvPicPr>
        <p:blipFill>
          <a:blip r:embed="rId5"/>
          <a:stretch/>
        </p:blipFill>
        <p:spPr>
          <a:xfrm>
            <a:off x="1042920" y="2276640"/>
            <a:ext cx="3038400" cy="42861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restart="whenNotActive" nodeType="interactiveSeq" fill="hold">
                <p:stCondLst>
                  <p:cond evt="onClick">
                    <p:tgtEl>
                      <p:spTgt spid="173"/>
                    </p:tgtEl>
                  </p:cond>
                </p:stCondLst>
                <p:childTnLst>
                  <p:par>
                    <p:cTn id="93" fill="hold">
                      <p:stCondLst>
                        <p:cond evt="onClick">
                          <p:tgtEl>
                            <p:spTgt spid="173"/>
                          </p:tgtEl>
                        </p:cond>
                      </p:stCondLst>
                      <p:childTnLst>
                        <p:par>
                          <p:cTn id="94" fill="hold">
                            <p:stCondLst>
                              <p:cond delay="0"/>
                            </p:stCondLst>
                            <p:childTnLst>
                              <p:par>
                                <p:cTn id="95" nodeType="clickEffect" fill="hold" presetClass="mediacall" presetID="1">
                                  <p:stCondLst>
                                    <p:cond delay="0"/>
                                  </p:stCondLst>
                                  <p:childTnLst>
                                    <p:cmd type="call" cmd="playFrom(0.0)">
                                      <p:cBhvr>
                                        <p:cTn id="96" dur="135315"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Равноапостольная</a:t>
            </a:r>
            <a:br>
              <a:rPr sz="4000"/>
            </a:br>
            <a:r>
              <a:rPr b="1" lang="ru-RU" sz="4000" spc="-1" strike="noStrike">
                <a:solidFill>
                  <a:srgbClr val="b7e7ff"/>
                </a:solidFill>
                <a:latin typeface="Arial"/>
              </a:rPr>
              <a:t> Мария Магдалина</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77"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7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78" name="Picture 5" descr="angel21"/>
          <p:cNvPicPr/>
          <p:nvPr/>
        </p:nvPicPr>
        <p:blipFill>
          <a:blip r:embed="rId1"/>
          <a:stretch/>
        </p:blipFill>
        <p:spPr>
          <a:xfrm flipH="1">
            <a:off x="-360" y="549360"/>
            <a:ext cx="1195560" cy="2060640"/>
          </a:xfrm>
          <a:prstGeom prst="rect">
            <a:avLst/>
          </a:prstGeom>
          <a:ln w="0">
            <a:noFill/>
          </a:ln>
        </p:spPr>
      </p:pic>
      <p:pic>
        <p:nvPicPr>
          <p:cNvPr id="179" name="Picture 6" descr="angel21"/>
          <p:cNvPicPr/>
          <p:nvPr/>
        </p:nvPicPr>
        <p:blipFill>
          <a:blip r:embed="rId2"/>
          <a:stretch/>
        </p:blipFill>
        <p:spPr>
          <a:xfrm>
            <a:off x="7862760" y="620640"/>
            <a:ext cx="1281240" cy="1989360"/>
          </a:xfrm>
          <a:prstGeom prst="rect">
            <a:avLst/>
          </a:prstGeom>
          <a:ln w="0">
            <a:noFill/>
          </a:ln>
        </p:spPr>
      </p:pic>
      <p:sp>
        <p:nvSpPr>
          <p:cNvPr id="180" name="Rectangle 7"/>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4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1" name="brval13.mp3" descr=""/>
          <p:cNvPicPr/>
          <p:nvPr/>
        </p:nvPicPr>
        <p:blipFill>
          <a:blip r:embed="rId3"/>
          <a:stretch/>
        </p:blipFill>
        <p:spPr>
          <a:xfrm>
            <a:off x="468360" y="6021360"/>
            <a:ext cx="304920" cy="304920"/>
          </a:xfrm>
          <a:prstGeom prst="rect">
            <a:avLst/>
          </a:prstGeom>
          <a:ln w="0">
            <a:noFill/>
          </a:ln>
        </p:spPr>
      </p:pic>
      <p:pic>
        <p:nvPicPr>
          <p:cNvPr id="182" name="Picture 10" descr="Мария Магдалина"/>
          <p:cNvPicPr/>
          <p:nvPr/>
        </p:nvPicPr>
        <p:blipFill>
          <a:blip r:embed="rId4"/>
          <a:stretch/>
        </p:blipFill>
        <p:spPr>
          <a:xfrm>
            <a:off x="3564000" y="1628640"/>
            <a:ext cx="2343240" cy="42865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restart="whenNotActive" nodeType="interactiveSeq" fill="hold">
                <p:stCondLst>
                  <p:cond evt="onClick">
                    <p:tgtEl>
                      <p:spTgt spid="181"/>
                    </p:tgtEl>
                  </p:cond>
                </p:stCondLst>
                <p:childTnLst>
                  <p:par>
                    <p:cTn id="99" fill="hold">
                      <p:stCondLst>
                        <p:cond evt="onClick">
                          <p:tgtEl>
                            <p:spTgt spid="181"/>
                          </p:tgtEl>
                        </p:cond>
                      </p:stCondLst>
                      <p:childTnLst>
                        <p:par>
                          <p:cTn id="100" fill="hold">
                            <p:stCondLst>
                              <p:cond delay="0"/>
                            </p:stCondLst>
                            <p:childTnLst>
                              <p:par>
                                <p:cTn id="101" nodeType="clickEffect" fill="hold" presetClass="mediacall" presetID="1">
                                  <p:stCondLst>
                                    <p:cond delay="0"/>
                                  </p:stCondLst>
                                  <p:childTnLst>
                                    <p:cmd type="call" cmd="playFrom(0.0)">
                                      <p:cBhvr>
                                        <p:cTn id="102" dur="156422"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Икона Божией Матери ''Неупиваемая Чаша''</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84"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8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85" name="Picture 5" descr="angel21"/>
          <p:cNvPicPr/>
          <p:nvPr/>
        </p:nvPicPr>
        <p:blipFill>
          <a:blip r:embed="rId1"/>
          <a:stretch/>
        </p:blipFill>
        <p:spPr>
          <a:xfrm flipH="1">
            <a:off x="-360" y="620640"/>
            <a:ext cx="1195560" cy="2060640"/>
          </a:xfrm>
          <a:prstGeom prst="rect">
            <a:avLst/>
          </a:prstGeom>
          <a:ln w="0">
            <a:noFill/>
          </a:ln>
        </p:spPr>
      </p:pic>
      <p:pic>
        <p:nvPicPr>
          <p:cNvPr id="186" name="Picture 6" descr="angel21"/>
          <p:cNvPicPr/>
          <p:nvPr/>
        </p:nvPicPr>
        <p:blipFill>
          <a:blip r:embed="rId2"/>
          <a:stretch/>
        </p:blipFill>
        <p:spPr>
          <a:xfrm>
            <a:off x="7862760" y="620640"/>
            <a:ext cx="1281240" cy="1989360"/>
          </a:xfrm>
          <a:prstGeom prst="rect">
            <a:avLst/>
          </a:prstGeom>
          <a:ln w="0">
            <a:noFill/>
          </a:ln>
        </p:spPr>
      </p:pic>
      <p:sp>
        <p:nvSpPr>
          <p:cNvPr id="187" name="Rectangle 7"/>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5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8" name="brval14.mp3" descr=""/>
          <p:cNvPicPr/>
          <p:nvPr/>
        </p:nvPicPr>
        <p:blipFill>
          <a:blip r:embed="rId3"/>
          <a:stretch/>
        </p:blipFill>
        <p:spPr>
          <a:xfrm>
            <a:off x="468360" y="6021360"/>
            <a:ext cx="304920" cy="304920"/>
          </a:xfrm>
          <a:prstGeom prst="rect">
            <a:avLst/>
          </a:prstGeom>
          <a:ln w="0">
            <a:noFill/>
          </a:ln>
        </p:spPr>
      </p:pic>
      <p:pic>
        <p:nvPicPr>
          <p:cNvPr id="189" name="Picture 10" descr="Икона Божией Матери ''Неупиваемая Чаша''"/>
          <p:cNvPicPr/>
          <p:nvPr/>
        </p:nvPicPr>
        <p:blipFill>
          <a:blip r:embed="rId4"/>
          <a:stretch/>
        </p:blipFill>
        <p:spPr>
          <a:xfrm>
            <a:off x="2484360" y="1916280"/>
            <a:ext cx="3828960" cy="4276440"/>
          </a:xfrm>
          <a:prstGeom prst="rect">
            <a:avLst/>
          </a:prstGeom>
          <a:ln w="0">
            <a:noFill/>
          </a:ln>
        </p:spPr>
      </p:pic>
      <p:pic>
        <p:nvPicPr>
          <p:cNvPr id="190" name="Picture 12" descr="Великомученица Ирина"/>
          <p:cNvPicPr/>
          <p:nvPr/>
        </p:nvPicPr>
        <p:blipFill>
          <a:blip r:embed="rId5"/>
          <a:stretch/>
        </p:blipFill>
        <p:spPr>
          <a:xfrm>
            <a:off x="6659640" y="2708280"/>
            <a:ext cx="2117520" cy="3133800"/>
          </a:xfrm>
          <a:prstGeom prst="rect">
            <a:avLst/>
          </a:prstGeom>
          <a:ln w="0">
            <a:noFill/>
          </a:ln>
        </p:spPr>
      </p:pic>
      <p:sp>
        <p:nvSpPr>
          <p:cNvPr id="191" name="Rectangle 13"/>
          <p:cNvSpPr/>
          <p:nvPr/>
        </p:nvSpPr>
        <p:spPr>
          <a:xfrm>
            <a:off x="6055200" y="6165720"/>
            <a:ext cx="313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еликомученица Ирина</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88"/>
                    </p:tgtEl>
                  </p:cond>
                </p:stCondLst>
                <p:childTnLst>
                  <p:par>
                    <p:cTn id="105" fill="hold">
                      <p:stCondLst>
                        <p:cond evt="onClick">
                          <p:tgtEl>
                            <p:spTgt spid="188"/>
                          </p:tgtEl>
                        </p:cond>
                      </p:stCondLst>
                      <p:childTnLst>
                        <p:par>
                          <p:cTn id="106" fill="hold">
                            <p:stCondLst>
                              <p:cond delay="0"/>
                            </p:stCondLst>
                            <p:childTnLst>
                              <p:par>
                                <p:cTn id="107" nodeType="clickEffect" fill="hold" presetClass="mediacall" presetID="1">
                                  <p:stCondLst>
                                    <p:cond delay="0"/>
                                  </p:stCondLst>
                                  <p:childTnLst>
                                    <p:cmd type="call" cmd="playFrom(0.0)">
                                      <p:cBhvr>
                                        <p:cTn id="108" dur="246074"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Максимовская икона </a:t>
            </a:r>
            <a:br>
              <a:rPr sz="4000"/>
            </a:br>
            <a:r>
              <a:rPr b="1" lang="ru-RU" sz="4000" spc="-1" strike="noStrike">
                <a:solidFill>
                  <a:srgbClr val="b7e7ff"/>
                </a:solidFill>
                <a:latin typeface="Arial"/>
              </a:rPr>
              <a:t>Божией Матер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58"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59" name="Picture 5" descr="angel21"/>
          <p:cNvPicPr/>
          <p:nvPr/>
        </p:nvPicPr>
        <p:blipFill>
          <a:blip r:embed="rId1"/>
          <a:stretch/>
        </p:blipFill>
        <p:spPr>
          <a:xfrm flipH="1">
            <a:off x="250920" y="620640"/>
            <a:ext cx="1195200" cy="2060640"/>
          </a:xfrm>
          <a:prstGeom prst="rect">
            <a:avLst/>
          </a:prstGeom>
          <a:ln w="0">
            <a:noFill/>
          </a:ln>
        </p:spPr>
      </p:pic>
      <p:pic>
        <p:nvPicPr>
          <p:cNvPr id="60" name="Picture 6" descr="angel21"/>
          <p:cNvPicPr/>
          <p:nvPr/>
        </p:nvPicPr>
        <p:blipFill>
          <a:blip r:embed="rId2"/>
          <a:stretch/>
        </p:blipFill>
        <p:spPr>
          <a:xfrm>
            <a:off x="7862760" y="620640"/>
            <a:ext cx="1281240" cy="1989360"/>
          </a:xfrm>
          <a:prstGeom prst="rect">
            <a:avLst/>
          </a:prstGeom>
          <a:ln w="0">
            <a:noFill/>
          </a:ln>
        </p:spPr>
      </p:pic>
      <p:sp>
        <p:nvSpPr>
          <p:cNvPr id="61" name="Rectangle 10"/>
          <p:cNvSpPr/>
          <p:nvPr/>
        </p:nvSpPr>
        <p:spPr>
          <a:xfrm>
            <a:off x="4680" y="-360"/>
            <a:ext cx="165744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8 апрел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2" name="brval99.mp3" descr=""/>
          <p:cNvPicPr/>
          <p:nvPr/>
        </p:nvPicPr>
        <p:blipFill>
          <a:blip r:embed="rId3"/>
          <a:stretch/>
        </p:blipFill>
        <p:spPr>
          <a:xfrm>
            <a:off x="539640" y="5950080"/>
            <a:ext cx="304920" cy="304560"/>
          </a:xfrm>
          <a:prstGeom prst="rect">
            <a:avLst/>
          </a:prstGeom>
          <a:ln w="0">
            <a:noFill/>
          </a:ln>
        </p:spPr>
      </p:pic>
      <p:pic>
        <p:nvPicPr>
          <p:cNvPr id="63" name="Picture 14" descr="Максимовская икона Божией Матери"/>
          <p:cNvPicPr/>
          <p:nvPr/>
        </p:nvPicPr>
        <p:blipFill>
          <a:blip r:embed="rId4"/>
          <a:stretch/>
        </p:blipFill>
        <p:spPr>
          <a:xfrm>
            <a:off x="3780000" y="2133720"/>
            <a:ext cx="1638000" cy="4276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2"/>
                    </p:tgtEl>
                  </p:cond>
                </p:stCondLst>
                <p:childTnLst>
                  <p:par>
                    <p:cTn id="3" fill="hold">
                      <p:stCondLst>
                        <p:cond evt="onClick">
                          <p:tgtEl>
                            <p:spTgt spid="62"/>
                          </p:tgtEl>
                        </p:cond>
                      </p:stCondLst>
                      <p:childTnLst>
                        <p:par>
                          <p:cTn id="4" fill="hold">
                            <p:stCondLst>
                              <p:cond delay="0"/>
                            </p:stCondLst>
                            <p:childTnLst>
                              <p:par>
                                <p:cTn id="5" nodeType="clickEffect" fill="hold" presetClass="mediacall" presetID="1">
                                  <p:stCondLst>
                                    <p:cond delay="0"/>
                                  </p:stCondLst>
                                  <p:childTnLst>
                                    <p:cmd type="call" cmd="playFrom(0.0)">
                                      <p:cBhvr>
                                        <p:cTn id="6" dur="83958"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Иов Почаевский</a:t>
            </a:r>
            <a:endParaRPr b="0" lang="en-US" sz="4400" spc="-1" strike="noStrike">
              <a:solidFill>
                <a:srgbClr val="b7e7ff"/>
              </a:solidFill>
              <a:latin typeface="Arial"/>
            </a:endParaRPr>
          </a:p>
        </p:txBody>
      </p:sp>
      <p:sp>
        <p:nvSpPr>
          <p:cNvPr id="193"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9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94" name="Picture 5" descr="angel21"/>
          <p:cNvPicPr/>
          <p:nvPr/>
        </p:nvPicPr>
        <p:blipFill>
          <a:blip r:embed="rId1"/>
          <a:stretch/>
        </p:blipFill>
        <p:spPr>
          <a:xfrm flipH="1">
            <a:off x="178920" y="549360"/>
            <a:ext cx="1195560" cy="2060640"/>
          </a:xfrm>
          <a:prstGeom prst="rect">
            <a:avLst/>
          </a:prstGeom>
          <a:ln w="0">
            <a:noFill/>
          </a:ln>
        </p:spPr>
      </p:pic>
      <p:pic>
        <p:nvPicPr>
          <p:cNvPr id="195" name="Picture 6" descr="angel21"/>
          <p:cNvPicPr/>
          <p:nvPr/>
        </p:nvPicPr>
        <p:blipFill>
          <a:blip r:embed="rId2"/>
          <a:stretch/>
        </p:blipFill>
        <p:spPr>
          <a:xfrm>
            <a:off x="7862760" y="765000"/>
            <a:ext cx="1281240" cy="1989360"/>
          </a:xfrm>
          <a:prstGeom prst="rect">
            <a:avLst/>
          </a:prstGeom>
          <a:ln w="0">
            <a:noFill/>
          </a:ln>
        </p:spPr>
      </p:pic>
      <p:sp>
        <p:nvSpPr>
          <p:cNvPr id="196" name="Rectangle 7"/>
          <p:cNvSpPr/>
          <p:nvPr/>
        </p:nvSpPr>
        <p:spPr>
          <a:xfrm>
            <a:off x="0" y="0"/>
            <a:ext cx="1925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6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7" name="brval20.mp3" descr=""/>
          <p:cNvPicPr/>
          <p:nvPr/>
        </p:nvPicPr>
        <p:blipFill>
          <a:blip r:embed="rId3"/>
          <a:stretch/>
        </p:blipFill>
        <p:spPr>
          <a:xfrm>
            <a:off x="468360" y="6021360"/>
            <a:ext cx="304920" cy="304920"/>
          </a:xfrm>
          <a:prstGeom prst="rect">
            <a:avLst/>
          </a:prstGeom>
          <a:ln w="0">
            <a:noFill/>
          </a:ln>
        </p:spPr>
      </p:pic>
      <p:pic>
        <p:nvPicPr>
          <p:cNvPr id="198" name="Picture 10" descr="Иов Почаевский"/>
          <p:cNvPicPr/>
          <p:nvPr/>
        </p:nvPicPr>
        <p:blipFill>
          <a:blip r:embed="rId4"/>
          <a:stretch/>
        </p:blipFill>
        <p:spPr>
          <a:xfrm>
            <a:off x="2916360" y="1989000"/>
            <a:ext cx="3276360" cy="42768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restart="whenNotActive" nodeType="interactiveSeq" fill="hold">
                <p:stCondLst>
                  <p:cond evt="onClick">
                    <p:tgtEl>
                      <p:spTgt spid="197"/>
                    </p:tgtEl>
                  </p:cond>
                </p:stCondLst>
                <p:childTnLst>
                  <p:par>
                    <p:cTn id="111" fill="hold">
                      <p:stCondLst>
                        <p:cond evt="onClick">
                          <p:tgtEl>
                            <p:spTgt spid="197"/>
                          </p:tgtEl>
                        </p:cond>
                      </p:stCondLst>
                      <p:childTnLst>
                        <p:par>
                          <p:cTn id="112" fill="hold">
                            <p:stCondLst>
                              <p:cond delay="0"/>
                            </p:stCondLst>
                            <p:childTnLst>
                              <p:par>
                                <p:cTn id="113" nodeType="clickEffect" fill="hold" presetClass="mediacall" presetID="1">
                                  <p:stCondLst>
                                    <p:cond delay="0"/>
                                  </p:stCondLst>
                                  <p:childTnLst>
                                    <p:cmd type="call" cmd="playFrom(0.0)">
                                      <p:cBhvr>
                                        <p:cTn id="114" dur="153130"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Жировицкая икона</a:t>
            </a:r>
            <a:br>
              <a:rPr sz="4000"/>
            </a:br>
            <a:r>
              <a:rPr b="1" lang="ru-RU" sz="4000" spc="-1" strike="noStrike">
                <a:solidFill>
                  <a:srgbClr val="b7e7ff"/>
                </a:solidFill>
                <a:latin typeface="Arial"/>
              </a:rPr>
              <a:t> Божией Матер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200"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0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01" name="Picture 5" descr="angel21"/>
          <p:cNvPicPr/>
          <p:nvPr/>
        </p:nvPicPr>
        <p:blipFill>
          <a:blip r:embed="rId1"/>
          <a:stretch/>
        </p:blipFill>
        <p:spPr>
          <a:xfrm flipH="1">
            <a:off x="178920" y="620640"/>
            <a:ext cx="1195560" cy="2060640"/>
          </a:xfrm>
          <a:prstGeom prst="rect">
            <a:avLst/>
          </a:prstGeom>
          <a:ln w="0">
            <a:noFill/>
          </a:ln>
        </p:spPr>
      </p:pic>
      <p:pic>
        <p:nvPicPr>
          <p:cNvPr id="202" name="Picture 6" descr="angel21"/>
          <p:cNvPicPr/>
          <p:nvPr/>
        </p:nvPicPr>
        <p:blipFill>
          <a:blip r:embed="rId2"/>
          <a:stretch/>
        </p:blipFill>
        <p:spPr>
          <a:xfrm>
            <a:off x="7862760" y="549360"/>
            <a:ext cx="1281240" cy="1989000"/>
          </a:xfrm>
          <a:prstGeom prst="rect">
            <a:avLst/>
          </a:prstGeom>
          <a:ln w="0">
            <a:noFill/>
          </a:ln>
        </p:spPr>
      </p:pic>
      <p:sp>
        <p:nvSpPr>
          <p:cNvPr id="203" name="Rectangle 7"/>
          <p:cNvSpPr/>
          <p:nvPr/>
        </p:nvSpPr>
        <p:spPr>
          <a:xfrm>
            <a:off x="0" y="0"/>
            <a:ext cx="1925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7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04" name="brval21.mp3" descr=""/>
          <p:cNvPicPr/>
          <p:nvPr/>
        </p:nvPicPr>
        <p:blipFill>
          <a:blip r:embed="rId3"/>
          <a:stretch/>
        </p:blipFill>
        <p:spPr>
          <a:xfrm>
            <a:off x="468360" y="6021360"/>
            <a:ext cx="304920" cy="304920"/>
          </a:xfrm>
          <a:prstGeom prst="rect">
            <a:avLst/>
          </a:prstGeom>
          <a:ln w="0">
            <a:noFill/>
          </a:ln>
        </p:spPr>
      </p:pic>
      <p:pic>
        <p:nvPicPr>
          <p:cNvPr id="205" name="Picture 10" descr="Жировицкая икона Божией Матери"/>
          <p:cNvPicPr/>
          <p:nvPr/>
        </p:nvPicPr>
        <p:blipFill>
          <a:blip r:embed="rId4"/>
          <a:stretch/>
        </p:blipFill>
        <p:spPr>
          <a:xfrm>
            <a:off x="4788000" y="1989000"/>
            <a:ext cx="3209760" cy="4286520"/>
          </a:xfrm>
          <a:prstGeom prst="rect">
            <a:avLst/>
          </a:prstGeom>
          <a:ln w="0">
            <a:noFill/>
          </a:ln>
        </p:spPr>
      </p:pic>
      <p:pic>
        <p:nvPicPr>
          <p:cNvPr id="206" name="Picture 12" descr="Жировицкая икона Божией Матери"/>
          <p:cNvPicPr/>
          <p:nvPr/>
        </p:nvPicPr>
        <p:blipFill>
          <a:blip r:embed="rId5"/>
          <a:stretch/>
        </p:blipFill>
        <p:spPr>
          <a:xfrm>
            <a:off x="1116000" y="1989000"/>
            <a:ext cx="3552840" cy="42865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restart="whenNotActive" nodeType="interactiveSeq" fill="hold">
                <p:stCondLst>
                  <p:cond evt="onClick">
                    <p:tgtEl>
                      <p:spTgt spid="204"/>
                    </p:tgtEl>
                  </p:cond>
                </p:stCondLst>
                <p:childTnLst>
                  <p:par>
                    <p:cTn id="117" fill="hold">
                      <p:stCondLst>
                        <p:cond evt="onClick">
                          <p:tgtEl>
                            <p:spTgt spid="204"/>
                          </p:tgtEl>
                        </p:cond>
                      </p:stCondLst>
                      <p:childTnLst>
                        <p:par>
                          <p:cTn id="118" fill="hold">
                            <p:stCondLst>
                              <p:cond delay="0"/>
                            </p:stCondLst>
                            <p:childTnLst>
                              <p:par>
                                <p:cTn id="119" nodeType="clickEffect" fill="hold" presetClass="mediacall" presetID="1">
                                  <p:stCondLst>
                                    <p:cond delay="0"/>
                                  </p:stCondLst>
                                  <p:childTnLst>
                                    <p:cmd type="call" cmd="playFrom(0.0)">
                                      <p:cBhvr>
                                        <p:cTn id="120" dur="231445"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Иоанн Богослов</a:t>
            </a:r>
            <a:endParaRPr b="0" lang="en-US" sz="4400" spc="-1" strike="noStrike">
              <a:solidFill>
                <a:srgbClr val="b7e7ff"/>
              </a:solidFill>
              <a:latin typeface="Arial"/>
            </a:endParaRPr>
          </a:p>
        </p:txBody>
      </p:sp>
      <p:sp>
        <p:nvSpPr>
          <p:cNvPr id="208"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1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09" name="Picture 5" descr="angel21"/>
          <p:cNvPicPr/>
          <p:nvPr/>
        </p:nvPicPr>
        <p:blipFill>
          <a:blip r:embed="rId1"/>
          <a:stretch/>
        </p:blipFill>
        <p:spPr>
          <a:xfrm flipH="1">
            <a:off x="250920" y="620640"/>
            <a:ext cx="1195200" cy="2060640"/>
          </a:xfrm>
          <a:prstGeom prst="rect">
            <a:avLst/>
          </a:prstGeom>
          <a:ln w="0">
            <a:noFill/>
          </a:ln>
        </p:spPr>
      </p:pic>
      <p:pic>
        <p:nvPicPr>
          <p:cNvPr id="210" name="Picture 6" descr="angel21"/>
          <p:cNvPicPr/>
          <p:nvPr/>
        </p:nvPicPr>
        <p:blipFill>
          <a:blip r:embed="rId2"/>
          <a:stretch/>
        </p:blipFill>
        <p:spPr>
          <a:xfrm>
            <a:off x="7862760" y="620640"/>
            <a:ext cx="1281240" cy="1989360"/>
          </a:xfrm>
          <a:prstGeom prst="rect">
            <a:avLst/>
          </a:prstGeom>
          <a:ln w="0">
            <a:noFill/>
          </a:ln>
        </p:spPr>
      </p:pic>
      <p:sp>
        <p:nvSpPr>
          <p:cNvPr id="211" name="Rectangle 7"/>
          <p:cNvSpPr/>
          <p:nvPr/>
        </p:nvSpPr>
        <p:spPr>
          <a:xfrm>
            <a:off x="0" y="0"/>
            <a:ext cx="1925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8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12" name="brval23.mp3" descr=""/>
          <p:cNvPicPr/>
          <p:nvPr/>
        </p:nvPicPr>
        <p:blipFill>
          <a:blip r:embed="rId3"/>
          <a:stretch/>
        </p:blipFill>
        <p:spPr>
          <a:xfrm>
            <a:off x="468360" y="6021360"/>
            <a:ext cx="304920" cy="304920"/>
          </a:xfrm>
          <a:prstGeom prst="rect">
            <a:avLst/>
          </a:prstGeom>
          <a:ln w="0">
            <a:noFill/>
          </a:ln>
        </p:spPr>
      </p:pic>
      <p:pic>
        <p:nvPicPr>
          <p:cNvPr id="213" name="Picture 10" descr="Иоан Богослов"/>
          <p:cNvPicPr/>
          <p:nvPr/>
        </p:nvPicPr>
        <p:blipFill>
          <a:blip r:embed="rId4"/>
          <a:stretch/>
        </p:blipFill>
        <p:spPr>
          <a:xfrm>
            <a:off x="2771640" y="1844640"/>
            <a:ext cx="3009960" cy="42768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restart="whenNotActive" nodeType="interactiveSeq" fill="hold">
                <p:stCondLst>
                  <p:cond evt="onClick">
                    <p:tgtEl>
                      <p:spTgt spid="212"/>
                    </p:tgtEl>
                  </p:cond>
                </p:stCondLst>
                <p:childTnLst>
                  <p:par>
                    <p:cTn id="123" fill="hold">
                      <p:stCondLst>
                        <p:cond evt="onClick">
                          <p:tgtEl>
                            <p:spTgt spid="212"/>
                          </p:tgtEl>
                        </p:cond>
                      </p:stCondLst>
                      <p:childTnLst>
                        <p:par>
                          <p:cTn id="124" fill="hold">
                            <p:stCondLst>
                              <p:cond delay="0"/>
                            </p:stCondLst>
                            <p:childTnLst>
                              <p:par>
                                <p:cTn id="125" nodeType="clickEffect" fill="hold" presetClass="mediacall" presetID="1">
                                  <p:stCondLst>
                                    <p:cond delay="0"/>
                                  </p:stCondLst>
                                  <p:childTnLst>
                                    <p:cmd type="call" cmd="playFrom(0.0)">
                                      <p:cBhvr>
                                        <p:cTn id="126" dur="440216"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Память святого</a:t>
            </a:r>
            <a:br>
              <a:rPr sz="4000"/>
            </a:br>
            <a:r>
              <a:rPr b="1" lang="ru-RU" sz="4000" spc="-1" strike="noStrike">
                <a:solidFill>
                  <a:srgbClr val="b7e7ff"/>
                </a:solidFill>
                <a:latin typeface="Arial"/>
              </a:rPr>
              <a:t> Николая Чудотворца</a:t>
            </a:r>
            <a:endParaRPr b="0" lang="en-US" sz="4000" spc="-1" strike="noStrike">
              <a:solidFill>
                <a:srgbClr val="b7e7ff"/>
              </a:solidFill>
              <a:latin typeface="Arial"/>
            </a:endParaRPr>
          </a:p>
        </p:txBody>
      </p:sp>
      <p:sp>
        <p:nvSpPr>
          <p:cNvPr id="215"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2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16" name="Picture 5" descr="angel21"/>
          <p:cNvPicPr/>
          <p:nvPr/>
        </p:nvPicPr>
        <p:blipFill>
          <a:blip r:embed="rId1"/>
          <a:stretch/>
        </p:blipFill>
        <p:spPr>
          <a:xfrm flipH="1">
            <a:off x="-360" y="620640"/>
            <a:ext cx="1195560" cy="2060640"/>
          </a:xfrm>
          <a:prstGeom prst="rect">
            <a:avLst/>
          </a:prstGeom>
          <a:ln w="0">
            <a:noFill/>
          </a:ln>
        </p:spPr>
      </p:pic>
      <p:pic>
        <p:nvPicPr>
          <p:cNvPr id="217" name="Picture 6" descr="angel21"/>
          <p:cNvPicPr/>
          <p:nvPr/>
        </p:nvPicPr>
        <p:blipFill>
          <a:blip r:embed="rId2"/>
          <a:stretch/>
        </p:blipFill>
        <p:spPr>
          <a:xfrm>
            <a:off x="7862760" y="549360"/>
            <a:ext cx="1281240" cy="1989000"/>
          </a:xfrm>
          <a:prstGeom prst="rect">
            <a:avLst/>
          </a:prstGeom>
          <a:ln w="0">
            <a:noFill/>
          </a:ln>
        </p:spPr>
      </p:pic>
      <p:sp>
        <p:nvSpPr>
          <p:cNvPr id="218" name="Rectangle 8"/>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9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19" name="brval24.mp3" descr=""/>
          <p:cNvPicPr/>
          <p:nvPr/>
        </p:nvPicPr>
        <p:blipFill>
          <a:blip r:embed="rId3"/>
          <a:stretch/>
        </p:blipFill>
        <p:spPr>
          <a:xfrm>
            <a:off x="468360" y="6021360"/>
            <a:ext cx="304920" cy="304920"/>
          </a:xfrm>
          <a:prstGeom prst="rect">
            <a:avLst/>
          </a:prstGeom>
          <a:ln w="0">
            <a:noFill/>
          </a:ln>
        </p:spPr>
      </p:pic>
      <p:pic>
        <p:nvPicPr>
          <p:cNvPr id="220" name="Picture 11" descr="Три cвятителя: Николай Чудотворец, Иоанн Милостивый и Василий Исповедник"/>
          <p:cNvPicPr/>
          <p:nvPr/>
        </p:nvPicPr>
        <p:blipFill>
          <a:blip r:embed="rId4"/>
          <a:stretch/>
        </p:blipFill>
        <p:spPr>
          <a:xfrm>
            <a:off x="1187280" y="1989000"/>
            <a:ext cx="3391200" cy="4286520"/>
          </a:xfrm>
          <a:prstGeom prst="rect">
            <a:avLst/>
          </a:prstGeom>
          <a:ln w="0">
            <a:noFill/>
          </a:ln>
        </p:spPr>
      </p:pic>
      <p:pic>
        <p:nvPicPr>
          <p:cNvPr id="221" name="Picture 14" descr="Святитель Николай"/>
          <p:cNvPicPr/>
          <p:nvPr/>
        </p:nvPicPr>
        <p:blipFill>
          <a:blip r:embed="rId5"/>
          <a:stretch/>
        </p:blipFill>
        <p:spPr>
          <a:xfrm>
            <a:off x="4788000" y="1989000"/>
            <a:ext cx="3286080" cy="42865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restart="whenNotActive" nodeType="interactiveSeq" fill="hold">
                <p:stCondLst>
                  <p:cond evt="onClick">
                    <p:tgtEl>
                      <p:spTgt spid="219"/>
                    </p:tgtEl>
                  </p:cond>
                </p:stCondLst>
                <p:childTnLst>
                  <p:par>
                    <p:cTn id="129" fill="hold">
                      <p:stCondLst>
                        <p:cond evt="onClick">
                          <p:tgtEl>
                            <p:spTgt spid="219"/>
                          </p:tgtEl>
                        </p:cond>
                      </p:stCondLst>
                      <p:childTnLst>
                        <p:par>
                          <p:cTn id="130" fill="hold">
                            <p:stCondLst>
                              <p:cond delay="0"/>
                            </p:stCondLst>
                            <p:childTnLst>
                              <p:par>
                                <p:cTn id="131" nodeType="clickEffect" fill="hold" presetClass="mediacall" presetID="1">
                                  <p:stCondLst>
                                    <p:cond delay="0"/>
                                  </p:stCondLst>
                                  <p:childTnLst>
                                    <p:cmd type="call" cmd="playFrom(0.0)">
                                      <p:cBhvr>
                                        <p:cTn id="132" dur="95609"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Апостолы </a:t>
            </a:r>
            <a:br>
              <a:rPr sz="4000"/>
            </a:br>
            <a:r>
              <a:rPr b="1" lang="ru-RU" sz="4000" spc="-1" strike="noStrike">
                <a:solidFill>
                  <a:srgbClr val="b7e7ff"/>
                </a:solidFill>
                <a:latin typeface="Arial"/>
              </a:rPr>
              <a:t>Лука и Симон</a:t>
            </a:r>
            <a:endParaRPr b="0" lang="en-US" sz="4000" spc="-1" strike="noStrike">
              <a:solidFill>
                <a:srgbClr val="b7e7ff"/>
              </a:solidFill>
              <a:latin typeface="Arial"/>
            </a:endParaRPr>
          </a:p>
        </p:txBody>
      </p:sp>
      <p:sp>
        <p:nvSpPr>
          <p:cNvPr id="223"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3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24" name="Picture 5" descr="angel21"/>
          <p:cNvPicPr/>
          <p:nvPr/>
        </p:nvPicPr>
        <p:blipFill>
          <a:blip r:embed="rId1"/>
          <a:stretch/>
        </p:blipFill>
        <p:spPr>
          <a:xfrm flipH="1">
            <a:off x="178920" y="549360"/>
            <a:ext cx="1195560" cy="2060640"/>
          </a:xfrm>
          <a:prstGeom prst="rect">
            <a:avLst/>
          </a:prstGeom>
          <a:ln w="0">
            <a:noFill/>
          </a:ln>
        </p:spPr>
      </p:pic>
      <p:pic>
        <p:nvPicPr>
          <p:cNvPr id="225" name="Picture 6" descr="angel21"/>
          <p:cNvPicPr/>
          <p:nvPr/>
        </p:nvPicPr>
        <p:blipFill>
          <a:blip r:embed="rId2"/>
          <a:stretch/>
        </p:blipFill>
        <p:spPr>
          <a:xfrm>
            <a:off x="7862760" y="765000"/>
            <a:ext cx="1281240" cy="1989360"/>
          </a:xfrm>
          <a:prstGeom prst="rect">
            <a:avLst/>
          </a:prstGeom>
          <a:ln w="0">
            <a:noFill/>
          </a:ln>
        </p:spPr>
      </p:pic>
      <p:sp>
        <p:nvSpPr>
          <p:cNvPr id="226"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0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27" name="brval25.mp3" descr=""/>
          <p:cNvPicPr/>
          <p:nvPr/>
        </p:nvPicPr>
        <p:blipFill>
          <a:blip r:embed="rId3"/>
          <a:stretch/>
        </p:blipFill>
        <p:spPr>
          <a:xfrm>
            <a:off x="468360" y="6021360"/>
            <a:ext cx="304920" cy="304920"/>
          </a:xfrm>
          <a:prstGeom prst="rect">
            <a:avLst/>
          </a:prstGeom>
          <a:ln w="0">
            <a:noFill/>
          </a:ln>
        </p:spPr>
      </p:pic>
      <p:pic>
        <p:nvPicPr>
          <p:cNvPr id="228" name="Picture 10" descr="Апостолы Лука и Симон"/>
          <p:cNvPicPr/>
          <p:nvPr/>
        </p:nvPicPr>
        <p:blipFill>
          <a:blip r:embed="rId4"/>
          <a:stretch/>
        </p:blipFill>
        <p:spPr>
          <a:xfrm>
            <a:off x="4859280" y="1844640"/>
            <a:ext cx="3000600" cy="4276800"/>
          </a:xfrm>
          <a:prstGeom prst="rect">
            <a:avLst/>
          </a:prstGeom>
          <a:ln w="0">
            <a:noFill/>
          </a:ln>
        </p:spPr>
      </p:pic>
      <p:pic>
        <p:nvPicPr>
          <p:cNvPr id="229" name="Picture 12" descr="Апостол Симон"/>
          <p:cNvPicPr/>
          <p:nvPr/>
        </p:nvPicPr>
        <p:blipFill>
          <a:blip r:embed="rId5"/>
          <a:stretch/>
        </p:blipFill>
        <p:spPr>
          <a:xfrm>
            <a:off x="1258920" y="1916280"/>
            <a:ext cx="3333600" cy="4276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227"/>
                    </p:tgtEl>
                  </p:cond>
                </p:stCondLst>
                <p:childTnLst>
                  <p:par>
                    <p:cTn id="135" fill="hold">
                      <p:stCondLst>
                        <p:cond evt="onClick">
                          <p:tgtEl>
                            <p:spTgt spid="227"/>
                          </p:tgtEl>
                        </p:cond>
                      </p:stCondLst>
                      <p:childTnLst>
                        <p:par>
                          <p:cTn id="136" fill="hold">
                            <p:stCondLst>
                              <p:cond delay="0"/>
                            </p:stCondLst>
                            <p:childTnLst>
                              <p:par>
                                <p:cTn id="137" nodeType="clickEffect" fill="hold" presetClass="mediacall" presetID="1">
                                  <p:stCondLst>
                                    <p:cond delay="0"/>
                                  </p:stCondLst>
                                  <p:childTnLst>
                                    <p:cmd type="call" cmd="playFrom(0.0)">
                                      <p:cBhvr>
                                        <p:cTn id="138" dur="84742" fill="hold"/>
                                        <p:tgtEl>
                                          <p:spTgt spid="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Равноапостольные </a:t>
            </a:r>
            <a:br>
              <a:rPr sz="4000"/>
            </a:br>
            <a:r>
              <a:rPr b="1" lang="ru-RU" sz="4000" spc="-1" strike="noStrike">
                <a:solidFill>
                  <a:srgbClr val="b7e7ff"/>
                </a:solidFill>
                <a:latin typeface="Arial"/>
              </a:rPr>
              <a:t>Мефодий и Кирилл</a:t>
            </a:r>
            <a:endParaRPr b="0" lang="en-US" sz="4000" spc="-1" strike="noStrike">
              <a:solidFill>
                <a:srgbClr val="b7e7ff"/>
              </a:solidFill>
              <a:latin typeface="Arial"/>
            </a:endParaRPr>
          </a:p>
        </p:txBody>
      </p:sp>
      <p:sp>
        <p:nvSpPr>
          <p:cNvPr id="231"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4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32" name="Picture 6" descr="angel21"/>
          <p:cNvPicPr/>
          <p:nvPr/>
        </p:nvPicPr>
        <p:blipFill>
          <a:blip r:embed="rId1"/>
          <a:stretch/>
        </p:blipFill>
        <p:spPr>
          <a:xfrm flipH="1">
            <a:off x="-360" y="620640"/>
            <a:ext cx="1195560" cy="2060640"/>
          </a:xfrm>
          <a:prstGeom prst="rect">
            <a:avLst/>
          </a:prstGeom>
          <a:ln w="0">
            <a:noFill/>
          </a:ln>
        </p:spPr>
      </p:pic>
      <p:pic>
        <p:nvPicPr>
          <p:cNvPr id="233" name="Picture 7" descr="angel21"/>
          <p:cNvPicPr/>
          <p:nvPr/>
        </p:nvPicPr>
        <p:blipFill>
          <a:blip r:embed="rId2"/>
          <a:stretch/>
        </p:blipFill>
        <p:spPr>
          <a:xfrm>
            <a:off x="7862760" y="620640"/>
            <a:ext cx="1281240" cy="1989360"/>
          </a:xfrm>
          <a:prstGeom prst="rect">
            <a:avLst/>
          </a:prstGeom>
          <a:ln w="0">
            <a:noFill/>
          </a:ln>
        </p:spPr>
      </p:pic>
      <p:sp>
        <p:nvSpPr>
          <p:cNvPr id="234" name="Rectangle 8"/>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1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5" name="brval27.mp3" descr=""/>
          <p:cNvPicPr/>
          <p:nvPr/>
        </p:nvPicPr>
        <p:blipFill>
          <a:blip r:embed="rId3"/>
          <a:stretch/>
        </p:blipFill>
        <p:spPr>
          <a:xfrm>
            <a:off x="395280" y="6021360"/>
            <a:ext cx="304920" cy="304920"/>
          </a:xfrm>
          <a:prstGeom prst="rect">
            <a:avLst/>
          </a:prstGeom>
          <a:ln w="0">
            <a:noFill/>
          </a:ln>
        </p:spPr>
      </p:pic>
      <p:pic>
        <p:nvPicPr>
          <p:cNvPr id="236" name="Picture 11" descr="Равноапостольные Мефодий и Кирилл"/>
          <p:cNvPicPr/>
          <p:nvPr/>
        </p:nvPicPr>
        <p:blipFill>
          <a:blip r:embed="rId4"/>
          <a:stretch/>
        </p:blipFill>
        <p:spPr>
          <a:xfrm>
            <a:off x="2987640" y="1916280"/>
            <a:ext cx="3048120" cy="42861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restart="whenNotActive" nodeType="interactiveSeq" fill="hold">
                <p:stCondLst>
                  <p:cond evt="onClick">
                    <p:tgtEl>
                      <p:spTgt spid="235"/>
                    </p:tgtEl>
                  </p:cond>
                </p:stCondLst>
                <p:childTnLst>
                  <p:par>
                    <p:cTn id="141" fill="hold">
                      <p:stCondLst>
                        <p:cond evt="onClick">
                          <p:tgtEl>
                            <p:spTgt spid="235"/>
                          </p:tgtEl>
                        </p:cond>
                      </p:stCondLst>
                      <p:childTnLst>
                        <p:par>
                          <p:cTn id="142" fill="hold">
                            <p:stCondLst>
                              <p:cond delay="0"/>
                            </p:stCondLst>
                            <p:childTnLst>
                              <p:par>
                                <p:cTn id="143" nodeType="clickEffect" fill="hold" presetClass="mediacall" presetID="1">
                                  <p:stCondLst>
                                    <p:cond delay="0"/>
                                  </p:stCondLst>
                                  <p:childTnLst>
                                    <p:cmd type="call" cmd="playFrom(0.0)">
                                      <p:cBhvr>
                                        <p:cTn id="144" dur="137561"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Святитель Ермоген,</a:t>
            </a:r>
            <a:br>
              <a:rPr sz="4000"/>
            </a:br>
            <a:r>
              <a:rPr b="1" lang="ru-RU" sz="4000" spc="-1" strike="noStrike">
                <a:solidFill>
                  <a:srgbClr val="b7e7ff"/>
                </a:solidFill>
                <a:latin typeface="Arial"/>
              </a:rPr>
              <a:t> патриарх Московский</a:t>
            </a:r>
            <a:endParaRPr b="0" lang="en-US" sz="4000" spc="-1" strike="noStrike">
              <a:solidFill>
                <a:srgbClr val="b7e7ff"/>
              </a:solidFill>
              <a:latin typeface="Arial"/>
            </a:endParaRPr>
          </a:p>
        </p:txBody>
      </p:sp>
      <p:sp>
        <p:nvSpPr>
          <p:cNvPr id="238"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5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39" name="Picture 5" descr="angel21"/>
          <p:cNvPicPr/>
          <p:nvPr/>
        </p:nvPicPr>
        <p:blipFill>
          <a:blip r:embed="rId1"/>
          <a:stretch/>
        </p:blipFill>
        <p:spPr>
          <a:xfrm flipH="1">
            <a:off x="250920" y="620640"/>
            <a:ext cx="1195200" cy="2060640"/>
          </a:xfrm>
          <a:prstGeom prst="rect">
            <a:avLst/>
          </a:prstGeom>
          <a:ln w="0">
            <a:noFill/>
          </a:ln>
        </p:spPr>
      </p:pic>
      <p:pic>
        <p:nvPicPr>
          <p:cNvPr id="240" name="Picture 6" descr="angel21"/>
          <p:cNvPicPr/>
          <p:nvPr/>
        </p:nvPicPr>
        <p:blipFill>
          <a:blip r:embed="rId2"/>
          <a:stretch/>
        </p:blipFill>
        <p:spPr>
          <a:xfrm>
            <a:off x="7862760" y="692280"/>
            <a:ext cx="1281240" cy="1989000"/>
          </a:xfrm>
          <a:prstGeom prst="rect">
            <a:avLst/>
          </a:prstGeom>
          <a:ln w="0">
            <a:noFill/>
          </a:ln>
        </p:spPr>
      </p:pic>
      <p:sp>
        <p:nvSpPr>
          <p:cNvPr id="241" name="Rectangle 7"/>
          <p:cNvSpPr/>
          <p:nvPr/>
        </p:nvSpPr>
        <p:spPr>
          <a:xfrm>
            <a:off x="0" y="0"/>
            <a:ext cx="1781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2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42" name="brval30.mp3" descr=""/>
          <p:cNvPicPr/>
          <p:nvPr/>
        </p:nvPicPr>
        <p:blipFill>
          <a:blip r:embed="rId3"/>
          <a:stretch/>
        </p:blipFill>
        <p:spPr>
          <a:xfrm>
            <a:off x="468360" y="6021360"/>
            <a:ext cx="304920" cy="304920"/>
          </a:xfrm>
          <a:prstGeom prst="rect">
            <a:avLst/>
          </a:prstGeom>
          <a:ln w="0">
            <a:noFill/>
          </a:ln>
        </p:spPr>
      </p:pic>
      <p:pic>
        <p:nvPicPr>
          <p:cNvPr id="243" name="Picture 10" descr="Святитель Ермоген, патриарх Московский"/>
          <p:cNvPicPr/>
          <p:nvPr/>
        </p:nvPicPr>
        <p:blipFill>
          <a:blip r:embed="rId4"/>
          <a:stretch/>
        </p:blipFill>
        <p:spPr>
          <a:xfrm>
            <a:off x="2700360" y="1844640"/>
            <a:ext cx="3686040" cy="42861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restart="whenNotActive" nodeType="interactiveSeq" fill="hold">
                <p:stCondLst>
                  <p:cond evt="onClick">
                    <p:tgtEl>
                      <p:spTgt spid="242"/>
                    </p:tgtEl>
                  </p:cond>
                </p:stCondLst>
                <p:childTnLst>
                  <p:par>
                    <p:cTn id="147" fill="hold">
                      <p:stCondLst>
                        <p:cond evt="onClick">
                          <p:tgtEl>
                            <p:spTgt spid="242"/>
                          </p:tgtEl>
                        </p:cond>
                      </p:stCondLst>
                      <p:childTnLst>
                        <p:par>
                          <p:cTn id="148" fill="hold">
                            <p:stCondLst>
                              <p:cond delay="0"/>
                            </p:stCondLst>
                            <p:childTnLst>
                              <p:par>
                                <p:cTn id="149" nodeType="clickEffect" fill="hold" presetClass="mediacall" presetID="1">
                                  <p:stCondLst>
                                    <p:cond delay="0"/>
                                  </p:stCondLst>
                                  <p:childTnLst>
                                    <p:cmd type="call" cmd="playFrom(0.0)">
                                      <p:cBhvr>
                                        <p:cTn id="150" dur="445858"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Священномученик </a:t>
            </a:r>
            <a:br>
              <a:rPr sz="4000"/>
            </a:br>
            <a:r>
              <a:rPr b="1" lang="ru-RU" sz="4000" spc="-1" strike="noStrike">
                <a:solidFill>
                  <a:srgbClr val="b7e7ff"/>
                </a:solidFill>
                <a:latin typeface="Arial"/>
              </a:rPr>
              <a:t>Макарий Каневский, Пинский, архимандрит</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245"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6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46" name="Picture 5" descr="angel21"/>
          <p:cNvPicPr/>
          <p:nvPr/>
        </p:nvPicPr>
        <p:blipFill>
          <a:blip r:embed="rId1"/>
          <a:stretch/>
        </p:blipFill>
        <p:spPr>
          <a:xfrm flipH="1">
            <a:off x="250920" y="620640"/>
            <a:ext cx="1195200" cy="2060640"/>
          </a:xfrm>
          <a:prstGeom prst="rect">
            <a:avLst/>
          </a:prstGeom>
          <a:ln w="0">
            <a:noFill/>
          </a:ln>
        </p:spPr>
      </p:pic>
      <p:pic>
        <p:nvPicPr>
          <p:cNvPr id="247" name="Picture 6" descr="angel21"/>
          <p:cNvPicPr/>
          <p:nvPr/>
        </p:nvPicPr>
        <p:blipFill>
          <a:blip r:embed="rId2"/>
          <a:stretch/>
        </p:blipFill>
        <p:spPr>
          <a:xfrm>
            <a:off x="7862760" y="692280"/>
            <a:ext cx="1281240" cy="1989000"/>
          </a:xfrm>
          <a:prstGeom prst="rect">
            <a:avLst/>
          </a:prstGeom>
          <a:ln w="0">
            <a:noFill/>
          </a:ln>
        </p:spPr>
      </p:pic>
      <p:sp>
        <p:nvSpPr>
          <p:cNvPr id="248" name="Rectangle 7"/>
          <p:cNvSpPr/>
          <p:nvPr/>
        </p:nvSpPr>
        <p:spPr>
          <a:xfrm>
            <a:off x="0" y="0"/>
            <a:ext cx="1925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3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49" name="brval31.mp3" descr=""/>
          <p:cNvPicPr/>
          <p:nvPr/>
        </p:nvPicPr>
        <p:blipFill>
          <a:blip r:embed="rId3"/>
          <a:stretch/>
        </p:blipFill>
        <p:spPr>
          <a:xfrm>
            <a:off x="468360" y="5950080"/>
            <a:ext cx="304920" cy="304560"/>
          </a:xfrm>
          <a:prstGeom prst="rect">
            <a:avLst/>
          </a:prstGeom>
          <a:ln w="0">
            <a:noFill/>
          </a:ln>
        </p:spPr>
      </p:pic>
      <p:pic>
        <p:nvPicPr>
          <p:cNvPr id="250" name="Picture 10" descr="Преподобномученик Макарий Каневский"/>
          <p:cNvPicPr/>
          <p:nvPr/>
        </p:nvPicPr>
        <p:blipFill>
          <a:blip r:embed="rId4"/>
          <a:stretch/>
        </p:blipFill>
        <p:spPr>
          <a:xfrm>
            <a:off x="2771640" y="2205000"/>
            <a:ext cx="3286440" cy="428616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restart="whenNotActive" nodeType="interactiveSeq" fill="hold">
                <p:stCondLst>
                  <p:cond evt="onClick">
                    <p:tgtEl>
                      <p:spTgt spid="249"/>
                    </p:tgtEl>
                  </p:cond>
                </p:stCondLst>
                <p:childTnLst>
                  <p:par>
                    <p:cTn id="153" fill="hold">
                      <p:stCondLst>
                        <p:cond evt="onClick">
                          <p:tgtEl>
                            <p:spTgt spid="249"/>
                          </p:tgtEl>
                        </p:cond>
                      </p:stCondLst>
                      <p:childTnLst>
                        <p:par>
                          <p:cTn id="154" fill="hold">
                            <p:stCondLst>
                              <p:cond delay="0"/>
                            </p:stCondLst>
                            <p:childTnLst>
                              <p:par>
                                <p:cTn id="155" nodeType="clickEffect" fill="hold" presetClass="mediacall" presetID="1">
                                  <p:stCondLst>
                                    <p:cond delay="0"/>
                                  </p:stCondLst>
                                  <p:childTnLst>
                                    <p:cmd type="call" cmd="playFrom(0.0)">
                                      <p:cBhvr>
                                        <p:cTn id="156" dur="294087" fill="hold"/>
                                        <p:tgtEl>
                                          <p:spTgt spid="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Кипрская икона</a:t>
            </a:r>
            <a:br>
              <a:rPr sz="4000"/>
            </a:br>
            <a:r>
              <a:rPr b="1" lang="ru-RU" sz="4000" spc="-1" strike="noStrike">
                <a:solidFill>
                  <a:srgbClr val="b7e7ff"/>
                </a:solidFill>
                <a:latin typeface="Arial"/>
              </a:rPr>
              <a:t> Божией Матер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252"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7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53" name="Picture 5" descr="angel21"/>
          <p:cNvPicPr/>
          <p:nvPr/>
        </p:nvPicPr>
        <p:blipFill>
          <a:blip r:embed="rId1"/>
          <a:stretch/>
        </p:blipFill>
        <p:spPr>
          <a:xfrm flipH="1">
            <a:off x="178920" y="549360"/>
            <a:ext cx="1195560" cy="2060640"/>
          </a:xfrm>
          <a:prstGeom prst="rect">
            <a:avLst/>
          </a:prstGeom>
          <a:ln w="0">
            <a:noFill/>
          </a:ln>
        </p:spPr>
      </p:pic>
      <p:pic>
        <p:nvPicPr>
          <p:cNvPr id="254" name="Picture 6" descr="angel21"/>
          <p:cNvPicPr/>
          <p:nvPr/>
        </p:nvPicPr>
        <p:blipFill>
          <a:blip r:embed="rId2"/>
          <a:stretch/>
        </p:blipFill>
        <p:spPr>
          <a:xfrm>
            <a:off x="7862760" y="692280"/>
            <a:ext cx="1281240" cy="1989000"/>
          </a:xfrm>
          <a:prstGeom prst="rect">
            <a:avLst/>
          </a:prstGeom>
          <a:ln w="0">
            <a:noFill/>
          </a:ln>
        </p:spPr>
      </p:pic>
      <p:sp>
        <p:nvSpPr>
          <p:cNvPr id="255" name="Rectangle 7"/>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 4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56" name="brval32.mp3" descr=""/>
          <p:cNvPicPr/>
          <p:nvPr/>
        </p:nvPicPr>
        <p:blipFill>
          <a:blip r:embed="rId3"/>
          <a:stretch/>
        </p:blipFill>
        <p:spPr>
          <a:xfrm>
            <a:off x="468360" y="6021360"/>
            <a:ext cx="304920" cy="304920"/>
          </a:xfrm>
          <a:prstGeom prst="rect">
            <a:avLst/>
          </a:prstGeom>
          <a:ln w="0">
            <a:noFill/>
          </a:ln>
        </p:spPr>
      </p:pic>
      <p:pic>
        <p:nvPicPr>
          <p:cNvPr id="257" name="Picture 10" descr="Кипрская икона Божией Матери"/>
          <p:cNvPicPr/>
          <p:nvPr/>
        </p:nvPicPr>
        <p:blipFill>
          <a:blip r:embed="rId4"/>
          <a:stretch/>
        </p:blipFill>
        <p:spPr>
          <a:xfrm>
            <a:off x="3059280" y="1773360"/>
            <a:ext cx="2895480" cy="427644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restart="whenNotActive" nodeType="interactiveSeq" fill="hold">
                <p:stCondLst>
                  <p:cond evt="onClick">
                    <p:tgtEl>
                      <p:spTgt spid="256"/>
                    </p:tgtEl>
                  </p:cond>
                </p:stCondLst>
                <p:childTnLst>
                  <p:par>
                    <p:cTn id="159" fill="hold">
                      <p:stCondLst>
                        <p:cond evt="onClick">
                          <p:tgtEl>
                            <p:spTgt spid="256"/>
                          </p:tgtEl>
                        </p:cond>
                      </p:stCondLst>
                      <p:childTnLst>
                        <p:par>
                          <p:cTn id="160" fill="hold">
                            <p:stCondLst>
                              <p:cond delay="0"/>
                            </p:stCondLst>
                            <p:childTnLst>
                              <p:par>
                                <p:cTn id="161" nodeType="clickEffect" fill="hold" presetClass="mediacall" presetID="1">
                                  <p:stCondLst>
                                    <p:cond delay="0"/>
                                  </p:stCondLst>
                                  <p:childTnLst>
                                    <p:cmd type="call" cmd="playFrom(0.0)">
                                      <p:cBhvr>
                                        <p:cTn id="162" dur="361222"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Псковские святые</a:t>
            </a:r>
            <a:endParaRPr b="0" lang="en-US" sz="4400" spc="-1" strike="noStrike">
              <a:solidFill>
                <a:srgbClr val="b7e7ff"/>
              </a:solidFill>
              <a:latin typeface="Arial"/>
            </a:endParaRPr>
          </a:p>
        </p:txBody>
      </p:sp>
      <p:sp>
        <p:nvSpPr>
          <p:cNvPr id="259"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8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60" name="Picture 5" descr="angel21"/>
          <p:cNvPicPr/>
          <p:nvPr/>
        </p:nvPicPr>
        <p:blipFill>
          <a:blip r:embed="rId1"/>
          <a:stretch/>
        </p:blipFill>
        <p:spPr>
          <a:xfrm flipH="1">
            <a:off x="178920" y="620640"/>
            <a:ext cx="1195560" cy="2060640"/>
          </a:xfrm>
          <a:prstGeom prst="rect">
            <a:avLst/>
          </a:prstGeom>
          <a:ln w="0">
            <a:noFill/>
          </a:ln>
        </p:spPr>
      </p:pic>
      <p:pic>
        <p:nvPicPr>
          <p:cNvPr id="261" name="Picture 6" descr="angel21"/>
          <p:cNvPicPr/>
          <p:nvPr/>
        </p:nvPicPr>
        <p:blipFill>
          <a:blip r:embed="rId2"/>
          <a:stretch/>
        </p:blipFill>
        <p:spPr>
          <a:xfrm>
            <a:off x="7667640" y="692280"/>
            <a:ext cx="1281240" cy="1989000"/>
          </a:xfrm>
          <a:prstGeom prst="rect">
            <a:avLst/>
          </a:prstGeom>
          <a:ln w="0">
            <a:noFill/>
          </a:ln>
        </p:spPr>
      </p:pic>
      <p:sp>
        <p:nvSpPr>
          <p:cNvPr id="262"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5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3" name="brval33.mp3" descr=""/>
          <p:cNvPicPr/>
          <p:nvPr/>
        </p:nvPicPr>
        <p:blipFill>
          <a:blip r:embed="rId3"/>
          <a:stretch/>
        </p:blipFill>
        <p:spPr>
          <a:xfrm>
            <a:off x="468360" y="5950080"/>
            <a:ext cx="304920" cy="304560"/>
          </a:xfrm>
          <a:prstGeom prst="rect">
            <a:avLst/>
          </a:prstGeom>
          <a:ln w="0">
            <a:noFill/>
          </a:ln>
        </p:spPr>
      </p:pic>
      <p:pic>
        <p:nvPicPr>
          <p:cNvPr id="264" name="Picture 10" descr="Псковские святые"/>
          <p:cNvPicPr/>
          <p:nvPr/>
        </p:nvPicPr>
        <p:blipFill>
          <a:blip r:embed="rId4"/>
          <a:stretch/>
        </p:blipFill>
        <p:spPr>
          <a:xfrm>
            <a:off x="2843280" y="1916280"/>
            <a:ext cx="3295440" cy="4276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restart="whenNotActive" nodeType="interactiveSeq" fill="hold">
                <p:stCondLst>
                  <p:cond evt="onClick">
                    <p:tgtEl>
                      <p:spTgt spid="263"/>
                    </p:tgtEl>
                  </p:cond>
                </p:stCondLst>
                <p:childTnLst>
                  <p:par>
                    <p:cTn id="165" fill="hold">
                      <p:stCondLst>
                        <p:cond evt="onClick">
                          <p:tgtEl>
                            <p:spTgt spid="263"/>
                          </p:tgtEl>
                        </p:cond>
                      </p:stCondLst>
                      <p:childTnLst>
                        <p:par>
                          <p:cTn id="166" fill="hold">
                            <p:stCondLst>
                              <p:cond delay="0"/>
                            </p:stCondLst>
                            <p:childTnLst>
                              <p:par>
                                <p:cTn id="167" nodeType="clickEffect" fill="hold" presetClass="mediacall" presetID="1">
                                  <p:stCondLst>
                                    <p:cond delay="0"/>
                                  </p:stCondLst>
                                  <p:childTnLst>
                                    <p:cmd type="call" cmd="playFrom(0.0)">
                                      <p:cBhvr>
                                        <p:cTn id="168" dur="81816" fill="hold"/>
                                        <p:tgtEl>
                                          <p:spTgt spid="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Блаженная </a:t>
            </a:r>
            <a:br>
              <a:rPr sz="4000"/>
            </a:br>
            <a:r>
              <a:rPr b="1" lang="ru-RU" sz="4000" spc="-1" strike="noStrike">
                <a:solidFill>
                  <a:srgbClr val="b7e7ff"/>
                </a:solidFill>
                <a:latin typeface="Arial"/>
              </a:rPr>
              <a:t>Матрона Московская</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65"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66" name="Picture 5" descr="angel21"/>
          <p:cNvPicPr/>
          <p:nvPr/>
        </p:nvPicPr>
        <p:blipFill>
          <a:blip r:embed="rId1"/>
          <a:stretch/>
        </p:blipFill>
        <p:spPr>
          <a:xfrm flipH="1">
            <a:off x="178920" y="620640"/>
            <a:ext cx="1195560" cy="2060640"/>
          </a:xfrm>
          <a:prstGeom prst="rect">
            <a:avLst/>
          </a:prstGeom>
          <a:ln w="0">
            <a:noFill/>
          </a:ln>
        </p:spPr>
      </p:pic>
      <p:pic>
        <p:nvPicPr>
          <p:cNvPr id="67" name="Picture 6" descr="angel21"/>
          <p:cNvPicPr/>
          <p:nvPr/>
        </p:nvPicPr>
        <p:blipFill>
          <a:blip r:embed="rId2"/>
          <a:stretch/>
        </p:blipFill>
        <p:spPr>
          <a:xfrm>
            <a:off x="7862760" y="692280"/>
            <a:ext cx="1281240" cy="1989000"/>
          </a:xfrm>
          <a:prstGeom prst="rect">
            <a:avLst/>
          </a:prstGeom>
          <a:ln w="0">
            <a:noFill/>
          </a:ln>
        </p:spPr>
      </p:pic>
      <p:sp>
        <p:nvSpPr>
          <p:cNvPr id="68" name="Rectangle 7"/>
          <p:cNvSpPr/>
          <p:nvPr/>
        </p:nvSpPr>
        <p:spPr>
          <a:xfrm>
            <a:off x="0" y="0"/>
            <a:ext cx="1781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9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9" name="brval98.mp3" descr=""/>
          <p:cNvPicPr/>
          <p:nvPr/>
        </p:nvPicPr>
        <p:blipFill>
          <a:blip r:embed="rId3"/>
          <a:stretch/>
        </p:blipFill>
        <p:spPr>
          <a:xfrm>
            <a:off x="395280" y="5950080"/>
            <a:ext cx="304920" cy="304560"/>
          </a:xfrm>
          <a:prstGeom prst="rect">
            <a:avLst/>
          </a:prstGeom>
          <a:ln w="0">
            <a:noFill/>
          </a:ln>
        </p:spPr>
      </p:pic>
      <p:pic>
        <p:nvPicPr>
          <p:cNvPr id="70" name="Picture 10" descr="Матрона Московская"/>
          <p:cNvPicPr/>
          <p:nvPr/>
        </p:nvPicPr>
        <p:blipFill>
          <a:blip r:embed="rId4"/>
          <a:stretch/>
        </p:blipFill>
        <p:spPr>
          <a:xfrm>
            <a:off x="3059280" y="1773360"/>
            <a:ext cx="3019320" cy="4276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9"/>
                    </p:tgtEl>
                  </p:cond>
                </p:stCondLst>
                <p:childTnLst>
                  <p:par>
                    <p:cTn id="9" fill="hold">
                      <p:stCondLst>
                        <p:cond evt="onClick">
                          <p:tgtEl>
                            <p:spTgt spid="69"/>
                          </p:tgtEl>
                        </p:cond>
                      </p:stCondLst>
                      <p:childTnLst>
                        <p:par>
                          <p:cTn id="10" fill="hold">
                            <p:stCondLst>
                              <p:cond delay="0"/>
                            </p:stCondLst>
                            <p:childTnLst>
                              <p:par>
                                <p:cTn id="11" nodeType="clickEffect" fill="hold" presetClass="mediacall" presetID="1">
                                  <p:stCondLst>
                                    <p:cond delay="0"/>
                                  </p:stCondLst>
                                  <p:childTnLst>
                                    <p:cmd type="call" cmd="playFrom(0.0)">
                                      <p:cBhvr>
                                        <p:cTn id="12" dur="35213"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Священномученик Александр, </a:t>
            </a:r>
            <a:br>
              <a:rPr sz="4000"/>
            </a:br>
            <a:r>
              <a:rPr b="1" lang="ru-RU" sz="4000" spc="-1" strike="noStrike">
                <a:solidFill>
                  <a:srgbClr val="b7e7ff"/>
                </a:solidFill>
                <a:latin typeface="Arial"/>
              </a:rPr>
              <a:t>патриарх Иерусалимский</a:t>
            </a:r>
            <a:endParaRPr b="0" lang="en-US" sz="4000" spc="-1" strike="noStrike">
              <a:solidFill>
                <a:srgbClr val="b7e7ff"/>
              </a:solidFill>
              <a:latin typeface="Arial"/>
            </a:endParaRPr>
          </a:p>
        </p:txBody>
      </p:sp>
      <p:sp>
        <p:nvSpPr>
          <p:cNvPr id="266"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9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67" name="Picture 5" descr="angel21"/>
          <p:cNvPicPr/>
          <p:nvPr/>
        </p:nvPicPr>
        <p:blipFill>
          <a:blip r:embed="rId1"/>
          <a:stretch/>
        </p:blipFill>
        <p:spPr>
          <a:xfrm flipH="1">
            <a:off x="-360" y="620640"/>
            <a:ext cx="1195560" cy="2060640"/>
          </a:xfrm>
          <a:prstGeom prst="rect">
            <a:avLst/>
          </a:prstGeom>
          <a:ln w="0">
            <a:noFill/>
          </a:ln>
        </p:spPr>
      </p:pic>
      <p:pic>
        <p:nvPicPr>
          <p:cNvPr id="268" name="Picture 6" descr="angel21"/>
          <p:cNvPicPr/>
          <p:nvPr/>
        </p:nvPicPr>
        <p:blipFill>
          <a:blip r:embed="rId2"/>
          <a:stretch/>
        </p:blipFill>
        <p:spPr>
          <a:xfrm>
            <a:off x="7862760" y="620640"/>
            <a:ext cx="1281240" cy="1989360"/>
          </a:xfrm>
          <a:prstGeom prst="rect">
            <a:avLst/>
          </a:prstGeom>
          <a:ln w="0">
            <a:noFill/>
          </a:ln>
        </p:spPr>
      </p:pic>
      <p:sp>
        <p:nvSpPr>
          <p:cNvPr id="269" name="Rectangle 7"/>
          <p:cNvSpPr/>
          <p:nvPr/>
        </p:nvSpPr>
        <p:spPr>
          <a:xfrm>
            <a:off x="0" y="0"/>
            <a:ext cx="1781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6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70" name="brval34.mp3" descr=""/>
          <p:cNvPicPr/>
          <p:nvPr/>
        </p:nvPicPr>
        <p:blipFill>
          <a:blip r:embed="rId3"/>
          <a:stretch/>
        </p:blipFill>
        <p:spPr>
          <a:xfrm>
            <a:off x="468360" y="5950080"/>
            <a:ext cx="304920" cy="304560"/>
          </a:xfrm>
          <a:prstGeom prst="rect">
            <a:avLst/>
          </a:prstGeom>
          <a:ln w="0">
            <a:noFill/>
          </a:ln>
        </p:spPr>
      </p:pic>
      <p:pic>
        <p:nvPicPr>
          <p:cNvPr id="271" name="Picture 10" descr="Священномученик Александр, патриарх Иерусалимский"/>
          <p:cNvPicPr/>
          <p:nvPr/>
        </p:nvPicPr>
        <p:blipFill>
          <a:blip r:embed="rId4"/>
          <a:stretch/>
        </p:blipFill>
        <p:spPr>
          <a:xfrm>
            <a:off x="2771640" y="1989000"/>
            <a:ext cx="2971800" cy="428652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restart="whenNotActive" nodeType="interactiveSeq" fill="hold">
                <p:stCondLst>
                  <p:cond evt="onClick">
                    <p:tgtEl>
                      <p:spTgt spid="270"/>
                    </p:tgtEl>
                  </p:cond>
                </p:stCondLst>
                <p:childTnLst>
                  <p:par>
                    <p:cTn id="171" fill="hold">
                      <p:stCondLst>
                        <p:cond evt="onClick">
                          <p:tgtEl>
                            <p:spTgt spid="270"/>
                          </p:tgtEl>
                        </p:cond>
                      </p:stCondLst>
                      <p:childTnLst>
                        <p:par>
                          <p:cTn id="172" fill="hold">
                            <p:stCondLst>
                              <p:cond delay="0"/>
                            </p:stCondLst>
                            <p:childTnLst>
                              <p:par>
                                <p:cTn id="173" nodeType="clickEffect" fill="hold" presetClass="mediacall" presetID="1">
                                  <p:stCondLst>
                                    <p:cond delay="0"/>
                                  </p:stCondLst>
                                  <p:childTnLst>
                                    <p:cmd type="call" cmd="playFrom(0.0)">
                                      <p:cBhvr>
                                        <p:cTn id="174" dur="142890"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Благоверная княгиня Евдокия Московская</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273" name="Rectangle 4"/>
          <p:cNvSpPr/>
          <p:nvPr/>
        </p:nvSpPr>
        <p:spPr>
          <a:xfrm>
            <a:off x="8159760" y="0"/>
            <a:ext cx="1050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0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74" name="Picture 5" descr="angel21"/>
          <p:cNvPicPr/>
          <p:nvPr/>
        </p:nvPicPr>
        <p:blipFill>
          <a:blip r:embed="rId1"/>
          <a:stretch/>
        </p:blipFill>
        <p:spPr>
          <a:xfrm flipH="1">
            <a:off x="250920" y="620640"/>
            <a:ext cx="1195200" cy="2060640"/>
          </a:xfrm>
          <a:prstGeom prst="rect">
            <a:avLst/>
          </a:prstGeom>
          <a:ln w="0">
            <a:noFill/>
          </a:ln>
        </p:spPr>
      </p:pic>
      <p:pic>
        <p:nvPicPr>
          <p:cNvPr id="275" name="Picture 6" descr="angel21"/>
          <p:cNvPicPr/>
          <p:nvPr/>
        </p:nvPicPr>
        <p:blipFill>
          <a:blip r:embed="rId2"/>
          <a:stretch/>
        </p:blipFill>
        <p:spPr>
          <a:xfrm>
            <a:off x="7862760" y="765000"/>
            <a:ext cx="1281240" cy="1989360"/>
          </a:xfrm>
          <a:prstGeom prst="rect">
            <a:avLst/>
          </a:prstGeom>
          <a:ln w="0">
            <a:noFill/>
          </a:ln>
        </p:spPr>
      </p:pic>
      <p:sp>
        <p:nvSpPr>
          <p:cNvPr id="276" name="Rectangle 7"/>
          <p:cNvSpPr/>
          <p:nvPr/>
        </p:nvSpPr>
        <p:spPr>
          <a:xfrm>
            <a:off x="0" y="0"/>
            <a:ext cx="17812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7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77" name="brval35.mp3" descr=""/>
          <p:cNvPicPr/>
          <p:nvPr/>
        </p:nvPicPr>
        <p:blipFill>
          <a:blip r:embed="rId3"/>
          <a:stretch/>
        </p:blipFill>
        <p:spPr>
          <a:xfrm>
            <a:off x="468360" y="6021360"/>
            <a:ext cx="304920" cy="304920"/>
          </a:xfrm>
          <a:prstGeom prst="rect">
            <a:avLst/>
          </a:prstGeom>
          <a:ln w="0">
            <a:noFill/>
          </a:ln>
        </p:spPr>
      </p:pic>
      <p:pic>
        <p:nvPicPr>
          <p:cNvPr id="278" name="Picture 10" descr="Евфросиния (Евдокия) Московская"/>
          <p:cNvPicPr/>
          <p:nvPr/>
        </p:nvPicPr>
        <p:blipFill>
          <a:blip r:embed="rId4"/>
          <a:stretch/>
        </p:blipFill>
        <p:spPr>
          <a:xfrm>
            <a:off x="2771640" y="2060640"/>
            <a:ext cx="3362400" cy="42768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restart="whenNotActive" nodeType="interactiveSeq" fill="hold">
                <p:stCondLst>
                  <p:cond evt="onClick">
                    <p:tgtEl>
                      <p:spTgt spid="277"/>
                    </p:tgtEl>
                  </p:cond>
                </p:stCondLst>
                <p:childTnLst>
                  <p:par>
                    <p:cTn id="177" fill="hold">
                      <p:stCondLst>
                        <p:cond evt="onClick">
                          <p:tgtEl>
                            <p:spTgt spid="277"/>
                          </p:tgtEl>
                        </p:cond>
                      </p:stCondLst>
                      <p:childTnLst>
                        <p:par>
                          <p:cTn id="178" fill="hold">
                            <p:stCondLst>
                              <p:cond delay="0"/>
                            </p:stCondLst>
                            <p:childTnLst>
                              <p:par>
                                <p:cTn id="179" nodeType="clickEffect" fill="hold" presetClass="mediacall" presetID="1">
                                  <p:stCondLst>
                                    <p:cond delay="0"/>
                                  </p:stCondLst>
                                  <p:childTnLst>
                                    <p:cmd type="call" cmd="playFrom(0.0)">
                                      <p:cBhvr>
                                        <p:cTn id="180" dur="123403"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Преподобный </a:t>
            </a:r>
            <a:br>
              <a:rPr sz="4000"/>
            </a:br>
            <a:r>
              <a:rPr b="1" lang="ru-RU" sz="4000" spc="-1" strike="noStrike">
                <a:solidFill>
                  <a:srgbClr val="b7e7ff"/>
                </a:solidFill>
                <a:latin typeface="Arial"/>
              </a:rPr>
              <a:t>Макарий (Глухарев), миссионер Алтайский</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280" name="Rectangle 4"/>
          <p:cNvSpPr/>
          <p:nvPr/>
        </p:nvSpPr>
        <p:spPr>
          <a:xfrm>
            <a:off x="815976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1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281" name="Picture 5" descr="angel21"/>
          <p:cNvPicPr/>
          <p:nvPr/>
        </p:nvPicPr>
        <p:blipFill>
          <a:blip r:embed="rId1"/>
          <a:stretch/>
        </p:blipFill>
        <p:spPr>
          <a:xfrm flipH="1">
            <a:off x="178920" y="549360"/>
            <a:ext cx="1195560" cy="2060640"/>
          </a:xfrm>
          <a:prstGeom prst="rect">
            <a:avLst/>
          </a:prstGeom>
          <a:ln w="0">
            <a:noFill/>
          </a:ln>
        </p:spPr>
      </p:pic>
      <p:pic>
        <p:nvPicPr>
          <p:cNvPr id="282" name="Picture 6" descr="angel21"/>
          <p:cNvPicPr/>
          <p:nvPr/>
        </p:nvPicPr>
        <p:blipFill>
          <a:blip r:embed="rId2"/>
          <a:stretch/>
        </p:blipFill>
        <p:spPr>
          <a:xfrm>
            <a:off x="7862760" y="620640"/>
            <a:ext cx="1281240" cy="1989360"/>
          </a:xfrm>
          <a:prstGeom prst="rect">
            <a:avLst/>
          </a:prstGeom>
          <a:ln w="0">
            <a:noFill/>
          </a:ln>
        </p:spPr>
      </p:pic>
      <p:sp>
        <p:nvSpPr>
          <p:cNvPr id="283" name="Rectangle 9"/>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18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4" name="brval50.mp3" descr=""/>
          <p:cNvPicPr/>
          <p:nvPr/>
        </p:nvPicPr>
        <p:blipFill>
          <a:blip r:embed="rId3"/>
          <a:stretch/>
        </p:blipFill>
        <p:spPr>
          <a:xfrm>
            <a:off x="468360" y="6021360"/>
            <a:ext cx="304920" cy="304920"/>
          </a:xfrm>
          <a:prstGeom prst="rect">
            <a:avLst/>
          </a:prstGeom>
          <a:ln w="0">
            <a:noFill/>
          </a:ln>
        </p:spPr>
      </p:pic>
      <p:pic>
        <p:nvPicPr>
          <p:cNvPr id="285" name="Picture 12" descr="Преподобный Макарий (Глухарев), миссионер Алтайский"/>
          <p:cNvPicPr/>
          <p:nvPr/>
        </p:nvPicPr>
        <p:blipFill>
          <a:blip r:embed="rId4"/>
          <a:stretch/>
        </p:blipFill>
        <p:spPr>
          <a:xfrm>
            <a:off x="2627280" y="1989000"/>
            <a:ext cx="3409920" cy="427680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restart="whenNotActive" nodeType="interactiveSeq" fill="hold">
                <p:stCondLst>
                  <p:cond evt="onClick">
                    <p:tgtEl>
                      <p:spTgt spid="284"/>
                    </p:tgtEl>
                  </p:cond>
                </p:stCondLst>
                <p:childTnLst>
                  <p:par>
                    <p:cTn id="183" fill="hold">
                      <p:stCondLst>
                        <p:cond evt="onClick">
                          <p:tgtEl>
                            <p:spTgt spid="284"/>
                          </p:tgtEl>
                        </p:cond>
                      </p:stCondLst>
                      <p:childTnLst>
                        <p:par>
                          <p:cTn id="184" fill="hold">
                            <p:stCondLst>
                              <p:cond delay="0"/>
                            </p:stCondLst>
                            <p:childTnLst>
                              <p:par>
                                <p:cTn id="185" nodeType="clickEffect" fill="hold" presetClass="mediacall" presetID="1">
                                  <p:stCondLst>
                                    <p:cond delay="0"/>
                                  </p:stCondLst>
                                  <p:childTnLst>
                                    <p:cmd type="call" cmd="playFrom(0.0)">
                                      <p:cBhvr>
                                        <p:cTn id="186" dur="97071"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Кипрская</a:t>
            </a:r>
            <a:br>
              <a:rPr sz="4000"/>
            </a:br>
            <a:r>
              <a:rPr b="1" lang="ru-RU" sz="4000" spc="-1" strike="noStrike">
                <a:solidFill>
                  <a:srgbClr val="b7e7ff"/>
                </a:solidFill>
                <a:latin typeface="Arial"/>
              </a:rPr>
              <a:t> икона Божией Матери</a:t>
            </a:r>
            <a:br>
              <a:rPr sz="4000"/>
            </a:br>
            <a:endParaRPr b="0" lang="en-US" sz="4000" spc="-1" strike="noStrike">
              <a:solidFill>
                <a:srgbClr val="b7e7ff"/>
              </a:solidFill>
              <a:latin typeface="Arial"/>
            </a:endParaRPr>
          </a:p>
        </p:txBody>
      </p:sp>
      <p:sp>
        <p:nvSpPr>
          <p:cNvPr id="72"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73" name="Picture 5" descr="angel21"/>
          <p:cNvPicPr/>
          <p:nvPr/>
        </p:nvPicPr>
        <p:blipFill>
          <a:blip r:embed="rId1"/>
          <a:stretch/>
        </p:blipFill>
        <p:spPr>
          <a:xfrm flipH="1">
            <a:off x="-360" y="620640"/>
            <a:ext cx="1195560" cy="2060640"/>
          </a:xfrm>
          <a:prstGeom prst="rect">
            <a:avLst/>
          </a:prstGeom>
          <a:ln w="0">
            <a:noFill/>
          </a:ln>
        </p:spPr>
      </p:pic>
      <p:pic>
        <p:nvPicPr>
          <p:cNvPr id="74" name="Picture 6" descr="angel21"/>
          <p:cNvPicPr/>
          <p:nvPr/>
        </p:nvPicPr>
        <p:blipFill>
          <a:blip r:embed="rId2"/>
          <a:stretch/>
        </p:blipFill>
        <p:spPr>
          <a:xfrm>
            <a:off x="7862760" y="692280"/>
            <a:ext cx="1281240" cy="1989000"/>
          </a:xfrm>
          <a:prstGeom prst="rect">
            <a:avLst/>
          </a:prstGeom>
          <a:ln w="0">
            <a:noFill/>
          </a:ln>
        </p:spPr>
      </p:pic>
      <p:sp>
        <p:nvSpPr>
          <p:cNvPr id="75" name="Rectangle 7"/>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0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76" name="brval97.mp3" descr=""/>
          <p:cNvPicPr/>
          <p:nvPr/>
        </p:nvPicPr>
        <p:blipFill>
          <a:blip r:embed="rId3"/>
          <a:stretch/>
        </p:blipFill>
        <p:spPr>
          <a:xfrm>
            <a:off x="468360" y="6021360"/>
            <a:ext cx="304920" cy="304920"/>
          </a:xfrm>
          <a:prstGeom prst="rect">
            <a:avLst/>
          </a:prstGeom>
          <a:ln w="0">
            <a:noFill/>
          </a:ln>
        </p:spPr>
      </p:pic>
      <p:pic>
        <p:nvPicPr>
          <p:cNvPr id="77" name="Picture 10" descr="Кипрская икона Божией Матери"/>
          <p:cNvPicPr/>
          <p:nvPr/>
        </p:nvPicPr>
        <p:blipFill>
          <a:blip r:embed="rId4"/>
          <a:stretch/>
        </p:blipFill>
        <p:spPr>
          <a:xfrm>
            <a:off x="2843280" y="1916280"/>
            <a:ext cx="2895480" cy="4276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76"/>
                    </p:tgtEl>
                  </p:cond>
                </p:stCondLst>
                <p:childTnLst>
                  <p:par>
                    <p:cTn id="15" fill="hold">
                      <p:stCondLst>
                        <p:cond evt="onClick">
                          <p:tgtEl>
                            <p:spTgt spid="76"/>
                          </p:tgtEl>
                        </p:cond>
                      </p:stCondLst>
                      <p:childTnLst>
                        <p:par>
                          <p:cTn id="16" fill="hold">
                            <p:stCondLst>
                              <p:cond delay="0"/>
                            </p:stCondLst>
                            <p:childTnLst>
                              <p:par>
                                <p:cTn id="17" nodeType="clickEffect" fill="hold" presetClass="mediacall" presetID="1">
                                  <p:stCondLst>
                                    <p:cond delay="0"/>
                                  </p:stCondLst>
                                  <p:childTnLst>
                                    <p:cmd type="call" cmd="playFrom(0.0)">
                                      <p:cBhvr>
                                        <p:cTn id="18" dur="99213"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Моздокская икона </a:t>
            </a:r>
            <a:br>
              <a:rPr sz="4000"/>
            </a:br>
            <a:r>
              <a:rPr b="1" lang="ru-RU" sz="4000" spc="-1" strike="noStrike">
                <a:solidFill>
                  <a:srgbClr val="b7e7ff"/>
                </a:solidFill>
                <a:latin typeface="Arial"/>
              </a:rPr>
              <a:t>Божией Матери</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79"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4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80" name="Picture 5" descr="angel21"/>
          <p:cNvPicPr/>
          <p:nvPr/>
        </p:nvPicPr>
        <p:blipFill>
          <a:blip r:embed="rId1"/>
          <a:stretch/>
        </p:blipFill>
        <p:spPr>
          <a:xfrm flipH="1">
            <a:off x="178920" y="836640"/>
            <a:ext cx="1195560" cy="2060640"/>
          </a:xfrm>
          <a:prstGeom prst="rect">
            <a:avLst/>
          </a:prstGeom>
          <a:ln w="0">
            <a:noFill/>
          </a:ln>
        </p:spPr>
      </p:pic>
      <p:pic>
        <p:nvPicPr>
          <p:cNvPr id="81" name="Picture 6" descr="angel21"/>
          <p:cNvPicPr/>
          <p:nvPr/>
        </p:nvPicPr>
        <p:blipFill>
          <a:blip r:embed="rId2"/>
          <a:stretch/>
        </p:blipFill>
        <p:spPr>
          <a:xfrm>
            <a:off x="7862760" y="692280"/>
            <a:ext cx="1281240" cy="1989000"/>
          </a:xfrm>
          <a:prstGeom prst="rect">
            <a:avLst/>
          </a:prstGeom>
          <a:ln w="0">
            <a:noFill/>
          </a:ln>
        </p:spPr>
      </p:pic>
      <p:sp>
        <p:nvSpPr>
          <p:cNvPr id="82" name="Rectangle 7"/>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1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3" name="brval96.mp3" descr=""/>
          <p:cNvPicPr/>
          <p:nvPr/>
        </p:nvPicPr>
        <p:blipFill>
          <a:blip r:embed="rId3"/>
          <a:stretch/>
        </p:blipFill>
        <p:spPr>
          <a:xfrm>
            <a:off x="468360" y="6021360"/>
            <a:ext cx="304920" cy="304920"/>
          </a:xfrm>
          <a:prstGeom prst="rect">
            <a:avLst/>
          </a:prstGeom>
          <a:ln w="0">
            <a:noFill/>
          </a:ln>
        </p:spPr>
      </p:pic>
      <p:pic>
        <p:nvPicPr>
          <p:cNvPr id="84" name="Picture 10" descr="Моздокская икона Божией Матери"/>
          <p:cNvPicPr/>
          <p:nvPr/>
        </p:nvPicPr>
        <p:blipFill>
          <a:blip r:embed="rId4"/>
          <a:stretch/>
        </p:blipFill>
        <p:spPr>
          <a:xfrm>
            <a:off x="2987640" y="1989000"/>
            <a:ext cx="3009960" cy="42768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83"/>
                    </p:tgtEl>
                  </p:cond>
                </p:stCondLst>
                <p:childTnLst>
                  <p:par>
                    <p:cTn id="21" fill="hold">
                      <p:stCondLst>
                        <p:cond evt="onClick">
                          <p:tgtEl>
                            <p:spTgt spid="83"/>
                          </p:tgtEl>
                        </p:cond>
                      </p:stCondLst>
                      <p:childTnLst>
                        <p:par>
                          <p:cTn id="22" fill="hold">
                            <p:stCondLst>
                              <p:cond delay="0"/>
                            </p:stCondLst>
                            <p:childTnLst>
                              <p:par>
                                <p:cTn id="23" nodeType="clickEffect" fill="hold" presetClass="mediacall" presetID="1">
                                  <p:stCondLst>
                                    <p:cond delay="0"/>
                                  </p:stCondLst>
                                  <p:childTnLst>
                                    <p:cmd type="call" cmd="playFrom(0.0)">
                                      <p:cBhvr>
                                        <p:cTn id="24" dur="103706"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Преподобный</a:t>
            </a:r>
            <a:br>
              <a:rPr sz="4000"/>
            </a:br>
            <a:r>
              <a:rPr b="1" lang="ru-RU" sz="4000" spc="-1" strike="noStrike">
                <a:solidFill>
                  <a:srgbClr val="b7e7ff"/>
                </a:solidFill>
                <a:latin typeface="Arial"/>
              </a:rPr>
              <a:t> Виталий Александрийский</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86"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5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87" name="Picture 5" descr="angel21"/>
          <p:cNvPicPr/>
          <p:nvPr/>
        </p:nvPicPr>
        <p:blipFill>
          <a:blip r:embed="rId1"/>
          <a:stretch/>
        </p:blipFill>
        <p:spPr>
          <a:xfrm flipH="1">
            <a:off x="-360" y="620640"/>
            <a:ext cx="1195560" cy="2060640"/>
          </a:xfrm>
          <a:prstGeom prst="rect">
            <a:avLst/>
          </a:prstGeom>
          <a:ln w="0">
            <a:noFill/>
          </a:ln>
        </p:spPr>
      </p:pic>
      <p:pic>
        <p:nvPicPr>
          <p:cNvPr id="88" name="Picture 6" descr="angel21"/>
          <p:cNvPicPr/>
          <p:nvPr/>
        </p:nvPicPr>
        <p:blipFill>
          <a:blip r:embed="rId2"/>
          <a:stretch/>
        </p:blipFill>
        <p:spPr>
          <a:xfrm>
            <a:off x="7862760" y="692280"/>
            <a:ext cx="1281240" cy="1989000"/>
          </a:xfrm>
          <a:prstGeom prst="rect">
            <a:avLst/>
          </a:prstGeom>
          <a:ln w="0">
            <a:noFill/>
          </a:ln>
        </p:spPr>
      </p:pic>
      <p:sp>
        <p:nvSpPr>
          <p:cNvPr id="89" name="Rectangle 7"/>
          <p:cNvSpPr/>
          <p:nvPr/>
        </p:nvSpPr>
        <p:spPr>
          <a:xfrm>
            <a:off x="0" y="0"/>
            <a:ext cx="1709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2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0" name="brval95.mp3" descr=""/>
          <p:cNvPicPr/>
          <p:nvPr/>
        </p:nvPicPr>
        <p:blipFill>
          <a:blip r:embed="rId3"/>
          <a:stretch/>
        </p:blipFill>
        <p:spPr>
          <a:xfrm>
            <a:off x="395280" y="6021360"/>
            <a:ext cx="304920" cy="304920"/>
          </a:xfrm>
          <a:prstGeom prst="rect">
            <a:avLst/>
          </a:prstGeom>
          <a:ln w="0">
            <a:noFill/>
          </a:ln>
        </p:spPr>
      </p:pic>
      <p:pic>
        <p:nvPicPr>
          <p:cNvPr id="91" name="Picture 10" descr="Преподобный Виталий Александрийский"/>
          <p:cNvPicPr/>
          <p:nvPr/>
        </p:nvPicPr>
        <p:blipFill>
          <a:blip r:embed="rId4"/>
          <a:stretch/>
        </p:blipFill>
        <p:spPr>
          <a:xfrm>
            <a:off x="2627280" y="1844640"/>
            <a:ext cx="3533760" cy="42861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90"/>
                    </p:tgtEl>
                  </p:cond>
                </p:stCondLst>
                <p:childTnLst>
                  <p:par>
                    <p:cTn id="27" fill="hold">
                      <p:stCondLst>
                        <p:cond evt="onClick">
                          <p:tgtEl>
                            <p:spTgt spid="90"/>
                          </p:tgtEl>
                        </p:cond>
                      </p:stCondLst>
                      <p:childTnLst>
                        <p:par>
                          <p:cTn id="28" fill="hold">
                            <p:stCondLst>
                              <p:cond delay="0"/>
                            </p:stCondLst>
                            <p:childTnLst>
                              <p:par>
                                <p:cTn id="29" nodeType="clickEffect" fill="hold" presetClass="mediacall" presetID="1">
                                  <p:stCondLst>
                                    <p:cond delay="0"/>
                                  </p:stCondLst>
                                  <p:childTnLst>
                                    <p:cmd type="call" cmd="playFrom(0.0)">
                                      <p:cBhvr>
                                        <p:cTn id="30" dur="11055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Георгий, </a:t>
            </a:r>
            <a:br>
              <a:rPr sz="4000"/>
            </a:br>
            <a:r>
              <a:rPr b="1" lang="ru-RU" sz="4000" spc="-1" strike="noStrike">
                <a:solidFill>
                  <a:srgbClr val="b7e7ff"/>
                </a:solidFill>
                <a:latin typeface="Arial"/>
              </a:rPr>
              <a:t>чудо о змие</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93"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6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94" name="Picture 5" descr="angel21"/>
          <p:cNvPicPr/>
          <p:nvPr/>
        </p:nvPicPr>
        <p:blipFill>
          <a:blip r:embed="rId1"/>
          <a:stretch/>
        </p:blipFill>
        <p:spPr>
          <a:xfrm flipH="1">
            <a:off x="-360" y="476280"/>
            <a:ext cx="1195560" cy="2060640"/>
          </a:xfrm>
          <a:prstGeom prst="rect">
            <a:avLst/>
          </a:prstGeom>
          <a:ln w="0">
            <a:noFill/>
          </a:ln>
        </p:spPr>
      </p:pic>
      <p:pic>
        <p:nvPicPr>
          <p:cNvPr id="95" name="Picture 6" descr="angel21"/>
          <p:cNvPicPr/>
          <p:nvPr/>
        </p:nvPicPr>
        <p:blipFill>
          <a:blip r:embed="rId2"/>
          <a:stretch/>
        </p:blipFill>
        <p:spPr>
          <a:xfrm>
            <a:off x="7862760" y="692280"/>
            <a:ext cx="1281240" cy="1989000"/>
          </a:xfrm>
          <a:prstGeom prst="rect">
            <a:avLst/>
          </a:prstGeom>
          <a:ln w="0">
            <a:noFill/>
          </a:ln>
        </p:spPr>
      </p:pic>
      <p:sp>
        <p:nvSpPr>
          <p:cNvPr id="96"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3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brval94.mp3" descr=""/>
          <p:cNvPicPr/>
          <p:nvPr/>
        </p:nvPicPr>
        <p:blipFill>
          <a:blip r:embed="rId3"/>
          <a:stretch/>
        </p:blipFill>
        <p:spPr>
          <a:xfrm>
            <a:off x="468360" y="6021360"/>
            <a:ext cx="304920" cy="304920"/>
          </a:xfrm>
          <a:prstGeom prst="rect">
            <a:avLst/>
          </a:prstGeom>
          <a:ln w="0">
            <a:noFill/>
          </a:ln>
        </p:spPr>
      </p:pic>
      <p:pic>
        <p:nvPicPr>
          <p:cNvPr id="98" name="Picture 10" descr="Георгий, чудо о змие"/>
          <p:cNvPicPr/>
          <p:nvPr/>
        </p:nvPicPr>
        <p:blipFill>
          <a:blip r:embed="rId4"/>
          <a:stretch/>
        </p:blipFill>
        <p:spPr>
          <a:xfrm>
            <a:off x="2916360" y="1844640"/>
            <a:ext cx="3085920" cy="42861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97"/>
                    </p:tgtEl>
                  </p:cond>
                </p:stCondLst>
                <p:childTnLst>
                  <p:par>
                    <p:cTn id="33" fill="hold">
                      <p:stCondLst>
                        <p:cond evt="onClick">
                          <p:tgtEl>
                            <p:spTgt spid="97"/>
                          </p:tgtEl>
                        </p:cond>
                      </p:stCondLst>
                      <p:childTnLst>
                        <p:par>
                          <p:cTn id="34" fill="hold">
                            <p:stCondLst>
                              <p:cond delay="0"/>
                            </p:stCondLst>
                            <p:childTnLst>
                              <p:par>
                                <p:cTn id="35" nodeType="clickEffect" fill="hold" presetClass="mediacall" presetID="1">
                                  <p:stCondLst>
                                    <p:cond delay="0"/>
                                  </p:stCondLst>
                                  <p:childTnLst>
                                    <p:cmd type="call" cmd="playFrom(0.0)">
                                      <p:cBhvr>
                                        <p:cTn id="36" dur="160131"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Елисавета Константинопольская, игумения</a:t>
            </a:r>
            <a:br>
              <a:rPr sz="4000"/>
            </a:br>
            <a:endParaRPr b="0" lang="en-US" sz="4000" spc="-1" strike="noStrike">
              <a:solidFill>
                <a:srgbClr val="b7e7ff"/>
              </a:solidFill>
              <a:latin typeface="Arial"/>
            </a:endParaRPr>
          </a:p>
        </p:txBody>
      </p:sp>
      <p:sp>
        <p:nvSpPr>
          <p:cNvPr id="100" name="Rectangle 4"/>
          <p:cNvSpPr/>
          <p:nvPr/>
        </p:nvSpPr>
        <p:spPr>
          <a:xfrm>
            <a:off x="808524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7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01" name="Picture 5" descr="angel21"/>
          <p:cNvPicPr/>
          <p:nvPr/>
        </p:nvPicPr>
        <p:blipFill>
          <a:blip r:embed="rId1"/>
          <a:stretch/>
        </p:blipFill>
        <p:spPr>
          <a:xfrm flipH="1">
            <a:off x="-360" y="620640"/>
            <a:ext cx="1195560" cy="2060640"/>
          </a:xfrm>
          <a:prstGeom prst="rect">
            <a:avLst/>
          </a:prstGeom>
          <a:ln w="0">
            <a:noFill/>
          </a:ln>
        </p:spPr>
      </p:pic>
      <p:pic>
        <p:nvPicPr>
          <p:cNvPr id="102" name="Picture 6" descr="angel21"/>
          <p:cNvPicPr/>
          <p:nvPr/>
        </p:nvPicPr>
        <p:blipFill>
          <a:blip r:embed="rId2"/>
          <a:stretch/>
        </p:blipFill>
        <p:spPr>
          <a:xfrm>
            <a:off x="7862760" y="549360"/>
            <a:ext cx="1281240" cy="1989000"/>
          </a:xfrm>
          <a:prstGeom prst="rect">
            <a:avLst/>
          </a:prstGeom>
          <a:ln w="0">
            <a:noFill/>
          </a:ln>
        </p:spPr>
      </p:pic>
      <p:sp>
        <p:nvSpPr>
          <p:cNvPr id="103"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4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4" name="brval93.mp3" descr=""/>
          <p:cNvPicPr/>
          <p:nvPr/>
        </p:nvPicPr>
        <p:blipFill>
          <a:blip r:embed="rId3"/>
          <a:stretch/>
        </p:blipFill>
        <p:spPr>
          <a:xfrm>
            <a:off x="468360" y="5950080"/>
            <a:ext cx="304920" cy="304560"/>
          </a:xfrm>
          <a:prstGeom prst="rect">
            <a:avLst/>
          </a:prstGeom>
          <a:ln w="0">
            <a:noFill/>
          </a:ln>
        </p:spPr>
      </p:pic>
      <p:pic>
        <p:nvPicPr>
          <p:cNvPr id="105" name="Picture 10" descr="Преподобная Елисавета Константинопольская"/>
          <p:cNvPicPr/>
          <p:nvPr/>
        </p:nvPicPr>
        <p:blipFill>
          <a:blip r:embed="rId4"/>
          <a:stretch/>
        </p:blipFill>
        <p:spPr>
          <a:xfrm>
            <a:off x="2987640" y="1916280"/>
            <a:ext cx="3267000" cy="42861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04"/>
                    </p:tgtEl>
                  </p:cond>
                </p:stCondLst>
                <p:childTnLst>
                  <p:par>
                    <p:cTn id="39" fill="hold">
                      <p:stCondLst>
                        <p:cond evt="onClick">
                          <p:tgtEl>
                            <p:spTgt spid="104"/>
                          </p:tgtEl>
                        </p:cond>
                      </p:stCondLst>
                      <p:childTnLst>
                        <p:par>
                          <p:cTn id="40" fill="hold">
                            <p:stCondLst>
                              <p:cond delay="0"/>
                            </p:stCondLst>
                            <p:childTnLst>
                              <p:par>
                                <p:cTn id="41" nodeType="clickEffect" fill="hold" presetClass="mediacall" presetID="1">
                                  <p:stCondLst>
                                    <p:cond delay="0"/>
                                  </p:stCondLst>
                                  <p:childTnLst>
                                    <p:cmd type="call" cmd="playFrom(0.0)">
                                      <p:cBhvr>
                                        <p:cTn id="42" dur="153026"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Апостол и </a:t>
            </a:r>
            <a:br>
              <a:rPr sz="4000"/>
            </a:br>
            <a:r>
              <a:rPr b="1" lang="ru-RU" sz="4000" spc="-1" strike="noStrike">
                <a:solidFill>
                  <a:srgbClr val="b7e7ff"/>
                </a:solidFill>
                <a:latin typeface="Arial"/>
              </a:rPr>
              <a:t>евангелист Марк</a:t>
            </a:r>
            <a:br>
              <a:rPr sz="4000"/>
            </a:br>
            <a:endParaRPr b="0" lang="en-US" sz="4000" spc="-1" strike="noStrike">
              <a:solidFill>
                <a:srgbClr val="b7e7ff"/>
              </a:solidFill>
              <a:latin typeface="Arial"/>
            </a:endParaRPr>
          </a:p>
        </p:txBody>
      </p:sp>
      <p:sp>
        <p:nvSpPr>
          <p:cNvPr id="107" name="Rectangle 4"/>
          <p:cNvSpPr/>
          <p:nvPr/>
        </p:nvSpPr>
        <p:spPr>
          <a:xfrm>
            <a:off x="8305920" y="0"/>
            <a:ext cx="105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8 ма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н. ст</a:t>
            </a:r>
            <a:endParaRPr b="0" lang="en-US" sz="1800" spc="-1" strike="noStrike">
              <a:solidFill>
                <a:srgbClr val="ffffff"/>
              </a:solidFill>
              <a:latin typeface="Tahoma"/>
            </a:endParaRPr>
          </a:p>
        </p:txBody>
      </p:sp>
      <p:pic>
        <p:nvPicPr>
          <p:cNvPr id="108" name="Picture 5" descr="angel21"/>
          <p:cNvPicPr/>
          <p:nvPr/>
        </p:nvPicPr>
        <p:blipFill>
          <a:blip r:embed="rId1"/>
          <a:stretch/>
        </p:blipFill>
        <p:spPr>
          <a:xfrm flipH="1">
            <a:off x="-360" y="549360"/>
            <a:ext cx="1195560" cy="2060640"/>
          </a:xfrm>
          <a:prstGeom prst="rect">
            <a:avLst/>
          </a:prstGeom>
          <a:ln w="0">
            <a:noFill/>
          </a:ln>
        </p:spPr>
      </p:pic>
      <p:pic>
        <p:nvPicPr>
          <p:cNvPr id="109" name="Picture 6" descr="angel21"/>
          <p:cNvPicPr/>
          <p:nvPr/>
        </p:nvPicPr>
        <p:blipFill>
          <a:blip r:embed="rId2"/>
          <a:stretch/>
        </p:blipFill>
        <p:spPr>
          <a:xfrm>
            <a:off x="7862760" y="620640"/>
            <a:ext cx="1281240" cy="1989360"/>
          </a:xfrm>
          <a:prstGeom prst="rect">
            <a:avLst/>
          </a:prstGeom>
          <a:ln w="0">
            <a:noFill/>
          </a:ln>
        </p:spPr>
      </p:pic>
      <p:sp>
        <p:nvSpPr>
          <p:cNvPr id="110" name="Rectangle 7"/>
          <p:cNvSpPr/>
          <p:nvPr/>
        </p:nvSpPr>
        <p:spPr>
          <a:xfrm>
            <a:off x="0" y="0"/>
            <a:ext cx="185436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25 апреля</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 ст. стилю</a:t>
            </a:r>
            <a:endParaRPr b="0"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1" name="brval91.mp3" descr=""/>
          <p:cNvPicPr/>
          <p:nvPr/>
        </p:nvPicPr>
        <p:blipFill>
          <a:blip r:embed="rId3"/>
          <a:stretch/>
        </p:blipFill>
        <p:spPr>
          <a:xfrm>
            <a:off x="468360" y="6021360"/>
            <a:ext cx="304920" cy="304920"/>
          </a:xfrm>
          <a:prstGeom prst="rect">
            <a:avLst/>
          </a:prstGeom>
          <a:ln w="0">
            <a:noFill/>
          </a:ln>
        </p:spPr>
      </p:pic>
      <p:pic>
        <p:nvPicPr>
          <p:cNvPr id="112" name="Picture 11" descr="Евангелист Марк"/>
          <p:cNvPicPr/>
          <p:nvPr/>
        </p:nvPicPr>
        <p:blipFill>
          <a:blip r:embed="rId4"/>
          <a:stretch/>
        </p:blipFill>
        <p:spPr>
          <a:xfrm>
            <a:off x="3132000" y="1413000"/>
            <a:ext cx="2919600" cy="50403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111"/>
                    </p:tgtEl>
                  </p:cond>
                </p:stCondLst>
                <p:childTnLst>
                  <p:par>
                    <p:cTn id="45" fill="hold">
                      <p:stCondLst>
                        <p:cond evt="onClick">
                          <p:tgtEl>
                            <p:spTgt spid="111"/>
                          </p:tgtEl>
                        </p:cond>
                      </p:stCondLst>
                      <p:childTnLst>
                        <p:par>
                          <p:cTn id="46" fill="hold">
                            <p:stCondLst>
                              <p:cond delay="0"/>
                            </p:stCondLst>
                            <p:childTnLst>
                              <p:par>
                                <p:cTn id="47" nodeType="clickEffect" fill="hold" presetClass="mediacall" presetID="1">
                                  <p:stCondLst>
                                    <p:cond delay="0"/>
                                  </p:stCondLst>
                                  <p:childTnLst>
                                    <p:cmd type="call" cmd="playFrom(0.0)">
                                      <p:cBhvr>
                                        <p:cTn id="48" dur="109558"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0T10:04:45Z</dcterms:created>
  <dc:creator>ч</dc:creator>
  <dc:description/>
  <dc:language>en-US</dc:language>
  <cp:lastModifiedBy>Елена</cp:lastModifiedBy>
  <dcterms:modified xsi:type="dcterms:W3CDTF">2013-04-27T20:16:00Z</dcterms:modified>
  <cp:revision>22</cp:revision>
  <dc:subject/>
  <dc:title>Слайд 1</dc:title>
</cp:coreProperties>
</file>