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32A-E3A7-4335-BDF9-9F5827FB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8C1-681A-41E5-840F-195F6A81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8C9-E529-4133-9232-5AC2780D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ECC9-270E-47C3-9139-E46C677F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A37A-25CF-4537-ABE4-EA71F81B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6616-1EE4-46F8-8238-7628F092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1B9A-0F60-4A4E-933A-17399BB3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3091-A1D6-4461-B829-58138CEB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051D-DC37-4518-8FFA-9E83971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E305-3A8E-47C2-847F-4123C237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B166-0723-40A5-B3C0-6EF6EC92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00CE-5325-4115-9C14-B18EDE8C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C941-CF0F-4335-A827-48A9991D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9AD6-EB45-4662-95DF-E60C9742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3E73-B5EE-4969-902F-FF08BBBC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A3DC-8B29-4D3F-A2CB-432E625B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BAFB-CED0-473F-B8D6-99042947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072-1EF6-42A6-999D-FDF4E7DD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456-F41E-4707-A7E5-78782317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49F-5037-4E88-BADD-FC5859A9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EE1-B146-403D-BB7A-6E62DD28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3F7-B54A-46A7-84F6-3DCC46D8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E060-4EF5-4125-8BC3-F1A5B0BC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9D4-0929-44E1-8527-261738B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AD06-2D8F-48FE-A955-881A9E5A181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7385-7996-446D-A83C-55A9B41ECC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Fill in with Present Si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87400" y="1857240"/>
            <a:ext cx="577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lowers ________(smell) nice. 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816840" y="2428920"/>
            <a:ext cx="55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boss __________(often take) his wife to lu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961200" y="307188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 tim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( your train arrive) in Lond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815760" y="3714840"/>
            <a:ext cx="50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___________(arrive) in London at 2 o’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44920" y="4357800"/>
            <a:ext cx="43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_____________(work) as a n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17920" y="5072040"/>
            <a:ext cx="51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_______________(not buy) happ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856080" y="5845320"/>
            <a:ext cx="52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__________________(usually get up) at 7.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57640" y="30592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es your train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91800" y="185724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007720" y="241632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ten t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557360" y="3701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005560" y="43448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196720" y="50594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esn’t b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672560" y="57862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ually ge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4:56:17Z</dcterms:created>
  <dc:creator>Loner-XP</dc:creator>
  <dc:description/>
  <dc:language>en-US</dc:language>
  <cp:lastModifiedBy>Admin</cp:lastModifiedBy>
  <dcterms:modified xsi:type="dcterms:W3CDTF">2012-11-03T09:35:01Z</dcterms:modified>
  <cp:revision>41</cp:revision>
  <dc:subject/>
  <dc:title>Present Simple</dc:title>
</cp:coreProperties>
</file>