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5A1-E036-440D-B307-51BFE1C7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FE9-C340-40A8-AF78-2C19279D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508-63EC-4D66-9313-ED18AF7E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745-6511-40CF-B29A-E08D31C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741B-52BD-4E61-865D-68E3D44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8E5-78BA-4BFA-8753-16A94ED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83C-714A-441B-98A7-5E25FA67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8EA8-8202-4C4F-BB8A-DB7DB74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B15-40C1-4436-84EF-82C70305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EE5B-FB20-43B1-B1BE-30B1A652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275-1462-4A1E-87D4-6EBBFD5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301-44EB-431E-A481-46710B2C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CB4-7A0D-4315-81B0-C6815F2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364F-DC66-48D4-9DC8-A7F74F7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83A9-31F4-410F-85CC-25BEEDEE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54A-DCFE-457B-A08F-727A1F8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948-858B-4C0E-83FC-7CEAD40A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61E-6D5B-4F2F-B649-A5B213C7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765-9CA0-4684-86C9-63743F4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076-5C58-4164-BDDE-7CE24DC4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A83-7CE7-4E8E-A3D6-30E9BB4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D2B-8A1D-47DF-B4FD-AAD43FE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178-C85B-45EB-950C-8DEA7C5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057-A9FF-4C57-9698-CCB155F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1A52-72AD-4945-A02C-B742FF5BB3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8C3-CB40-4A90-AE35-15CD858B6D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in with Present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87400" y="1857240"/>
            <a:ext cx="57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lowers ________(smell) nice. 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816840" y="242892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boss __________(often take) his wife to lu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61200" y="307188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 tim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( your train arrive) in Lond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15760" y="371484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___________(arrive) in London at 2 o’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44920" y="435780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_____________(work) as a n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17920" y="507204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_______________(not buy) happ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56080" y="584532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__________________(usually get up) at 7.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57640" y="3059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 your train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91800" y="18572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007720" y="24163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ten 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57360" y="3701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005560" y="43448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96720" y="5059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n’t b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672560" y="57862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ually g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56:17Z</dcterms:created>
  <dc:creator>Loner-XP</dc:creator>
  <dc:description/>
  <dc:language>en-US</dc:language>
  <cp:lastModifiedBy>Admin</cp:lastModifiedBy>
  <dcterms:modified xsi:type="dcterms:W3CDTF">2012-11-03T09:35:01Z</dcterms:modified>
  <cp:revision>41</cp:revision>
  <dc:subject/>
  <dc:title>Present Simple</dc:title>
</cp:coreProperties>
</file>