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9-12-20T15:20:59.734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50B-F987-47CF-9146-B34A69C5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F06-D94E-45BA-88C1-19C4A02C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433-EE39-4281-9012-DEBFE27A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FC8-FEA3-4C7F-904C-AB2BCEA4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02F3-DE61-4E86-A916-7044661F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7BE0-7425-4F50-B38A-E7BD4A40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8EFD-0318-46A9-8C34-350D2744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01CB-6A14-42C5-858C-C81C4DEF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2433-8513-4CE8-9519-BBAA9EDE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413E-59A3-4426-894B-996A3F09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F834-18FB-4D1E-B603-C59E6D7F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099-521C-4F6B-9194-6953874F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3942-58FF-4ADE-9002-EC341DF6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15D2-7038-4A0A-BE06-46CB5E03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B3F4-8D1C-4190-8066-5666BA05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884D-B30C-49A2-A90B-AFC70FEE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F2B3-59E6-4029-AD6B-67185F99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DE2-8D02-4405-86F7-2A724F4E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F9B-8080-4042-8FFA-0A9BE425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D36-BC25-439A-A132-84AAD3C1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965-FAC9-4F89-BB0F-76582F1E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0B0-82E8-4E37-B432-4F003487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F01-5121-41E4-A9AC-B5C02E53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1D2-386A-4250-8EAD-9CF65442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606A-EE0F-4CCA-B6A4-DD03F49ADB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1E76-5033-4EF4-8D05-5229A47EDAA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468360" y="1828800"/>
            <a:ext cx="7345440" cy="354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Художествен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обработ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кож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7" name="Picture 5" descr="PICT0001"/>
          <p:cNvPicPr/>
          <p:nvPr/>
        </p:nvPicPr>
        <p:blipFill>
          <a:blip r:embed="rId1"/>
          <a:stretch/>
        </p:blipFill>
        <p:spPr>
          <a:xfrm>
            <a:off x="6400800" y="3213000"/>
            <a:ext cx="2203560" cy="1892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 flipH="1" flipV="1">
            <a:off x="395280" y="2060640"/>
            <a:ext cx="123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4221000"/>
            <a:ext cx="2103120" cy="10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20000"/>
                </a:solidFill>
                <a:latin typeface="Arial"/>
              </a:rPr>
              <a:t>Автор прое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20000"/>
                </a:solidFill>
                <a:latin typeface="Arial"/>
              </a:rPr>
              <a:t>Учитель технолог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20000"/>
                </a:solidFill>
                <a:latin typeface="Arial"/>
              </a:rPr>
              <a:t>МОУ СОШ№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20000"/>
                </a:solidFill>
                <a:latin typeface="Arial"/>
              </a:rPr>
              <a:t>Г-К Анап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533520" y="5486400"/>
            <a:ext cx="784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удакова Наталья  Семено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01" name="Rectangle 8"/>
          <p:cNvGrpSpPr/>
          <p:nvPr/>
        </p:nvGrpSpPr>
        <p:grpSpPr>
          <a:xfrm>
            <a:off x="-60480" y="6102720"/>
            <a:ext cx="8966520" cy="777240"/>
            <a:chOff x="-60480" y="6102720"/>
            <a:chExt cx="8966520" cy="777240"/>
          </a:xfrm>
        </p:grpSpPr>
        <p:pic>
          <p:nvPicPr>
            <p:cNvPr id="102" name="Rectangle 8" descr=""/>
            <p:cNvPicPr/>
            <p:nvPr/>
          </p:nvPicPr>
          <p:blipFill>
            <a:blip r:embed="rId4"/>
            <a:stretch/>
          </p:blipFill>
          <p:spPr>
            <a:xfrm>
              <a:off x="-60480" y="6156360"/>
              <a:ext cx="89665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6102720"/>
              <a:ext cx="885024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Статья участвует в конкурсе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&lt;a href="http://newsedu.ru/blog/partners/2034.html"&gt;&lt;strong&gt; Образование 3.0&lt;/strong&gt;&lt;/a&gt;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»</a:t>
              </a:r>
              <a:br>
                <a:rPr sz="1200"/>
              </a:b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315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БИБЛИОГРАФИЯ</a:t>
            </a:r>
            <a:br>
              <a:rPr sz="28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534520" cy="5029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 Т.Г. Ткаченк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«Формирование интереса школьников к прикладному искусству через приобщение  к народным ремеслам и промыслам» Методические рекомендации к авторской программе «Творческая мастерская»  Армавир, 2008.-48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Большая Советская Энциклопедия, том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Журналы серии «Чудное мгновение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Журнал «Креативное рукоделие» 2007 год №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ИНТЕРНЕТ-РЕСУРС (материалы сайтов: «Осинка», « Хобби», «Креативное рукоделие»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914400" y="609480"/>
            <a:ext cx="7205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32" name="Rectangle 5"/>
          <p:cNvGrpSpPr/>
          <p:nvPr/>
        </p:nvGrpSpPr>
        <p:grpSpPr>
          <a:xfrm>
            <a:off x="-73080" y="5608800"/>
            <a:ext cx="9272520" cy="1230120"/>
            <a:chOff x="-73080" y="5608800"/>
            <a:chExt cx="9272520" cy="1230120"/>
          </a:xfrm>
        </p:grpSpPr>
        <p:pic>
          <p:nvPicPr>
            <p:cNvPr id="133" name="Rectangle 5" descr=""/>
            <p:cNvPicPr/>
            <p:nvPr/>
          </p:nvPicPr>
          <p:blipFill>
            <a:blip r:embed="rId3"/>
            <a:stretch/>
          </p:blipFill>
          <p:spPr>
            <a:xfrm>
              <a:off x="-73080" y="5608800"/>
              <a:ext cx="927252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5649120"/>
              <a:ext cx="91440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Идет прием заявок на участие в конкурсе презентаций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&lt;a href="http://www.supporttalent.ru/events/5007/"&gt;&lt;strong&gt;ТопСлайд&lt;/strong&gt;&lt;/a&gt;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»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 от &lt;strong&gt;АНО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ЦПИ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Ариадна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»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&lt;/strong&gt;</a:t>
              </a:r>
              <a:br>
                <a:rPr sz="1400"/>
              </a:b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877920" y="601956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натуральной кожи можно сделать много интересных и полезных вещей: стилизованные цветы, вазы, картин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ьере модно иметь искусственные цветы, они придают помещению уют и неповторимос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игинальные композиции можно сделать своими руками из старых курток и сумок, не спешите их выбрасыв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много фантазии и  уникальные вещи, сотворенные вашими руками, обретут новое воплоще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PICT0025"/>
          <p:cNvPicPr/>
          <p:nvPr/>
        </p:nvPicPr>
        <p:blipFill>
          <a:blip r:embed="rId1"/>
          <a:stretch/>
        </p:blipFill>
        <p:spPr>
          <a:xfrm>
            <a:off x="611280" y="1557360"/>
            <a:ext cx="3673440" cy="46083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6"/>
          <p:cNvSpPr txBox="1"/>
          <p:nvPr/>
        </p:nvSpPr>
        <p:spPr>
          <a:xfrm>
            <a:off x="1116000" y="692280"/>
            <a:ext cx="6624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оже –вторую жиз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ксессуар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мет, дополняющий обр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ере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лицевая сторона ко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хтарма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наночная сторона ко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улька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румент в виде шар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утоньер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букетик цветов для украшения костю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ерфорорация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рстия в кожаных издел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Шерф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стончение краев перед склеиванием или сшива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1828800" y="685800"/>
            <a:ext cx="487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ЛОВА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2221200"/>
            <a:ext cx="559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овление старой кожи -распороть старую кожаную вещь и вырезать годные для работы ку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ирать или почистить щеткой в теплой воде с мы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 кожи можно восстановить, смазав лицевую сторону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ре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ремом или глицерин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окраски кожи можно использовать масляные краски, нитрокраски( аэрозольные упаковк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тка и раскрой кожи производят резаком вдоль металлической линей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ерфование или истончение делают для склеивания или сши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форация деталей -вид декора или для оплетки края, перфорируют или делают отверстия, а затем протягивают ремеш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1295280" y="4572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БЩИЕ СВЕДЕНИЯ О  РАБОТЕ С  КОЖЕ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98320"/>
            <a:ext cx="8229600" cy="103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авила техники безопасност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жи должны находится в специальных чехл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жом работать только в направлении от себ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краивать ножом на металлической линей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ы из кожи выполняют из кусков кожи по шаблонам или по скопированным  деталям с живого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и у цветов и листьев делают из проволоки, обвивая их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плет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ски из кожи, вырезанные по спира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 с драпировкой выполняют по диагонали, а затем в разные стороны по главной оси выполнить боковые прожи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600200" y="762120"/>
            <a:ext cx="6019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ЕХНИКА ИЗГОТОВ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ИЗДЕЛИЙ ИЗ КОЖ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4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9" name="Picture 3" descr="диваны, стенки 034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544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7680" y="730080"/>
            <a:ext cx="7932600" cy="5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 flipH="1" flipV="1">
            <a:off x="9611640" y="1101600"/>
            <a:ext cx="36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PICT0013"/>
          <p:cNvPicPr/>
          <p:nvPr/>
        </p:nvPicPr>
        <p:blipFill>
          <a:blip r:embed="rId1"/>
          <a:stretch/>
        </p:blipFill>
        <p:spPr>
          <a:xfrm>
            <a:off x="1219320" y="1828800"/>
            <a:ext cx="3962160" cy="2536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ICT0026"/>
          <p:cNvPicPr/>
          <p:nvPr/>
        </p:nvPicPr>
        <p:blipFill>
          <a:blip r:embed="rId2"/>
          <a:stretch/>
        </p:blipFill>
        <p:spPr>
          <a:xfrm>
            <a:off x="900000" y="4437000"/>
            <a:ext cx="2880000" cy="201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PICT0008"/>
          <p:cNvPicPr/>
          <p:nvPr/>
        </p:nvPicPr>
        <p:blipFill>
          <a:blip r:embed="rId3"/>
          <a:stretch/>
        </p:blipFill>
        <p:spPr>
          <a:xfrm>
            <a:off x="4788000" y="4437000"/>
            <a:ext cx="3457440" cy="208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о (1)"/>
          <p:cNvPicPr/>
          <p:nvPr/>
        </p:nvPicPr>
        <p:blipFill>
          <a:blip r:embed="rId4"/>
          <a:stretch/>
        </p:blipFill>
        <p:spPr>
          <a:xfrm>
            <a:off x="5715000" y="1916280"/>
            <a:ext cx="2457360" cy="18176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8"/>
          <p:cNvSpPr txBox="1"/>
          <p:nvPr/>
        </p:nvSpPr>
        <p:spPr>
          <a:xfrm>
            <a:off x="1476360" y="333360"/>
            <a:ext cx="655164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imes New Roman"/>
              </a:rPr>
              <a:t>Аппликация из кож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9625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 натуральной кожи можно сделать много интересных и полезных вещ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давних времен человек украшал изделия из ко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золотил кожу, покрывал  ее резьбой и гравиров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295280" y="4876920"/>
            <a:ext cx="65534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ЖЕЛАЮ УДАЧ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er</cp:lastModifiedBy>
  <dcterms:modified xsi:type="dcterms:W3CDTF">2013-04-29T16:33:22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