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<Relationship Id="rId15" Type="http://schemas.openxmlformats.org/officeDocument/2006/relationships/commentAuthors" Target="commentAuthors.xml"/>
</Relationships>
</file>

<file path=ppt/comments/comment2.xml><?xml version="1.0" encoding="utf-8"?>
<p:cmLst xmlns:p="http://schemas.openxmlformats.org/presentationml/2006/main">
  <p:cm authorId="0" dt="2009-12-20T15:20:59.734000000" idx="1">
    <p:pos x="10" y="1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DD84-C27C-49B0-98D6-00FFA2819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B83E-4458-4A4F-945C-10CBA6C47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6A7C-68D9-4CCC-81C2-518E7F28E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4327-5C51-4A2A-ABF0-BBFA32437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6059F-1FD5-45E0-A3E0-84FF877AF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21B8B-C7BA-47D9-994E-6867FEDEA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1ED20-3557-4575-8C81-D8774A6DA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864A5-A04C-4767-9F64-EFB589D05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3B321-C2F9-46AA-A249-8A352B52F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E9E8C-91DA-4E65-A96E-B1383904C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E0409-2985-49A8-9850-7F5CE586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6486-C240-4BB7-9360-23C4AAF14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D1E2E-8DBE-42C3-BF85-911F7AE8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73B62-7E1A-47EC-AA45-B06DAB22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6E6E1-9445-449A-9380-0F98E7E5E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CDF77-7BA2-4557-B119-AD758F929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2C409-7C59-4FC0-8E94-CCEA4C90A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E0A1-3FA9-4AC1-911A-FD18E655F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0AD9-52B5-4757-96C9-175DA8F20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865C-2C59-4FB5-8B49-12324C1F0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31E2-605A-4DE2-B806-7BF0080F9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4899-CDBC-49CE-AF30-01B65258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41A6-CE8A-4AC4-9D7D-45E7AE3B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A084-A683-40BF-9E9E-1656FBAB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D620C-D207-4FC9-AEFC-292DD693447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5A326-548A-4C2A-AF01-C2531E034054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comments" Target="../comments/commen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4"/>
          <p:cNvSpPr txBox="1"/>
          <p:nvPr/>
        </p:nvSpPr>
        <p:spPr>
          <a:xfrm>
            <a:off x="468360" y="1828800"/>
            <a:ext cx="7345440" cy="354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"/>
              </a:rPr>
              <a:t>Художественна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"/>
              </a:rPr>
              <a:t>обработк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"/>
              </a:rPr>
              <a:t>кож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7" name="Picture 5" descr="PICT0001"/>
          <p:cNvPicPr/>
          <p:nvPr/>
        </p:nvPicPr>
        <p:blipFill>
          <a:blip r:embed="rId1"/>
          <a:stretch/>
        </p:blipFill>
        <p:spPr>
          <a:xfrm>
            <a:off x="6400800" y="3213000"/>
            <a:ext cx="2203560" cy="18925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 flipH="1" flipV="1">
            <a:off x="395280" y="2060640"/>
            <a:ext cx="123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324000" y="4221000"/>
            <a:ext cx="2103120" cy="103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20000"/>
                </a:solidFill>
                <a:latin typeface="Arial"/>
              </a:rPr>
              <a:t>Автор проек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20000"/>
                </a:solidFill>
                <a:latin typeface="Arial"/>
              </a:rPr>
              <a:t>Учитель технолог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20000"/>
                </a:solidFill>
                <a:latin typeface="Arial"/>
              </a:rPr>
              <a:t>МОУ СОШ№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20000"/>
                </a:solidFill>
                <a:latin typeface="Arial"/>
              </a:rPr>
              <a:t>Г-К Анап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WordArt 8"/>
          <p:cNvSpPr txBox="1"/>
          <p:nvPr/>
        </p:nvSpPr>
        <p:spPr>
          <a:xfrm>
            <a:off x="533520" y="5486400"/>
            <a:ext cx="78483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Рудакова Наталья  Семенов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grpSp>
        <p:nvGrpSpPr>
          <p:cNvPr id="101" name="Rectangle 8"/>
          <p:cNvGrpSpPr/>
          <p:nvPr/>
        </p:nvGrpSpPr>
        <p:grpSpPr>
          <a:xfrm>
            <a:off x="-60480" y="6102720"/>
            <a:ext cx="8966520" cy="777240"/>
            <a:chOff x="-60480" y="6102720"/>
            <a:chExt cx="8966520" cy="777240"/>
          </a:xfrm>
        </p:grpSpPr>
        <p:pic>
          <p:nvPicPr>
            <p:cNvPr id="102" name="Rectangle 8" descr=""/>
            <p:cNvPicPr/>
            <p:nvPr/>
          </p:nvPicPr>
          <p:blipFill>
            <a:blip r:embed="rId4"/>
            <a:stretch/>
          </p:blipFill>
          <p:spPr>
            <a:xfrm>
              <a:off x="-60480" y="6156360"/>
              <a:ext cx="8966520" cy="7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0" y="6102720"/>
              <a:ext cx="8850240" cy="77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 Unicode MS"/>
                  <a:ea typeface="Times New Roman"/>
                </a:rPr>
                <a:t>Статья участвует в конкурсе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«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 Unicode MS"/>
                  <a:ea typeface="Times New Roman"/>
                </a:rPr>
                <a:t>&lt;a href="http://newsedu.ru/blog/partners/2034.html"&gt;&lt;strong&gt; Образование 3.0&lt;/strong&gt;&lt;/a&gt;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»</a:t>
              </a:r>
              <a:br>
                <a:rPr sz="1200"/>
              </a:br>
              <a:br>
                <a:rPr sz="1200"/>
              </a:b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31520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0000"/>
                </a:solidFill>
                <a:latin typeface="Times New Roman"/>
              </a:rPr>
              <a:t>БИБЛИОГРАФИЯ</a:t>
            </a:r>
            <a:br>
              <a:rPr sz="2800"/>
            </a:b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534520" cy="50292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.  Т.Г. Ткаченко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«Формирование интереса школьников к прикладному искусству через приобщение  к народным ремеслам и промыслам» Методические рекомендации к авторской программе «Творческая мастерская»  Армавир, 2008.-48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Большая Советская Энциклопедия, том 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Журналы серии «Чудное мгновение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. Журнал «Креативное рукоделие» 2007 год №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. ИНТЕРНЕТ-РЕСУРС (материалы сайтов: «Осинка», « Хобби», «Креативное рукоделие»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WordArt 4"/>
          <p:cNvSpPr txBox="1"/>
          <p:nvPr/>
        </p:nvSpPr>
        <p:spPr>
          <a:xfrm>
            <a:off x="914400" y="609480"/>
            <a:ext cx="72057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grpSp>
        <p:nvGrpSpPr>
          <p:cNvPr id="132" name="Rectangle 5"/>
          <p:cNvGrpSpPr/>
          <p:nvPr/>
        </p:nvGrpSpPr>
        <p:grpSpPr>
          <a:xfrm>
            <a:off x="-73080" y="5608800"/>
            <a:ext cx="9272520" cy="1230120"/>
            <a:chOff x="-73080" y="5608800"/>
            <a:chExt cx="9272520" cy="1230120"/>
          </a:xfrm>
        </p:grpSpPr>
        <p:pic>
          <p:nvPicPr>
            <p:cNvPr id="133" name="Rectangle 5" descr=""/>
            <p:cNvPicPr/>
            <p:nvPr/>
          </p:nvPicPr>
          <p:blipFill>
            <a:blip r:embed="rId3"/>
            <a:stretch/>
          </p:blipFill>
          <p:spPr>
            <a:xfrm>
              <a:off x="-73080" y="5608800"/>
              <a:ext cx="9272520" cy="12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0" y="5649120"/>
              <a:ext cx="914400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 Unicode MS"/>
                  <a:ea typeface="Times New Roman"/>
                </a:rPr>
                <a:t>Идет прием заявок на участие в конкурсе презентаций 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«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 Unicode MS"/>
                  <a:ea typeface="Times New Roman"/>
                </a:rPr>
                <a:t>&lt;a href="http://www.supporttalent.ru/events/5007/"&gt;&lt;strong&gt;ТопСлайд&lt;/strong&gt;&lt;/a&gt;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»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 Unicode MS"/>
                  <a:ea typeface="Times New Roman"/>
                </a:rPr>
                <a:t> от &lt;strong&gt;АНО 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«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 Unicode MS"/>
                  <a:ea typeface="Times New Roman"/>
                </a:rPr>
                <a:t>ЦПИ 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«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 Unicode MS"/>
                  <a:ea typeface="Times New Roman"/>
                </a:rPr>
                <a:t>Ариадна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»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 Unicode MS"/>
                  <a:ea typeface="Times New Roman"/>
                </a:rPr>
                <a:t>&lt;/strong&gt;</a:t>
              </a:r>
              <a:br>
                <a:rPr sz="1400"/>
              </a:br>
              <a:br>
                <a:rPr sz="1400"/>
              </a:b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2877920" y="6019560"/>
            <a:ext cx="312408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4356000" y="1600200"/>
            <a:ext cx="4330800" cy="45259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spcBef>
                <a:spcPts val="4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з натуральной кожи можно сделать много интересных и полезных вещей: стилизованные цветы, вазы, картин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интерьере модно иметь искусственные цветы, они придают помещению уют и неповторимость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ригинальные композиции можно сделать своими руками из старых курток и сумок, не спешите их выбрасывать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емного фантазии и  уникальные вещи, сотворенные вашими руками, обретут новое воплощени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4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5" descr="PICT0025"/>
          <p:cNvPicPr/>
          <p:nvPr/>
        </p:nvPicPr>
        <p:blipFill>
          <a:blip r:embed="rId1"/>
          <a:stretch/>
        </p:blipFill>
        <p:spPr>
          <a:xfrm>
            <a:off x="611280" y="1557360"/>
            <a:ext cx="3673440" cy="4608360"/>
          </a:xfrm>
          <a:prstGeom prst="rect">
            <a:avLst/>
          </a:prstGeom>
          <a:ln w="0">
            <a:noFill/>
          </a:ln>
        </p:spPr>
      </p:pic>
      <p:sp>
        <p:nvSpPr>
          <p:cNvPr id="107" name="WordArt 6"/>
          <p:cNvSpPr txBox="1"/>
          <p:nvPr/>
        </p:nvSpPr>
        <p:spPr>
          <a:xfrm>
            <a:off x="1116000" y="692280"/>
            <a:ext cx="662472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Коже –вторую жизнь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Аксессуар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дмет, дополняющий обра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Мере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лицевая сторона кож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Бахтарма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наночная сторона кож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Булька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струмент в виде шар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Бутоньерк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букетик цветов для украшения костюм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ерфорорация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верстия в кожаных издели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Шерфова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истончение краев перед склеиванием или сшивание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WordArt 6"/>
          <p:cNvSpPr txBox="1"/>
          <p:nvPr/>
        </p:nvSpPr>
        <p:spPr>
          <a:xfrm>
            <a:off x="1828800" y="685800"/>
            <a:ext cx="4876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СЛОВАР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80720" y="2221200"/>
            <a:ext cx="5599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новление старой кожи -распороть старую кожаную вещь и вырезать годные для работы кус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тирать или почистить щеткой в теплой воде с мыл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Цвет кожи можно восстановить, смазав лицевую сторону-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мерею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кремом или глицерин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окраски кожи можно использовать масляные краски, нитрокраски( аэрозольные упаковки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метка и раскрой кожи производят резаком вдоль металлической линей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Шерфование или истончение делают для склеивания или сшива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форация деталей -вид декора или для оплетки края, перфорируют или делают отверстия, а затем протягивают ремешок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WordArt 5"/>
          <p:cNvSpPr txBox="1"/>
          <p:nvPr/>
        </p:nvSpPr>
        <p:spPr>
          <a:xfrm>
            <a:off x="1295280" y="457200"/>
            <a:ext cx="67057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ОБЩИЕ СВЕДЕНИЯ О  РАБОТЕ С  КОЖЕЙ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98320"/>
            <a:ext cx="8229600" cy="103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20000"/>
                </a:solidFill>
                <a:latin typeface="Times New Roman"/>
              </a:rPr>
              <a:t>Правила техники безопасност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ожи должны находится в специальных чехла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ожом работать только в направлении от себ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краивать ножом на металлической линей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веты из кожи выполняют из кусков кожи по шаблонам или по скопированным  деталям с живого раст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ебли у цветов и листьев делают из проволоки, обвивая их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плетко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оски из кожи, вырезанные по спирал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ист с драпировкой выполняют по диагонали, а затем в разные стороны по главной оси выполнить боковые прожил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WordArt 5"/>
          <p:cNvSpPr txBox="1"/>
          <p:nvPr/>
        </p:nvSpPr>
        <p:spPr>
          <a:xfrm>
            <a:off x="1600200" y="762120"/>
            <a:ext cx="6019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ТЕХНИКА ИЗГОТОВЛ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ИЗДЕЛИЙ ИЗ КОЖ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4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19" name="Picture 3" descr="диваны, стенки 034"/>
          <p:cNvPicPr/>
          <p:nvPr/>
        </p:nvPicPr>
        <p:blipFill>
          <a:blip r:embed="rId1"/>
          <a:stretch/>
        </p:blipFill>
        <p:spPr>
          <a:xfrm>
            <a:off x="457200" y="685800"/>
            <a:ext cx="8381880" cy="5445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7680" y="730080"/>
            <a:ext cx="7932600" cy="5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 </a:t>
            </a:r>
            <a:br>
              <a:rPr sz="3200"/>
            </a:b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1" name="Rectangle 3"/>
          <p:cNvSpPr/>
          <p:nvPr/>
        </p:nvSpPr>
        <p:spPr>
          <a:xfrm flipH="1" flipV="1">
            <a:off x="9611640" y="1101600"/>
            <a:ext cx="36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4" descr="PICT0013"/>
          <p:cNvPicPr/>
          <p:nvPr/>
        </p:nvPicPr>
        <p:blipFill>
          <a:blip r:embed="rId1"/>
          <a:stretch/>
        </p:blipFill>
        <p:spPr>
          <a:xfrm>
            <a:off x="1219320" y="1828800"/>
            <a:ext cx="3962160" cy="2536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PICT0026"/>
          <p:cNvPicPr/>
          <p:nvPr/>
        </p:nvPicPr>
        <p:blipFill>
          <a:blip r:embed="rId2"/>
          <a:stretch/>
        </p:blipFill>
        <p:spPr>
          <a:xfrm>
            <a:off x="900000" y="4437000"/>
            <a:ext cx="2880000" cy="2016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PICT0008"/>
          <p:cNvPicPr/>
          <p:nvPr/>
        </p:nvPicPr>
        <p:blipFill>
          <a:blip r:embed="rId3"/>
          <a:stretch/>
        </p:blipFill>
        <p:spPr>
          <a:xfrm>
            <a:off x="4788000" y="4437000"/>
            <a:ext cx="3457440" cy="2087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о (1)"/>
          <p:cNvPicPr/>
          <p:nvPr/>
        </p:nvPicPr>
        <p:blipFill>
          <a:blip r:embed="rId4"/>
          <a:stretch/>
        </p:blipFill>
        <p:spPr>
          <a:xfrm>
            <a:off x="5715000" y="1916280"/>
            <a:ext cx="2457360" cy="1817640"/>
          </a:xfrm>
          <a:prstGeom prst="rect">
            <a:avLst/>
          </a:prstGeom>
          <a:ln w="0">
            <a:noFill/>
          </a:ln>
        </p:spPr>
      </p:pic>
      <p:sp>
        <p:nvSpPr>
          <p:cNvPr id="126" name="WordArt 8"/>
          <p:cNvSpPr txBox="1"/>
          <p:nvPr/>
        </p:nvSpPr>
        <p:spPr>
          <a:xfrm>
            <a:off x="1476360" y="333360"/>
            <a:ext cx="655164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00"/>
                </a:solidFill>
                <a:latin typeface="Times New Roman"/>
              </a:rPr>
              <a:t>Аппликация из кож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cc00"/>
              </a:solidFill>
              <a:latin typeface="Times New Roman"/>
              <a:ea typeface="Times New Roman"/>
            </a:endParaRPr>
          </a:p>
        </p:txBody>
      </p:sp>
    </p:spTree>
  </p:cSld>
  <p:transition>
    <p:comb dir="horz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8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9625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 натуральной кожи можно сделать много интересных и полезных вещ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 давних времен человек украшал изделия из кож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н золотил кожу, покрывал  ее резьбой и гравировко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WordArt 4"/>
          <p:cNvSpPr txBox="1"/>
          <p:nvPr/>
        </p:nvSpPr>
        <p:spPr>
          <a:xfrm>
            <a:off x="1295280" y="4876920"/>
            <a:ext cx="655344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ЖЕЛАЮ УДАЧИ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ster</cp:lastModifiedBy>
  <dcterms:modified xsi:type="dcterms:W3CDTF">2013-04-29T16:33:22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