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5C074-0F4A-4126-BC1B-21B48ABD3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08934-F3E5-4BE7-AA2C-0F7E9FAD5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71FC8-9B37-4C4D-AA95-D641028C9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85366-538B-43A2-8C55-BE2B63D50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C824D-7721-496C-B541-54B9501B3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6D7A9-5F84-40F0-BD99-34FBB316E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2B9C1-846E-42BC-85DA-E75D1D275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9B144-2AC9-40CD-9510-106AA9E9E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B803B-B882-4BAE-80D1-74AAB87EB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0D206-6096-4D82-BC1E-F44E8FB41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2464C-B8DD-4282-B845-516B22758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80050-C0BC-4FE0-92F3-B0EDBB98F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34A24-0464-4E41-984B-1EBACCA38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F8CA0-01FB-443C-A423-35DC45CB0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90D93-B034-4504-815A-6C147E065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3C03B-885B-4515-A234-A26600B6F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AB4DA-A9DA-40A5-B62E-9A9443ADF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93CB9-2AFF-4006-96A2-DB0B9FAB3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793BB-433F-43EB-93A5-81D3C5DBA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067F2-1557-402D-B1CC-0AD31144B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CC37B-4850-4815-A186-3542CDEDB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409BD-3B03-414E-905D-8DA8CC8CC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2C1EA-FADD-4B26-9950-1DBD22BFF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EA0F0-ED1A-410C-9DDA-A2691080C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c9c696"/>
              </a:gs>
              <a:gs pos="100000">
                <a:srgbClr val="e6e3a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d7d1b9"/>
                </a:gs>
                <a:gs pos="100000">
                  <a:srgbClr val="e6e3a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0cd9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dddba5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2bf91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0cd9b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2bf91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bbb9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b0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e5e2a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dddba5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9257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39257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6e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c98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4D03A-6403-488E-A10F-33F63A9317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d7d1b9"/>
                </a:gs>
                <a:gs pos="100000">
                  <a:srgbClr val="e6e3a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0cd9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dddba5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2bf91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0cd9b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2bf91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bbb9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b0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e5e2a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dddba5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39257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C15DE-6E66-49A9-95FB-DE0D3D52E6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6e3a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c9800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666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39257"/>
                </a:solidFill>
                <a:latin typeface="Arial"/>
              </a:rPr>
              <a:t>Здоровьесберегающие технологии на занятиях учителя-дефектолога </a:t>
            </a:r>
            <a:endParaRPr b="0" lang="en-US" sz="48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2743200" y="4581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читель-дефектолог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Филиппова М.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39257"/>
                </a:solidFill>
                <a:latin typeface="Arial"/>
              </a:rPr>
              <a:t>8. Физкультминутки</a:t>
            </a:r>
            <a:endParaRPr b="0" lang="en-US" sz="36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Физкультминутк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Чередование одного вида деятельности другим является мощным фактором поддержания высокой работоспособности и жизненного тонус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 основании исследований Н. И. Сеченов сделал вывод: под влиянием активной формы отдыха утомление преодолевается быстрее, чем при пассивном отдых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скоренное преодоление утомляемости при активном отдыхе осуществляется благодаря полезному возбуждению нервной системы, которое возникает при включении в работу неутомленных мышечных групп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 детьми 3- 4 года жизни на индивидуальных занятиях используются разнообразные стихотворные физминутки, где сочетаются слова с движениями. С детьми более младшего возраста используется пассивная гимнастика или ставшие в последнее время популярными детские песенки Железновых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1017720" y="3938760"/>
            <a:ext cx="2916000" cy="218736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2"/>
          <a:stretch/>
        </p:blipFill>
        <p:spPr>
          <a:xfrm>
            <a:off x="1111320" y="1600200"/>
            <a:ext cx="2730600" cy="21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39257"/>
                </a:solidFill>
                <a:latin typeface="Arial"/>
              </a:rPr>
              <a:t>Таким образом, правильно организованные занятия учителя-дефектолога с детьми от рождения до 4х лет с ограниченными возможностями здоровья с применением здоровьесберегающих технологий обеспечат надлежащий уровень нервно-психического развития детей, помогут предупреждению возможных задержек в развитии познавательных и психических процессов.  </a:t>
            </a:r>
            <a:endParaRPr b="0" lang="en-US" sz="1800" spc="-1" strike="noStrike">
              <a:solidFill>
                <a:srgbClr val="b39257"/>
              </a:solidFill>
              <a:latin typeface="Arial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4572000" y="4437000"/>
            <a:ext cx="3281400" cy="218772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5435640" y="1989000"/>
            <a:ext cx="3279600" cy="218628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3"/>
          <a:stretch/>
        </p:blipFill>
        <p:spPr>
          <a:xfrm>
            <a:off x="457200" y="2484360"/>
            <a:ext cx="4038480" cy="27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 u="sng">
                <a:solidFill>
                  <a:srgbClr val="b39257"/>
                </a:solidFill>
                <a:uFillTx/>
                <a:latin typeface="Arial"/>
              </a:rPr>
              <a:t>Здоровьесберегающая технология</a:t>
            </a:r>
            <a:r>
              <a:rPr b="0" lang="en-US" sz="1400" spc="-1" strike="noStrike">
                <a:solidFill>
                  <a:srgbClr val="b39257"/>
                </a:solidFill>
                <a:latin typeface="Arial"/>
              </a:rPr>
              <a:t> – это целостная система воспитательно-оздоровительных, коррекционных и профилактических мероприятий, которые осуществляются в процессе взаимодействия педагогов, медиков, психолога с целью сохранения и укрепления здоровья</a:t>
            </a:r>
            <a:br>
              <a:rPr sz="1400"/>
            </a:br>
            <a:r>
              <a:rPr b="0" lang="en-US" sz="1400" spc="-1" strike="noStrike">
                <a:solidFill>
                  <a:srgbClr val="b39257"/>
                </a:solidFill>
                <a:latin typeface="Arial"/>
              </a:rPr>
              <a:t>ребенка.</a:t>
            </a:r>
            <a:r>
              <a:rPr b="0" lang="en-US" sz="4000" spc="-1" strike="noStrike">
                <a:solidFill>
                  <a:srgbClr val="b39257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b39257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826920" y="1484280"/>
            <a:ext cx="3279960" cy="218592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826920" y="3933720"/>
            <a:ext cx="3281400" cy="218772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3"/>
          <a:stretch/>
        </p:blipFill>
        <p:spPr>
          <a:xfrm>
            <a:off x="5025960" y="3938760"/>
            <a:ext cx="3281400" cy="21873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4"/>
          <a:stretch/>
        </p:blipFill>
        <p:spPr>
          <a:xfrm>
            <a:off x="5076720" y="1557360"/>
            <a:ext cx="3279960" cy="21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39257"/>
                </a:solidFill>
                <a:latin typeface="Arial"/>
              </a:rPr>
              <a:t>1. Точечный массаж</a:t>
            </a:r>
            <a:endParaRPr b="0" lang="en-US" sz="36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300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 u="sng">
                <a:solidFill>
                  <a:srgbClr val="000000"/>
                </a:solidFill>
                <a:uFillTx/>
                <a:latin typeface="Times New Roman"/>
              </a:rPr>
              <a:t>Точечный массаж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- это надавливание подушечками пальцев на кожу и мышечный слой в местах расположения осязательных и проприоцептивных точек и разветвлений нервов. Точечный массаж также служит как элемент психофизической тренировки способствует расслаблению мышц и снятию нервно-эмоционального напряжения. Особенно хороший результат, когда сочетается с "общением" со своим телом в игровой ситуации и проговариванием ласковых слов (милый, добрый, хороший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300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Я начинаю таким массажем занятия с детьми 1 года жизни и занятия с детьми-инвалидами. Это помогает расположить их к себе, настроить на положительный эмоциональный фо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300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ля детей раннего возраста рекомендуется массаж (игровые упражнения):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300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Массаж лиц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300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Массаж ше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300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Массаж живот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300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Массаж грудной област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300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Массаж ушной раковин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300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Массаж голов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300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Массаж шейных позвонко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300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Массаж рук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300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Массаж ног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45720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39257"/>
                </a:solidFill>
                <a:latin typeface="Arial"/>
              </a:rPr>
              <a:t>2. Пальчиковая гимнастика</a:t>
            </a:r>
            <a:endParaRPr b="0" lang="en-US" sz="36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Развитие ребёнка связано с развитием движений пальцев рук. Третья часть всей двигательной проекции в коре головного мозга занимает проекция кисти руки. Поэтому тренировка тонких движений пальцев рук оказывает большое влияние на развитие активной речи ребёнка. Воздействуя на тонус руки ребёнка, с помощью комплекса пальчиковой гимнастики, происходит прямое воздействие на тонус речевого аппарат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релесть пальчиковых игр еще и в том, что они мгновенно переключают внимание малыша с капризов или нервозности на телесные ощущения – и успокаиваю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Простые правила игр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тарайтесь, чтобы в игры вовлекались все пальчики (особенно безымянный и мизинчик – они самые ленивые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Обязательно чередуйте три типа движений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жатие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растяжение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расслаблени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5025960" y="3938760"/>
            <a:ext cx="3281400" cy="218736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5210280" y="1600200"/>
            <a:ext cx="2914560" cy="21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39257"/>
                </a:solidFill>
                <a:latin typeface="Arial"/>
              </a:rPr>
              <a:t>3. Артикуляционная гимнастика</a:t>
            </a:r>
            <a:endParaRPr b="0" lang="en-US" sz="36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Артикуляционная гимнастик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это система упражнений для развития речевых органов. Цель такой гимнастики – выработка полноценных движений речевых органов, необходимых для правильного произношения звуков и подготовка речевого аппарата для речевой нагрузки. Проведение артикуляционной гимнастики способствует рождению правильных звуков и усвоению слов сложной слоговой конструкци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ртикуляционная гимнастика бывае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ассивно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 сопротивление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 пищевым подкрепление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ктив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1258920" y="1628640"/>
            <a:ext cx="2433600" cy="218772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611280" y="4292640"/>
            <a:ext cx="3673440" cy="22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39257"/>
                </a:solidFill>
                <a:latin typeface="Arial"/>
              </a:rPr>
              <a:t>4. Дыхательная гимнастика</a:t>
            </a:r>
            <a:endParaRPr b="0" lang="en-US" sz="36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Дыхательная гимнастик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это система упражнений на развитие речевого дыхания. Цель – формирование правильного речевого дыхания (короткий вдох и длительный выдох). При речевом дыхании значительно увеличивается дыхательный объём и вентиляция легких, газообмен, и кровь быстрее и легче обогащается кислородом, что способствует развитию способности произносить длинные фразы и является профилактикой заикания. Дыхательные упражнения позволяют очистить слизистую оболочку дыхательных путей и улучшает дренажную функцию бронхов, укрепляет дыхательную мускулатуру, улучшает самочувствие ребёнк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6084720" y="1557360"/>
            <a:ext cx="1944720" cy="218772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5292720" y="4005360"/>
            <a:ext cx="3240000" cy="243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06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39257"/>
                </a:solidFill>
                <a:latin typeface="Arial"/>
              </a:rPr>
              <a:t>5. Гимнастика глаз</a:t>
            </a:r>
            <a:endParaRPr b="0" lang="en-US" sz="36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Бытует мнение, что глаза- зеркало души. Чистые блестящие глаза детей - признак хорошего здоровья, а здоровье необходимо беречь, а глаза тем более, потому что до 80% информации из окружающего мира, мы получаем через органы зрения. Упражнения для глаз проводятся с целью укрепления мышц глазного яблока, снятия глазного напряжения и для профилактики близорукост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Если ребенок трет ладошками глазки и жалуется на усталость, необходимо провести с ним несложную гимнастику для глаз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Медленно закрыть глаза, посидеть так немного, а потом медленно откры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Крепко зажмурить глаза на несколько секунд, открыть их и посмотреть вдал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Особенно важно проводить гимнастику для глаз после занятия ребенка  с использованием компьютер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45720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39257"/>
                </a:solidFill>
                <a:latin typeface="Arial"/>
              </a:rPr>
              <a:t>6.Корригирующая гимнастика (ходьба по корригирующей дорожке) .</a:t>
            </a:r>
            <a:endParaRPr b="0" lang="en-US" sz="36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Цель такой гимнастики - укрепление свода и связок стоп, что является хорошим средством для профилактики и исправления плоскостопия. Малышам очень нравится наступать на что-то новое, это их очень радует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4211640" y="1413000"/>
            <a:ext cx="2016000" cy="280800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2"/>
          <a:stretch/>
        </p:blipFill>
        <p:spPr>
          <a:xfrm>
            <a:off x="6227640" y="3141720"/>
            <a:ext cx="2362320" cy="29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39257"/>
                </a:solidFill>
                <a:latin typeface="Arial"/>
              </a:rPr>
              <a:t>7. Игры на развитие мелкой моторики</a:t>
            </a:r>
            <a:endParaRPr b="0" lang="en-US" sz="36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Игры на развитие мелкой моторики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– являются неотъемлемой частью любого занятия с  ребенком любой возрастной групп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Эти игры имеют положительное значение для развития психики ребенка и установления психического комфорт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звитие мелкой моторики и тактильно-мнемической чувствительности влияет на развитие центра речи в головном мозге ребенка, формирует произвольное внимание и памят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 своих занятиях с детьми 1 года жизни и с детьми–инвалидами  большую часть занятия мы занимаемся развитием мелкой моторики и дифференцированных движений пальцев рук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5027760" y="1600200"/>
            <a:ext cx="3279600" cy="218592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5025960" y="3938760"/>
            <a:ext cx="328140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4T06:49:19Z</dcterms:created>
  <dc:creator>Usr</dc:creator>
  <dc:description/>
  <dc:language>en-US</dc:language>
  <cp:lastModifiedBy>Usr</cp:lastModifiedBy>
  <dcterms:modified xsi:type="dcterms:W3CDTF">2013-04-29T13:47:07Z</dcterms:modified>
  <cp:revision>8</cp:revision>
  <dc:subject/>
  <dc:title>Здоровьесберегающие технологии на занятиях учителя-дефектолога </dc:title>
</cp:coreProperties>
</file>