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5AA-19A1-4974-8ABD-9A66596D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9D4-30B8-4379-961B-0CA52335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60DF-8E98-49F6-82F6-CE7FFCE8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3A4-5560-483B-B98E-97E283174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7EB1-A747-440D-86E6-0B1D389C1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F8CA-8B37-4815-9A64-A24D66F1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940A-E514-4FD6-8759-4A0AC1E8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6AA0-CB94-4955-A0AA-C1578BEE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AD6E-AC8C-483E-A6CE-9A50E055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5173-A1DA-4C9F-8A4F-922F1F1D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66E6-54BA-4EA7-B26C-B6EA3738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652-BBF9-42A9-A0F1-760B7F02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41A8-0CAE-4AF1-BE22-4DF63FF6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7A49-B3E8-44E6-88A6-1448080A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454-CC91-4A35-8C8F-BF729527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F4B9-FF37-4C07-BE50-B06F68F9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94F-63AE-4A7B-8023-868118AF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9D7-6A53-4021-9512-D7105E39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6F9-B890-41DA-A94C-23039B8E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159-1260-4DC6-906A-28451D11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A55-0925-4FFC-81E1-AF76A95D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622-6801-41FF-A2A6-408AEBDD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ECA-C009-465C-B6A8-B99E627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0F8-48E5-490E-8E7F-842FBDC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66A4-33F3-4E33-B381-DB0FC750C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52D0-3AF1-495F-8D74-CA99E2DD9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Здоровьесберегающие технологии на занятиях учителя-дефектолога 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итель-дефект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липпова М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8. Физкультминутки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Физкультминут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дование одного вида деятельности другим является мощным фактором поддержания высокой работоспособности и жизненного тону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основании исследований Н. И. Сеченов сделал вывод: под влиянием активной формы отдыха утомление преодолевается быстрее, чем при пассивном отдых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коренное преодоление утомляемости при активном отдыхе осуществляется благодаря полезному возбуждению нервной системы, которое возникает при включении в работу неутомленных мышечных груп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детьми 3- 4 года жизни на индивидуальных занятиях используются разнообразные стихотворные физминутки, где сочетаются слова с движениями. С детьми более младшего возраста используется пассивная гимнастика или ставшие в последнее время популярными детские песенки Железнов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111320" y="1600200"/>
            <a:ext cx="27306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9257"/>
                </a:solidFill>
                <a:latin typeface="Arial"/>
              </a:rPr>
              <a:t>Таким образом, правильно организованные занятия учителя-дефектолога с детьми от рождения до 4х лет с ограниченными возможностями здоровья с применением здоровьесберегающих технологий обеспечат надлежащий уровень нервно-психического развития детей, помогут предупреждению возможных задержек в развитии познавательных и психических процессов.  </a:t>
            </a:r>
            <a:endParaRPr b="0" lang="en-US" sz="1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0" y="44370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279600" cy="2186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57200" y="2484360"/>
            <a:ext cx="40384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b39257"/>
                </a:solidFill>
                <a:uFillTx/>
                <a:latin typeface="Arial"/>
              </a:rPr>
              <a:t>Здоровьесберегающая технология</a:t>
            </a:r>
            <a:r>
              <a:rPr b="0" lang="en-US" sz="1400" spc="-1" strike="noStrike">
                <a:solidFill>
                  <a:srgbClr val="b39257"/>
                </a:solidFill>
                <a:latin typeface="Arial"/>
              </a:rPr>
              <a:t> – это целостная система воспитательно-оздоровительных, коррекционных и профилактических мероприятий, которые осуществляются в процессе взаимодействия педагогов, медиков, психолога с целью сохранения и укрепления здоровья</a:t>
            </a:r>
            <a:br>
              <a:rPr sz="1400"/>
            </a:br>
            <a:r>
              <a:rPr b="0" lang="en-US" sz="1400" spc="-1" strike="noStrike">
                <a:solidFill>
                  <a:srgbClr val="b39257"/>
                </a:solidFill>
                <a:latin typeface="Arial"/>
              </a:rPr>
              <a:t>ребенка.</a:t>
            </a:r>
            <a:r>
              <a:rPr b="0" lang="en-US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2799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076720" y="1557360"/>
            <a:ext cx="32799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1. Точечный массаж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очечный масса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адавливание подушечками пальцев на кожу и мышечный слой в местах расположения осязательных и проприоцептивных точек и разветвлений нервов. Точечный массаж также служит как элемент психофизической тренировки способствует расслаблению мышц и снятию нервно-эмоционального напряжения. Особенно хороший результат, когда сочетается с "общением" со своим телом в игровой ситуации и проговариванием ласковых слов (милый, добрый, хорош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чинаю таким массажем занятия с детьми 1 года жизни и занятия с детьми-инвалидами. Это помогает расположить их к себе, настроить на положительный эмоциональный ф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детей раннего возраста рекомендуется массаж (игровые упражнения)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л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ше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жив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грудной об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ушной ракови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голо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шейных позво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ру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ассаж но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2. Пальчиковая гимнастика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витие ребёнка связано с развитием движений пальцев рук. Третья часть всей двигательной проекции в коре головного мозга занимает проекция кисти руки. Поэтому тренировка тонких движений пальцев рук оказывает большое влияние на развитие активной речи ребёнка. Воздействуя на тонус руки ребёнка, с помощью комплекса пальчиковой гимнастики, происходит прямое воздействие на тонус речевого аппара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лесть пальчиковых игр еще и в том, что они мгновенно переключают внимание малыша с капризов или нервозности на телесные ощущения – и успокаива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Простые правила и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арайтесь, чтобы в игры вовлекались все пальчики (особенно безымянный и мизинчик – они самые ленивы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тельно чередуйте три типа движе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жат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тя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слабл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3. Артикуляционная гимнастика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ртикуляционная гимнас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система упражнений для развития речевых органов. Цель такой гимнастики – выработка полноценных движений речевых органов, необходимых для правильного произношения звуков и подготовка речевого аппарата для речевой нагрузки. Проведение артикуляционной гимнастики способствует рождению правильных звуков и усвоению слов сложной слоговой констр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икуляционная гимнастика бы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ссив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сопротив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ищевым подкрепл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2433600" cy="2187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3673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4. Дыхательная гимнастика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ыхательная гимнасти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это система упражнений на развитие речевого дыхания. Цель – формирование правильного речевого дыхания (короткий вдох и длительный выдох). При речевом дыхании значительно увеличивается дыхательный объём и вентиляция легких, газообмен, и кровь быстрее и легче обогащается кислородом, что способствует развитию способности произносить длинные фразы и является профилактикой заикания. Дыхательные упражнения позволяют очистить слизистую оболочку дыхательных путей и улучшает дренажную функцию бронхов, укрепляет дыхательную мускулатуру, улучшает самочувствие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1944720" cy="2187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5. Гимнастика глаз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ытует мнение, что глаза- зеркало души. Чистые блестящие глаза детей - признак хорошего здоровья, а здоровье необходимо беречь, а глаза тем более, потому что до 80% информации из окружающего мира, мы получаем через органы зрения. Упражнения для глаз проводятся с целью укрепления мышц глазного яблока, снятия глазного напряжения и для профилактики близорук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ребенок трет ладошками глазки и жалуется на усталость, необходимо провести с ним несложную гимнастику для гл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ленно закрыть глаза, посидеть так немного, а потом медленно откры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епко зажмурить глаза на несколько секунд, открыть их и посмотреть вда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обенно важно проводить гимнастику для глаз после занятия ребенка  с использованием компьют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6.Корригирующая гимнастика (ходьба по корригирующей дорожке) .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ь такой гимнастики - укрепление свода и связок стоп, что является хорошим средством для профилактики и исправления плоскостопия. Малышам очень нравится наступать на что-то новое, это их очень раду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2016000" cy="280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3623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39257"/>
                </a:solidFill>
                <a:latin typeface="Arial"/>
              </a:rPr>
              <a:t>7. Игры на развитие мелкой моторики</a:t>
            </a:r>
            <a:endParaRPr b="0" lang="en-US" sz="36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Игры на развитие мелкой моторик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являются неотъемлемой частью любого занятия с  ребенком любой возрастной групп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игры имеют положительное значение для развития психики ребенка и установления психического комф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мелкой моторики и тактильно-мнемической чувствительности влияет на развитие центра речи в головном мозге ребенка, формирует произвольное внимание и пам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воих занятиях с детьми 1 года жизни и с детьми–инвалидами  большую часть занятия мы занимаемся развитием мелкой моторики и дифференцированных движений пальцев р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6:49:19Z</dcterms:created>
  <dc:creator>Usr</dc:creator>
  <dc:description/>
  <dc:language>en-US</dc:language>
  <cp:lastModifiedBy>Usr</cp:lastModifiedBy>
  <dcterms:modified xsi:type="dcterms:W3CDTF">2013-04-29T13:47:07Z</dcterms:modified>
  <cp:revision>8</cp:revision>
  <dc:subject/>
  <dc:title>Здоровьесберегающие технологии на занятиях учителя-дефектолога </dc:title>
</cp:coreProperties>
</file>