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gif" ContentType="image/gif"/>
  <Override PartName="/ppt/media/image24.jpeg" ContentType="image/jpeg"/>
  <Override PartName="/ppt/media/image7.gif" ContentType="image/gif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2.gif" ContentType="image/gif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78C-80E1-4B88-B116-AD6F9446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064-C694-4BD6-92D0-DB26BC18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68C-7068-4D0F-A95A-952B65FF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14A-858C-4CFC-B440-BF438D8E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0E11-F9B3-47F1-B72B-FC78B7A9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DCE9-9842-4A33-A2AA-EDE753A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883C-59C8-4244-A960-D072BA57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464D-3BE7-4850-9B9C-16C8624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6C09-F05C-4D29-AE25-296F916B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3A86-F4F7-49D7-9F65-1297230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C7D-B564-4EFE-87C8-90B7D92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AF5-45FB-4B15-8DA7-FE08671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2A60-ABBE-4ECF-9F77-E9580A0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FB3-039B-4918-8C3E-59CE034E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086D-8733-4B26-BE0C-AB047658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78C0-5FBC-4C86-94E9-37789E86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257-C143-4110-9752-3204938F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CBAF-792F-40FA-B8F5-36FC908C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D363-42FF-4778-A797-CE15EB21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3AC3-F0F3-4B95-A04D-21B9D0FE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A32C-2764-4715-9681-1AEE6984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D693-5F7F-44C4-9EEB-BC7D6F5A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075-2CAE-42E5-9B22-EE016463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503C-97A9-4133-AC03-55FEA053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EC3B-57CB-4C53-8672-773F6B99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5165-3BCD-4DB7-9CA3-530D09A1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4B78-7915-4381-8480-6F59A75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7E92-9176-43CB-935D-AE54666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D934-136A-479F-8161-F7849DC6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A66D-E374-4F0F-B9FC-8E885982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87C0-923F-4320-AE6C-CB4309F7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10D0-AF65-4488-8FEA-9472DEFD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D31B0-2706-4643-800F-F825944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C67-FF5E-48A4-9F68-D2C45192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C7C4-C730-4DCE-A326-2DD93B8F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6F3A3-AF1D-4C31-AB71-A574DD37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747B8-0A6D-41A6-96A2-72AC0553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6A4E1-BF63-4135-9F17-D0179688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0E5E0-6B05-4B9C-9C21-AD8264BE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D9A3-253A-4FDC-B47B-2A0BA0DD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41E9A-46DC-42D6-944E-B7734FFA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C40C-A136-4AF2-B1A6-5565322A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A0E48-6BF3-49E6-BD69-5D90BE9C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2EC12-B458-44B9-ABFA-331043A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6E6-36A1-4D62-AFDF-03D4348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A3D7-D468-478C-9A8C-883B2147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47FA-BFF6-4456-96B0-310F0972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C47F-1254-42BB-84E3-05EA51F9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BEEDC-651E-4BA5-A41D-B01DB5E3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C9A09-AF7C-48F7-89D5-E51CAA63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886DB-A5B9-4EB8-B8E6-205B6EB4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3C8B7-DDC5-409A-8016-F30275F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41E20-5BA9-47D8-9A43-12E42DE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21EEB-08F3-4F55-A29D-4C0C67E5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DE210-8455-400C-87D1-0F052555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07F-BF2E-4937-AEB0-9D51A713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A8BC-6548-44C2-ACB6-F53E4942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5DF4-9D60-46E9-8177-01087154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42F92-B261-40CC-997F-D65B5C74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C0883-D708-4300-976C-40201AF6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51443-F0B4-495D-AB15-ABA8B198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11B15-78AF-48B2-BCE8-9C60C4EF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C722-B1E0-4B35-B4DA-6D95FA54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8E65-93CC-4220-94D2-E578EAAF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A286-2F29-42E3-BA9C-096D644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B81FA-5484-4B4A-99CC-672C5DB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A9D5-3376-43E5-8AF4-E63590AB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C18C3-73F9-4AFA-84F6-A1FC5549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AE7C-F657-4EDC-824E-69757284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232FE-3D81-49C0-B304-F7B9C9BA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507A7-7BB1-4D69-8A15-143C6C02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B0C5D-5837-45F1-B314-89EC1444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6C492-FE42-47F7-B2FB-281D279A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AB6CF-BE07-48D8-BCDC-82FC2E3E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89AD-FB2A-42B0-9E50-F5EF1CD7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49C9A-71E6-4257-A158-534B2E0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1CEB3-78EF-4D59-8F46-A76E140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EED-3B40-45B1-8398-32D1617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43008-1E9C-492F-812F-D7B8AF7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F840-D126-4C36-A7F8-5F278F9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E85CD-7F39-4C68-961D-82F13899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3128-AD66-48F6-8520-DAAB87FF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C9D3F-E90A-4471-A5D7-E992688D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880-E0A4-4AFC-92C5-1598E037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A3DA-AA4C-42C2-BD52-85D6236795F4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9f9f9">
              <a:alpha val="33000"/>
            </a:srgbClr>
          </a:solidFill>
          <a:ln cap="rnd" w="3240">
            <a:solidFill>
              <a:srgbClr val="bdbd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1f1f1"/>
            </a:solidFill>
            <a:miter/>
          </a:ln>
          <a:effectLst>
            <a:outerShdw dist="12600" dir="5400000" blurRad="0" rotWithShape="0">
              <a:srgbClr val="a3a3a3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D99-62BF-4BC6-9E97-FCA6F4B90FA1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48497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AD7-32F2-4836-8444-5F083D00FFCF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A7FF-FE21-41D3-AAA7-AC5831880F65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b6b6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29A-FD97-4381-A159-C6C9BB370C3B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1F6-4035-411B-A7BB-14060458EBE1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4d4d4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dede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f4259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53548a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43808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c465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3a3a3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3a3a3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7262-1AA0-4951-91C5-F61D999FFFEF}" type="slidenum">
              <a:rPr b="0" lang="ru-RU" sz="1200" spc="-1" strike="noStrike">
                <a:solidFill>
                  <a:srgbClr val="a3a3a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ljplus.ru/img3/k/o/kolyaka/teacher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f4259"/>
                </a:solidFill>
                <a:latin typeface="Corbel"/>
              </a:rPr>
              <a:t>Физика. 8 класс</a:t>
            </a:r>
            <a:endParaRPr b="0" lang="en-US" sz="5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2132"/>
                </a:solidFill>
                <a:latin typeface="Corbe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3456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Единицы работы, кратные Джоулю: гектоджоуль, килоджоуль, мегаджоуль. </a:t>
            </a:r>
            <a:br>
              <a:rPr sz="3900"/>
            </a:b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2349000"/>
            <a:ext cx="749952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зите в  Джоулях работу, равную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г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2к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3М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г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,3к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06МДж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Приборы, необходимые для измерения работы тока в цепи:</a:t>
            </a: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льт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мпермет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ас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7" descr="вольметр"/>
          <p:cNvPicPr/>
          <p:nvPr/>
        </p:nvPicPr>
        <p:blipFill>
          <a:blip r:embed="rId1"/>
          <a:stretch/>
        </p:blipFill>
        <p:spPr>
          <a:xfrm>
            <a:off x="3924360" y="148428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амперметр2"/>
          <p:cNvPicPr/>
          <p:nvPr/>
        </p:nvPicPr>
        <p:blipFill>
          <a:blip r:embed="rId2"/>
          <a:stretch/>
        </p:blipFill>
        <p:spPr>
          <a:xfrm>
            <a:off x="1116000" y="3573360"/>
            <a:ext cx="2303640" cy="3167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6804000" y="3786120"/>
            <a:ext cx="2340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Мощность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щность численно равна работе совершённой в единицу времен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 –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ощн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3337" t="0" r="0" b="23073"/>
          <a:stretch/>
        </p:blipFill>
        <p:spPr>
          <a:xfrm>
            <a:off x="1258920" y="2565360"/>
            <a:ext cx="6251400" cy="1440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421000" cy="115272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1181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Мощность 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диница измерения мощности: Ватт (Вт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Ватт = 1 Вольт * 1 Ампе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Вт = 1В * 1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4451400" y="3645000"/>
            <a:ext cx="4419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f4259"/>
                </a:solidFill>
                <a:latin typeface="Corbel"/>
              </a:rPr>
              <a:t>Единицы мощности, кратные Ватту: гектоватт, киловатт, мегаватт. </a:t>
            </a:r>
            <a:br>
              <a:rPr sz="3900"/>
            </a:br>
            <a:endParaRPr b="0" lang="en-US" sz="39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зите в  Ваттах мощность, равную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г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2к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8М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0г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,6к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0,09МВт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в группах.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802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Задание: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ую работу совершает электрический ток в электрической лампочке за 3 минуты. Рассчитайте мощность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rcRect l="0" t="8407" r="0" b="9699"/>
          <a:stretch/>
        </p:blipFill>
        <p:spPr>
          <a:xfrm>
            <a:off x="1187280" y="3500280"/>
            <a:ext cx="795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Домашнее задание. 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§50, §51 – читать, учить определения и формулы, заполнить таблиц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H:\Работа\картинки\atwork1.gif"/>
          <p:cNvPicPr/>
          <p:nvPr/>
        </p:nvPicPr>
        <p:blipFill>
          <a:blip r:embed="rId1"/>
          <a:stretch/>
        </p:blipFill>
        <p:spPr>
          <a:xfrm>
            <a:off x="5689440" y="4508640"/>
            <a:ext cx="28353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116000" y="0"/>
          <a:ext cx="8028000" cy="6858000"/>
        </p:xfrm>
        <a:graphic>
          <a:graphicData uri="http://schemas.openxmlformats.org/drawingml/2006/table">
            <a:tbl>
              <a:tblPr/>
              <a:tblGrid>
                <a:gridCol w="1604880"/>
                <a:gridCol w="1606680"/>
                <a:gridCol w="1604880"/>
                <a:gridCol w="1604880"/>
                <a:gridCol w="1606680"/>
              </a:tblGrid>
              <a:tr h="105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уквенное обо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ица измер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лектрический 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ла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проти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электрического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Спасибо за внимание</a:t>
            </a:r>
            <a:r>
              <a:rPr b="0" lang="ru-RU" sz="4300" spc="-1" strike="noStrike">
                <a:solidFill>
                  <a:srgbClr val="3f4259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Картинка 83 из 1340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1557360"/>
            <a:ext cx="77202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4259"/>
                </a:solidFill>
                <a:latin typeface="Corbel"/>
              </a:rPr>
              <a:t>Тема урока:</a:t>
            </a:r>
            <a:endParaRPr b="0" lang="en-US" sz="3600" spc="-1" strike="noStrike">
              <a:solidFill>
                <a:srgbClr val="3f4259"/>
              </a:solidFill>
              <a:latin typeface="Corbe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87280" y="1484280"/>
          <a:ext cx="4608720" cy="4969080"/>
        </p:xfrm>
        <a:graphic>
          <a:graphicData uri="http://schemas.openxmlformats.org/drawingml/2006/table">
            <a:tbl>
              <a:tblPr/>
              <a:tblGrid>
                <a:gridCol w="716040"/>
                <a:gridCol w="787320"/>
                <a:gridCol w="776520"/>
                <a:gridCol w="777960"/>
                <a:gridCol w="774720"/>
                <a:gridCol w="77616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Picture 2" descr=""/>
          <p:cNvPicPr/>
          <p:nvPr/>
        </p:nvPicPr>
        <p:blipFill>
          <a:blip r:embed="rId1"/>
          <a:srcRect l="3890" t="5308" r="16386" b="6360"/>
          <a:stretch/>
        </p:blipFill>
        <p:spPr>
          <a:xfrm>
            <a:off x="5867280" y="2133720"/>
            <a:ext cx="3130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f4259"/>
                </a:solidFill>
                <a:latin typeface="Corbel"/>
              </a:rPr>
              <a:t>Тема урока:</a:t>
            </a:r>
            <a:endParaRPr b="0" lang="en-US" sz="54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абота и мощность электрического тока. Решение задач</a:t>
            </a: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1" descr="H:\Работа\картинки\line2.gif"/>
          <p:cNvPicPr/>
          <p:nvPr/>
        </p:nvPicPr>
        <p:blipFill>
          <a:blip r:embed="rId1"/>
          <a:stretch/>
        </p:blipFill>
        <p:spPr>
          <a:xfrm>
            <a:off x="1116000" y="4365720"/>
            <a:ext cx="7632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4259"/>
                </a:solidFill>
                <a:latin typeface="Corbel"/>
              </a:rPr>
              <a:t>Последовательное и параллельное соединение проводников.</a:t>
            </a:r>
            <a:endParaRPr b="0" lang="en-US" sz="36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дач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рисунке изображена схема смешанного соединения проводников, сопротивления которых следующие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3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4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5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10 Ом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rbe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=5 Ом. Определить общее сопротивление на участке цеп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rcRect l="2028" t="5608" r="3898" b="10180"/>
          <a:stretch/>
        </p:blipFill>
        <p:spPr>
          <a:xfrm>
            <a:off x="1116000" y="4221000"/>
            <a:ext cx="8028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ешение задачи: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1" descr=""/>
          <p:cNvPicPr/>
          <p:nvPr/>
        </p:nvPicPr>
        <p:blipFill>
          <a:blip r:embed="rId1"/>
          <a:srcRect l="2575" t="4451" r="2142" b="2105"/>
          <a:stretch/>
        </p:blipFill>
        <p:spPr>
          <a:xfrm>
            <a:off x="1042920" y="1341360"/>
            <a:ext cx="81010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электрического тока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бы определить работу электрического тока на каком-либо участке цепи, надо напряжение на концах этого участка цепи умножить на электрический заряд, прошедший по нем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 = U * q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–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бот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Напряжен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лектрический заря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6649920" y="3716280"/>
            <a:ext cx="22831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Схема электрической цепи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rcRect l="4383" t="0" r="1461" b="4099"/>
          <a:stretch/>
        </p:blipFill>
        <p:spPr>
          <a:xfrm>
            <a:off x="1042920" y="1557360"/>
            <a:ext cx="8121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абота электрического тока пропорциональна силе тока, напряжению и времени прохождения тока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 = I * U * 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Работа электрического ток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Сила ток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Напряжение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Время прохождения т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2" descr="H:\Работа\картинки\line3.gif"/>
          <p:cNvPicPr/>
          <p:nvPr/>
        </p:nvPicPr>
        <p:blipFill>
          <a:blip r:embed="rId1"/>
          <a:stretch/>
        </p:blipFill>
        <p:spPr>
          <a:xfrm>
            <a:off x="1258920" y="2924280"/>
            <a:ext cx="74898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f4259"/>
                </a:solidFill>
                <a:latin typeface="Corbel"/>
              </a:rPr>
              <a:t>Работа электрического тока</a:t>
            </a:r>
            <a:endParaRPr b="0" lang="en-US" sz="4300" spc="-1" strike="noStrike">
              <a:solidFill>
                <a:srgbClr val="3f4259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диница измерения работы: Джоуль (Дж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Джоуль = 1 Вольт * 1 Ампер * 1 секун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 Дж = 1 В * 1А * 1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53548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2827440" cy="33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7:08:15Z</dcterms:created>
  <dc:creator>эйсер</dc:creator>
  <dc:description/>
  <dc:language>en-US</dc:language>
  <cp:lastModifiedBy>Татьяна</cp:lastModifiedBy>
  <dcterms:modified xsi:type="dcterms:W3CDTF">2013-04-28T15:23:55Z</dcterms:modified>
  <cp:revision>17</cp:revision>
  <dc:subject/>
  <dc:title>Слайд 1</dc:title>
</cp:coreProperties>
</file>