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gif" ContentType="image/gif"/>
  <Override PartName="/ppt/media/image24.jpeg" ContentType="image/jpeg"/>
  <Override PartName="/ppt/media/image7.gif" ContentType="image/gif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2.gif" ContentType="image/gif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C3A-C6FE-4EA1-9711-BC61044F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872-A1D8-46CE-9DC5-A21B42D7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6C7-C2AF-4B2D-80C3-D009EA3D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999-D9D3-4BB5-9801-F77502E5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1D80-D4B7-47B1-BF7F-F4AC9655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E9F9-81B7-4300-8CC0-583E36BB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4977-44B1-4B14-AE07-1D3741A6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DA51-0B58-4F07-A06E-5D861BB6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76DC-7C20-42BC-B7D5-83087B65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9A90-F2E0-42E3-8C0D-AAFEDD19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C46D-DEF3-476F-9269-BFD7A9C8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213-338D-4B49-96B2-2D4CA7EF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E2A6-91E2-4C25-9B10-326EAB23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C00E-C08D-4911-A44B-334CFABF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6653-B08A-44C2-B701-989A21B1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8DC5-39E0-4C22-AD05-DB68A57F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A4F1-AD2C-4054-B0B2-6965C243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CF99D-90C2-49C9-8139-EE47783F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2B70F-2FC4-4AC8-B1F4-20FFBA0E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A0A2F-4B58-4AFA-A5B3-E6916069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418C6-3D81-4D31-A2A0-083BCEBA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96D72-9A5D-43E5-984E-FACAE833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D237-1749-45C6-9164-7B652F62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40646-BF8E-4F88-ACDA-47F41144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8B4CE-27B1-4773-AF12-58D1540E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120CB-6CC3-494B-A044-857614D3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D3C68-CD9B-4B4A-A768-AA200C05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B663F-F810-4787-A54B-BA05B05B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DDA2B-3A0C-4EA9-8FB2-EC4C701A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421EB-A29D-46BC-9612-A30AD533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67501-34A8-4A54-B21C-A2A05AA3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5EF75-6E18-4AFF-9285-ADD4820F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3B932-463E-4B6F-99C1-0786A136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B36-C9E5-416E-9370-CE6F066A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30134-2127-4C62-A320-D7204087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5AF28-FB09-4349-A787-79634A61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A0EC4-A51D-4B30-9BCF-50476BAA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A47C3-D750-49BB-B7C2-BA2E55CC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5283D-139B-4024-B831-F965A8F3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EFA6E-3702-4DF2-96BB-76693B83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42A65-6696-48EC-A655-E411D8B2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E67C5-2AE3-4211-86AD-9FD1A559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C2A21-CF63-4E96-961B-68E48381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38340-D0FE-432B-9A4A-7409105C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6A07-E577-4952-B8AC-EB57805C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EA911-F271-4338-A3BF-B84FEB3E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55B31-FB70-4FA3-8F95-74EE2279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55F33-351F-478F-81B3-CEBEF93D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6480D-0E68-4706-81EF-AA046AB8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7E6BD-C978-41EA-99B2-5BB86CA7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9034E-55B8-40FE-9B7A-E6AE69B3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769C5-77D5-4110-B645-B9CFF4F8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D6367-0A82-4E16-8A73-3A3BD9D1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28A1E-F834-4DA0-B5E8-FF817221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ED368-7B28-4934-8ECC-EEC30E68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3F62-0668-434C-BB27-7AB86832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544F2-D701-4AEC-B850-4B6AACEA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0D0D2-247B-43FA-B9B5-F2ACC560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62198-C9F4-4D8C-85D0-FF37F679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50CC0-7280-4284-A342-95E06E3D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4B01D-94F8-4829-8E50-478919CB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85F15-43A6-4E32-A00F-5C3E0C64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557FD-0790-4DC1-9BE5-25172F9B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3152A-2406-4E42-9F9A-390B9BD6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48DF4-2000-45A2-8D37-5BF3CB88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47E22-76C3-48EE-93F6-35828554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4148-0D36-4405-A843-9751A1AE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52F9F-35F7-41AA-9D11-3829CBB0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9BDC9-1477-421E-992F-515EBF68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45D33-122C-4D92-AC03-93E05300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118B6-8A15-49F9-9F9B-CF75F4B4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01CA8-1CFD-4156-8376-1A872103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039CB-79B1-42FD-B898-4BB6614B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509B1-AF3A-4D4B-A239-C0317792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B1A5A-A485-44C5-B214-8B4ACBA4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CE92A-397E-4777-BDD7-37A0E9E6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3784A-3A43-4D23-9D67-BE7F391D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C92F-0EA1-47B4-9505-96FD5497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AD0AB-921B-425A-B0A4-FAEB3FA4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B0118-903F-402C-91F6-C0C3258E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859D1-0EC3-4ECC-B5FF-D9C9CF06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63DE6-D9BC-46EA-A883-117AF989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C9936-1D79-4DF3-A8DC-34FAD9B9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847-E853-49AA-819C-DB6B6ACD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3a3a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E074-C782-4BD0-9FC8-D1A553BD53FE}" type="slidenum">
              <a:rPr b="0" lang="ru-RU" sz="1200" spc="-1" strike="noStrike">
                <a:solidFill>
                  <a:srgbClr val="a3a3a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48497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3a3a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BDC6-9AE8-4A85-BB6C-98AAFF1C953A}" type="slidenum">
              <a:rPr b="0" lang="ru-RU" sz="1200" spc="-1" strike="noStrike">
                <a:solidFill>
                  <a:srgbClr val="a3a3a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48497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3a3a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85BF-FCBD-4465-BA2C-55DD323B9CE6}" type="slidenum">
              <a:rPr b="0" lang="ru-RU" sz="1200" spc="-1" strike="noStrike">
                <a:solidFill>
                  <a:srgbClr val="a3a3a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3a3a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5253-1260-4010-8F1C-52FFD03D3CE4}" type="slidenum">
              <a:rPr b="0" lang="ru-RU" sz="1200" spc="-1" strike="noStrike">
                <a:solidFill>
                  <a:srgbClr val="a3a3a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3a3a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239F-9103-49E7-9807-799385426D96}" type="slidenum">
              <a:rPr b="0" lang="ru-RU" sz="1200" spc="-1" strike="noStrike">
                <a:solidFill>
                  <a:srgbClr val="a3a3a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3a3a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68A6-4F99-477E-AA80-2E93464FE81A}" type="slidenum">
              <a:rPr b="0" lang="ru-RU" sz="1200" spc="-1" strike="noStrike">
                <a:solidFill>
                  <a:srgbClr val="a3a3a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4d4d4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edede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3a3a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F8B2-4333-4B90-92FA-E41FC6582460}" type="slidenum">
              <a:rPr b="0" lang="ru-RU" sz="1200" spc="-1" strike="noStrike">
                <a:solidFill>
                  <a:srgbClr val="a3a3a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ljplus.ru/img3/k/o/kolyaka/teacher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f4259"/>
                </a:solidFill>
                <a:latin typeface="Corbel"/>
              </a:rPr>
              <a:t>Физика. 8 класс</a:t>
            </a:r>
            <a:endParaRPr b="0" lang="en-US" sz="54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2132"/>
                </a:solidFill>
                <a:latin typeface="Corbe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34560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f4259"/>
                </a:solidFill>
                <a:latin typeface="Corbel"/>
              </a:rPr>
              <a:t>Единицы работы, кратные Джоулю: гектоджоуль, килоджоуль, мегаджоуль. </a:t>
            </a:r>
            <a:br>
              <a:rPr sz="3900"/>
            </a:br>
            <a:endParaRPr b="0" lang="en-US" sz="39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2349000"/>
            <a:ext cx="749952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разите в  Джоулях работу, равную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гДж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2кДж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0,3МДж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0гДж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,3кДж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0,06МДж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f4259"/>
                </a:solidFill>
                <a:latin typeface="Corbel"/>
              </a:rPr>
              <a:t>Приборы, необходимые для измерения работы тока в цепи:</a:t>
            </a:r>
            <a:endParaRPr b="0" lang="en-US" sz="39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льтмет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мпермет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с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7" descr="вольметр"/>
          <p:cNvPicPr/>
          <p:nvPr/>
        </p:nvPicPr>
        <p:blipFill>
          <a:blip r:embed="rId1"/>
          <a:stretch/>
        </p:blipFill>
        <p:spPr>
          <a:xfrm>
            <a:off x="3924360" y="1484280"/>
            <a:ext cx="2232000" cy="2736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амперметр2"/>
          <p:cNvPicPr/>
          <p:nvPr/>
        </p:nvPicPr>
        <p:blipFill>
          <a:blip r:embed="rId2"/>
          <a:stretch/>
        </p:blipFill>
        <p:spPr>
          <a:xfrm>
            <a:off x="1116000" y="3573360"/>
            <a:ext cx="2303640" cy="3167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"/>
          <p:cNvPicPr/>
          <p:nvPr/>
        </p:nvPicPr>
        <p:blipFill>
          <a:blip r:embed="rId3"/>
          <a:stretch/>
        </p:blipFill>
        <p:spPr>
          <a:xfrm>
            <a:off x="6804000" y="3786120"/>
            <a:ext cx="2340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f4259"/>
                </a:solidFill>
                <a:latin typeface="Corbel"/>
              </a:rPr>
              <a:t>Мощность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щность численно равна работе совершённой в единицу времен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 –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щнос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rcRect l="3337" t="0" r="0" b="23073"/>
          <a:stretch/>
        </p:blipFill>
        <p:spPr>
          <a:xfrm>
            <a:off x="1258920" y="2565360"/>
            <a:ext cx="6251400" cy="1440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" descr=""/>
          <p:cNvPicPr/>
          <p:nvPr/>
        </p:nvPicPr>
        <p:blipFill>
          <a:blip r:embed="rId2"/>
          <a:stretch/>
        </p:blipFill>
        <p:spPr>
          <a:xfrm>
            <a:off x="1116000" y="4076640"/>
            <a:ext cx="2421000" cy="115272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0" y="1181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f4259"/>
                </a:solidFill>
                <a:latin typeface="Corbel"/>
              </a:rPr>
              <a:t>Мощность 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диница измерения мощности: Ватт (Вт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 Ватт = 1 Вольт * 1 Ампе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Вт = 1В * 1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4451400" y="3645000"/>
            <a:ext cx="4419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f4259"/>
                </a:solidFill>
                <a:latin typeface="Corbel"/>
              </a:rPr>
              <a:t>Единицы мощности, кратные Ватту: гектоватт, киловатт, мегаватт. </a:t>
            </a:r>
            <a:br>
              <a:rPr sz="3900"/>
            </a:br>
            <a:endParaRPr b="0" lang="en-US" sz="39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2276280"/>
            <a:ext cx="749952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разите в  Ваттах мощность, равную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гВт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2кВт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0,8МВт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0гВт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,6кВт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0,09МВт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f4259"/>
                </a:solidFill>
                <a:latin typeface="Corbel"/>
              </a:rPr>
              <a:t>Работа в группах.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802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f4259"/>
                </a:solidFill>
                <a:latin typeface="Corbel"/>
              </a:rPr>
              <a:t>Задание: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ую работу совершает электрический ток в электрической лампочке за 3 минуты. Рассчитайте мощность электрического то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rcRect l="0" t="8407" r="0" b="9699"/>
          <a:stretch/>
        </p:blipFill>
        <p:spPr>
          <a:xfrm>
            <a:off x="1187280" y="3500280"/>
            <a:ext cx="7956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f4259"/>
                </a:solidFill>
                <a:latin typeface="Corbel"/>
              </a:rPr>
              <a:t>Домашнее задание. 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§50, §51 – читать, учить определения и формулы, заполнить таблиц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4" descr="H:\Работа\картинки\atwork1.gif"/>
          <p:cNvPicPr/>
          <p:nvPr/>
        </p:nvPicPr>
        <p:blipFill>
          <a:blip r:embed="rId1"/>
          <a:stretch/>
        </p:blipFill>
        <p:spPr>
          <a:xfrm>
            <a:off x="5689440" y="4508640"/>
            <a:ext cx="28353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1116000" y="0"/>
          <a:ext cx="8028000" cy="6858000"/>
        </p:xfrm>
        <a:graphic>
          <a:graphicData uri="http://schemas.openxmlformats.org/drawingml/2006/table">
            <a:tbl>
              <a:tblPr/>
              <a:tblGrid>
                <a:gridCol w="1604880"/>
                <a:gridCol w="1606680"/>
                <a:gridCol w="1604880"/>
                <a:gridCol w="1604880"/>
                <a:gridCol w="1606680"/>
              </a:tblGrid>
              <a:tr h="1055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уквенное обо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ая 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проти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 электрического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щ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f4259"/>
                </a:solidFill>
                <a:latin typeface="Corbel"/>
              </a:rPr>
              <a:t>Спасибо за внимание</a:t>
            </a:r>
            <a:r>
              <a:rPr b="0" lang="ru-RU" sz="4300" spc="-1" strike="noStrike">
                <a:solidFill>
                  <a:srgbClr val="3f4259"/>
                </a:solidFill>
                <a:latin typeface="Wingdings"/>
                <a:ea typeface="Wingdings"/>
              </a:rPr>
              <a:t>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Картинка 83 из 1340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16000" y="1557360"/>
            <a:ext cx="77202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f4259"/>
                </a:solidFill>
                <a:latin typeface="Corbel"/>
              </a:rPr>
              <a:t>Тема урока:</a:t>
            </a:r>
            <a:endParaRPr b="0" lang="en-US" sz="3600" spc="-1" strike="noStrike">
              <a:solidFill>
                <a:srgbClr val="3f4259"/>
              </a:solidFill>
              <a:latin typeface="Corbe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187280" y="1484280"/>
          <a:ext cx="4608720" cy="4969080"/>
        </p:xfrm>
        <a:graphic>
          <a:graphicData uri="http://schemas.openxmlformats.org/drawingml/2006/table">
            <a:tbl>
              <a:tblPr/>
              <a:tblGrid>
                <a:gridCol w="716040"/>
                <a:gridCol w="787320"/>
                <a:gridCol w="776520"/>
                <a:gridCol w="777960"/>
                <a:gridCol w="774720"/>
                <a:gridCol w="776160"/>
              </a:tblGrid>
              <a:tr h="80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3" name="Picture 2" descr=""/>
          <p:cNvPicPr/>
          <p:nvPr/>
        </p:nvPicPr>
        <p:blipFill>
          <a:blip r:embed="rId1"/>
          <a:srcRect l="3890" t="5308" r="16386" b="6360"/>
          <a:stretch/>
        </p:blipFill>
        <p:spPr>
          <a:xfrm>
            <a:off x="5867280" y="2133720"/>
            <a:ext cx="3130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f4259"/>
                </a:solidFill>
                <a:latin typeface="Corbel"/>
              </a:rPr>
              <a:t>Тема урока:</a:t>
            </a:r>
            <a:endParaRPr b="0" lang="en-US" sz="54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Работа и мощность электрического тока. Решение задач</a:t>
            </a: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1" descr="H:\Работа\картинки\line2.gif"/>
          <p:cNvPicPr/>
          <p:nvPr/>
        </p:nvPicPr>
        <p:blipFill>
          <a:blip r:embed="rId1"/>
          <a:stretch/>
        </p:blipFill>
        <p:spPr>
          <a:xfrm>
            <a:off x="1116000" y="4365720"/>
            <a:ext cx="7632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f4259"/>
                </a:solidFill>
                <a:latin typeface="Corbel"/>
              </a:rPr>
              <a:t>Последовательное и параллельное соединение проводников.</a:t>
            </a:r>
            <a:endParaRPr b="0" lang="en-US" sz="36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адач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рисунке изображена схема смешанного соединения проводников, сопротивления которых следующие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=3 Ом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=4 Ом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=5 Ом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=10 Ом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rbe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=5 Ом. Определить общее сопротивление на участке цеп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1" descr=""/>
          <p:cNvPicPr/>
          <p:nvPr/>
        </p:nvPicPr>
        <p:blipFill>
          <a:blip r:embed="rId1"/>
          <a:srcRect l="2028" t="5608" r="3898" b="10180"/>
          <a:stretch/>
        </p:blipFill>
        <p:spPr>
          <a:xfrm>
            <a:off x="1116000" y="4221000"/>
            <a:ext cx="8028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f4259"/>
                </a:solidFill>
                <a:latin typeface="Corbel"/>
              </a:rPr>
              <a:t>Решение задачи: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1" descr=""/>
          <p:cNvPicPr/>
          <p:nvPr/>
        </p:nvPicPr>
        <p:blipFill>
          <a:blip r:embed="rId1"/>
          <a:srcRect l="2575" t="4451" r="2142" b="2105"/>
          <a:stretch/>
        </p:blipFill>
        <p:spPr>
          <a:xfrm>
            <a:off x="1042920" y="1341360"/>
            <a:ext cx="8101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f4259"/>
                </a:solidFill>
                <a:latin typeface="Corbel"/>
              </a:rPr>
              <a:t>Работа электрического тока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тобы определить работу электрического тока на каком-либо участке цепи, надо напряжение на концах этого участка цепи умножить на электрический заряд, прошедший по нем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 = U * q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–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бота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Напряжение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Электрический заря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6649920" y="3716280"/>
            <a:ext cx="22831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f4259"/>
                </a:solidFill>
                <a:latin typeface="Corbel"/>
              </a:rPr>
              <a:t>Схема электрической цепи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rcRect l="4383" t="0" r="1461" b="4099"/>
          <a:stretch/>
        </p:blipFill>
        <p:spPr>
          <a:xfrm>
            <a:off x="1042920" y="1557360"/>
            <a:ext cx="8121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434960" y="260280"/>
            <a:ext cx="749952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Работа электрического тока пропорциональна силе тока, напряжению и времени прохождения тока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 = I * U * 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Работа электрического тока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Сила тока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Напряжение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Время прохождения то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Picture 2" descr="H:\Работа\картинки\line3.gif"/>
          <p:cNvPicPr/>
          <p:nvPr/>
        </p:nvPicPr>
        <p:blipFill>
          <a:blip r:embed="rId1"/>
          <a:stretch/>
        </p:blipFill>
        <p:spPr>
          <a:xfrm>
            <a:off x="1258920" y="2924280"/>
            <a:ext cx="74898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f4259"/>
                </a:solidFill>
                <a:latin typeface="Corbel"/>
              </a:rPr>
              <a:t>Работа электрического тока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диница измерения работы: Джоуль (Дж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 Джоуль = 1 Вольт * 1 Ампер * 1 секунд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 Дж = 1 В * 1А * 1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2827440" cy="33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7:08:15Z</dcterms:created>
  <dc:creator>эйсер</dc:creator>
  <dc:description/>
  <dc:language>en-US</dc:language>
  <cp:lastModifiedBy>Татьяна</cp:lastModifiedBy>
  <dcterms:modified xsi:type="dcterms:W3CDTF">2013-04-28T15:23:55Z</dcterms:modified>
  <cp:revision>17</cp:revision>
  <dc:subject/>
  <dc:title>Слайд 1</dc:title>
</cp:coreProperties>
</file>