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3E5E-5D99-4FB1-9021-0440A674BA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C920-E18D-4894-A9C5-A70EB6A3D0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7665-177A-4DC1-8A91-14B9C36DC2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D319-5008-49CB-BEC4-1C9E883C51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6460-57B0-40DB-A986-E0A379E6C2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9550-3ABD-4CBB-B081-D7B4C4EE43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505A-FD9E-4689-9213-D4156BB6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34B8-1A08-4C9A-8294-BC3EA2DF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BB9-7E96-4AC4-8AC1-99A624DC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731E-AC3E-4C95-B106-4AA3E445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350D-CA50-4976-815D-EEA2309A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F56E-2C5A-480F-AA88-8CBB7EF1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B131-EFB1-436E-AECB-9F6ACE57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AFA2-7D50-4069-ACC9-12ED71B3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3E4C-1947-4878-9D88-2349A95F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2B01-C65C-4385-9C66-C64DB976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E4A3-1ADD-49C5-9775-6C233C5B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6B1-AEF4-4BBA-BA33-9BF69C2E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9F89-4429-4699-BD5F-066DE45C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0FD0-55AC-471B-8986-0FC55C71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F09C-6FA8-4849-BAA6-0DF5318A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CFD3-D99F-4EFE-8145-EDF7FEDE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D5C9-8402-45C5-A185-8A443B8C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F061A-AD9D-4567-AE4D-621CC584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19EF8-728E-4B18-969E-F0FC6D71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4A36E-DF6F-4F76-A5AE-DF73108D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ED241-8B51-4102-BEA6-51B68A8D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81506-4EE4-4126-8C2B-30BDCBD9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5B9E-EDF5-40A9-877A-7AA50B26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3968B-5E0D-4493-8F4C-B7E15C2A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74C81-4E39-4CFE-A556-CA77BE20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4B5D0-9D98-4CDD-940B-EA1983FB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37912-BB80-4725-8E5D-FBA84E5B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FFE42-0E49-4D00-8FFC-57C8A412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B9C17-3F02-4809-B7E0-32C130EA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0614F-A1A3-4535-ACD4-CF113F1F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73CB5-9EA1-4EFE-9B04-CA8F2EAE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1B8CF-B205-4001-A4EE-733970EC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14B8F-30D5-48C3-89AC-F806E14D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997-79CE-4DFB-A4FF-02135838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82606-9D81-46B2-9FED-7F6E50B0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A111C-B0BF-4C39-9EBC-F39C3CE3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4F32F-5FDE-4071-9CCD-9AE6C9F0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BD16E-89AF-4F30-833A-FF02C859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B758F-5A76-4509-8C86-FD3321F5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A7BE0-351B-4CAD-A9F6-B6605FCC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CD9DA-EB3B-47A7-BF13-E60E3AF8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1F50D-DA42-4CC3-B5CE-47C75EBF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7245A-87E9-4141-B7A6-CD82D2F0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DED56-831A-4C45-846D-0A8C41C5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E78-D965-4B9E-A2B4-921E8034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3DA72-E15A-4922-9F76-5ECC8ADD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0A32C-12A7-43D4-888D-A2B343FD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6A26D-A4CE-40D2-AC94-1DAF20CA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15A63-7B3E-4E79-8E30-6EAB1827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5E5F9-AF2D-4D19-800C-4D8AFAED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8BA1C-719C-4208-AB52-388DBC3B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70A8A-49A1-4A2C-A4E2-0A43BD89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55BDA-5BFD-4E00-A899-55B11B11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190AE-EF12-4FF9-B79A-0F02A9E0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2629B-FE49-4026-901C-82A07021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7E2-2E9E-472B-ACB1-372B854C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2E1ED-FF5E-4FA9-BE60-09915495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88D50-F76A-4D45-B092-55F279BD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11ED9-E41B-4FF4-BF40-042BD4C9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0FFED-EC1C-479C-822B-EB4C54D2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5EC62-1202-4433-A240-A6B6E64A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EB56B-4E6A-4FEB-A27A-A67A9EDB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98797-8683-409A-83C5-CBF5861E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EFF2F-49DC-4628-BC3D-76253A33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8AA3D-7A38-4E44-8CC3-88439859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958DC-ADF1-4E95-8313-8F0B99B3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0ACE-BFB3-4F0C-B1B9-16852360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554BE-6ECC-432F-886F-7295C546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EE435-A87B-4E27-B06A-DC55DBF6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4E3EC-FD13-46B1-BFB4-C929A6DA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0646F-0C90-4E6D-A9A5-6C23E196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E05FF-1F6E-4B3A-805F-BD2A7808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4C432-8321-47B8-A46E-75614730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A971B-DC08-4D32-A9C8-974C813D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755DB-10B7-4C17-B7C7-982BC1E0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72670-2281-4BD5-A6A5-DE455383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7DFB0-9D74-4F80-B01D-26A93E8F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CFF-995C-4F13-ADF5-AFEC2712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4C6AF-2B2D-4C6D-B6FB-CDB87D51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9B73F-DB65-48D5-B520-1B56B87C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F0D1A-E81D-4855-A4FF-E1B9CB45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72F7D-29B0-45D2-877A-E98B3B85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CB040-C721-46D9-B317-CBC62243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C456-F32B-43F3-BF3B-0345E976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A9AE-139F-4C7E-BCA7-B6718E56B2A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5FFA-D796-4272-BC6C-EA6CBA85641E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6471-4C08-45DB-8DA5-CFA6DA2D5E8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F0D2-7F5C-4F8D-BC20-E20265F6C6A8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3F12-7B60-4431-AC94-9DB9AD36C35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8F1D-3D51-463D-BB7C-52F44D57FF16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BBC8-BB5C-48DB-B08D-67BA2561E91B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36400" y="176040"/>
            <a:ext cx="8448840" cy="207360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11" name="Содержимое 3" descr="b_graf013.gif"/>
          <p:cNvPicPr/>
          <p:nvPr/>
        </p:nvPicPr>
        <p:blipFill>
          <a:blip r:embed="rId2"/>
          <a:stretch/>
        </p:blipFill>
        <p:spPr>
          <a:xfrm>
            <a:off x="1214280" y="1500120"/>
            <a:ext cx="67708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311040" y="-6480"/>
            <a:ext cx="8595000" cy="1414440"/>
          </a:xfrm>
          <a:prstGeom prst="rect">
            <a:avLst/>
          </a:prstGeom>
          <a:ln w="0">
            <a:noFill/>
          </a:ln>
        </p:spPr>
      </p:pic>
      <p:pic>
        <p:nvPicPr>
          <p:cNvPr id="313" name="Содержимое 3" descr="img283.jpg"/>
          <p:cNvPicPr/>
          <p:nvPr/>
        </p:nvPicPr>
        <p:blipFill>
          <a:blip r:embed="rId2"/>
          <a:srcRect l="0" t="0" r="2836" b="0"/>
          <a:stretch/>
        </p:blipFill>
        <p:spPr>
          <a:xfrm>
            <a:off x="357120" y="1071720"/>
            <a:ext cx="8454960" cy="5618160"/>
          </a:xfrm>
          <a:prstGeom prst="rect">
            <a:avLst/>
          </a:prstGeom>
          <a:ln w="0">
            <a:noFill/>
          </a:ln>
        </p:spPr>
      </p:pic>
      <p:sp>
        <p:nvSpPr>
          <p:cNvPr id="314" name="Скругленный прямоугольник 4"/>
          <p:cNvSpPr/>
          <p:nvPr/>
        </p:nvSpPr>
        <p:spPr>
          <a:xfrm>
            <a:off x="3000240" y="178596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281160" y="-6480"/>
            <a:ext cx="8240400" cy="1109880"/>
          </a:xfrm>
          <a:prstGeom prst="rect">
            <a:avLst/>
          </a:prstGeom>
          <a:ln w="0">
            <a:noFill/>
          </a:ln>
        </p:spPr>
      </p:pic>
      <p:pic>
        <p:nvPicPr>
          <p:cNvPr id="316" name="Содержимое 5" descr="Безимени-1.jpg"/>
          <p:cNvPicPr/>
          <p:nvPr/>
        </p:nvPicPr>
        <p:blipFill>
          <a:blip r:embed="rId2"/>
          <a:stretch/>
        </p:blipFill>
        <p:spPr>
          <a:xfrm>
            <a:off x="2143080" y="1000080"/>
            <a:ext cx="4929120" cy="4776840"/>
          </a:xfrm>
          <a:prstGeom prst="rect">
            <a:avLst/>
          </a:prstGeom>
          <a:ln cap="sq" w="38160">
            <a:solidFill>
              <a:srgbClr val="ff5698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3286080" y="5857920"/>
            <a:ext cx="2820960" cy="857160"/>
          </a:xfrm>
          <a:prstGeom prst="rect">
            <a:avLst/>
          </a:prstGeom>
          <a:ln cap="sq" w="38160">
            <a:solidFill>
              <a:srgbClr val="ff5698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570880" cy="146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9" name=""/>
          <p:cNvGraphicFramePr/>
          <p:nvPr/>
        </p:nvGraphicFramePr>
        <p:xfrm>
          <a:off x="1000080" y="1643040"/>
          <a:ext cx="7143840" cy="3786120"/>
        </p:xfrm>
        <a:graphic>
          <a:graphicData uri="http://schemas.openxmlformats.org/drawingml/2006/table">
            <a:tbl>
              <a:tblPr/>
              <a:tblGrid>
                <a:gridCol w="2381400"/>
                <a:gridCol w="1190520"/>
                <a:gridCol w="1190520"/>
                <a:gridCol w="1190880"/>
                <a:gridCol w="1190520"/>
              </a:tblGrid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ая Евро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ая Евро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5cbd1"/>
                    </a:solidFill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ое хозяй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ышлен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5cbd1"/>
                    </a:solidFill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ви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1:06:22Z</dcterms:created>
  <dc:creator>Манечка</dc:creator>
  <dc:description/>
  <dc:language>en-US</dc:language>
  <cp:lastModifiedBy>Valued Acer Customer</cp:lastModifiedBy>
  <dcterms:modified xsi:type="dcterms:W3CDTF">2013-04-29T11:10:27Z</dcterms:modified>
  <cp:revision>7</cp:revision>
  <dc:subject/>
  <dc:title>Социальная структура населения и занятость населения Европы</dc:title>
</cp:coreProperties>
</file>