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5ABB-6167-4B0B-831C-B143FABD87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C055-D8F6-4C13-8C07-46C04F3F22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FB62-600D-466E-A94D-EE68611E40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E5B-B6AA-426C-B1C8-4AE705CECB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7BB4-A145-4966-A693-8A19F42FCE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6E8A-E767-4367-8179-6254C520A0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5E0-FB9C-45C4-A0D1-DF00DFBF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EFE-E96E-462F-AE80-81D4B2F0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E63-731E-4739-9318-2A34ABE2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3E60-9C61-44B0-B6FD-463E2CFC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BEA9-F857-48E9-BCB9-1C4D8750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571D-CDC1-4D21-A83E-28B9BCAC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2C82-71D6-4103-A5E2-896A7DBE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6F03-C231-40A7-B962-16981720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9B37-0599-4AEC-BEC8-58C64737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B2DB-2341-451A-B1F1-7962A75D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DF6D-59BC-42CA-AAE7-DE2BB163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3D87-9C7A-4F3D-929A-CD8167C6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672B-F32E-4D84-B629-E701FAC4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0BD0-9DA1-4B1E-BF30-98D5292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E916-7B64-46B1-B240-4567C842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9DE6-C93B-49A3-B0C6-8E737F8E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9BCC-DC2C-4FDF-9DFE-D017CF46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5240-F6F5-4AB9-9D8C-BC281336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A1B4-A8DE-4910-8429-FB157288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93D7-20E9-4FEF-B9EA-34B0201A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A425-F918-4798-A321-A1A38D4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8E53-9B01-4DD0-9CFC-1C4F6D73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236-92D6-4589-B528-84CE8A99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E7C5-8689-4AC2-87DD-6134EE29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9338-5E25-44C1-BDD2-18CD8E69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E28B-8E9C-4DC0-8D08-1BC8B469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1197-6787-4E31-9C15-8B58ACB3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6A9FD-FAA5-4EAD-A15F-4C874764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A08F-6256-48B2-B859-AEA0B16B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6ECD-10C6-4757-B341-0BA0BD65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EBE5-A075-43C8-97C8-6763A5C7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66145-1596-4735-8CA0-80C80480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DB69-9BAD-43A1-8C57-2FB782FB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7CF-D59D-481F-9211-604D63EA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A3CF5-FBF4-41FA-8F22-13446FC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858A9-7B68-42A2-9195-F61D5069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12156-F278-4AAA-878B-E4D9CA7E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CCEAB-AB2A-46A3-AD98-1A84C38F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EFDE6-50B4-49FB-BA54-5CBF5C2F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8AF64-8CB4-4259-B70B-CBFD2ED2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6E8B-7753-43A5-9A8A-8D04F812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CB8A8-9932-4D95-B5E5-F117D2CA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451C-1005-4313-917B-96B923A7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011F5-95D4-4804-81E5-BCBE97A3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008-6580-42BD-8ED2-5DCBAA6A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BBB3E-4FA9-4EC8-8EEB-2C5DFE39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85691-80E6-4AD0-8597-AFBF8A21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78678-3445-4DEC-A74B-57AE7F3F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B95E4-B33A-4FA9-A3B6-E3848A54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30466-574B-405D-89A5-8B8640D6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0F84E-6035-4C14-8229-027B0EC1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DA9B-339D-43C1-B12E-1D50C200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3D300-040D-4160-9DC8-4B3F060C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0C20-7317-4EAB-922C-B471F1FA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33261-BEBC-41F0-B380-D068FC42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F28-D9E6-49A0-AFD7-384FF237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A26AB-2551-49C5-A7AC-3FD7F157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4317D-BDA1-40BB-8855-8F612FBD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58962-7791-45D5-AE8F-4590A134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70D9C-D9AE-457B-A3CB-3C58D796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1592-372C-4C0E-BFC5-3A28D12A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9E505-236A-42DE-88EF-8D4FDC36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F3DAB-9B89-41EC-8CF9-57032614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56CE2-B6D2-4A97-875F-2F9FB99B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C90D3-F60D-4D86-8092-0CAE48D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123ED-4AEC-4A84-97D4-A706F9E9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B7F-C16D-4D8A-8492-0B3DB12C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C1E52-EFDD-44F3-91BD-2066BB09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3DF1E-ACD0-45A9-9B56-EBCC24ED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20B46-3382-4BFB-A269-BDC9D8C1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BFCF4-0265-45E0-A602-E2017E6B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3C577-E210-45EB-87D4-09B21E42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28B0-41EC-4D02-A2F9-DA579A34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75DC5-2B52-40C8-9C64-9AAF6405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D70F4-B094-400D-973F-D2E8087E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B1F03-2781-46BF-954B-F11B2593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C1F7F-E8DB-46A4-8D08-40DCFFC4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02C-940D-4D32-8529-1C5CEB4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8C49B-389D-4A3A-B115-D91A6E15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0141F-7F6A-47C1-AD6D-E15F2E5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0F60-FED0-44A6-AB96-53FEF50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A202B-BA9C-4B60-BA9C-D98172E8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80ED3-21A0-4966-A356-1BC6AC31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FC8-D092-41E4-9CAD-8BB7EDA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6321-149C-4B16-B602-DB37824FC97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7F5F-4F66-4D69-A386-855A354296B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A1E8-7946-4CA7-BA76-F5B37590D59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0703-E813-4674-9401-E12509192A5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A699-D984-4063-9D74-E48B4C0363C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4D90-A352-4553-955E-73C831149D31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1458-0F4A-4011-BB0E-445F24873012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448840" cy="207360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11" name="Содержимое 3" descr="b_graf013.gif"/>
          <p:cNvPicPr/>
          <p:nvPr/>
        </p:nvPicPr>
        <p:blipFill>
          <a:blip r:embed="rId2"/>
          <a:stretch/>
        </p:blipFill>
        <p:spPr>
          <a:xfrm>
            <a:off x="1214280" y="1500120"/>
            <a:ext cx="67708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311040" y="-6480"/>
            <a:ext cx="8595000" cy="1414440"/>
          </a:xfrm>
          <a:prstGeom prst="rect">
            <a:avLst/>
          </a:prstGeom>
          <a:ln w="0">
            <a:noFill/>
          </a:ln>
        </p:spPr>
      </p:pic>
      <p:pic>
        <p:nvPicPr>
          <p:cNvPr id="313" name="Содержимое 3" descr="img283.jpg"/>
          <p:cNvPicPr/>
          <p:nvPr/>
        </p:nvPicPr>
        <p:blipFill>
          <a:blip r:embed="rId2"/>
          <a:srcRect l="0" t="0" r="2836" b="0"/>
          <a:stretch/>
        </p:blipFill>
        <p:spPr>
          <a:xfrm>
            <a:off x="357120" y="1071720"/>
            <a:ext cx="8454960" cy="5618160"/>
          </a:xfrm>
          <a:prstGeom prst="rect">
            <a:avLst/>
          </a:prstGeom>
          <a:ln w="0">
            <a:noFill/>
          </a:ln>
        </p:spPr>
      </p:pic>
      <p:sp>
        <p:nvSpPr>
          <p:cNvPr id="314" name="Скругленный прямоугольник 4"/>
          <p:cNvSpPr/>
          <p:nvPr/>
        </p:nvSpPr>
        <p:spPr>
          <a:xfrm>
            <a:off x="3000240" y="1785960"/>
            <a:ext cx="1285920" cy="1285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281160" y="-6480"/>
            <a:ext cx="8240400" cy="1109880"/>
          </a:xfrm>
          <a:prstGeom prst="rect">
            <a:avLst/>
          </a:prstGeom>
          <a:ln w="0">
            <a:noFill/>
          </a:ln>
        </p:spPr>
      </p:pic>
      <p:pic>
        <p:nvPicPr>
          <p:cNvPr id="316" name="Содержимое 5" descr="Безимени-1.jpg"/>
          <p:cNvPicPr/>
          <p:nvPr/>
        </p:nvPicPr>
        <p:blipFill>
          <a:blip r:embed="rId2"/>
          <a:stretch/>
        </p:blipFill>
        <p:spPr>
          <a:xfrm>
            <a:off x="2143080" y="1000080"/>
            <a:ext cx="4929120" cy="4776840"/>
          </a:xfrm>
          <a:prstGeom prst="rect">
            <a:avLst/>
          </a:prstGeom>
          <a:ln cap="sq" w="38160">
            <a:solidFill>
              <a:srgbClr val="ff569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3286080" y="5857920"/>
            <a:ext cx="2820960" cy="857160"/>
          </a:xfrm>
          <a:prstGeom prst="rect">
            <a:avLst/>
          </a:prstGeom>
          <a:ln cap="sq" w="38160">
            <a:solidFill>
              <a:srgbClr val="ff569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57088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"/>
          <p:cNvGraphicFramePr/>
          <p:nvPr/>
        </p:nvGraphicFramePr>
        <p:xfrm>
          <a:off x="1000080" y="1643040"/>
          <a:ext cx="7143840" cy="3786120"/>
        </p:xfrm>
        <a:graphic>
          <a:graphicData uri="http://schemas.openxmlformats.org/drawingml/2006/table">
            <a:tbl>
              <a:tblPr/>
              <a:tblGrid>
                <a:gridCol w="2381400"/>
                <a:gridCol w="1190520"/>
                <a:gridCol w="1190520"/>
                <a:gridCol w="1190880"/>
                <a:gridCol w="119052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т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ая 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Евро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мышле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5cbd1"/>
                    </a:solidFill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40059"/>
                      </a:solidFill>
                    </a:lnL>
                    <a:lnR w="5760">
                      <a:solidFill>
                        <a:srgbClr val="e40059"/>
                      </a:solidFill>
                    </a:lnR>
                    <a:lnT w="5760">
                      <a:solidFill>
                        <a:srgbClr val="e40059"/>
                      </a:solidFill>
                    </a:lnT>
                    <a:lnB w="5760">
                      <a:solidFill>
                        <a:srgbClr val="e40059"/>
                      </a:solidFill>
                    </a:lnB>
                    <a:solidFill>
                      <a:srgbClr val="fae7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1:06:22Z</dcterms:created>
  <dc:creator>Манечка</dc:creator>
  <dc:description/>
  <dc:language>en-US</dc:language>
  <cp:lastModifiedBy>Valued Acer Customer</cp:lastModifiedBy>
  <dcterms:modified xsi:type="dcterms:W3CDTF">2013-04-29T11:10:27Z</dcterms:modified>
  <cp:revision>7</cp:revision>
  <dc:subject/>
  <dc:title>Социальная структура населения и занятость населения Европы</dc:title>
</cp:coreProperties>
</file>